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23F8-F696-4114-B872-CEAC7FD77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1688-A9F0-4E4D-9F7F-662050D3D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00AF-2BE8-4018-B0EA-09660EAB0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0F13-3A87-4E0A-8279-790FC07E7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B35D3-5D03-4727-8383-412756D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579E7-66D3-40B3-B65B-AFFD11DE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5F158-7B01-447F-B3A2-E3C89492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C539-A05A-4A55-A0C6-9ED8728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D36B1-69BF-4B99-8CF8-5B1823C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87490-4D55-4BD2-BC49-CFF4BB93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6D5B5-869E-4F02-BCA7-6432E3B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736C-D27F-4637-B778-A56D57772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93379-FCA3-40BB-A9B2-33318F0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DB8CD-BB12-4095-82A2-C6476A9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83A13-51C5-4E91-BE7E-9B20F99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958AF-D035-4DD2-B74A-60BC2913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FB7D-A675-4E2F-9368-1477D140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60F8-51B7-44DE-9106-DA8173362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B67F-7FC4-49A6-99DB-B76053B22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FA26-5E49-42E7-B57C-476662065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E9F1-DC7D-44DD-B7FD-B7C333816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7C20-C53A-42BF-B373-26948CBC5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7CF5-F1D5-480B-8D43-432D4DA28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D8E9-6A19-4848-87AB-49B100976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98728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900000" y="115920"/>
            <a:ext cx="7993080" cy="873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24" descr="D:\工作学习\PPT\PPT素材\图片3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工作学习\PPT\PPT素材\1213.jp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00BF-AB00-441C-AC19-A8B9427F0E74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工作要有好心态报告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99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2" descr="1258332991744"/>
          <p:cNvPicPr/>
          <p:nvPr/>
        </p:nvPicPr>
        <p:blipFill>
          <a:blip r:embed="rId2"/>
          <a:stretch/>
        </p:blipFill>
        <p:spPr>
          <a:xfrm>
            <a:off x="0" y="2071800"/>
            <a:ext cx="2448000" cy="30430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0"/>
          <p:cNvSpPr/>
          <p:nvPr/>
        </p:nvSpPr>
        <p:spPr>
          <a:xfrm>
            <a:off x="2916360" y="3002040"/>
            <a:ext cx="57592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916360" y="458460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毁灭人生的十大消极心态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2987640" y="141768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2379600" y="1380960"/>
            <a:ext cx="600120" cy="61596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11280" y="14889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2987640" y="192096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059280" y="199404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2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愤怒：因假想的对立或莫名的原因而产生极大的痛苦与敌意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392200" y="1911240"/>
            <a:ext cx="600120" cy="6159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392200" y="20559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987640" y="242568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2411280" y="2425680"/>
            <a:ext cx="600120" cy="615960"/>
          </a:xfrm>
          <a:prstGeom prst="ellipse">
            <a:avLst/>
          </a:prstGeom>
          <a:solidFill>
            <a:srgbClr val="00808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411280" y="25686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Oval 18"/>
          <p:cNvSpPr/>
          <p:nvPr/>
        </p:nvSpPr>
        <p:spPr>
          <a:xfrm>
            <a:off x="8551800" y="1496880"/>
            <a:ext cx="349200" cy="35892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Oval 19"/>
          <p:cNvSpPr/>
          <p:nvPr/>
        </p:nvSpPr>
        <p:spPr>
          <a:xfrm>
            <a:off x="8551800" y="2073240"/>
            <a:ext cx="349200" cy="35892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8551800" y="2576520"/>
            <a:ext cx="349200" cy="358920"/>
          </a:xfrm>
          <a:prstGeom prst="ellipse">
            <a:avLst/>
          </a:prstGeom>
          <a:solidFill>
            <a:srgbClr val="3399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987640" y="30020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4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张：头脑、身体和情绪处于焦虑和不安的状态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Oval 4"/>
          <p:cNvSpPr/>
          <p:nvPr/>
        </p:nvSpPr>
        <p:spPr>
          <a:xfrm>
            <a:off x="2360520" y="3029040"/>
            <a:ext cx="600120" cy="6159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2411280" y="317484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2916360" y="3568680"/>
            <a:ext cx="57592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987640" y="35766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5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忧虑：对可能出现的困难，任务或问题感到寝食不安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2373480" y="3559320"/>
            <a:ext cx="599760" cy="61596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373480" y="37036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2843280" y="408132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987640" y="414504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6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敌意：对立或反抗的行为，不正确的过于强烈的厌恶感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Oval 12"/>
          <p:cNvSpPr/>
          <p:nvPr/>
        </p:nvSpPr>
        <p:spPr>
          <a:xfrm>
            <a:off x="2373480" y="4135320"/>
            <a:ext cx="599760" cy="6159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2444760" y="42800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8532720" y="3720960"/>
            <a:ext cx="349200" cy="35892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8532720" y="4224240"/>
            <a:ext cx="349200" cy="35892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987640" y="4657680"/>
            <a:ext cx="50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7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嫉妒：对他人或团队的成就心生不满甚至感到气愤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392200" y="4648320"/>
            <a:ext cx="600120" cy="6159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424240" y="47563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2843280" y="508968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2987640" y="516096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8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贪婪：无休止、无节制地追求享受，金钱、地位、名誉和权力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2405160" y="5178600"/>
            <a:ext cx="600120" cy="61560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405160" y="53229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2843280" y="559440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2987640" y="56656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9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私：从自身利益出发，全然不顾他人的感受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2405160" y="5754600"/>
            <a:ext cx="600120" cy="61596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2476440" y="58993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8551800" y="5168880"/>
            <a:ext cx="349200" cy="35892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Oval 20"/>
          <p:cNvSpPr/>
          <p:nvPr/>
        </p:nvSpPr>
        <p:spPr>
          <a:xfrm>
            <a:off x="8551800" y="5673600"/>
            <a:ext cx="349200" cy="35892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8551800" y="4665600"/>
            <a:ext cx="349200" cy="35892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8551800" y="3081240"/>
            <a:ext cx="349200" cy="35892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2916360" y="616896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059280" y="616896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0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麻木：得过且过，没有兴趣和热情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2411280" y="6242040"/>
            <a:ext cx="600120" cy="6159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2463840" y="63817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Oval 20"/>
          <p:cNvSpPr/>
          <p:nvPr/>
        </p:nvSpPr>
        <p:spPr>
          <a:xfrm>
            <a:off x="8551800" y="6176880"/>
            <a:ext cx="349200" cy="35892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Text Box 71"/>
          <p:cNvSpPr/>
          <p:nvPr/>
        </p:nvSpPr>
        <p:spPr>
          <a:xfrm>
            <a:off x="3132000" y="13446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畏惧：面对困难心生畏惧，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目标或对自己单位的目标缺乏信心，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敢接受任务和挑战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Text Box 73"/>
          <p:cNvSpPr/>
          <p:nvPr/>
        </p:nvSpPr>
        <p:spPr>
          <a:xfrm>
            <a:off x="3132000" y="249696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3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冷漠：事不关己，高高挂起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53964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  <a:ea typeface="微软雅黑"/>
              </a:rPr>
              <a:t>消极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12855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人比人气死人，幸福是没有标准的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2" name="Group 50"/>
          <p:cNvGrpSpPr/>
          <p:nvPr/>
        </p:nvGrpSpPr>
        <p:grpSpPr>
          <a:xfrm>
            <a:off x="730080" y="2516040"/>
            <a:ext cx="6418440" cy="1489680"/>
            <a:chOff x="730080" y="2516040"/>
            <a:chExt cx="6418440" cy="1489680"/>
          </a:xfrm>
        </p:grpSpPr>
        <p:grpSp>
          <p:nvGrpSpPr>
            <p:cNvPr id="373" name="Group 3"/>
            <p:cNvGrpSpPr/>
            <p:nvPr/>
          </p:nvGrpSpPr>
          <p:grpSpPr>
            <a:xfrm>
              <a:off x="900000" y="2636640"/>
              <a:ext cx="6248520" cy="990360"/>
              <a:chOff x="900000" y="2636640"/>
              <a:chExt cx="6248520" cy="990360"/>
            </a:xfrm>
          </p:grpSpPr>
          <p:sp>
            <p:nvSpPr>
              <p:cNvPr id="374" name="AutoShape 4"/>
              <p:cNvSpPr/>
              <p:nvPr/>
            </p:nvSpPr>
            <p:spPr>
              <a:xfrm>
                <a:off x="900000" y="2636640"/>
                <a:ext cx="624852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5f19"/>
                  </a:gs>
                  <a:gs pos="50000">
                    <a:srgbClr val="eb5817"/>
                  </a:gs>
                  <a:gs pos="100000">
                    <a:srgbClr val="ff5f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75" name="Group 5"/>
              <p:cNvGrpSpPr/>
              <p:nvPr/>
            </p:nvGrpSpPr>
            <p:grpSpPr>
              <a:xfrm>
                <a:off x="915120" y="2667240"/>
                <a:ext cx="6225480" cy="915840"/>
                <a:chOff x="915120" y="2667240"/>
                <a:chExt cx="6225480" cy="915840"/>
              </a:xfrm>
            </p:grpSpPr>
            <p:sp>
              <p:nvSpPr>
                <p:cNvPr id="376" name="AutoShape 6"/>
                <p:cNvSpPr/>
                <p:nvPr/>
              </p:nvSpPr>
              <p:spPr>
                <a:xfrm>
                  <a:off x="915120" y="33465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5f19">
                        <a:alpha val="0"/>
                      </a:srgbClr>
                    </a:gs>
                    <a:gs pos="100000">
                      <a:srgbClr val="ffbd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7"/>
                <p:cNvSpPr/>
                <p:nvPr/>
              </p:nvSpPr>
              <p:spPr>
                <a:xfrm>
                  <a:off x="915120" y="266724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b2"/>
                    </a:gs>
                    <a:gs pos="100000">
                      <a:srgbClr val="ff5f1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Group 8"/>
            <p:cNvGrpSpPr/>
            <p:nvPr/>
          </p:nvGrpSpPr>
          <p:grpSpPr>
            <a:xfrm>
              <a:off x="730080" y="2516040"/>
              <a:ext cx="611280" cy="608040"/>
              <a:chOff x="730080" y="2516040"/>
              <a:chExt cx="611280" cy="608040"/>
            </a:xfrm>
          </p:grpSpPr>
          <p:sp>
            <p:nvSpPr>
              <p:cNvPr id="379" name="Oval 9"/>
              <p:cNvSpPr/>
              <p:nvPr/>
            </p:nvSpPr>
            <p:spPr>
              <a:xfrm>
                <a:off x="730080" y="2516040"/>
                <a:ext cx="6112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80" name="Group 10"/>
              <p:cNvGrpSpPr/>
              <p:nvPr/>
            </p:nvGrpSpPr>
            <p:grpSpPr>
              <a:xfrm>
                <a:off x="742680" y="2525400"/>
                <a:ext cx="585720" cy="585720"/>
                <a:chOff x="742680" y="2525400"/>
                <a:chExt cx="585720" cy="585720"/>
              </a:xfrm>
            </p:grpSpPr>
            <p:sp>
              <p:nvSpPr>
                <p:cNvPr id="381" name="Oval 11"/>
                <p:cNvSpPr/>
                <p:nvPr/>
              </p:nvSpPr>
              <p:spPr>
                <a:xfrm>
                  <a:off x="742680" y="252540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2"/>
                <p:cNvSpPr/>
                <p:nvPr/>
              </p:nvSpPr>
              <p:spPr>
                <a:xfrm>
                  <a:off x="750600" y="252864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3"/>
                <p:cNvSpPr/>
                <p:nvPr/>
              </p:nvSpPr>
              <p:spPr>
                <a:xfrm>
                  <a:off x="757080" y="253332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4"/>
                <p:cNvSpPr/>
                <p:nvPr/>
              </p:nvSpPr>
              <p:spPr>
                <a:xfrm>
                  <a:off x="786960" y="254916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15"/>
            <p:cNvSpPr/>
            <p:nvPr/>
          </p:nvSpPr>
          <p:spPr>
            <a:xfrm>
              <a:off x="826920" y="2565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Text Box 42"/>
            <p:cNvSpPr/>
            <p:nvPr/>
          </p:nvSpPr>
          <p:spPr>
            <a:xfrm>
              <a:off x="1341360" y="2814480"/>
              <a:ext cx="563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懂得幸福的人是最大的幸福，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不懂得幸福的人是最大的痛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87" name="Group 51"/>
          <p:cNvGrpSpPr/>
          <p:nvPr/>
        </p:nvGrpSpPr>
        <p:grpSpPr>
          <a:xfrm>
            <a:off x="671400" y="3652920"/>
            <a:ext cx="6477120" cy="1218240"/>
            <a:chOff x="671400" y="3652920"/>
            <a:chExt cx="6477120" cy="1218240"/>
          </a:xfrm>
        </p:grpSpPr>
        <p:grpSp>
          <p:nvGrpSpPr>
            <p:cNvPr id="388" name="Group 16"/>
            <p:cNvGrpSpPr/>
            <p:nvPr/>
          </p:nvGrpSpPr>
          <p:grpSpPr>
            <a:xfrm>
              <a:off x="900000" y="3881160"/>
              <a:ext cx="6248520" cy="990000"/>
              <a:chOff x="900000" y="3881160"/>
              <a:chExt cx="6248520" cy="990000"/>
            </a:xfrm>
          </p:grpSpPr>
          <p:sp>
            <p:nvSpPr>
              <p:cNvPr id="389" name="AutoShape 17"/>
              <p:cNvSpPr/>
              <p:nvPr/>
            </p:nvSpPr>
            <p:spPr>
              <a:xfrm>
                <a:off x="900000" y="3881160"/>
                <a:ext cx="6248520" cy="99000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a8d02a"/>
                  </a:gs>
                  <a:gs pos="50000">
                    <a:srgbClr val="96b925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90" name="Group 18"/>
              <p:cNvGrpSpPr/>
              <p:nvPr/>
            </p:nvGrpSpPr>
            <p:grpSpPr>
              <a:xfrm>
                <a:off x="915120" y="3911760"/>
                <a:ext cx="6225480" cy="915480"/>
                <a:chOff x="915120" y="3911760"/>
                <a:chExt cx="6225480" cy="915480"/>
              </a:xfrm>
            </p:grpSpPr>
            <p:sp>
              <p:nvSpPr>
                <p:cNvPr id="391" name="AutoShape 19"/>
                <p:cNvSpPr/>
                <p:nvPr/>
              </p:nvSpPr>
              <p:spPr>
                <a:xfrm>
                  <a:off x="915120" y="459072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d02a">
                        <a:alpha val="0"/>
                      </a:srgbClr>
                    </a:gs>
                    <a:gs pos="100000">
                      <a:srgbClr val="dbe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20"/>
                <p:cNvSpPr/>
                <p:nvPr/>
              </p:nvSpPr>
              <p:spPr>
                <a:xfrm>
                  <a:off x="915120" y="39117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2efb8"/>
                    </a:gs>
                    <a:gs pos="100000">
                      <a:srgbClr val="a8d02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21"/>
            <p:cNvGrpSpPr/>
            <p:nvPr/>
          </p:nvGrpSpPr>
          <p:grpSpPr>
            <a:xfrm>
              <a:off x="671400" y="3652920"/>
              <a:ext cx="611280" cy="607680"/>
              <a:chOff x="671400" y="3652920"/>
              <a:chExt cx="611280" cy="607680"/>
            </a:xfrm>
          </p:grpSpPr>
          <p:sp>
            <p:nvSpPr>
              <p:cNvPr id="394" name="Oval 22"/>
              <p:cNvSpPr/>
              <p:nvPr/>
            </p:nvSpPr>
            <p:spPr>
              <a:xfrm>
                <a:off x="671400" y="3652920"/>
                <a:ext cx="611280" cy="607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95" name="Group 23"/>
              <p:cNvGrpSpPr/>
              <p:nvPr/>
            </p:nvGrpSpPr>
            <p:grpSpPr>
              <a:xfrm>
                <a:off x="684000" y="3661920"/>
                <a:ext cx="585720" cy="585720"/>
                <a:chOff x="684000" y="3661920"/>
                <a:chExt cx="585720" cy="585720"/>
              </a:xfrm>
            </p:grpSpPr>
            <p:sp>
              <p:nvSpPr>
                <p:cNvPr id="396" name="Oval 24"/>
                <p:cNvSpPr/>
                <p:nvPr/>
              </p:nvSpPr>
              <p:spPr>
                <a:xfrm>
                  <a:off x="684000" y="366192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5"/>
                <p:cNvSpPr/>
                <p:nvPr/>
              </p:nvSpPr>
              <p:spPr>
                <a:xfrm>
                  <a:off x="691920" y="366516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8" name="Oval 26"/>
                <p:cNvSpPr/>
                <p:nvPr/>
              </p:nvSpPr>
              <p:spPr>
                <a:xfrm>
                  <a:off x="698400" y="366984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9" name="Oval 27"/>
                <p:cNvSpPr/>
                <p:nvPr/>
              </p:nvSpPr>
              <p:spPr>
                <a:xfrm>
                  <a:off x="728280" y="368568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0" name="Text Box 28"/>
            <p:cNvSpPr/>
            <p:nvPr/>
          </p:nvSpPr>
          <p:spPr>
            <a:xfrm>
              <a:off x="779400" y="3722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1" name="Text Box 43"/>
            <p:cNvSpPr/>
            <p:nvPr/>
          </p:nvSpPr>
          <p:spPr>
            <a:xfrm>
              <a:off x="1341360" y="40971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艰难困苦是幸福的源泉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贪图安逸是苦难的开始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2" name="Group 52"/>
          <p:cNvGrpSpPr/>
          <p:nvPr/>
        </p:nvGrpSpPr>
        <p:grpSpPr>
          <a:xfrm>
            <a:off x="671400" y="4964040"/>
            <a:ext cx="6477120" cy="1218960"/>
            <a:chOff x="671400" y="4964040"/>
            <a:chExt cx="6477120" cy="1218960"/>
          </a:xfrm>
        </p:grpSpPr>
        <p:grpSp>
          <p:nvGrpSpPr>
            <p:cNvPr id="403" name="Group 29"/>
            <p:cNvGrpSpPr/>
            <p:nvPr/>
          </p:nvGrpSpPr>
          <p:grpSpPr>
            <a:xfrm>
              <a:off x="900000" y="5192640"/>
              <a:ext cx="6248520" cy="990360"/>
              <a:chOff x="900000" y="5192640"/>
              <a:chExt cx="6248520" cy="990360"/>
            </a:xfrm>
          </p:grpSpPr>
          <p:sp>
            <p:nvSpPr>
              <p:cNvPr id="404" name="AutoShape 30"/>
              <p:cNvSpPr/>
              <p:nvPr/>
            </p:nvSpPr>
            <p:spPr>
              <a:xfrm>
                <a:off x="900000" y="5192640"/>
                <a:ext cx="624852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6161"/>
                  </a:gs>
                  <a:gs pos="50000">
                    <a:srgbClr val="eb5959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05" name="Group 31"/>
              <p:cNvGrpSpPr/>
              <p:nvPr/>
            </p:nvGrpSpPr>
            <p:grpSpPr>
              <a:xfrm>
                <a:off x="915120" y="5223240"/>
                <a:ext cx="6225480" cy="915840"/>
                <a:chOff x="915120" y="5223240"/>
                <a:chExt cx="6225480" cy="915840"/>
              </a:xfrm>
            </p:grpSpPr>
            <p:sp>
              <p:nvSpPr>
                <p:cNvPr id="406" name="AutoShape 32"/>
                <p:cNvSpPr/>
                <p:nvPr/>
              </p:nvSpPr>
              <p:spPr>
                <a:xfrm>
                  <a:off x="915120" y="59025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33"/>
                <p:cNvSpPr/>
                <p:nvPr/>
              </p:nvSpPr>
              <p:spPr>
                <a:xfrm>
                  <a:off x="915120" y="522324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Group 34"/>
            <p:cNvGrpSpPr/>
            <p:nvPr/>
          </p:nvGrpSpPr>
          <p:grpSpPr>
            <a:xfrm>
              <a:off x="671400" y="4964040"/>
              <a:ext cx="611280" cy="608040"/>
              <a:chOff x="671400" y="4964040"/>
              <a:chExt cx="611280" cy="608040"/>
            </a:xfrm>
          </p:grpSpPr>
          <p:sp>
            <p:nvSpPr>
              <p:cNvPr id="409" name="Oval 35"/>
              <p:cNvSpPr/>
              <p:nvPr/>
            </p:nvSpPr>
            <p:spPr>
              <a:xfrm>
                <a:off x="671400" y="4964040"/>
                <a:ext cx="6112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10" name="Group 36"/>
              <p:cNvGrpSpPr/>
              <p:nvPr/>
            </p:nvGrpSpPr>
            <p:grpSpPr>
              <a:xfrm>
                <a:off x="684000" y="4973400"/>
                <a:ext cx="585720" cy="585720"/>
                <a:chOff x="684000" y="4973400"/>
                <a:chExt cx="585720" cy="585720"/>
              </a:xfrm>
            </p:grpSpPr>
            <p:sp>
              <p:nvSpPr>
                <p:cNvPr id="411" name="Oval 37"/>
                <p:cNvSpPr/>
                <p:nvPr/>
              </p:nvSpPr>
              <p:spPr>
                <a:xfrm>
                  <a:off x="684000" y="497340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8"/>
                <p:cNvSpPr/>
                <p:nvPr/>
              </p:nvSpPr>
              <p:spPr>
                <a:xfrm>
                  <a:off x="691920" y="497664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9"/>
                <p:cNvSpPr/>
                <p:nvPr/>
              </p:nvSpPr>
              <p:spPr>
                <a:xfrm>
                  <a:off x="698400" y="498132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0"/>
                <p:cNvSpPr/>
                <p:nvPr/>
              </p:nvSpPr>
              <p:spPr>
                <a:xfrm>
                  <a:off x="728280" y="499716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5" name="Text Box 41"/>
            <p:cNvSpPr/>
            <p:nvPr/>
          </p:nvSpPr>
          <p:spPr>
            <a:xfrm>
              <a:off x="779400" y="503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1341360" y="53910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乐观常与健康长寿相伴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忧伤总同生病短命相随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417" name="Picture 7" descr="b0db9a"/>
          <p:cNvPicPr/>
          <p:nvPr/>
        </p:nvPicPr>
        <p:blipFill>
          <a:blip r:embed="rId2"/>
          <a:stretch/>
        </p:blipFill>
        <p:spPr>
          <a:xfrm>
            <a:off x="5867280" y="2205000"/>
            <a:ext cx="3565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6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2951280" cy="3887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6000" y="1428480"/>
            <a:ext cx="85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我们的生活中并不缺少快乐，而是缺少发现快乐的眼睛；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我们的工作中并不是没有快乐，而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没具备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制造快乐的能力。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24000" y="2637000"/>
            <a:ext cx="583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身无分文时不快乐，腰缠万贯后也不快乐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324000" y="321300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5276"/>
              </a:gs>
              <a:gs pos="50000">
                <a:srgbClr val="5cb1fe"/>
              </a:gs>
              <a:gs pos="100000">
                <a:srgbClr val="2b5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被人使唤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使唤别人后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仍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324000" y="386244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学生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了老师后还是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24000" y="451008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在国内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折腾到国外同样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324000" y="515772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涨工资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涨了工资照样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357120" y="5877000"/>
            <a:ext cx="5832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6a898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当官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了官后更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7" name="Group 57"/>
          <p:cNvGrpSpPr/>
          <p:nvPr/>
        </p:nvGrpSpPr>
        <p:grpSpPr>
          <a:xfrm>
            <a:off x="142920" y="2502000"/>
            <a:ext cx="8784720" cy="4174560"/>
            <a:chOff x="142920" y="2502000"/>
            <a:chExt cx="8784720" cy="4174560"/>
          </a:xfrm>
        </p:grpSpPr>
        <p:sp>
          <p:nvSpPr>
            <p:cNvPr id="428" name="AutoShape 58"/>
            <p:cNvSpPr/>
            <p:nvPr/>
          </p:nvSpPr>
          <p:spPr>
            <a:xfrm>
              <a:off x="142920" y="2502000"/>
              <a:ext cx="8784720" cy="417456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8a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Text Box 59"/>
            <p:cNvSpPr/>
            <p:nvPr/>
          </p:nvSpPr>
          <p:spPr>
            <a:xfrm>
              <a:off x="486000" y="3500640"/>
              <a:ext cx="80150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微软雅黑"/>
                  <a:ea typeface="微软雅黑"/>
                </a:rPr>
                <a:t>应该这样做：</a:t>
              </a:r>
              <a:endParaRPr b="1" lang="en-US" sz="32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2800" spc="-1" strike="noStrike">
                  <a:solidFill>
                    <a:srgbClr val="ef6d53"/>
                  </a:solidFill>
                  <a:latin typeface="微软雅黑"/>
                  <a:ea typeface="微软雅黑"/>
                </a:rPr>
                <a:t>早上醒来，光彩在脸上，充满笑容迎接未来；到了中午，光彩在腰上，挺直腰杆干好工作；到了晚上，光彩在脚上，心安理得的进入梦乡。</a:t>
              </a:r>
              <a:endParaRPr b="1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塑造心态的八大步骤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95280" y="1628640"/>
            <a:ext cx="360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</a:t>
            </a:r>
            <a:r>
              <a:rPr b="1" lang="en-US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实际上，当遇到危机时还要看到危机后面的转机；当遇到压力时要看到压力后面的动机；当遇到挫折时要看到挫折后面的成长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塑造心态的八大步骤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塑造心态的八大步骤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755640" y="1700280"/>
            <a:ext cx="7572960" cy="1110960"/>
            <a:chOff x="755640" y="1700280"/>
            <a:chExt cx="7572960" cy="1110960"/>
          </a:xfrm>
        </p:grpSpPr>
        <p:grpSp>
          <p:nvGrpSpPr>
            <p:cNvPr id="436" name="Group 3"/>
            <p:cNvGrpSpPr/>
            <p:nvPr/>
          </p:nvGrpSpPr>
          <p:grpSpPr>
            <a:xfrm>
              <a:off x="955800" y="1820880"/>
              <a:ext cx="7372800" cy="990360"/>
              <a:chOff x="955800" y="1820880"/>
              <a:chExt cx="7372800" cy="990360"/>
            </a:xfrm>
          </p:grpSpPr>
          <p:sp>
            <p:nvSpPr>
              <p:cNvPr id="437" name="AutoShape 4"/>
              <p:cNvSpPr/>
              <p:nvPr/>
            </p:nvSpPr>
            <p:spPr>
              <a:xfrm>
                <a:off x="955800" y="1820880"/>
                <a:ext cx="737280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5f19"/>
                  </a:gs>
                  <a:gs pos="50000">
                    <a:srgbClr val="eb5817"/>
                  </a:gs>
                  <a:gs pos="100000">
                    <a:srgbClr val="ff5f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38" name="Group 5"/>
              <p:cNvGrpSpPr/>
              <p:nvPr/>
            </p:nvGrpSpPr>
            <p:grpSpPr>
              <a:xfrm>
                <a:off x="973800" y="1851480"/>
                <a:ext cx="7345440" cy="915840"/>
                <a:chOff x="973800" y="1851480"/>
                <a:chExt cx="7345440" cy="915840"/>
              </a:xfrm>
            </p:grpSpPr>
            <p:sp>
              <p:nvSpPr>
                <p:cNvPr id="439" name="AutoShape 6"/>
                <p:cNvSpPr/>
                <p:nvPr/>
              </p:nvSpPr>
              <p:spPr>
                <a:xfrm>
                  <a:off x="973800" y="2530800"/>
                  <a:ext cx="734544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5f19">
                        <a:alpha val="0"/>
                      </a:srgbClr>
                    </a:gs>
                    <a:gs pos="100000">
                      <a:srgbClr val="ffbd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7"/>
                <p:cNvSpPr/>
                <p:nvPr/>
              </p:nvSpPr>
              <p:spPr>
                <a:xfrm>
                  <a:off x="973800" y="1851480"/>
                  <a:ext cx="734544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b2"/>
                    </a:gs>
                    <a:gs pos="100000">
                      <a:srgbClr val="ff5f1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8"/>
            <p:cNvGrpSpPr/>
            <p:nvPr/>
          </p:nvGrpSpPr>
          <p:grpSpPr>
            <a:xfrm>
              <a:off x="755640" y="1700280"/>
              <a:ext cx="720720" cy="608040"/>
              <a:chOff x="755640" y="1700280"/>
              <a:chExt cx="720720" cy="608040"/>
            </a:xfrm>
          </p:grpSpPr>
          <p:sp>
            <p:nvSpPr>
              <p:cNvPr id="442" name="Oval 9"/>
              <p:cNvSpPr/>
              <p:nvPr/>
            </p:nvSpPr>
            <p:spPr>
              <a:xfrm>
                <a:off x="755640" y="1700280"/>
                <a:ext cx="72072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43" name="Group 10"/>
              <p:cNvGrpSpPr/>
              <p:nvPr/>
            </p:nvGrpSpPr>
            <p:grpSpPr>
              <a:xfrm>
                <a:off x="770400" y="1709640"/>
                <a:ext cx="690480" cy="585720"/>
                <a:chOff x="770400" y="1709640"/>
                <a:chExt cx="690480" cy="585720"/>
              </a:xfrm>
            </p:grpSpPr>
            <p:sp>
              <p:nvSpPr>
                <p:cNvPr id="444" name="Oval 11"/>
                <p:cNvSpPr/>
                <p:nvPr/>
              </p:nvSpPr>
              <p:spPr>
                <a:xfrm>
                  <a:off x="770400" y="1709640"/>
                  <a:ext cx="6904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2"/>
                <p:cNvSpPr/>
                <p:nvPr/>
              </p:nvSpPr>
              <p:spPr>
                <a:xfrm>
                  <a:off x="779400" y="1712880"/>
                  <a:ext cx="6717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6" name="Oval 13"/>
                <p:cNvSpPr/>
                <p:nvPr/>
              </p:nvSpPr>
              <p:spPr>
                <a:xfrm>
                  <a:off x="787320" y="1717560"/>
                  <a:ext cx="6400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7" name="Oval 14"/>
                <p:cNvSpPr/>
                <p:nvPr/>
              </p:nvSpPr>
              <p:spPr>
                <a:xfrm>
                  <a:off x="822600" y="1733400"/>
                  <a:ext cx="57096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Text Box 15"/>
            <p:cNvSpPr/>
            <p:nvPr/>
          </p:nvSpPr>
          <p:spPr>
            <a:xfrm>
              <a:off x="869760" y="1749600"/>
              <a:ext cx="44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1476720" y="1998720"/>
              <a:ext cx="66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明确自己的价值期许（给自己合理定位）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经常反思自己的情绪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50" name="Group 19"/>
          <p:cNvGrpSpPr/>
          <p:nvPr/>
        </p:nvGrpSpPr>
        <p:grpSpPr>
          <a:xfrm>
            <a:off x="684360" y="2852640"/>
            <a:ext cx="7703280" cy="1218960"/>
            <a:chOff x="684360" y="2852640"/>
            <a:chExt cx="7703280" cy="1218960"/>
          </a:xfrm>
        </p:grpSpPr>
        <p:grpSp>
          <p:nvGrpSpPr>
            <p:cNvPr id="451" name="Group 16"/>
            <p:cNvGrpSpPr/>
            <p:nvPr/>
          </p:nvGrpSpPr>
          <p:grpSpPr>
            <a:xfrm>
              <a:off x="956160" y="3081240"/>
              <a:ext cx="7431480" cy="990360"/>
              <a:chOff x="956160" y="3081240"/>
              <a:chExt cx="7431480" cy="990360"/>
            </a:xfrm>
          </p:grpSpPr>
          <p:sp>
            <p:nvSpPr>
              <p:cNvPr id="452" name="AutoShape 17"/>
              <p:cNvSpPr/>
              <p:nvPr/>
            </p:nvSpPr>
            <p:spPr>
              <a:xfrm>
                <a:off x="956160" y="3081240"/>
                <a:ext cx="743148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a8d02a"/>
                  </a:gs>
                  <a:gs pos="50000">
                    <a:srgbClr val="96b925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53" name="Group 18"/>
              <p:cNvGrpSpPr/>
              <p:nvPr/>
            </p:nvGrpSpPr>
            <p:grpSpPr>
              <a:xfrm>
                <a:off x="974160" y="3111840"/>
                <a:ext cx="7403760" cy="915840"/>
                <a:chOff x="974160" y="3111840"/>
                <a:chExt cx="7403760" cy="915840"/>
              </a:xfrm>
            </p:grpSpPr>
            <p:sp>
              <p:nvSpPr>
                <p:cNvPr id="454" name="AutoShape 19"/>
                <p:cNvSpPr/>
                <p:nvPr/>
              </p:nvSpPr>
              <p:spPr>
                <a:xfrm>
                  <a:off x="974160" y="379116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d02a">
                        <a:alpha val="0"/>
                      </a:srgbClr>
                    </a:gs>
                    <a:gs pos="100000">
                      <a:srgbClr val="dbe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20"/>
                <p:cNvSpPr/>
                <p:nvPr/>
              </p:nvSpPr>
              <p:spPr>
                <a:xfrm>
                  <a:off x="974160" y="311184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2efb8"/>
                    </a:gs>
                    <a:gs pos="100000">
                      <a:srgbClr val="a8d02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" name="Group 21"/>
            <p:cNvGrpSpPr/>
            <p:nvPr/>
          </p:nvGrpSpPr>
          <p:grpSpPr>
            <a:xfrm>
              <a:off x="684360" y="2852640"/>
              <a:ext cx="726480" cy="608040"/>
              <a:chOff x="684360" y="2852640"/>
              <a:chExt cx="726480" cy="608040"/>
            </a:xfrm>
          </p:grpSpPr>
          <p:sp>
            <p:nvSpPr>
              <p:cNvPr id="457" name="Oval 22"/>
              <p:cNvSpPr/>
              <p:nvPr/>
            </p:nvSpPr>
            <p:spPr>
              <a:xfrm>
                <a:off x="684360" y="2852640"/>
                <a:ext cx="7264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58" name="Group 23"/>
              <p:cNvGrpSpPr/>
              <p:nvPr/>
            </p:nvGrpSpPr>
            <p:grpSpPr>
              <a:xfrm>
                <a:off x="699120" y="2862000"/>
                <a:ext cx="695880" cy="585720"/>
                <a:chOff x="699120" y="2862000"/>
                <a:chExt cx="695880" cy="585720"/>
              </a:xfrm>
            </p:grpSpPr>
            <p:sp>
              <p:nvSpPr>
                <p:cNvPr id="459" name="Oval 24"/>
                <p:cNvSpPr/>
                <p:nvPr/>
              </p:nvSpPr>
              <p:spPr>
                <a:xfrm>
                  <a:off x="699120" y="2862000"/>
                  <a:ext cx="6958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0" name="Oval 25"/>
                <p:cNvSpPr/>
                <p:nvPr/>
              </p:nvSpPr>
              <p:spPr>
                <a:xfrm>
                  <a:off x="708480" y="2865240"/>
                  <a:ext cx="6771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1" name="Oval 26"/>
                <p:cNvSpPr/>
                <p:nvPr/>
              </p:nvSpPr>
              <p:spPr>
                <a:xfrm>
                  <a:off x="716040" y="2869920"/>
                  <a:ext cx="64512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2" name="Oval 27"/>
                <p:cNvSpPr/>
                <p:nvPr/>
              </p:nvSpPr>
              <p:spPr>
                <a:xfrm>
                  <a:off x="751680" y="2885760"/>
                  <a:ext cx="5752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3" name="Text Box 28"/>
            <p:cNvSpPr/>
            <p:nvPr/>
          </p:nvSpPr>
          <p:spPr>
            <a:xfrm>
              <a:off x="812520" y="2922480"/>
              <a:ext cx="4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1481040" y="3297240"/>
              <a:ext cx="67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建立平衡的人生目标（人生的五个阶段）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科学管理好自己的时间（一寸光阴一寸金寸金难买寸光阴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65" name="Group 34"/>
          <p:cNvGrpSpPr/>
          <p:nvPr/>
        </p:nvGrpSpPr>
        <p:grpSpPr>
          <a:xfrm>
            <a:off x="684360" y="4076640"/>
            <a:ext cx="7703280" cy="1218960"/>
            <a:chOff x="684360" y="4076640"/>
            <a:chExt cx="7703280" cy="1218960"/>
          </a:xfrm>
        </p:grpSpPr>
        <p:grpSp>
          <p:nvGrpSpPr>
            <p:cNvPr id="466" name="Group 29"/>
            <p:cNvGrpSpPr/>
            <p:nvPr/>
          </p:nvGrpSpPr>
          <p:grpSpPr>
            <a:xfrm>
              <a:off x="956160" y="4305240"/>
              <a:ext cx="7431480" cy="990360"/>
              <a:chOff x="956160" y="4305240"/>
              <a:chExt cx="7431480" cy="990360"/>
            </a:xfrm>
          </p:grpSpPr>
          <p:sp>
            <p:nvSpPr>
              <p:cNvPr id="467" name="AutoShape 30"/>
              <p:cNvSpPr/>
              <p:nvPr/>
            </p:nvSpPr>
            <p:spPr>
              <a:xfrm>
                <a:off x="956160" y="4305240"/>
                <a:ext cx="743148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6161"/>
                  </a:gs>
                  <a:gs pos="50000">
                    <a:srgbClr val="eb5959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68" name="Group 31"/>
              <p:cNvGrpSpPr/>
              <p:nvPr/>
            </p:nvGrpSpPr>
            <p:grpSpPr>
              <a:xfrm>
                <a:off x="974160" y="4335840"/>
                <a:ext cx="7403760" cy="915840"/>
                <a:chOff x="974160" y="4335840"/>
                <a:chExt cx="7403760" cy="915840"/>
              </a:xfrm>
            </p:grpSpPr>
            <p:sp>
              <p:nvSpPr>
                <p:cNvPr id="469" name="AutoShape 32"/>
                <p:cNvSpPr/>
                <p:nvPr/>
              </p:nvSpPr>
              <p:spPr>
                <a:xfrm>
                  <a:off x="974160" y="501516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33"/>
                <p:cNvSpPr/>
                <p:nvPr/>
              </p:nvSpPr>
              <p:spPr>
                <a:xfrm>
                  <a:off x="974160" y="433584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Group 34"/>
            <p:cNvGrpSpPr/>
            <p:nvPr/>
          </p:nvGrpSpPr>
          <p:grpSpPr>
            <a:xfrm>
              <a:off x="684360" y="4076640"/>
              <a:ext cx="726480" cy="608040"/>
              <a:chOff x="684360" y="4076640"/>
              <a:chExt cx="726480" cy="608040"/>
            </a:xfrm>
          </p:grpSpPr>
          <p:sp>
            <p:nvSpPr>
              <p:cNvPr id="472" name="Oval 35"/>
              <p:cNvSpPr/>
              <p:nvPr/>
            </p:nvSpPr>
            <p:spPr>
              <a:xfrm>
                <a:off x="684360" y="4076640"/>
                <a:ext cx="7264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73" name="Group 36"/>
              <p:cNvGrpSpPr/>
              <p:nvPr/>
            </p:nvGrpSpPr>
            <p:grpSpPr>
              <a:xfrm>
                <a:off x="699120" y="4086000"/>
                <a:ext cx="695880" cy="585720"/>
                <a:chOff x="699120" y="4086000"/>
                <a:chExt cx="695880" cy="585720"/>
              </a:xfrm>
            </p:grpSpPr>
            <p:sp>
              <p:nvSpPr>
                <p:cNvPr id="474" name="Oval 37"/>
                <p:cNvSpPr/>
                <p:nvPr/>
              </p:nvSpPr>
              <p:spPr>
                <a:xfrm>
                  <a:off x="699120" y="4086000"/>
                  <a:ext cx="6958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8"/>
                <p:cNvSpPr/>
                <p:nvPr/>
              </p:nvSpPr>
              <p:spPr>
                <a:xfrm>
                  <a:off x="708480" y="4089240"/>
                  <a:ext cx="6771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6" name="Oval 39"/>
                <p:cNvSpPr/>
                <p:nvPr/>
              </p:nvSpPr>
              <p:spPr>
                <a:xfrm>
                  <a:off x="716040" y="4093920"/>
                  <a:ext cx="64512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0"/>
                <p:cNvSpPr/>
                <p:nvPr/>
              </p:nvSpPr>
              <p:spPr>
                <a:xfrm>
                  <a:off x="751680" y="4109760"/>
                  <a:ext cx="5752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" name="Text Box 41"/>
            <p:cNvSpPr/>
            <p:nvPr/>
          </p:nvSpPr>
          <p:spPr>
            <a:xfrm>
              <a:off x="812520" y="4146480"/>
              <a:ext cx="4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9" name="Text Box 44"/>
            <p:cNvSpPr/>
            <p:nvPr/>
          </p:nvSpPr>
          <p:spPr>
            <a:xfrm>
              <a:off x="1481040" y="4503600"/>
              <a:ext cx="67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拓宽与人沟通的渠道（个人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人际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5%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提升自己的职业能力（专业能力，行为能力，工作动力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80" name="Group 49"/>
          <p:cNvGrpSpPr/>
          <p:nvPr/>
        </p:nvGrpSpPr>
        <p:grpSpPr>
          <a:xfrm>
            <a:off x="611280" y="5373720"/>
            <a:ext cx="7776360" cy="1218960"/>
            <a:chOff x="611280" y="5373720"/>
            <a:chExt cx="7776360" cy="1218960"/>
          </a:xfrm>
        </p:grpSpPr>
        <p:grpSp>
          <p:nvGrpSpPr>
            <p:cNvPr id="481" name="Group 29"/>
            <p:cNvGrpSpPr/>
            <p:nvPr/>
          </p:nvGrpSpPr>
          <p:grpSpPr>
            <a:xfrm>
              <a:off x="885600" y="5602320"/>
              <a:ext cx="7502040" cy="990360"/>
              <a:chOff x="885600" y="5602320"/>
              <a:chExt cx="7502040" cy="990360"/>
            </a:xfrm>
          </p:grpSpPr>
          <p:sp>
            <p:nvSpPr>
              <p:cNvPr id="482" name="AutoShape 30"/>
              <p:cNvSpPr/>
              <p:nvPr/>
            </p:nvSpPr>
            <p:spPr>
              <a:xfrm>
                <a:off x="885600" y="5602320"/>
                <a:ext cx="750204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00ff"/>
                  </a:gs>
                  <a:gs pos="50000">
                    <a:srgbClr val="f672e3"/>
                  </a:gs>
                  <a:gs pos="100000">
                    <a:srgbClr val="ff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83" name="Group 31"/>
              <p:cNvGrpSpPr/>
              <p:nvPr/>
            </p:nvGrpSpPr>
            <p:grpSpPr>
              <a:xfrm>
                <a:off x="903960" y="5632920"/>
                <a:ext cx="7473960" cy="915840"/>
                <a:chOff x="903960" y="5632920"/>
                <a:chExt cx="7473960" cy="915840"/>
              </a:xfrm>
            </p:grpSpPr>
            <p:sp>
              <p:nvSpPr>
                <p:cNvPr id="484" name="AutoShape 32"/>
                <p:cNvSpPr/>
                <p:nvPr/>
              </p:nvSpPr>
              <p:spPr>
                <a:xfrm>
                  <a:off x="903960" y="6312240"/>
                  <a:ext cx="74739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33"/>
                <p:cNvSpPr/>
                <p:nvPr/>
              </p:nvSpPr>
              <p:spPr>
                <a:xfrm>
                  <a:off x="903960" y="5632920"/>
                  <a:ext cx="74739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Group 34"/>
            <p:cNvGrpSpPr/>
            <p:nvPr/>
          </p:nvGrpSpPr>
          <p:grpSpPr>
            <a:xfrm>
              <a:off x="611280" y="5373720"/>
              <a:ext cx="733320" cy="608040"/>
              <a:chOff x="611280" y="5373720"/>
              <a:chExt cx="733320" cy="608040"/>
            </a:xfrm>
          </p:grpSpPr>
          <p:sp>
            <p:nvSpPr>
              <p:cNvPr id="487" name="Oval 35"/>
              <p:cNvSpPr/>
              <p:nvPr/>
            </p:nvSpPr>
            <p:spPr>
              <a:xfrm>
                <a:off x="611280" y="5373720"/>
                <a:ext cx="73332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88" name="Group 36"/>
              <p:cNvGrpSpPr/>
              <p:nvPr/>
            </p:nvGrpSpPr>
            <p:grpSpPr>
              <a:xfrm>
                <a:off x="626400" y="5383080"/>
                <a:ext cx="702360" cy="585720"/>
                <a:chOff x="626400" y="5383080"/>
                <a:chExt cx="702360" cy="585720"/>
              </a:xfrm>
            </p:grpSpPr>
            <p:sp>
              <p:nvSpPr>
                <p:cNvPr id="489" name="Oval 37"/>
                <p:cNvSpPr/>
                <p:nvPr/>
              </p:nvSpPr>
              <p:spPr>
                <a:xfrm>
                  <a:off x="626400" y="5383080"/>
                  <a:ext cx="70236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8"/>
                <p:cNvSpPr/>
                <p:nvPr/>
              </p:nvSpPr>
              <p:spPr>
                <a:xfrm>
                  <a:off x="635760" y="5386320"/>
                  <a:ext cx="68364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1" name="Oval 39"/>
                <p:cNvSpPr/>
                <p:nvPr/>
              </p:nvSpPr>
              <p:spPr>
                <a:xfrm>
                  <a:off x="643320" y="5391000"/>
                  <a:ext cx="65124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0"/>
                <p:cNvSpPr/>
                <p:nvPr/>
              </p:nvSpPr>
              <p:spPr>
                <a:xfrm>
                  <a:off x="679320" y="5406840"/>
                  <a:ext cx="5806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41"/>
            <p:cNvSpPr/>
            <p:nvPr/>
          </p:nvSpPr>
          <p:spPr>
            <a:xfrm>
              <a:off x="740880" y="54435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4" name="Text Box 44"/>
            <p:cNvSpPr/>
            <p:nvPr/>
          </p:nvSpPr>
          <p:spPr>
            <a:xfrm>
              <a:off x="1415520" y="5800680"/>
              <a:ext cx="67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把握好今天这一刻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保持健康的身体。（先存命，后存钱）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8760" y="6426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二、要有执着的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539640" y="1773360"/>
            <a:ext cx="8280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非凡的意志力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一种偏激和专注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一种一定达到的信念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百折不挠决不放弃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5500800" y="4714920"/>
            <a:ext cx="2501280" cy="1655640"/>
            <a:chOff x="5500800" y="4714920"/>
            <a:chExt cx="2501280" cy="1655640"/>
          </a:xfrm>
        </p:grpSpPr>
        <p:pic>
          <p:nvPicPr>
            <p:cNvPr id="499" name="Picture 44" descr="甜水"/>
            <p:cNvPicPr/>
            <p:nvPr/>
          </p:nvPicPr>
          <p:blipFill>
            <a:blip r:embed="rId2"/>
            <a:stretch/>
          </p:blipFill>
          <p:spPr>
            <a:xfrm>
              <a:off x="5500800" y="4723200"/>
              <a:ext cx="1189440" cy="16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5" descr="苦水"/>
            <p:cNvPicPr/>
            <p:nvPr/>
          </p:nvPicPr>
          <p:blipFill>
            <a:blip r:embed="rId3"/>
            <a:stretch/>
          </p:blipFill>
          <p:spPr>
            <a:xfrm>
              <a:off x="6806520" y="4714920"/>
              <a:ext cx="1195560" cy="16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49"/>
          <p:cNvGrpSpPr/>
          <p:nvPr/>
        </p:nvGrpSpPr>
        <p:grpSpPr>
          <a:xfrm>
            <a:off x="785880" y="5143680"/>
            <a:ext cx="3960720" cy="593640"/>
            <a:chOff x="785880" y="5143680"/>
            <a:chExt cx="3960720" cy="593640"/>
          </a:xfrm>
        </p:grpSpPr>
        <p:sp>
          <p:nvSpPr>
            <p:cNvPr id="502" name="AutoShape 6"/>
            <p:cNvSpPr/>
            <p:nvPr/>
          </p:nvSpPr>
          <p:spPr>
            <a:xfrm>
              <a:off x="785880" y="5143680"/>
              <a:ext cx="3960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3" name="Rectangle 16"/>
            <p:cNvSpPr/>
            <p:nvPr/>
          </p:nvSpPr>
          <p:spPr>
            <a:xfrm>
              <a:off x="857160" y="5214960"/>
              <a:ext cx="378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两杯水的理论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1"/>
          <p:cNvGrpSpPr/>
          <p:nvPr/>
        </p:nvGrpSpPr>
        <p:grpSpPr>
          <a:xfrm>
            <a:off x="2484360" y="3068640"/>
            <a:ext cx="3457440" cy="3457440"/>
            <a:chOff x="2484360" y="3068640"/>
            <a:chExt cx="3457440" cy="3457440"/>
          </a:xfrm>
        </p:grpSpPr>
        <p:sp>
          <p:nvSpPr>
            <p:cNvPr id="505" name="Oval 3"/>
            <p:cNvSpPr/>
            <p:nvPr/>
          </p:nvSpPr>
          <p:spPr>
            <a:xfrm>
              <a:off x="2484360" y="3068640"/>
              <a:ext cx="3457440" cy="3457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5f1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6" name="WordArt 19"/>
            <p:cNvSpPr txBox="1"/>
            <p:nvPr/>
          </p:nvSpPr>
          <p:spPr>
            <a:xfrm>
              <a:off x="3362400" y="4471920"/>
              <a:ext cx="1182600" cy="43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2232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黑体"/>
                </a:rPr>
                <a:t>感恩</a:t>
              </a:r>
              <a:endPara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28760" y="713880"/>
            <a:ext cx="7632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三、要有感恩的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f1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f19"/>
                </a:solidFill>
                <a:latin typeface="微软雅黑"/>
              </a:rPr>
              <a:t>什么是幸福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</a:rPr>
              <a:t>	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</a:rPr>
              <a:t>所谓幸福是一颗感恩的心，一个健康的身体，一份称心的工作，一位深爱你的人，一帮信赖的朋友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9" name="Group 22"/>
          <p:cNvGrpSpPr/>
          <p:nvPr/>
        </p:nvGrpSpPr>
        <p:grpSpPr>
          <a:xfrm>
            <a:off x="2340000" y="2565360"/>
            <a:ext cx="3816360" cy="622440"/>
            <a:chOff x="2340000" y="2565360"/>
            <a:chExt cx="3816360" cy="622440"/>
          </a:xfrm>
        </p:grpSpPr>
        <p:sp>
          <p:nvSpPr>
            <p:cNvPr id="510" name="AutoShape 4"/>
            <p:cNvSpPr/>
            <p:nvPr/>
          </p:nvSpPr>
          <p:spPr>
            <a:xfrm>
              <a:off x="2340000" y="256536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>
              <a:off x="3971880" y="270828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幸福的生活方式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2" name="Group 23"/>
          <p:cNvGrpSpPr/>
          <p:nvPr/>
        </p:nvGrpSpPr>
        <p:grpSpPr>
          <a:xfrm>
            <a:off x="0" y="3900600"/>
            <a:ext cx="2843280" cy="593640"/>
            <a:chOff x="0" y="3900600"/>
            <a:chExt cx="2843280" cy="593640"/>
          </a:xfrm>
        </p:grpSpPr>
        <p:sp>
          <p:nvSpPr>
            <p:cNvPr id="513" name="AutoShape 5"/>
            <p:cNvSpPr/>
            <p:nvPr/>
          </p:nvSpPr>
          <p:spPr>
            <a:xfrm>
              <a:off x="0" y="3900600"/>
              <a:ext cx="284328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15"/>
            <p:cNvSpPr/>
            <p:nvPr/>
          </p:nvSpPr>
          <p:spPr>
            <a:xfrm>
              <a:off x="1258920" y="4005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利人利己的责任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5" name="Group 24"/>
          <p:cNvGrpSpPr/>
          <p:nvPr/>
        </p:nvGrpSpPr>
        <p:grpSpPr>
          <a:xfrm>
            <a:off x="5435640" y="4005360"/>
            <a:ext cx="3803760" cy="593640"/>
            <a:chOff x="5435640" y="4005360"/>
            <a:chExt cx="3803760" cy="593640"/>
          </a:xfrm>
        </p:grpSpPr>
        <p:sp>
          <p:nvSpPr>
            <p:cNvPr id="516" name="AutoShape 6"/>
            <p:cNvSpPr/>
            <p:nvPr/>
          </p:nvSpPr>
          <p:spPr>
            <a:xfrm>
              <a:off x="5435640" y="4005360"/>
              <a:ext cx="38037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7132680" y="4149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不求回报的自觉和奉献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8" name="Group 26"/>
          <p:cNvGrpSpPr/>
          <p:nvPr/>
        </p:nvGrpSpPr>
        <p:grpSpPr>
          <a:xfrm>
            <a:off x="4994280" y="5734080"/>
            <a:ext cx="4149720" cy="593640"/>
            <a:chOff x="4994280" y="5734080"/>
            <a:chExt cx="4149720" cy="593640"/>
          </a:xfrm>
        </p:grpSpPr>
        <p:sp>
          <p:nvSpPr>
            <p:cNvPr id="519" name="AutoShape 8"/>
            <p:cNvSpPr/>
            <p:nvPr/>
          </p:nvSpPr>
          <p:spPr>
            <a:xfrm>
              <a:off x="4994280" y="5734080"/>
              <a:ext cx="4149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5934600" y="5877000"/>
              <a:ext cx="210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让我们坦然面对人生的坎坷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21" name="Group 25"/>
          <p:cNvGrpSpPr/>
          <p:nvPr/>
        </p:nvGrpSpPr>
        <p:grpSpPr>
          <a:xfrm>
            <a:off x="0" y="5672160"/>
            <a:ext cx="3224160" cy="593640"/>
            <a:chOff x="0" y="5672160"/>
            <a:chExt cx="3224160" cy="593640"/>
          </a:xfrm>
        </p:grpSpPr>
        <p:sp>
          <p:nvSpPr>
            <p:cNvPr id="522" name="AutoShape 7"/>
            <p:cNvSpPr/>
            <p:nvPr/>
          </p:nvSpPr>
          <p:spPr>
            <a:xfrm>
              <a:off x="0" y="5672160"/>
              <a:ext cx="32241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1468440" y="5805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人生的一堂必修课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要做到以下五个方面的感恩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611280" y="1844640"/>
            <a:ext cx="3816360" cy="622440"/>
            <a:chOff x="611280" y="1844640"/>
            <a:chExt cx="3816360" cy="622440"/>
          </a:xfrm>
        </p:grpSpPr>
        <p:sp>
          <p:nvSpPr>
            <p:cNvPr id="527" name="AutoShape 4"/>
            <p:cNvSpPr/>
            <p:nvPr/>
          </p:nvSpPr>
          <p:spPr>
            <a:xfrm>
              <a:off x="611280" y="184464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14"/>
            <p:cNvSpPr/>
            <p:nvPr/>
          </p:nvSpPr>
          <p:spPr>
            <a:xfrm>
              <a:off x="2331720" y="19875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国家和社会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29" name="Group 10"/>
          <p:cNvGrpSpPr/>
          <p:nvPr/>
        </p:nvGrpSpPr>
        <p:grpSpPr>
          <a:xfrm>
            <a:off x="611280" y="2781360"/>
            <a:ext cx="3960360" cy="593640"/>
            <a:chOff x="611280" y="2781360"/>
            <a:chExt cx="3960360" cy="593640"/>
          </a:xfrm>
        </p:grpSpPr>
        <p:sp>
          <p:nvSpPr>
            <p:cNvPr id="530" name="AutoShape 5"/>
            <p:cNvSpPr/>
            <p:nvPr/>
          </p:nvSpPr>
          <p:spPr>
            <a:xfrm>
              <a:off x="623520" y="2781360"/>
              <a:ext cx="38221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611280" y="288612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父母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611280" y="3716280"/>
            <a:ext cx="3960360" cy="593640"/>
            <a:chOff x="611280" y="3716280"/>
            <a:chExt cx="3960360" cy="593640"/>
          </a:xfrm>
        </p:grpSpPr>
        <p:sp>
          <p:nvSpPr>
            <p:cNvPr id="533" name="AutoShape 6"/>
            <p:cNvSpPr/>
            <p:nvPr/>
          </p:nvSpPr>
          <p:spPr>
            <a:xfrm>
              <a:off x="611280" y="3716280"/>
              <a:ext cx="39603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16"/>
            <p:cNvSpPr/>
            <p:nvPr/>
          </p:nvSpPr>
          <p:spPr>
            <a:xfrm>
              <a:off x="698760" y="3860640"/>
              <a:ext cx="378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要感恩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妻子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和孩子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5" name="Group 16"/>
          <p:cNvGrpSpPr/>
          <p:nvPr/>
        </p:nvGrpSpPr>
        <p:grpSpPr>
          <a:xfrm>
            <a:off x="611280" y="5516640"/>
            <a:ext cx="3887640" cy="593640"/>
            <a:chOff x="611280" y="5516640"/>
            <a:chExt cx="3887640" cy="593640"/>
          </a:xfrm>
        </p:grpSpPr>
        <p:sp>
          <p:nvSpPr>
            <p:cNvPr id="536" name="AutoShape 8"/>
            <p:cNvSpPr/>
            <p:nvPr/>
          </p:nvSpPr>
          <p:spPr>
            <a:xfrm>
              <a:off x="611280" y="5516640"/>
              <a:ext cx="388764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2241720" y="5659560"/>
              <a:ext cx="471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对方甚至敌人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8" name="Group 19"/>
          <p:cNvGrpSpPr/>
          <p:nvPr/>
        </p:nvGrpSpPr>
        <p:grpSpPr>
          <a:xfrm>
            <a:off x="611280" y="4581360"/>
            <a:ext cx="3889080" cy="593640"/>
            <a:chOff x="611280" y="4581360"/>
            <a:chExt cx="3889080" cy="593640"/>
          </a:xfrm>
        </p:grpSpPr>
        <p:sp>
          <p:nvSpPr>
            <p:cNvPr id="539" name="AutoShape 7"/>
            <p:cNvSpPr/>
            <p:nvPr/>
          </p:nvSpPr>
          <p:spPr>
            <a:xfrm>
              <a:off x="611280" y="4581360"/>
              <a:ext cx="388908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0" name="Rectangle 18"/>
            <p:cNvSpPr/>
            <p:nvPr/>
          </p:nvSpPr>
          <p:spPr>
            <a:xfrm>
              <a:off x="1200960" y="4714560"/>
              <a:ext cx="285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同事和领导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41" name="Rectangle 9"/>
          <p:cNvSpPr/>
          <p:nvPr/>
        </p:nvSpPr>
        <p:spPr>
          <a:xfrm>
            <a:off x="4572000" y="19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不能“端起碗吃肉，放下筷子骂娘” 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4572000" y="2852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连父母都不爱的人，能爱国家，爱社会吗？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4572000" y="37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家庭是港湾，妻子是船，孩子就是帆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zh-CN" sz="1800" spc="-1" strike="noStrike">
                <a:solidFill>
                  <a:srgbClr val="ff5f19"/>
                </a:solidFill>
                <a:latin typeface="Arial"/>
                <a:ea typeface="微软雅黑"/>
              </a:rPr>
              <a:t>亲人只有这一世的缘份，好好珍惜，不管爱与不爱，来世都不再相见。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4572000" y="472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没有领导的重用和同事的推举能成功</a:t>
            </a:r>
            <a:r>
              <a:rPr b="1" lang="en-US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?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4572000" y="5445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向对方学习，强化竞争意识，强化职业能力；向敌人学习，强化生存技能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要有空杯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8" name="Group 20"/>
          <p:cNvGrpSpPr/>
          <p:nvPr/>
        </p:nvGrpSpPr>
        <p:grpSpPr>
          <a:xfrm>
            <a:off x="611280" y="1844640"/>
            <a:ext cx="3816360" cy="622440"/>
            <a:chOff x="611280" y="1844640"/>
            <a:chExt cx="3816360" cy="622440"/>
          </a:xfrm>
        </p:grpSpPr>
        <p:sp>
          <p:nvSpPr>
            <p:cNvPr id="549" name="AutoShape 4"/>
            <p:cNvSpPr/>
            <p:nvPr/>
          </p:nvSpPr>
          <p:spPr>
            <a:xfrm>
              <a:off x="611280" y="184464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324880" y="198900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挑战自我永不满足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1" name="Group 8"/>
          <p:cNvGrpSpPr/>
          <p:nvPr/>
        </p:nvGrpSpPr>
        <p:grpSpPr>
          <a:xfrm>
            <a:off x="611280" y="2781360"/>
            <a:ext cx="3960360" cy="593640"/>
            <a:chOff x="611280" y="2781360"/>
            <a:chExt cx="3960360" cy="593640"/>
          </a:xfrm>
        </p:grpSpPr>
        <p:sp>
          <p:nvSpPr>
            <p:cNvPr id="552" name="AutoShape 5"/>
            <p:cNvSpPr/>
            <p:nvPr/>
          </p:nvSpPr>
          <p:spPr>
            <a:xfrm>
              <a:off x="623520" y="2781360"/>
              <a:ext cx="38221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3" name="Rectangle 15"/>
            <p:cNvSpPr/>
            <p:nvPr/>
          </p:nvSpPr>
          <p:spPr>
            <a:xfrm>
              <a:off x="611280" y="288612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对自我的不断扬弃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4" name="Group 11"/>
          <p:cNvGrpSpPr/>
          <p:nvPr/>
        </p:nvGrpSpPr>
        <p:grpSpPr>
          <a:xfrm>
            <a:off x="611280" y="3716280"/>
            <a:ext cx="3960360" cy="593640"/>
            <a:chOff x="611280" y="3716280"/>
            <a:chExt cx="3960360" cy="593640"/>
          </a:xfrm>
        </p:grpSpPr>
        <p:sp>
          <p:nvSpPr>
            <p:cNvPr id="555" name="AutoShape 6"/>
            <p:cNvSpPr/>
            <p:nvPr/>
          </p:nvSpPr>
          <p:spPr>
            <a:xfrm>
              <a:off x="611280" y="3716280"/>
              <a:ext cx="39603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698760" y="3860640"/>
              <a:ext cx="378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忘却成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611280" y="5516640"/>
            <a:ext cx="3887640" cy="593640"/>
            <a:chOff x="611280" y="5516640"/>
            <a:chExt cx="3887640" cy="593640"/>
          </a:xfrm>
        </p:grpSpPr>
        <p:sp>
          <p:nvSpPr>
            <p:cNvPr id="558" name="AutoShape 8"/>
            <p:cNvSpPr/>
            <p:nvPr/>
          </p:nvSpPr>
          <p:spPr>
            <a:xfrm>
              <a:off x="611280" y="5516640"/>
              <a:ext cx="388764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9" name="Rectangle 17"/>
            <p:cNvSpPr/>
            <p:nvPr/>
          </p:nvSpPr>
          <p:spPr>
            <a:xfrm>
              <a:off x="2243160" y="5659560"/>
              <a:ext cx="471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与时俱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60" name="Group 21"/>
          <p:cNvGrpSpPr/>
          <p:nvPr/>
        </p:nvGrpSpPr>
        <p:grpSpPr>
          <a:xfrm>
            <a:off x="611280" y="4581360"/>
            <a:ext cx="4031640" cy="576360"/>
            <a:chOff x="611280" y="4581360"/>
            <a:chExt cx="4031640" cy="576360"/>
          </a:xfrm>
        </p:grpSpPr>
        <p:sp>
          <p:nvSpPr>
            <p:cNvPr id="561" name="AutoShape 7"/>
            <p:cNvSpPr/>
            <p:nvPr/>
          </p:nvSpPr>
          <p:spPr>
            <a:xfrm>
              <a:off x="611280" y="4581360"/>
              <a:ext cx="388908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2" name="Rectangle 18"/>
            <p:cNvSpPr/>
            <p:nvPr/>
          </p:nvSpPr>
          <p:spPr>
            <a:xfrm>
              <a:off x="684000" y="47145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不断给心灵“洗澡”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63" name="Line 31"/>
          <p:cNvSpPr/>
          <p:nvPr/>
        </p:nvSpPr>
        <p:spPr>
          <a:xfrm>
            <a:off x="4500720" y="213372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Text Box 24"/>
          <p:cNvSpPr/>
          <p:nvPr/>
        </p:nvSpPr>
        <p:spPr>
          <a:xfrm>
            <a:off x="6335640" y="171468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季羡林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钱学森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4500720" y="306864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4572000" y="400536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>
            <a:off x="4500720" y="580536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Rectangle 29"/>
          <p:cNvSpPr/>
          <p:nvPr/>
        </p:nvSpPr>
        <p:spPr>
          <a:xfrm>
            <a:off x="6156360" y="28526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临沂的朱老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6227640" y="378936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猴子捡帽子的故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31"/>
          <p:cNvSpPr/>
          <p:nvPr/>
        </p:nvSpPr>
        <p:spPr>
          <a:xfrm>
            <a:off x="6192720" y="55008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富有创造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体现时代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把握规律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Line 31"/>
          <p:cNvSpPr/>
          <p:nvPr/>
        </p:nvSpPr>
        <p:spPr>
          <a:xfrm>
            <a:off x="4572000" y="492912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0"/>
          <p:cNvSpPr/>
          <p:nvPr/>
        </p:nvSpPr>
        <p:spPr>
          <a:xfrm>
            <a:off x="6357960" y="471492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负荆请罪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shadow_1_m"/>
          <p:cNvPicPr/>
          <p:nvPr/>
        </p:nvPicPr>
        <p:blipFill>
          <a:blip r:embed="rId2"/>
          <a:stretch/>
        </p:blipFill>
        <p:spPr>
          <a:xfrm>
            <a:off x="1547640" y="5300640"/>
            <a:ext cx="3672000" cy="264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6"/>
          <p:cNvGrpSpPr/>
          <p:nvPr/>
        </p:nvGrpSpPr>
        <p:grpSpPr>
          <a:xfrm>
            <a:off x="684360" y="1484280"/>
            <a:ext cx="7918920" cy="5184000"/>
            <a:chOff x="684360" y="1484280"/>
            <a:chExt cx="7918920" cy="5184000"/>
          </a:xfrm>
        </p:grpSpPr>
        <p:sp>
          <p:nvSpPr>
            <p:cNvPr id="576" name="AutoShape 17"/>
            <p:cNvSpPr/>
            <p:nvPr/>
          </p:nvSpPr>
          <p:spPr>
            <a:xfrm>
              <a:off x="684360" y="1484280"/>
              <a:ext cx="7918920" cy="518400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7" name="Line 18"/>
            <p:cNvSpPr/>
            <p:nvPr/>
          </p:nvSpPr>
          <p:spPr>
            <a:xfrm>
              <a:off x="1070640" y="1509480"/>
              <a:ext cx="72043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 flipV="1">
              <a:off x="771840" y="6588000"/>
              <a:ext cx="7719480" cy="687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79" name="Freeform 20"/>
          <p:cNvSpPr/>
          <p:nvPr/>
        </p:nvSpPr>
        <p:spPr>
          <a:xfrm>
            <a:off x="971640" y="1700280"/>
            <a:ext cx="7561080" cy="7308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835280" y="458136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大肚能容，容天下难容之事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开口便笑，笑天下可笑之人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1116000" y="1916280"/>
            <a:ext cx="72723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伤害你的人，因为他磨练了你的意志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绊倒你的人，因为他强化了你的双臂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欺骗你的人，因为他增进了你的智慧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藐视你的人，因为他觉醒了你的自尊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遗忘你的人，因为他教会你懂得独立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32"/>
          <p:cNvSpPr/>
          <p:nvPr/>
        </p:nvSpPr>
        <p:spPr>
          <a:xfrm flipV="1">
            <a:off x="1116000" y="4220640"/>
            <a:ext cx="6840720" cy="18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15688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的定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"/>
          <p:cNvSpPr/>
          <p:nvPr/>
        </p:nvSpPr>
        <p:spPr>
          <a:xfrm rot="21175800">
            <a:off x="631800" y="2959200"/>
            <a:ext cx="1812960" cy="233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89" name="Picture 5" descr="circuler_1"/>
            <p:cNvPicPr/>
            <p:nvPr/>
          </p:nvPicPr>
          <p:blipFill>
            <a:blip r:embed="rId2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Oval 6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91" name="Group 7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92" name="Group 8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93" name="AutoShape 9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10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11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12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98" name="AutoShape 14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15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16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17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2" name="Picture 18" descr="light_shadow1"/>
            <p:cNvPicPr/>
            <p:nvPr/>
          </p:nvPicPr>
          <p:blipFill>
            <a:blip r:embed="rId3"/>
            <a:srcRect l="0" t="23952" r="0" b="0"/>
            <a:stretch/>
          </p:blipFill>
          <p:spPr>
            <a:xfrm rot="19029600">
              <a:off x="1922040" y="538560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9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104" name="Picture 20" descr="circuler_1"/>
            <p:cNvPicPr/>
            <p:nvPr/>
          </p:nvPicPr>
          <p:blipFill>
            <a:blip r:embed="rId4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21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107" name="Group 23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108" name="AutoShape 24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25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26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27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8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113" name="AutoShape 29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30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31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32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7" name="Picture 33" descr="light_shadow1"/>
            <p:cNvPicPr/>
            <p:nvPr/>
          </p:nvPicPr>
          <p:blipFill>
            <a:blip r:embed="rId5"/>
            <a:srcRect l="0" t="23952" r="0" b="0"/>
            <a:stretch/>
          </p:blipFill>
          <p:spPr>
            <a:xfrm rot="19029600">
              <a:off x="3604680" y="42901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34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119" name="Picture 35" descr="circuler_1"/>
            <p:cNvPicPr/>
            <p:nvPr/>
          </p:nvPicPr>
          <p:blipFill>
            <a:blip r:embed="rId6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36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21" name="Group 37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122" name="Group 38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123" name="AutoShape 39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40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41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42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128" name="AutoShape 44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5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6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7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2" name="Picture 48" descr="light_shadow1"/>
            <p:cNvPicPr/>
            <p:nvPr/>
          </p:nvPicPr>
          <p:blipFill>
            <a:blip r:embed="rId7"/>
            <a:srcRect l="0" t="23952" r="0" b="0"/>
            <a:stretch/>
          </p:blipFill>
          <p:spPr>
            <a:xfrm rot="19029600">
              <a:off x="5213520" y="32911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49"/>
          <p:cNvGrpSpPr/>
          <p:nvPr/>
        </p:nvGrpSpPr>
        <p:grpSpPr>
          <a:xfrm>
            <a:off x="6557760" y="2378160"/>
            <a:ext cx="214560" cy="209520"/>
            <a:chOff x="6557760" y="2378160"/>
            <a:chExt cx="214560" cy="209520"/>
          </a:xfrm>
        </p:grpSpPr>
        <p:pic>
          <p:nvPicPr>
            <p:cNvPr id="134" name="Picture 50" descr="circuler_1"/>
            <p:cNvPicPr/>
            <p:nvPr/>
          </p:nvPicPr>
          <p:blipFill>
            <a:blip r:embed="rId8"/>
            <a:stretch/>
          </p:blipFill>
          <p:spPr>
            <a:xfrm>
              <a:off x="6578640" y="2397960"/>
              <a:ext cx="187200" cy="1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Oval 51"/>
            <p:cNvGrpSpPr/>
            <p:nvPr/>
          </p:nvGrpSpPr>
          <p:grpSpPr>
            <a:xfrm>
              <a:off x="6571080" y="2390760"/>
              <a:ext cx="201240" cy="190440"/>
              <a:chOff x="6571080" y="2390760"/>
              <a:chExt cx="201240" cy="190440"/>
            </a:xfrm>
          </p:grpSpPr>
          <p:pic>
            <p:nvPicPr>
              <p:cNvPr id="136" name="Oval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6571080" y="2390760"/>
                <a:ext cx="20124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605640" y="2423880"/>
                <a:ext cx="13176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52"/>
            <p:cNvGrpSpPr/>
            <p:nvPr/>
          </p:nvGrpSpPr>
          <p:grpSpPr>
            <a:xfrm>
              <a:off x="6591240" y="2521080"/>
              <a:ext cx="163800" cy="66600"/>
              <a:chOff x="6591240" y="2521080"/>
              <a:chExt cx="163800" cy="66600"/>
            </a:xfrm>
          </p:grpSpPr>
          <p:grpSp>
            <p:nvGrpSpPr>
              <p:cNvPr id="139" name="Group 53"/>
              <p:cNvGrpSpPr/>
              <p:nvPr/>
            </p:nvGrpSpPr>
            <p:grpSpPr>
              <a:xfrm>
                <a:off x="6619680" y="2521080"/>
                <a:ext cx="135360" cy="62280"/>
                <a:chOff x="6619680" y="2521080"/>
                <a:chExt cx="135360" cy="62280"/>
              </a:xfrm>
            </p:grpSpPr>
            <p:sp>
              <p:nvSpPr>
                <p:cNvPr id="140" name="AutoShape 54"/>
                <p:cNvSpPr/>
                <p:nvPr/>
              </p:nvSpPr>
              <p:spPr>
                <a:xfrm flipH="1" flipV="1" rot="3964800">
                  <a:off x="6692760" y="250308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5"/>
                <p:cNvSpPr/>
                <p:nvPr/>
              </p:nvSpPr>
              <p:spPr>
                <a:xfrm flipH="1" flipV="1" rot="4780200">
                  <a:off x="6677640" y="250848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6"/>
                <p:cNvSpPr/>
                <p:nvPr/>
              </p:nvSpPr>
              <p:spPr>
                <a:xfrm flipH="1" flipV="1" rot="5076000">
                  <a:off x="6668280" y="250992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57"/>
                <p:cNvSpPr/>
                <p:nvPr/>
              </p:nvSpPr>
              <p:spPr>
                <a:xfrm flipH="1" flipV="1" rot="5608200">
                  <a:off x="6657120" y="251100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8"/>
              <p:cNvGrpSpPr/>
              <p:nvPr/>
            </p:nvGrpSpPr>
            <p:grpSpPr>
              <a:xfrm>
                <a:off x="6591240" y="2522880"/>
                <a:ext cx="135720" cy="64800"/>
                <a:chOff x="6591240" y="2522880"/>
                <a:chExt cx="135720" cy="64800"/>
              </a:xfrm>
            </p:grpSpPr>
            <p:sp>
              <p:nvSpPr>
                <p:cNvPr id="145" name="AutoShape 59"/>
                <p:cNvSpPr/>
                <p:nvPr/>
              </p:nvSpPr>
              <p:spPr>
                <a:xfrm flipH="1" flipV="1" rot="5317800">
                  <a:off x="6664680" y="251100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0"/>
                <p:cNvSpPr/>
                <p:nvPr/>
              </p:nvSpPr>
              <p:spPr>
                <a:xfrm flipH="1" flipV="1" rot="6133800">
                  <a:off x="6648480" y="251064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1"/>
                <p:cNvSpPr/>
                <p:nvPr/>
              </p:nvSpPr>
              <p:spPr>
                <a:xfrm flipH="1" flipV="1" rot="6429000">
                  <a:off x="6639480" y="250812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2"/>
                <p:cNvSpPr/>
                <p:nvPr/>
              </p:nvSpPr>
              <p:spPr>
                <a:xfrm flipH="1" flipV="1" rot="6961200">
                  <a:off x="6629040" y="250560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9" name="Picture 63" descr="light_shadow1"/>
            <p:cNvPicPr/>
            <p:nvPr/>
          </p:nvPicPr>
          <p:blipFill>
            <a:blip r:embed="rId10"/>
            <a:srcRect l="0" t="23952" r="0" b="0"/>
            <a:stretch/>
          </p:blipFill>
          <p:spPr>
            <a:xfrm rot="19029600">
              <a:off x="6568920" y="2413440"/>
              <a:ext cx="138960" cy="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64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钱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房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车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Picture 70" descr="095"/>
          <p:cNvPicPr/>
          <p:nvPr/>
        </p:nvPicPr>
        <p:blipFill>
          <a:blip r:embed="rId11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1"/>
          <p:cNvSpPr/>
          <p:nvPr/>
        </p:nvSpPr>
        <p:spPr>
          <a:xfrm>
            <a:off x="2028960" y="5478480"/>
            <a:ext cx="30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成功就是达成所设定的目标。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Text Box 72"/>
          <p:cNvSpPr/>
          <p:nvPr/>
        </p:nvSpPr>
        <p:spPr>
          <a:xfrm>
            <a:off x="3635280" y="4508640"/>
            <a:ext cx="30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成功其实是一种感觉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Text Box 73"/>
          <p:cNvSpPr/>
          <p:nvPr/>
        </p:nvSpPr>
        <p:spPr>
          <a:xfrm>
            <a:off x="4716360" y="35733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我们每个人对于成功的定义是各不相同的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Text Box 93"/>
          <p:cNvSpPr/>
          <p:nvPr/>
        </p:nvSpPr>
        <p:spPr>
          <a:xfrm>
            <a:off x="357120" y="4287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什么是成功？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8" name="Group 97"/>
          <p:cNvGrpSpPr/>
          <p:nvPr/>
        </p:nvGrpSpPr>
        <p:grpSpPr>
          <a:xfrm>
            <a:off x="500040" y="2000160"/>
            <a:ext cx="8207280" cy="3816360"/>
            <a:chOff x="500040" y="2000160"/>
            <a:chExt cx="8207280" cy="3816360"/>
          </a:xfrm>
        </p:grpSpPr>
        <p:sp>
          <p:nvSpPr>
            <p:cNvPr id="159" name="AutoShape 95"/>
            <p:cNvSpPr/>
            <p:nvPr/>
          </p:nvSpPr>
          <p:spPr>
            <a:xfrm>
              <a:off x="500040" y="2000160"/>
              <a:ext cx="8207280" cy="381636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8a6"/>
                </a:gs>
              </a:gsLst>
              <a:lin ang="13500000"/>
            </a:gra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Text Box 96"/>
            <p:cNvSpPr/>
            <p:nvPr/>
          </p:nvSpPr>
          <p:spPr>
            <a:xfrm>
              <a:off x="1074600" y="2792160"/>
              <a:ext cx="748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5f19"/>
                  </a:solidFill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ff5f19"/>
                  </a:solidFill>
                  <a:latin typeface="Arial"/>
                  <a:ea typeface="微软雅黑"/>
                </a:rPr>
                <a:t>我们每个人对于成功的定义是各不相同的！而到达成功的方法只有一个，那就是先得学会付出常人所不能付出的东西！</a:t>
              </a:r>
              <a:endParaRPr b="1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99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AECB-9A2A-4E34-962F-B7B0BCA7F5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335772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f6d5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ef6d53"/>
                </a:solidFill>
                <a:latin typeface="Arial"/>
              </a:rPr>
              <a:t>谢谢大家</a:t>
            </a:r>
            <a:endParaRPr b="1" lang="en-US" sz="6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2914560" y="2001240"/>
            <a:ext cx="4013640" cy="4252320"/>
            <a:chOff x="2914560" y="2001240"/>
            <a:chExt cx="4013640" cy="4252320"/>
          </a:xfrm>
        </p:grpSpPr>
        <p:sp>
          <p:nvSpPr>
            <p:cNvPr id="163" name="Freeform 4"/>
            <p:cNvSpPr/>
            <p:nvPr/>
          </p:nvSpPr>
          <p:spPr>
            <a:xfrm>
              <a:off x="2922480" y="3338280"/>
              <a:ext cx="1447920" cy="195444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4e60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 rot="7200000">
              <a:off x="4610520" y="2256480"/>
              <a:ext cx="1365480" cy="207144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762d2d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65" name="Group 6"/>
            <p:cNvGrpSpPr/>
            <p:nvPr/>
          </p:nvGrpSpPr>
          <p:grpSpPr>
            <a:xfrm>
              <a:off x="2950560" y="2001240"/>
              <a:ext cx="2482920" cy="2629800"/>
              <a:chOff x="2950560" y="2001240"/>
              <a:chExt cx="2482920" cy="2629800"/>
            </a:xfrm>
          </p:grpSpPr>
          <p:sp>
            <p:nvSpPr>
              <p:cNvPr id="166" name="AutoShape 7"/>
              <p:cNvSpPr/>
              <p:nvPr/>
            </p:nvSpPr>
            <p:spPr>
              <a:xfrm rot="12600000">
                <a:off x="3004560" y="3708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7" name="Freeform 8"/>
              <p:cNvSpPr/>
              <p:nvPr/>
            </p:nvSpPr>
            <p:spPr>
              <a:xfrm rot="7200000">
                <a:off x="3399840" y="2912760"/>
                <a:ext cx="1505160" cy="806400"/>
              </a:xfrm>
              <a:prstGeom prst="pie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8" name="Freeform 9"/>
              <p:cNvSpPr/>
              <p:nvPr/>
            </p:nvSpPr>
            <p:spPr>
              <a:xfrm rot="7200000">
                <a:off x="4473000" y="1985760"/>
                <a:ext cx="622440" cy="1139760"/>
              </a:xfrm>
              <a:prstGeom prst="pie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69" name="Freeform 10"/>
            <p:cNvSpPr/>
            <p:nvPr/>
          </p:nvSpPr>
          <p:spPr>
            <a:xfrm rot="14400000">
              <a:off x="4724640" y="4108320"/>
              <a:ext cx="1365480" cy="2071800"/>
            </a:xfrm>
            <a:prstGeom prst="pie">
              <a:avLst/>
            </a:prstGeom>
            <a:gradFill rotWithShape="0">
              <a:gsLst>
                <a:gs pos="0">
                  <a:srgbClr val="ff5f19"/>
                </a:gs>
                <a:gs pos="100000">
                  <a:srgbClr val="765a0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70" name="Group 11"/>
            <p:cNvGrpSpPr/>
            <p:nvPr/>
          </p:nvGrpSpPr>
          <p:grpSpPr>
            <a:xfrm>
              <a:off x="4755600" y="2881440"/>
              <a:ext cx="2172600" cy="2758320"/>
              <a:chOff x="4755600" y="2881440"/>
              <a:chExt cx="2172600" cy="2758320"/>
            </a:xfrm>
          </p:grpSpPr>
          <p:sp>
            <p:nvSpPr>
              <p:cNvPr id="171" name="AutoShape 12"/>
              <p:cNvSpPr/>
              <p:nvPr/>
            </p:nvSpPr>
            <p:spPr>
              <a:xfrm rot="19800000">
                <a:off x="4809960" y="320040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 rot="14400000">
                <a:off x="5199480" y="3792240"/>
                <a:ext cx="1504440" cy="804960"/>
              </a:xfrm>
              <a:prstGeom prst="pie">
                <a:avLst/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 rot="14400000">
                <a:off x="6022800" y="4547160"/>
                <a:ext cx="549000" cy="1139760"/>
              </a:xfrm>
              <a:prstGeom prst="pie">
                <a:avLst/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5"/>
            <p:cNvGrpSpPr/>
            <p:nvPr/>
          </p:nvGrpSpPr>
          <p:grpSpPr>
            <a:xfrm>
              <a:off x="2914560" y="4543200"/>
              <a:ext cx="2493360" cy="1395000"/>
              <a:chOff x="2914560" y="4543200"/>
              <a:chExt cx="2493360" cy="1395000"/>
            </a:xfrm>
          </p:grpSpPr>
          <p:sp>
            <p:nvSpPr>
              <p:cNvPr id="175" name="Freeform 16"/>
              <p:cNvSpPr/>
              <p:nvPr/>
            </p:nvSpPr>
            <p:spPr>
              <a:xfrm>
                <a:off x="2914560" y="4543200"/>
                <a:ext cx="581760" cy="1101240"/>
              </a:xfrm>
              <a:prstGeom prst="pie">
                <a:avLst/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6" name="AutoShape 17"/>
              <p:cNvSpPr/>
              <p:nvPr/>
            </p:nvSpPr>
            <p:spPr>
              <a:xfrm rot="5400000">
                <a:off x="4394160" y="492444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7" name="Freeform 18"/>
              <p:cNvSpPr/>
              <p:nvPr/>
            </p:nvSpPr>
            <p:spPr>
              <a:xfrm>
                <a:off x="3438720" y="4866120"/>
                <a:ext cx="1597320" cy="778320"/>
              </a:xfrm>
              <a:prstGeom prst="pie">
                <a:avLst/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20"/>
          <p:cNvSpPr/>
          <p:nvPr/>
        </p:nvSpPr>
        <p:spPr>
          <a:xfrm>
            <a:off x="6443640" y="4941720"/>
            <a:ext cx="25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３、向成功人学习成功的方法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843280" y="184464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１、强烈的企图心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79280" y="4941720"/>
            <a:ext cx="25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２、永不放弃的信念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214200" y="5000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一个人成功具备的前题条件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156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　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、成功的五大系统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Text Box 62"/>
          <p:cNvSpPr/>
          <p:nvPr/>
        </p:nvSpPr>
        <p:spPr>
          <a:xfrm>
            <a:off x="3132000" y="443700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5" name="Group 123"/>
          <p:cNvGrpSpPr/>
          <p:nvPr/>
        </p:nvGrpSpPr>
        <p:grpSpPr>
          <a:xfrm>
            <a:off x="1807920" y="2051640"/>
            <a:ext cx="6140160" cy="4295520"/>
            <a:chOff x="1807920" y="2051640"/>
            <a:chExt cx="6140160" cy="4295520"/>
          </a:xfrm>
        </p:grpSpPr>
        <p:sp>
          <p:nvSpPr>
            <p:cNvPr id="186" name="Oval 124"/>
            <p:cNvSpPr/>
            <p:nvPr/>
          </p:nvSpPr>
          <p:spPr>
            <a:xfrm>
              <a:off x="2765160" y="4812480"/>
              <a:ext cx="5182920" cy="1208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Oval 125"/>
            <p:cNvSpPr/>
            <p:nvPr/>
          </p:nvSpPr>
          <p:spPr>
            <a:xfrm rot="20601600">
              <a:off x="2089080" y="2885400"/>
              <a:ext cx="5369040" cy="27504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Oval 126"/>
            <p:cNvSpPr/>
            <p:nvPr/>
          </p:nvSpPr>
          <p:spPr>
            <a:xfrm rot="20601600">
              <a:off x="2142360" y="2737800"/>
              <a:ext cx="5182920" cy="266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Arc 127"/>
            <p:cNvSpPr/>
            <p:nvPr/>
          </p:nvSpPr>
          <p:spPr>
            <a:xfrm rot="20601600">
              <a:off x="4617000" y="2636640"/>
              <a:ext cx="2652120" cy="179352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c8e17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Arc 128"/>
            <p:cNvSpPr/>
            <p:nvPr/>
          </p:nvSpPr>
          <p:spPr>
            <a:xfrm flipH="1" rot="20602200">
              <a:off x="2369880" y="4345920"/>
              <a:ext cx="3056760" cy="134604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b24444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Arc 129"/>
            <p:cNvSpPr/>
            <p:nvPr/>
          </p:nvSpPr>
          <p:spPr>
            <a:xfrm rot="20601600">
              <a:off x="3309480" y="2678760"/>
              <a:ext cx="3008160" cy="1295640"/>
            </a:xfrm>
            <a:prstGeom prst="pie">
              <a:avLst/>
            </a:prstGeom>
            <a:gradFill rotWithShape="0">
              <a:gsLst>
                <a:gs pos="0">
                  <a:srgbClr val="7a971e"/>
                </a:gs>
                <a:gs pos="100000">
                  <a:srgbClr val="a8d02a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Arc 130"/>
            <p:cNvSpPr/>
            <p:nvPr/>
          </p:nvSpPr>
          <p:spPr>
            <a:xfrm flipH="1" rot="20602200">
              <a:off x="2050200" y="3218400"/>
              <a:ext cx="2654640" cy="1886040"/>
            </a:xfrm>
            <a:prstGeom prst="pie">
              <a:avLst/>
            </a:prstGeom>
            <a:gradFill rotWithShape="0">
              <a:gsLst>
                <a:gs pos="0">
                  <a:srgbClr val="762c0c"/>
                </a:gs>
                <a:gs pos="100000">
                  <a:srgbClr val="ff5f1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Freeform 131"/>
            <p:cNvSpPr/>
            <p:nvPr/>
          </p:nvSpPr>
          <p:spPr>
            <a:xfrm>
              <a:off x="5864040" y="4043880"/>
              <a:ext cx="1634400" cy="162396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4380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Arc 132"/>
            <p:cNvSpPr/>
            <p:nvPr/>
          </p:nvSpPr>
          <p:spPr>
            <a:xfrm rot="20539200">
              <a:off x="4973400" y="3486600"/>
              <a:ext cx="2542320" cy="169452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Freeform 133"/>
            <p:cNvSpPr/>
            <p:nvPr/>
          </p:nvSpPr>
          <p:spPr>
            <a:xfrm>
              <a:off x="4942440" y="4354920"/>
              <a:ext cx="955440" cy="134460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498c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Oval 134"/>
            <p:cNvSpPr/>
            <p:nvPr/>
          </p:nvSpPr>
          <p:spPr>
            <a:xfrm rot="20601600">
              <a:off x="3502800" y="3389400"/>
              <a:ext cx="2511360" cy="122148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Text Box 135"/>
            <p:cNvSpPr/>
            <p:nvPr/>
          </p:nvSpPr>
          <p:spPr>
            <a:xfrm>
              <a:off x="2478960" y="400032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１ 激励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Text Box 136"/>
            <p:cNvSpPr/>
            <p:nvPr/>
          </p:nvSpPr>
          <p:spPr>
            <a:xfrm>
              <a:off x="4282560" y="2905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２动力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Text Box 137"/>
            <p:cNvSpPr/>
            <p:nvPr/>
          </p:nvSpPr>
          <p:spPr>
            <a:xfrm>
              <a:off x="5986080" y="3166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３效率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Text Box 138"/>
            <p:cNvSpPr/>
            <p:nvPr/>
          </p:nvSpPr>
          <p:spPr>
            <a:xfrm>
              <a:off x="5702040" y="4278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４行动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Text Box 139"/>
            <p:cNvSpPr/>
            <p:nvPr/>
          </p:nvSpPr>
          <p:spPr>
            <a:xfrm>
              <a:off x="3644640" y="490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５学习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Freeform 140"/>
            <p:cNvSpPr/>
            <p:nvPr/>
          </p:nvSpPr>
          <p:spPr>
            <a:xfrm>
              <a:off x="4866840" y="4551840"/>
              <a:ext cx="804600" cy="985680"/>
            </a:xfrm>
            <a:prstGeom prst="pie">
              <a:avLst/>
            </a:prstGeom>
            <a:gradFill rotWithShape="0">
              <a:gsLst>
                <a:gs pos="0">
                  <a:srgbClr val="a8d02a">
                    <a:alpha val="19215"/>
                  </a:srgbClr>
                </a:gs>
                <a:gs pos="100000">
                  <a:srgbClr val="c5e0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Oval 141"/>
            <p:cNvSpPr/>
            <p:nvPr/>
          </p:nvSpPr>
          <p:spPr>
            <a:xfrm rot="20601600">
              <a:off x="3598200" y="3619800"/>
              <a:ext cx="2409120" cy="9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04" name="Text Box 26"/>
          <p:cNvSpPr/>
          <p:nvPr/>
        </p:nvSpPr>
        <p:spPr>
          <a:xfrm>
            <a:off x="2771640" y="2421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明确的目标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5" name="AutoShape 27"/>
          <p:cNvCxnSpPr/>
          <p:nvPr/>
        </p:nvCxnSpPr>
        <p:spPr>
          <a:xfrm>
            <a:off x="4200480" y="253836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06" name="Text Box 22"/>
          <p:cNvSpPr/>
          <p:nvPr/>
        </p:nvSpPr>
        <p:spPr>
          <a:xfrm>
            <a:off x="6996240" y="28065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有效管理时间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7" name="AutoShape 23"/>
          <p:cNvCxnSpPr/>
          <p:nvPr/>
        </p:nvCxnSpPr>
        <p:spPr>
          <a:xfrm flipV="1" rot="10800000">
            <a:off x="6803280" y="292428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08" name="Text Box 28"/>
          <p:cNvSpPr/>
          <p:nvPr/>
        </p:nvSpPr>
        <p:spPr>
          <a:xfrm>
            <a:off x="7236000" y="472428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知行合一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9" name="AutoShape 29"/>
          <p:cNvCxnSpPr/>
          <p:nvPr/>
        </p:nvCxnSpPr>
        <p:spPr>
          <a:xfrm rot="10800000">
            <a:off x="6698520" y="450288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210" name="Text Box 30"/>
          <p:cNvSpPr/>
          <p:nvPr/>
        </p:nvSpPr>
        <p:spPr>
          <a:xfrm>
            <a:off x="1619280" y="5661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永续成功的知识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11" name="AutoShape 31"/>
          <p:cNvCxnSpPr>
            <a:stCxn id="210" idx="3"/>
          </p:cNvCxnSpPr>
          <p:nvPr/>
        </p:nvCxnSpPr>
        <p:spPr>
          <a:xfrm flipV="1">
            <a:off x="3448080" y="5439600"/>
            <a:ext cx="343440" cy="40572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12" name="Text Box 24"/>
          <p:cNvSpPr/>
          <p:nvPr/>
        </p:nvSpPr>
        <p:spPr>
          <a:xfrm>
            <a:off x="900000" y="36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积极的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13" name="AutoShape 25"/>
          <p:cNvCxnSpPr/>
          <p:nvPr/>
        </p:nvCxnSpPr>
        <p:spPr>
          <a:xfrm>
            <a:off x="2327400" y="376236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心态的重要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心态的重要性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714240" y="1857240"/>
            <a:ext cx="7847640" cy="1944720"/>
            <a:chOff x="714240" y="1857240"/>
            <a:chExt cx="7847640" cy="1944720"/>
          </a:xfrm>
        </p:grpSpPr>
        <p:sp>
          <p:nvSpPr>
            <p:cNvPr id="217" name="AutoShape 17"/>
            <p:cNvSpPr/>
            <p:nvPr/>
          </p:nvSpPr>
          <p:spPr>
            <a:xfrm>
              <a:off x="714240" y="1857240"/>
              <a:ext cx="7847640" cy="19447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>
              <a:off x="1097280" y="1866600"/>
              <a:ext cx="71395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Freeform 19"/>
            <p:cNvSpPr/>
            <p:nvPr/>
          </p:nvSpPr>
          <p:spPr>
            <a:xfrm flipV="1">
              <a:off x="801000" y="3771000"/>
              <a:ext cx="7650000" cy="255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20" name="Freeform 20"/>
          <p:cNvSpPr/>
          <p:nvPr/>
        </p:nvSpPr>
        <p:spPr>
          <a:xfrm>
            <a:off x="1187280" y="2276640"/>
            <a:ext cx="6697800" cy="7272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 flipV="1">
            <a:off x="1332000" y="4508640"/>
            <a:ext cx="6624720" cy="144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073160" y="22176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“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种积极地心态，比一百种智慧都有力量。”人与人之间并没有多大不同，成功者和失败者之间的差别，卓越人士与平庸人之间的差异，就在于心态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黄金心态比拥有黄金更重要，因为它具有点石成金的力量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684360" y="4068720"/>
            <a:ext cx="7920000" cy="630360"/>
            <a:chOff x="684360" y="4068720"/>
            <a:chExt cx="7920000" cy="630360"/>
          </a:xfrm>
        </p:grpSpPr>
        <p:sp>
          <p:nvSpPr>
            <p:cNvPr id="224" name="AutoShape 4"/>
            <p:cNvSpPr/>
            <p:nvPr/>
          </p:nvSpPr>
          <p:spPr>
            <a:xfrm>
              <a:off x="684360" y="4076640"/>
              <a:ext cx="792000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928800" y="4068720"/>
              <a:ext cx="74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一些人年富力强，既有知识又有能力，却工作业绩平平，成为“职业跳槽专家”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709560" y="4941720"/>
            <a:ext cx="7894800" cy="593640"/>
            <a:chOff x="709560" y="4941720"/>
            <a:chExt cx="7894800" cy="593640"/>
          </a:xfrm>
        </p:grpSpPr>
        <p:sp>
          <p:nvSpPr>
            <p:cNvPr id="227" name="AutoShape 5"/>
            <p:cNvSpPr/>
            <p:nvPr/>
          </p:nvSpPr>
          <p:spPr>
            <a:xfrm>
              <a:off x="709560" y="4941720"/>
              <a:ext cx="789480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900000" y="4941720"/>
              <a:ext cx="74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在企业里，老板和员工，上司和下属乃之同事之间总是针锋相对，不能和谐共赢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755640" y="5805360"/>
            <a:ext cx="7848720" cy="593640"/>
            <a:chOff x="755640" y="5805360"/>
            <a:chExt cx="7848720" cy="593640"/>
          </a:xfrm>
        </p:grpSpPr>
        <p:sp>
          <p:nvSpPr>
            <p:cNvPr id="230" name="AutoShape 6"/>
            <p:cNvSpPr/>
            <p:nvPr/>
          </p:nvSpPr>
          <p:spPr>
            <a:xfrm>
              <a:off x="755640" y="5805360"/>
              <a:ext cx="7848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900000" y="5805360"/>
              <a:ext cx="75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许多人事业和家庭不能兼顾，要么成为工作狂，要么职业发展受限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心态的重要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714240" y="1928880"/>
            <a:ext cx="7918920" cy="3960360"/>
            <a:chOff x="714240" y="1928880"/>
            <a:chExt cx="7918920" cy="3960360"/>
          </a:xfrm>
        </p:grpSpPr>
        <p:sp>
          <p:nvSpPr>
            <p:cNvPr id="234" name="AutoShape 17"/>
            <p:cNvSpPr/>
            <p:nvPr/>
          </p:nvSpPr>
          <p:spPr>
            <a:xfrm>
              <a:off x="714240" y="1928880"/>
              <a:ext cx="7918920" cy="3960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>
              <a:off x="1100520" y="1948320"/>
              <a:ext cx="72043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 flipV="1">
              <a:off x="801720" y="5828040"/>
              <a:ext cx="7719480" cy="525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37" name="Freeform 20"/>
          <p:cNvSpPr/>
          <p:nvPr/>
        </p:nvSpPr>
        <p:spPr>
          <a:xfrm>
            <a:off x="1258920" y="2492280"/>
            <a:ext cx="7129440" cy="21600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1073160" y="2289240"/>
            <a:ext cx="72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，除了少数天才之外，大多数人的智商，禀赋和条件都相差无几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我们认真思索会发现，从根本上决定我们生活质量的不是金钱，不是权利，甚至也不是知识和能力，而是心态。所以，人与人之间的差别即小又很大，很小的差别在于心态是积极还是消极，很大的差别则是成功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败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的竞争表面上是知识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系的竞争，实际上却是职业心态和人生态度的竞争；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的竞争表面上是产品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的竞争，实质上却是企业员工的品质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和心态的竞争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00040" y="5716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微软雅黑"/>
              </a:rPr>
              <a:t>心态的重要性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93659313"/>
          <p:cNvPicPr/>
          <p:nvPr/>
        </p:nvPicPr>
        <p:blipFill>
          <a:blip r:embed="rId2"/>
          <a:stretch/>
        </p:blipFill>
        <p:spPr>
          <a:xfrm>
            <a:off x="0" y="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6119640" y="134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f19"/>
                </a:solidFill>
                <a:latin typeface="微软雅黑"/>
                <a:ea typeface="微软雅黑"/>
              </a:rPr>
              <a:t>　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如阿里巴巴总裁马云所说：“看一个人，一家公司是不是优秀，不要看他是不是哈佛或斯坦福毕业”，不要看他有多少名牌大学毕业生，而要看这帮人干活是不是发疯一样干，每天下班是不是笑眯眯回家！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643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</a:rPr>
              <a:t>有一个国家搞征文，题目是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</a:rPr>
              <a:t>“二十一世纪最需要什么”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</a:rPr>
              <a:t>?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Picture 5" descr="20100713_0747030001581932056"/>
          <p:cNvPicPr/>
          <p:nvPr/>
        </p:nvPicPr>
        <p:blipFill>
          <a:blip r:embed="rId2"/>
          <a:stretch/>
        </p:blipFill>
        <p:spPr>
          <a:xfrm>
            <a:off x="4067280" y="2565360"/>
            <a:ext cx="4628880" cy="2592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971640" y="2924280"/>
            <a:ext cx="244800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金钱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55640" y="4221000"/>
            <a:ext cx="251928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漂亮妻子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6920" y="3573360"/>
            <a:ext cx="252108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房子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4360" y="5661000"/>
            <a:ext cx="755964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二十一世纪最需要的是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黄金心态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”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826920" y="5013360"/>
            <a:ext cx="302436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最终获奖的是：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10"/>
          <p:cNvSpPr/>
          <p:nvPr/>
        </p:nvSpPr>
        <p:spPr>
          <a:xfrm>
            <a:off x="2916360" y="2798640"/>
            <a:ext cx="57592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2916360" y="438156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成就人生的十大积极心态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1619280" y="1916280"/>
            <a:ext cx="990720" cy="380880"/>
            <a:chOff x="1619280" y="1916280"/>
            <a:chExt cx="990720" cy="380880"/>
          </a:xfrm>
        </p:grpSpPr>
        <p:sp>
          <p:nvSpPr>
            <p:cNvPr id="254" name="Line 25"/>
            <p:cNvSpPr/>
            <p:nvPr/>
          </p:nvSpPr>
          <p:spPr>
            <a:xfrm flipV="1">
              <a:off x="1619280" y="1916280"/>
              <a:ext cx="380880" cy="38088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2000160" y="1916280"/>
              <a:ext cx="609840" cy="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56" name="Group 27"/>
          <p:cNvGrpSpPr/>
          <p:nvPr/>
        </p:nvGrpSpPr>
        <p:grpSpPr>
          <a:xfrm>
            <a:off x="1619280" y="6308640"/>
            <a:ext cx="1066680" cy="304920"/>
            <a:chOff x="1619280" y="6308640"/>
            <a:chExt cx="1066680" cy="304920"/>
          </a:xfrm>
        </p:grpSpPr>
        <p:sp>
          <p:nvSpPr>
            <p:cNvPr id="257" name="Line 28"/>
            <p:cNvSpPr/>
            <p:nvPr/>
          </p:nvSpPr>
          <p:spPr>
            <a:xfrm>
              <a:off x="1619280" y="6308640"/>
              <a:ext cx="457200" cy="30492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076480" y="6613560"/>
              <a:ext cx="609480" cy="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9" name="Line 30"/>
          <p:cNvSpPr/>
          <p:nvPr/>
        </p:nvSpPr>
        <p:spPr>
          <a:xfrm>
            <a:off x="1763640" y="242100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Line 31"/>
          <p:cNvSpPr/>
          <p:nvPr/>
        </p:nvSpPr>
        <p:spPr>
          <a:xfrm>
            <a:off x="1835280" y="2924280"/>
            <a:ext cx="60948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1835280" y="350028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2" name="Picture 33" descr="woman"/>
          <p:cNvPicPr/>
          <p:nvPr/>
        </p:nvPicPr>
        <p:blipFill>
          <a:blip r:embed="rId2"/>
          <a:stretch/>
        </p:blipFill>
        <p:spPr>
          <a:xfrm>
            <a:off x="23760" y="2276640"/>
            <a:ext cx="1884240" cy="4190760"/>
          </a:xfrm>
          <a:prstGeom prst="rect">
            <a:avLst/>
          </a:prstGeom>
          <a:ln w="0">
            <a:noFill/>
          </a:ln>
        </p:spPr>
      </p:pic>
      <p:sp>
        <p:nvSpPr>
          <p:cNvPr id="263" name="Line 32"/>
          <p:cNvSpPr/>
          <p:nvPr/>
        </p:nvSpPr>
        <p:spPr>
          <a:xfrm>
            <a:off x="1835280" y="393372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1835280" y="443700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1835280" y="501336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1835280" y="558972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908000" y="567864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2987640" y="121428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2379600" y="1177920"/>
            <a:ext cx="600120" cy="61596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411280" y="128592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2987640" y="171756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059280" y="179064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挑战：勇敢地挺身而出，积极地迎接变化和新的任务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2392200" y="1708200"/>
            <a:ext cx="600120" cy="6159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2392200" y="18525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987640" y="222264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微软雅黑"/>
              </a:rPr>
              <a:t>热情：对自己的工作以及对单位的工作、服务、品牌和形象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微软雅黑"/>
              </a:rPr>
              <a:t>具有强烈的感情和浓厚的兴趣。对生活充满热忱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2411280" y="2222640"/>
            <a:ext cx="600120" cy="615960"/>
          </a:xfrm>
          <a:prstGeom prst="ellipse">
            <a:avLst/>
          </a:prstGeom>
          <a:solidFill>
            <a:srgbClr val="00808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411280" y="23652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8551800" y="1293840"/>
            <a:ext cx="349200" cy="35892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8551800" y="1870200"/>
            <a:ext cx="349200" cy="3585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8551800" y="2373480"/>
            <a:ext cx="349200" cy="358560"/>
          </a:xfrm>
          <a:prstGeom prst="ellipse">
            <a:avLst/>
          </a:prstGeom>
          <a:solidFill>
            <a:srgbClr val="3399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987640" y="2798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奉献：全心全意对待工作和职责，有爱心，乐于帮助他人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2360520" y="2825640"/>
            <a:ext cx="600120" cy="6159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411280" y="29718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916360" y="3365640"/>
            <a:ext cx="57592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987640" y="337356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情：始终对未来充满憧憬和希望，对现在的工作和生活全力以赴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373480" y="3355920"/>
            <a:ext cx="599760" cy="61596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373480" y="35002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843280" y="387828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987640" y="3941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愉快：发现美好，乐趣，并能分享成功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2373480" y="3932280"/>
            <a:ext cx="599760" cy="6159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444760" y="40766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8532720" y="3517920"/>
            <a:ext cx="349200" cy="35892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8532720" y="4021200"/>
            <a:ext cx="349200" cy="3585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987640" y="445464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心：助人为乐，有感恩心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392200" y="4444920"/>
            <a:ext cx="600120" cy="6159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424240" y="45529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43280" y="488628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987640" y="495792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豪：因为自身价值或团队成绩而深感荣耀，自我激励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2405160" y="4975200"/>
            <a:ext cx="600120" cy="61596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405160" y="51195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2843280" y="539100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2987640" y="546264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渴望：强烈的成功欲望与创造价值的激情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2405160" y="5551560"/>
            <a:ext cx="600120" cy="61596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2476440" y="56959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8551800" y="4965840"/>
            <a:ext cx="349200" cy="35856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8551800" y="5470560"/>
            <a:ext cx="349200" cy="35892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Oval 20"/>
          <p:cNvSpPr/>
          <p:nvPr/>
        </p:nvSpPr>
        <p:spPr>
          <a:xfrm>
            <a:off x="8551800" y="4462560"/>
            <a:ext cx="349200" cy="3585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8551800" y="2878200"/>
            <a:ext cx="349200" cy="3585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2916360" y="596592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059280" y="596592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信赖：相信他人和集体的素质，价值和可靠性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2411280" y="6039000"/>
            <a:ext cx="600120" cy="6159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463840" y="61786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8551800" y="5973840"/>
            <a:ext cx="349200" cy="3585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Text Box 120"/>
          <p:cNvSpPr/>
          <p:nvPr/>
        </p:nvSpPr>
        <p:spPr>
          <a:xfrm>
            <a:off x="3132000" y="12859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执着：对个人，企业和团队目标，价值观坚定不移的意念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53964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  <a:ea typeface="微软雅黑"/>
              </a:rPr>
              <a:t>积极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2:26:04Z</dcterms:created>
  <dc:creator>幻灯片之家：www.eeppt.com</dc:creator>
  <dc:description>幻灯片之家：www.eeppt.com</dc:description>
  <cp:keywords>幻灯片之家：www.eeppt.com</cp:keywords>
  <dc:language>en-US</dc:language>
  <cp:lastModifiedBy>asus</cp:lastModifiedBy>
  <dcterms:modified xsi:type="dcterms:W3CDTF">2015-08-12T14:35:33Z</dcterms:modified>
  <cp:revision>30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