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ED0D-7EE4-489B-BD24-0E8DB946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F967-DE8A-4B56-A173-DF7DADEB3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1545-2545-4FAB-B033-382B3005E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360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52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360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52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7486-6CED-4C08-A754-6478B902A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16D7-F2F8-4AFD-9E1B-665B0E4FA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CA64-174A-4C31-B63D-1D610428D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1FED-A2FD-40A6-BC8C-CC44183BA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268D-9A6B-468F-B9B1-6D79EE817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43F6-154E-45E2-BD04-710A78CFC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A6A1-FDDA-4C1F-BC73-2FC9EF1F2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0337-1C25-442D-866D-CD50E41C1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5F13-CD95-41F2-A67A-092757E3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EP161_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10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6a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428760" y="1000080"/>
            <a:ext cx="82864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572160" y="6357960"/>
            <a:ext cx="144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E0C-A23F-4D4D-ABBE-9147E909EEB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正方形/長方形 8"/>
          <p:cNvSpPr/>
          <p:nvPr/>
        </p:nvSpPr>
        <p:spPr>
          <a:xfrm>
            <a:off x="-421560" y="6357960"/>
            <a:ext cx="48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"/>
          <p:cNvSpPr/>
          <p:nvPr/>
        </p:nvSpPr>
        <p:spPr>
          <a:xfrm>
            <a:off x="0" y="0"/>
            <a:ext cx="91440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66a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EP161_L.jpg"/>
          <p:cNvPicPr/>
          <p:nvPr/>
        </p:nvPicPr>
        <p:blipFill>
          <a:blip r:embed="rId1"/>
          <a:srcRect l="0" t="12502" r="0" b="0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8760" y="2071800"/>
            <a:ext cx="5000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メインタイトルを入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サブタイトル 2"/>
          <p:cNvSpPr/>
          <p:nvPr/>
        </p:nvSpPr>
        <p:spPr>
          <a:xfrm>
            <a:off x="1285920" y="2643120"/>
            <a:ext cx="328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サブタイトルを入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サブタイトル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c597"/>
                </a:solidFill>
                <a:latin typeface="Century Gothic"/>
              </a:rPr>
              <a:t>NEW PROJEC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サブタイトル 2"/>
          <p:cNvSpPr/>
          <p:nvPr/>
        </p:nvSpPr>
        <p:spPr>
          <a:xfrm>
            <a:off x="1677960" y="4071960"/>
            <a:ext cx="25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  <a:ea typeface="MS PGothic"/>
              </a:rPr>
              <a:t>提出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サブタイトル 2"/>
          <p:cNvSpPr/>
          <p:nvPr/>
        </p:nvSpPr>
        <p:spPr>
          <a:xfrm>
            <a:off x="1963800" y="5429160"/>
            <a:ext cx="192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  <a:ea typeface="MS PGothic"/>
              </a:rPr>
              <a:t>ロゴ・提出社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1963800" y="1143000"/>
            <a:ext cx="192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  <a:ea typeface="MS PGothic"/>
              </a:rPr>
              <a:t>提出先社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5141-B7A7-4BE8-9557-CE50EDB64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54:00Z</dcterms:created>
  <dc:creator>www.eeppt.com</dc:creator>
  <dc:description>www.eeppt.com</dc:description>
  <dc:language>en-US</dc:language>
  <cp:lastModifiedBy>杨光</cp:lastModifiedBy>
  <dcterms:modified xsi:type="dcterms:W3CDTF">2015-08-14T12:52:50Z</dcterms:modified>
  <cp:revision>20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