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D17D-0E45-4DB8-89C8-1B02F57F8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371808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57D9-A4EC-4EE8-9898-EE6EF7E1B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804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EC82-B1DA-4C82-B023-9CE0BAE66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360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520" y="114300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360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520" y="3718080"/>
            <a:ext cx="2612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9389-8109-4547-A7C0-DA542FF89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D5F5-806A-477F-AC0F-EA92B5D38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D810-2802-4ECB-8386-BCB41F48D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B1E1-C2C4-4357-AD11-9F4C223B9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AA50-27B3-4B99-85DE-DAF65D7B8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B0E8-AA84-4BE0-9BB1-D50FC732D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D71B-AF8D-4B10-B981-495C1F34D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8040" y="371808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5593-61E7-4BB0-9C94-8DD3110A6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8040" y="1143000"/>
            <a:ext cx="39600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3718080"/>
            <a:ext cx="8115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FF13-F489-43B2-B0A3-AD68A9513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1" descr="EP151_L.jpg"/>
          <p:cNvPicPr/>
          <p:nvPr/>
        </p:nvPicPr>
        <p:blipFill>
          <a:blip r:embed="rId2"/>
          <a:srcRect l="0" t="0" r="0" b="1250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" name="正方形/長方形 10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76a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428760" y="1000080"/>
            <a:ext cx="82864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572160" y="6357960"/>
            <a:ext cx="144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C3E-E251-4F5C-9E97-EF817B5C42C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正方形/長方形 8"/>
          <p:cNvSpPr/>
          <p:nvPr/>
        </p:nvSpPr>
        <p:spPr>
          <a:xfrm>
            <a:off x="-413640" y="6357960"/>
            <a:ext cx="48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"/>
          <p:cNvSpPr/>
          <p:nvPr/>
        </p:nvSpPr>
        <p:spPr>
          <a:xfrm>
            <a:off x="0" y="0"/>
            <a:ext cx="91440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2" descr="EP151_L.jpg"/>
          <p:cNvPicPr/>
          <p:nvPr/>
        </p:nvPicPr>
        <p:blipFill>
          <a:blip r:embed="rId1"/>
          <a:srcRect l="0" t="0" r="0" b="12502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3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608120" y="1000080"/>
            <a:ext cx="5929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ＤＦ特太ゴシック体"/>
                <a:ea typeface="ＤＦ特太ゴシック体"/>
              </a:rPr>
              <a:t>メインタイトルを入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サブタイトル 2"/>
          <p:cNvSpPr/>
          <p:nvPr/>
        </p:nvSpPr>
        <p:spPr>
          <a:xfrm>
            <a:off x="2036880" y="1571760"/>
            <a:ext cx="5072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ＤＦ特太ゴシック体"/>
                <a:ea typeface="ＤＦ特太ゴシック体"/>
              </a:rPr>
              <a:t>サブタイトルを入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サブタイトル 2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bf96"/>
                </a:solidFill>
                <a:latin typeface="Century Gothic"/>
              </a:rPr>
              <a:t>NEW PROJEC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サブタイトル 2"/>
          <p:cNvSpPr/>
          <p:nvPr/>
        </p:nvSpPr>
        <p:spPr>
          <a:xfrm>
            <a:off x="3322800" y="4929120"/>
            <a:ext cx="25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527d55"/>
                </a:solidFill>
                <a:latin typeface="Calibri"/>
                <a:ea typeface="MS PGothic"/>
              </a:rPr>
              <a:t>提出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サブタイトル 2"/>
          <p:cNvSpPr/>
          <p:nvPr/>
        </p:nvSpPr>
        <p:spPr>
          <a:xfrm>
            <a:off x="360828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527d55"/>
                </a:solidFill>
                <a:latin typeface="Calibri"/>
                <a:ea typeface="MS PGothic"/>
              </a:rPr>
              <a:t>ロゴ・提出社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サブタイトル 2"/>
          <p:cNvSpPr/>
          <p:nvPr/>
        </p:nvSpPr>
        <p:spPr>
          <a:xfrm>
            <a:off x="3608280" y="428760"/>
            <a:ext cx="1928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  <a:ea typeface="MS PGothic"/>
              </a:rPr>
              <a:t>提出先社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680" y="1143000"/>
            <a:ext cx="8115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b5353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3F01-226A-49FB-987A-73BFB043E9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6:54:00Z</dcterms:created>
  <dc:creator>www.eeppt.com</dc:creator>
  <dc:description>www.eeppt.com</dc:description>
  <dc:language>en-US</dc:language>
  <cp:lastModifiedBy>杨光</cp:lastModifiedBy>
  <dcterms:modified xsi:type="dcterms:W3CDTF">2015-08-14T12:52:42Z</dcterms:modified>
  <cp:revision>18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