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9ED-3362-44E8-82B6-1633C2CB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BBC-AC36-4760-9BE4-8D9C5FB3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1D-E305-45FB-9E45-0BDF119F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290-50EF-4012-8050-A0D7F731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0B09-E8FA-475E-93A1-3286A90B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A41-5214-494F-89B4-9C21D5E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6E7-C03A-4BBB-94A7-7105FE6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7EF1-4124-44C9-AA23-4E935CEC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6822-CF82-4FA3-9B47-04292D6A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257-89E8-42C7-BADC-598E1227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A3F2-EE8C-4E31-B8F3-2D41805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83E-5B8D-4281-840E-42622DD1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A4C-61B0-4292-A930-B7CF903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68B-AA38-462F-8991-13F2A52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5A7F-7CFB-4875-B2FD-2D5CB76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6B1-BBE8-4395-A8FD-B2C9D4BC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B39E-BDEC-47AA-B7BA-BD16AA28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56C-3108-4295-AD6F-62CCB0A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3F3-EF63-4A21-B605-AAB1EFAD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709-8140-4F95-89DA-10D609A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A81-3631-4FF3-BF39-1F5CBD3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4EB-F5FB-44F8-A7BF-E33AC6C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525-0E70-4B23-8430-6294ABD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22F-849F-49AD-8327-F71C4CC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8D8-46E0-4B1D-9481-F7C7989927BF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C02-27D9-414A-AFA1-A4898AA4E75E}" type="slidenum">
              <a:rPr b="0" lang="ja-JP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4360" y="401760"/>
            <a:ext cx="464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教 師 簡 歷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4560" y="156024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姓名：黃勝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歷：武陵高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東吳大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台中師院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90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級師資班畢業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獲獎：第四十四屆中小學科展桃園市展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生活與應用科學組第三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              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桃園縣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95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年度教師創意教學獎優等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教學年資：六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8360" y="44280"/>
            <a:ext cx="50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活泼背景个人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PMingLiU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cc17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986-5F17-4D24-9294-30E67010B2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16000" y="2997360"/>
            <a:ext cx="331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7cc17"/>
                </a:solidFill>
                <a:latin typeface="Arial"/>
                <a:ea typeface="DFKai-SB"/>
              </a:rPr>
              <a:t>謝謝聆聽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理念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前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PMingLiU"/>
              </a:rPr>
              <a:t>--2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世紀，我們究竟能給孩子甚麼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一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552320"/>
            <a:ext cx="8136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同儕協助與激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小老師制度，協助落後同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個人與小組表現並重，激勵同儕相互打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獎懲制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以獎勵為主，正向鼓勵：集點換禮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以懲罰為輔，消極抑制：勞動服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  <a:ea typeface="PMingLiU"/>
              </a:rPr>
              <a:t>多元學習活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教室布置加入相關課程小活動，提供有獎徵答，贈送獎勵點數：數學動動腦、語文遊樂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部分活動以學生擔任講授者，促其主動學習：體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參訪活動：英語村、戶外教學〈故宮、天文館等，未定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  <a:ea typeface="PMingLiU"/>
              </a:rPr>
              <a:t>每人有自由使用教室電腦時間，加廣新知吸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二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1266840"/>
            <a:ext cx="77724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良好飲食習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禁止攜帶零食到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三餐定時、定量，早餐不到校，午餐吃光光運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餐後刷牙不怕痛，周二漱口水活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望遠凝視，遠離近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充足體能活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教育部要求每週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21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體能活動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每週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節體育課計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8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第二節健康操時間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計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加計週四晨間體適能小活動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40</a:t>
            </a: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分鐘，加計週六、週日體能小作業，充足活動身心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心理衛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聯合慶生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期末同樂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PMingLiU"/>
              </a:rPr>
              <a:t>說笑話比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經營策略〈三〉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037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我們一家都是長，培養負責，獨立處理事務能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推行每日一家事運動，促其主動協助家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鼔勵同學生參與校內外學藝競賽，只要有意願，每位學生都有挑戰自我的機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鼓勵其自我表達，班上小事由學生決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避免自主變成自我、獨立變成獨行，週二</a:t>
            </a: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晨間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安排一節品德教育，增進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EQ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PMingLiU"/>
              </a:rPr>
              <a:t>促其欣賞自己之餘同時也能欣賞別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7cc17"/>
                </a:solidFill>
                <a:latin typeface="Arial"/>
                <a:ea typeface="DFKai-SB"/>
              </a:rPr>
              <a:t>成績計算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06640" y="1341360"/>
            <a:ext cx="8037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PMingLiU"/>
              </a:rPr>
              <a:t>學期總成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日常成績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品德成績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以生活常規為主，如晨間檢查、健康操等計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其它成績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服務工作等計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PMingLiU"/>
              </a:rPr>
              <a:t>學科總成績加權計算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PMingLiU"/>
                <a:ea typeface="PMingLiU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期中、期末考成績加計授課節數計算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4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PMingLiU"/>
                <a:ea typeface="PMingLiU"/>
              </a:rPr>
              <a:t>平時作業繳交、上課表現等計分</a:t>
            </a:r>
            <a:r>
              <a:rPr b="0" lang="en-US" sz="2000" spc="-1" strike="noStrike">
                <a:solidFill>
                  <a:srgbClr val="ffffff"/>
                </a:solidFill>
                <a:latin typeface="PMingLiU"/>
                <a:ea typeface="PMingLiU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另外期中、期末考獎狀發放以期中、期末考分數直接加總排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畢業總成績以五、六年級四個學期總成績平均為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實務結合學校願景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80373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主動學習、吸收新知 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勤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鍛鍊良好體魄、奠定學習基礎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活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PMingLiU"/>
              </a:rPr>
              <a:t>獨立、自主、挑戰新世紀            </a:t>
            </a:r>
            <a:r>
              <a:rPr b="1" lang="zh-CN" sz="2800" spc="-1" strike="noStrike">
                <a:solidFill>
                  <a:srgbClr val="ff6600"/>
                </a:solidFill>
                <a:latin typeface="Tahoma"/>
                <a:ea typeface="PMingLiU"/>
              </a:rPr>
              <a:t>自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適應快速變遷環境的西門兒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140976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69120" y="24256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4520" y="35020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dc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140360" y="429264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本學期重要行事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0/6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六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運動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1/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四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 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1/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期中定期考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學生專題研究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報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會長盃音樂競賽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合唱比賽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英語體驗活動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快樂國小英語村 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12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1/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1/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三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)-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  <a:ea typeface="PMingLiU"/>
              </a:rPr>
              <a:t>期末定期考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/18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五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結業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1/19(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六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</a:rPr>
              <a:t>)----</a:t>
            </a: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寒假開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638172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cc17"/>
                </a:solidFill>
                <a:latin typeface="DFKai-SB"/>
                <a:ea typeface="DFKai-SB"/>
              </a:rPr>
              <a:t>請家長協助事項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03736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每天在孩子的班級聯絡簿上簽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課業方面，視自己孩子的學習狀況，殷殷叮嚀或偶爾抽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體育服如有洗滌未乾情形，請讓貴子弟攜帶一件</a:t>
            </a:r>
            <a:r>
              <a:rPr b="0" lang="en-US" sz="2800" spc="-1" strike="noStrike">
                <a:solidFill>
                  <a:srgbClr val="ffffff"/>
                </a:solidFill>
                <a:latin typeface="PMingLiU"/>
                <a:ea typeface="PMingLiU"/>
              </a:rPr>
              <a:t>T</a:t>
            </a:r>
            <a:r>
              <a:rPr b="0" lang="zh-TW" sz="2800" spc="-1" strike="noStrike">
                <a:solidFill>
                  <a:srgbClr val="ffffff"/>
                </a:solidFill>
                <a:latin typeface="PMingLiU"/>
                <a:ea typeface="PMingLiU"/>
              </a:rPr>
              <a:t>恤到校更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課業之餘，盡量讓孩子參與分擔家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PMingLiU"/>
              </a:rPr>
              <a:t>有任何問題請直接和老師溝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3:12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