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69B2-6172-4C55-A494-88596271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7D7-1A04-4D01-9208-DCA4E629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8F3-E6EC-409E-A539-92052FA3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81A-824B-44BB-B1ED-9AD862D2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EC4-DCF5-4A0C-B383-E6DA7B91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719-9B65-49FB-AB52-ECB1D787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EBA-55F0-4224-83FD-BB044D25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E34-2F73-4477-A0D6-DFD22582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0E4-0552-4096-98D3-F5A57C7E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4F6E-FDBB-4D2A-93F3-1A678A95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2FA-AB8E-409C-9F49-A60402EA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1898-785F-4ABB-9C72-E22DE0FF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3"/>
          <a:stretch/>
        </p:blipFill>
        <p:spPr>
          <a:xfrm>
            <a:off x="6638760" y="4941720"/>
            <a:ext cx="2505240" cy="1916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6552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65520"/>
            <a:ext cx="289584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6552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icrosoft JhengHei"/>
                <a:ea typeface="Microsoft JhengHe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3101-F305-427B-9098-2999B6D10A2A}" type="slidenum">
              <a:rPr b="0" lang="en-US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8"/>
          <p:cNvGrpSpPr/>
          <p:nvPr/>
        </p:nvGrpSpPr>
        <p:grpSpPr>
          <a:xfrm>
            <a:off x="0" y="22320"/>
            <a:ext cx="9144000" cy="6848280"/>
            <a:chOff x="0" y="22320"/>
            <a:chExt cx="9144000" cy="6848280"/>
          </a:xfrm>
        </p:grpSpPr>
        <p:grpSp>
          <p:nvGrpSpPr>
            <p:cNvPr id="43" name="组合 9"/>
            <p:cNvGrpSpPr/>
            <p:nvPr/>
          </p:nvGrpSpPr>
          <p:grpSpPr>
            <a:xfrm>
              <a:off x="0" y="169200"/>
              <a:ext cx="9144000" cy="6701400"/>
              <a:chOff x="0" y="169200"/>
              <a:chExt cx="9144000" cy="6701400"/>
            </a:xfrm>
          </p:grpSpPr>
          <p:grpSp>
            <p:nvGrpSpPr>
              <p:cNvPr id="44" name="组合 3"/>
              <p:cNvGrpSpPr/>
              <p:nvPr/>
            </p:nvGrpSpPr>
            <p:grpSpPr>
              <a:xfrm>
                <a:off x="0" y="442440"/>
                <a:ext cx="9144000" cy="6428160"/>
                <a:chOff x="0" y="442440"/>
                <a:chExt cx="9144000" cy="6428160"/>
              </a:xfrm>
            </p:grpSpPr>
            <p:pic>
              <p:nvPicPr>
                <p:cNvPr id="45" name="Picture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442440"/>
                  <a:ext cx="9144000" cy="642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矩形 17"/>
                <p:cNvSpPr/>
                <p:nvPr/>
              </p:nvSpPr>
              <p:spPr>
                <a:xfrm>
                  <a:off x="611280" y="3032280"/>
                  <a:ext cx="3275640" cy="281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" name="矩形 14"/>
              <p:cNvSpPr/>
              <p:nvPr/>
            </p:nvSpPr>
            <p:spPr>
              <a:xfrm>
                <a:off x="3887280" y="169200"/>
                <a:ext cx="4428000" cy="199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矩形 15"/>
              <p:cNvSpPr/>
              <p:nvPr/>
            </p:nvSpPr>
            <p:spPr>
              <a:xfrm>
                <a:off x="4140000" y="895320"/>
                <a:ext cx="2376000" cy="199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矩形 10"/>
            <p:cNvSpPr/>
            <p:nvPr/>
          </p:nvSpPr>
          <p:spPr>
            <a:xfrm>
              <a:off x="0" y="3502800"/>
              <a:ext cx="4428000" cy="281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TextBox 10" descr=""/>
            <p:cNvPicPr/>
            <p:nvPr/>
          </p:nvPicPr>
          <p:blipFill>
            <a:blip r:embed="rId3"/>
            <a:stretch/>
          </p:blipFill>
          <p:spPr>
            <a:xfrm>
              <a:off x="597240" y="3177720"/>
              <a:ext cx="3590640" cy="27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TextBox 11" descr=""/>
            <p:cNvPicPr/>
            <p:nvPr/>
          </p:nvPicPr>
          <p:blipFill>
            <a:blip r:embed="rId4"/>
            <a:stretch/>
          </p:blipFill>
          <p:spPr>
            <a:xfrm>
              <a:off x="3913560" y="22320"/>
              <a:ext cx="4279320" cy="280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矩形 17"/>
          <p:cNvGrpSpPr/>
          <p:nvPr/>
        </p:nvGrpSpPr>
        <p:grpSpPr>
          <a:xfrm>
            <a:off x="0" y="4243320"/>
            <a:ext cx="9144000" cy="2065320"/>
            <a:chOff x="0" y="4243320"/>
            <a:chExt cx="9144000" cy="2065320"/>
          </a:xfrm>
        </p:grpSpPr>
        <p:pic>
          <p:nvPicPr>
            <p:cNvPr id="53" name="矩形 17" descr=""/>
            <p:cNvPicPr/>
            <p:nvPr/>
          </p:nvPicPr>
          <p:blipFill>
            <a:blip r:embed="rId5"/>
            <a:stretch/>
          </p:blipFill>
          <p:spPr>
            <a:xfrm>
              <a:off x="0" y="4243320"/>
              <a:ext cx="914400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0" y="4243320"/>
              <a:ext cx="9144000" cy="20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5760" y="4762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红色年终报告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免费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icrosoft JhengHei"/>
              </a:rPr>
              <a:t>按一下新增标题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的添加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字体格式的设置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雅黑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；副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28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雅黑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雅黑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雅黑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</p:txBody>
      </p:sp>
      <p:pic>
        <p:nvPicPr>
          <p:cNvPr id="97" name="Picture 10" descr="2810"/>
          <p:cNvPicPr/>
          <p:nvPr/>
        </p:nvPicPr>
        <p:blipFill>
          <a:blip r:embed="rId6"/>
          <a:srcRect l="18369" t="85554" r="17396" b="-4530"/>
          <a:stretch/>
        </p:blipFill>
        <p:spPr>
          <a:xfrm>
            <a:off x="7093080" y="917640"/>
            <a:ext cx="2050920" cy="350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9640" y="126828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icrosoft JhengHei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JhengHei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icrosoft JhengHei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Microsoft JhengHei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JhengHe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JhengHei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JhengHei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365-1BB4-42D4-8859-6EE36AFF61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2"/>
          <a:srcRect l="0" t="0" r="2006" b="26319"/>
          <a:stretch/>
        </p:blipFill>
        <p:spPr>
          <a:xfrm>
            <a:off x="2268360" y="2703600"/>
            <a:ext cx="68756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8T08:59:17Z</dcterms:created>
  <dc:creator/>
  <dc:description/>
  <dc:language>en-US</dc:language>
  <cp:lastModifiedBy/>
  <dcterms:modified xsi:type="dcterms:W3CDTF">2015-08-14T12:52:33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