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D3C-94DC-493A-A361-377F9183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891-3977-4A25-BEB9-17DBE97B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288-4EBB-48A0-8C1E-A96CB40A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534-95A2-4DFC-8E21-7961CBBE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44C-AB9E-41FF-A71A-31FBB1D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78-B619-49F4-892E-36D0440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D85-EC75-4DCE-8BA2-29E03E36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CF3-6790-4794-9A58-9B51AE8F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758-A766-4688-872D-BC60913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C52-D927-4E25-91A3-1AB97F0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9EA-969C-493E-8B17-4C5F2E2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DD5-E588-41DE-ADD8-AD93BB6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7ABD-F09F-4854-AE73-033CCD449D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6033-4172-4EF7-9300-4B52BD13F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E:\A;\ppt材料\ppt素材\图片+封面\00f341161f11f0364a90a7b8.jpg"/>
          <p:cNvPicPr/>
          <p:nvPr/>
        </p:nvPicPr>
        <p:blipFill>
          <a:blip r:embed="rId2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A;\ppt材料\ppt素材\图片+封面\00f341161f11f0364a90a7b8.jpg"/>
          <p:cNvPicPr/>
          <p:nvPr/>
        </p:nvPicPr>
        <p:blipFill>
          <a:blip r:embed="rId3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A;\ppt材料\ppt本人原创\菜鸟微竞赛2\剪纸\6955351_160407047332_2.jpg"/>
          <p:cNvPicPr/>
          <p:nvPr/>
        </p:nvPicPr>
        <p:blipFill>
          <a:blip r:embed="rId4"/>
          <a:srcRect l="1892" t="1764" r="1038" b="1920"/>
          <a:stretch/>
        </p:blipFill>
        <p:spPr>
          <a:xfrm>
            <a:off x="654120" y="1266840"/>
            <a:ext cx="24588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8"/>
          <p:cNvSpPr/>
          <p:nvPr/>
        </p:nvSpPr>
        <p:spPr>
          <a:xfrm>
            <a:off x="3305160" y="2394000"/>
            <a:ext cx="472284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232080" y="189396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01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POWERPOINT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083280" y="23781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70000" y="484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红色喜庆节日汇报婚庆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1192320" y="138420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一、蛇年大吉</a:t>
            </a: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192320" y="375912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五、吉祥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1192320" y="195264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二、恭喜发财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192320" y="2536920"/>
            <a:ext cx="6966000" cy="42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三、万事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192320" y="311940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四、阖家欢乐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8"/>
          <p:cNvSpPr/>
          <p:nvPr/>
        </p:nvSpPr>
        <p:spPr>
          <a:xfrm rot="21375600">
            <a:off x="-555120" y="4309560"/>
            <a:ext cx="9769320" cy="695520"/>
          </a:xfrm>
          <a:prstGeom prst="pie">
            <a:avLst/>
          </a:prstGeom>
          <a:solidFill>
            <a:srgbClr val="ff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9"/>
          <p:cNvSpPr/>
          <p:nvPr/>
        </p:nvSpPr>
        <p:spPr>
          <a:xfrm>
            <a:off x="-587520" y="4462560"/>
            <a:ext cx="9767880" cy="695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906720" y="61272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新年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F81-A36E-4D47-801C-2CBD09FA7D51}" type="slidenum">
              <a:t>2</a:t>
            </a:fld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00"/>
                            </p:stCondLst>
                            <p:childTnLst>
                              <p:par>
                                <p:cTn id="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3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700"/>
                            </p:stCondLst>
                            <p:childTnLst>
                              <p:par>
                                <p:cTn id="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100"/>
                            </p:stCondLst>
                            <p:childTnLst>
                              <p:par>
                                <p:cTn id="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61" name="矩形 3"/>
          <p:cNvSpPr/>
          <p:nvPr/>
        </p:nvSpPr>
        <p:spPr>
          <a:xfrm>
            <a:off x="885960" y="1457280"/>
            <a:ext cx="1804680" cy="2592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2735280" y="1457280"/>
            <a:ext cx="1843200" cy="2592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6492960" y="1457280"/>
            <a:ext cx="1805040" cy="259236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4610160" y="1457280"/>
            <a:ext cx="1843200" cy="259236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9"/>
          <p:cNvSpPr/>
          <p:nvPr/>
        </p:nvSpPr>
        <p:spPr>
          <a:xfrm>
            <a:off x="885960" y="138096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1"/>
          <p:cNvSpPr/>
          <p:nvPr/>
        </p:nvSpPr>
        <p:spPr>
          <a:xfrm>
            <a:off x="905040" y="414648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"/>
                            </p:stCondLst>
                            <p:childTnLst>
                              <p:par>
                                <p:cTn id="1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"/>
                            </p:stCondLst>
                            <p:childTnLst>
                              <p:par>
                                <p:cTn id="1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3"/>
          <p:cNvGrpSpPr/>
          <p:nvPr/>
        </p:nvGrpSpPr>
        <p:grpSpPr>
          <a:xfrm>
            <a:off x="2536920" y="758880"/>
            <a:ext cx="5607000" cy="1843200"/>
            <a:chOff x="2536920" y="758880"/>
            <a:chExt cx="5607000" cy="1843200"/>
          </a:xfrm>
        </p:grpSpPr>
        <p:sp>
          <p:nvSpPr>
            <p:cNvPr id="69" name="矩形 4"/>
            <p:cNvSpPr/>
            <p:nvPr/>
          </p:nvSpPr>
          <p:spPr>
            <a:xfrm>
              <a:off x="2536920" y="759240"/>
              <a:ext cx="2880360" cy="18428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" descr="E:\A;\ppt材料\ppt本人原创\win8界面ppt\1196293278-2382314.jpg"/>
            <p:cNvPicPr/>
            <p:nvPr/>
          </p:nvPicPr>
          <p:blipFill>
            <a:blip r:embed="rId2"/>
            <a:stretch/>
          </p:blipFill>
          <p:spPr>
            <a:xfrm>
              <a:off x="5280120" y="758880"/>
              <a:ext cx="2863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5"/>
          <p:cNvGrpSpPr/>
          <p:nvPr/>
        </p:nvGrpSpPr>
        <p:grpSpPr>
          <a:xfrm>
            <a:off x="2536920" y="2717640"/>
            <a:ext cx="5607000" cy="1766880"/>
            <a:chOff x="2536920" y="2717640"/>
            <a:chExt cx="5607000" cy="1766880"/>
          </a:xfrm>
        </p:grpSpPr>
        <p:sp>
          <p:nvSpPr>
            <p:cNvPr id="72" name="矩形 6"/>
            <p:cNvSpPr/>
            <p:nvPr/>
          </p:nvSpPr>
          <p:spPr>
            <a:xfrm>
              <a:off x="2536920" y="2729160"/>
              <a:ext cx="2880360" cy="175536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3" descr="E:\A;\ppt材料\ppt本人原创\win8界面ppt\9928bb4c32f0a20a874dcd215acfffcf.jpg"/>
            <p:cNvPicPr/>
            <p:nvPr/>
          </p:nvPicPr>
          <p:blipFill>
            <a:blip r:embed="rId3"/>
            <a:srcRect l="6652" t="12174" r="28165" b="14161"/>
            <a:stretch/>
          </p:blipFill>
          <p:spPr>
            <a:xfrm>
              <a:off x="5280120" y="2717640"/>
              <a:ext cx="2863800" cy="17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直接连接符 9"/>
          <p:cNvSpPr/>
          <p:nvPr/>
        </p:nvSpPr>
        <p:spPr>
          <a:xfrm>
            <a:off x="2536920" y="668160"/>
            <a:ext cx="5607000" cy="180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1"/>
          <p:cNvSpPr/>
          <p:nvPr/>
        </p:nvSpPr>
        <p:spPr>
          <a:xfrm>
            <a:off x="2536920" y="2665440"/>
            <a:ext cx="560700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4"/>
          <p:cNvSpPr/>
          <p:nvPr/>
        </p:nvSpPr>
        <p:spPr>
          <a:xfrm>
            <a:off x="2536920" y="454824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114560" y="17654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行楷"/>
                <a:ea typeface="华文行楷"/>
              </a:rPr>
              <a:t>图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96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3649680" y="758880"/>
            <a:ext cx="3417840" cy="538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728800" y="1701720"/>
            <a:ext cx="3490920" cy="538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885960" y="3494160"/>
            <a:ext cx="3417840" cy="53820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1854360" y="2610000"/>
            <a:ext cx="3489120" cy="5378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2"/>
          <p:cNvGrpSpPr/>
          <p:nvPr/>
        </p:nvGrpSpPr>
        <p:grpSpPr>
          <a:xfrm>
            <a:off x="692280" y="689040"/>
            <a:ext cx="7897680" cy="3906720"/>
            <a:chOff x="692280" y="689040"/>
            <a:chExt cx="7897680" cy="3906720"/>
          </a:xfrm>
        </p:grpSpPr>
        <p:sp>
          <p:nvSpPr>
            <p:cNvPr id="84" name="直接连接符 9"/>
            <p:cNvSpPr/>
            <p:nvPr/>
          </p:nvSpPr>
          <p:spPr>
            <a:xfrm flipH="1">
              <a:off x="692280" y="4595760"/>
              <a:ext cx="78976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0"/>
            <p:cNvSpPr/>
            <p:nvPr/>
          </p:nvSpPr>
          <p:spPr>
            <a:xfrm flipV="1">
              <a:off x="8589960" y="689040"/>
              <a:ext cx="0" cy="39067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6"/>
          <p:cNvGrpSpPr/>
          <p:nvPr/>
        </p:nvGrpSpPr>
        <p:grpSpPr>
          <a:xfrm>
            <a:off x="1228680" y="641520"/>
            <a:ext cx="6835680" cy="922320"/>
            <a:chOff x="1228680" y="641520"/>
            <a:chExt cx="6835680" cy="922320"/>
          </a:xfrm>
        </p:grpSpPr>
        <p:sp>
          <p:nvSpPr>
            <p:cNvPr id="89" name="圆角矩形 5"/>
            <p:cNvSpPr/>
            <p:nvPr/>
          </p:nvSpPr>
          <p:spPr>
            <a:xfrm>
              <a:off x="1441800" y="641520"/>
              <a:ext cx="662256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"/>
            <p:cNvSpPr/>
            <p:nvPr/>
          </p:nvSpPr>
          <p:spPr>
            <a:xfrm>
              <a:off x="1228680" y="871200"/>
              <a:ext cx="383760" cy="4143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5"/>
          <p:cNvGrpSpPr/>
          <p:nvPr/>
        </p:nvGrpSpPr>
        <p:grpSpPr>
          <a:xfrm>
            <a:off x="1228680" y="1604880"/>
            <a:ext cx="6835680" cy="922320"/>
            <a:chOff x="1228680" y="1604880"/>
            <a:chExt cx="6835680" cy="922320"/>
          </a:xfrm>
        </p:grpSpPr>
        <p:sp>
          <p:nvSpPr>
            <p:cNvPr id="92" name="圆角矩形 6"/>
            <p:cNvSpPr/>
            <p:nvPr/>
          </p:nvSpPr>
          <p:spPr>
            <a:xfrm>
              <a:off x="1459440" y="1604880"/>
              <a:ext cx="660492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"/>
            <p:cNvSpPr/>
            <p:nvPr/>
          </p:nvSpPr>
          <p:spPr>
            <a:xfrm>
              <a:off x="1228680" y="1827000"/>
              <a:ext cx="392040" cy="4143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3"/>
          <p:cNvGrpSpPr/>
          <p:nvPr/>
        </p:nvGrpSpPr>
        <p:grpSpPr>
          <a:xfrm>
            <a:off x="1228680" y="3549600"/>
            <a:ext cx="6835680" cy="920880"/>
            <a:chOff x="1228680" y="3549600"/>
            <a:chExt cx="6835680" cy="920880"/>
          </a:xfrm>
        </p:grpSpPr>
        <p:sp>
          <p:nvSpPr>
            <p:cNvPr id="95" name="圆角矩形 8"/>
            <p:cNvSpPr/>
            <p:nvPr/>
          </p:nvSpPr>
          <p:spPr>
            <a:xfrm>
              <a:off x="1459440" y="3549600"/>
              <a:ext cx="660492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"/>
            <p:cNvSpPr/>
            <p:nvPr/>
          </p:nvSpPr>
          <p:spPr>
            <a:xfrm>
              <a:off x="1228680" y="3768840"/>
              <a:ext cx="383760" cy="41400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4"/>
          <p:cNvGrpSpPr/>
          <p:nvPr/>
        </p:nvGrpSpPr>
        <p:grpSpPr>
          <a:xfrm>
            <a:off x="1228680" y="2576520"/>
            <a:ext cx="6835680" cy="922320"/>
            <a:chOff x="1228680" y="2576520"/>
            <a:chExt cx="6835680" cy="922320"/>
          </a:xfrm>
        </p:grpSpPr>
        <p:sp>
          <p:nvSpPr>
            <p:cNvPr id="98" name="圆角矩形 7"/>
            <p:cNvSpPr/>
            <p:nvPr/>
          </p:nvSpPr>
          <p:spPr>
            <a:xfrm>
              <a:off x="1459440" y="2576520"/>
              <a:ext cx="660492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"/>
            <p:cNvSpPr/>
            <p:nvPr/>
          </p:nvSpPr>
          <p:spPr>
            <a:xfrm>
              <a:off x="1228680" y="2796120"/>
              <a:ext cx="392040" cy="41436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A;\ppt材料\ppt素材\图片+封面\00f341161f11f0364a90a7b8.jpg"/>
          <p:cNvPicPr/>
          <p:nvPr/>
        </p:nvPicPr>
        <p:blipFill>
          <a:blip r:embed="rId1"/>
          <a:srcRect l="7275" t="5411" r="7455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6C9-DD58-45D3-A26C-0C382ADE8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 rot="1632000">
            <a:off x="2282760" y="983880"/>
            <a:ext cx="424080" cy="31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7428E-006 L 0.46771 4.67428E-006 E">
                                      <p:cBhvr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4:48:0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6:07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