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5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25200" y="6440400"/>
            <a:ext cx="5972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Helvetica 65 Medium"/>
                <a:ea typeface="Helvetica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 65 Medium"/>
                <a:ea typeface="Helvetica 45 Light"/>
              </a:rPr>
              <a:t>France Telecom Group confidential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BC5-CD36-4DE3-BD76-FF98D544457B}" type="slidenum">
              <a:rPr b="0" lang="en-US" sz="800" spc="-1" strike="noStrike">
                <a:solidFill>
                  <a:srgbClr val="000000"/>
                </a:solidFill>
                <a:latin typeface="Helvetica 55 Roman"/>
                <a:ea typeface="Helvetica 45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1"/>
          <p:cNvSpPr/>
          <p:nvPr/>
        </p:nvSpPr>
        <p:spPr>
          <a:xfrm>
            <a:off x="350280" y="914400"/>
            <a:ext cx="4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Helvetica 65 Medium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 rot="20146200">
            <a:off x="5258880" y="2325240"/>
            <a:ext cx="2718000" cy="408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>
            <a:off x="354600" y="23760"/>
            <a:ext cx="384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e46c0a"/>
                </a:solidFill>
                <a:latin typeface="Helvetica 55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038960" y="3211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808200"/>
            <a:ext cx="76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黑色炫彩个人简历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819520" y="1461960"/>
            <a:ext cx="3429000" cy="41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119280" y="601992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can explain a lo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0" r="-115" b="0"/>
          <a:stretch/>
        </p:blipFill>
        <p:spPr>
          <a:xfrm>
            <a:off x="-74520" y="2057400"/>
            <a:ext cx="220824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671760" y="274320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241200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4318920" y="276228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6154560" y="276228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797472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Straight Connector 39"/>
          <p:cNvSpPr/>
          <p:nvPr/>
        </p:nvSpPr>
        <p:spPr>
          <a:xfrm>
            <a:off x="552600" y="3408480"/>
            <a:ext cx="8076960" cy="1440"/>
          </a:xfrm>
          <a:prstGeom prst="line">
            <a:avLst/>
          </a:prstGeom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0"/>
          <p:cNvSpPr/>
          <p:nvPr/>
        </p:nvSpPr>
        <p:spPr>
          <a:xfrm>
            <a:off x="892800" y="1490760"/>
            <a:ext cx="33170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6600"/>
                </a:solidFill>
                <a:latin typeface="Helvetica 45 Light"/>
                <a:ea typeface="宋体"/>
              </a:rPr>
              <a:t>“”</a:t>
            </a:r>
            <a:endParaRPr b="0" lang="en-US" sz="34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114800" y="2522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eople don't know what they want until you show it to them </a:t>
            </a: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– Steve Jobs 1998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06200" y="280044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 45 Light"/>
                <a:ea typeface="宋体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TextBox 9"/>
          <p:cNvSpPr/>
          <p:nvPr/>
        </p:nvSpPr>
        <p:spPr>
          <a:xfrm flipV="1">
            <a:off x="6956280" y="316656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45 Light"/>
                <a:ea typeface="宋体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12" name="Shape 5"/>
          <p:cNvCxnSpPr>
            <a:stCxn id="110" idx="0"/>
            <a:endCxn id="111" idx="1"/>
          </p:cNvCxnSpPr>
          <p:nvPr/>
        </p:nvCxnSpPr>
        <p:spPr>
          <a:xfrm flipH="1" rot="16200000">
            <a:off x="4042440" y="-117720"/>
            <a:ext cx="1070640" cy="6906600"/>
          </a:xfrm>
          <a:prstGeom prst="curvedConnector5">
            <a:avLst>
              <a:gd name="adj1" fmla="val -21358"/>
              <a:gd name="adj2" fmla="val 25000"/>
              <a:gd name="adj3" fmla="val -21358"/>
            </a:avLst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TextBox 7"/>
          <p:cNvSpPr/>
          <p:nvPr/>
        </p:nvSpPr>
        <p:spPr>
          <a:xfrm>
            <a:off x="5316840" y="609588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Helvetica 45 Light"/>
                <a:ea typeface="Helvetica 45 Light"/>
              </a:rPr>
              <a:t>negative = positive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-2855520" y="2057400"/>
            <a:ext cx="11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  <a:ea typeface="Helvetica 45 Light"/>
              </a:rPr>
              <a:t>time to fall in love again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2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4280" y="0"/>
            <a:ext cx="81025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979280" y="2316240"/>
            <a:ext cx="52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Helvetica 45 Light"/>
                <a:ea typeface="宋体"/>
              </a:rPr>
              <a:t>a picture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364920" y="348624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45 Light"/>
                <a:ea typeface="Helvetica 45 Light"/>
              </a:rPr>
              <a:t>is worth 1,000 word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144880" y="1638360"/>
            <a:ext cx="1839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2622240" y="3032280"/>
            <a:ext cx="38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very picture tells a stor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57200" y="1120680"/>
            <a:ext cx="3213000" cy="4594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9" name="TextBox 7"/>
          <p:cNvSpPr/>
          <p:nvPr/>
        </p:nvSpPr>
        <p:spPr>
          <a:xfrm>
            <a:off x="1062000" y="119700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e"/>
                </a:solidFill>
                <a:latin typeface="Comic Sans MS"/>
                <a:ea typeface="Helvetica 45 Light"/>
              </a:rPr>
              <a:t>i have a drea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433600">
            <a:off x="3389040" y="2266920"/>
            <a:ext cx="2019240" cy="27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90160" y="649440"/>
            <a:ext cx="67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different types of presentation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87640" y="2448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69520" y="37339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164360" y="32004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980320" y="15238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alking pad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363000" y="4648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lideles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92040" y="534348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tick fig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86600" y="586728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quiet presentation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rcRect l="0" t="0" r="0" b="147"/>
          <a:stretch/>
        </p:blipFill>
        <p:spPr>
          <a:xfrm rot="20947200">
            <a:off x="818640" y="968400"/>
            <a:ext cx="4876920" cy="2690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2" name="TextBox 7"/>
          <p:cNvSpPr/>
          <p:nvPr/>
        </p:nvSpPr>
        <p:spPr>
          <a:xfrm>
            <a:off x="6217560" y="54054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766080" y="29718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 rot="712200">
            <a:off x="4171680" y="2017800"/>
            <a:ext cx="4356000" cy="2873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7200" y="3200400"/>
            <a:ext cx="4314960" cy="27432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7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810160" cy="3238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305160" cy="2857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0" y="2873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f a picture is worth 1,000 words,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video is worth 30,000 words every second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-379440" y="5529240"/>
            <a:ext cx="388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videos inside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slideshare now!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420920" y="55040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video on flickr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554280" y="54864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 </a:t>
            </a: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every minute, ten hour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of video is uploa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535720" y="55306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15,000 video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uploaded dail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2576520" y="1798560"/>
            <a:ext cx="25909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6600"/>
                </a:solidFill>
                <a:latin typeface="Arial Narrow"/>
              </a:rPr>
              <a:t>IS</a:t>
            </a:r>
            <a:endParaRPr b="0" lang="en-US" sz="199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Text Box 3"/>
          <p:cNvSpPr/>
          <p:nvPr/>
        </p:nvSpPr>
        <p:spPr>
          <a:xfrm rot="16200000">
            <a:off x="1587240" y="2875680"/>
            <a:ext cx="219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693320" y="23922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92960" y="2722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  <a:ea typeface="Helvetica 45 Light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50480" y="30272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685040" y="33321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703400" y="3637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692600" y="3946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only text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1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287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one more skill for you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 rot="20597400">
            <a:off x="6483240" y="4187520"/>
            <a:ext cx="1962360" cy="1971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slideless!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4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veryone does slide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宋体"/>
              </a:rPr>
              <a:t>teachers, politicians and preachers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宋体"/>
              </a:rPr>
              <a:t>teachers, politicians and preachers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-14400" y="502920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o they use slide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go slideles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peaking directly is more compelling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0" y="4789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udience’s focus on you not on screen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rcRect l="0" t="0" r="38190" b="147"/>
          <a:stretch/>
        </p:blipFill>
        <p:spPr>
          <a:xfrm rot="20947200">
            <a:off x="735120" y="917640"/>
            <a:ext cx="2689200" cy="2400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-14400" y="292104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give it a try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stick fig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5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0" y="2389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 Narrow"/>
              </a:rPr>
              <a:t>f  ll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38080" y="6858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you will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Rectangle 12"/>
          <p:cNvSpPr/>
          <p:nvPr/>
        </p:nvSpPr>
        <p:spPr>
          <a:xfrm rot="1905600">
            <a:off x="3872880" y="303336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 Narrow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32280" y="529740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for text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Cloud Callout 4"/>
          <p:cNvSpPr/>
          <p:nvPr/>
        </p:nvSpPr>
        <p:spPr>
          <a:xfrm>
            <a:off x="4419720" y="3809880"/>
            <a:ext cx="1828800" cy="1143000"/>
          </a:xfrm>
          <a:prstGeom prst="cloudCallout">
            <a:avLst>
              <a:gd name="adj1" fmla="val -51967"/>
              <a:gd name="adj2" fmla="val 58379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#^%#^@!?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 rot="20747400">
            <a:off x="323640" y="1352160"/>
            <a:ext cx="3247920" cy="2416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4" name="Picture 2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407280" y="3930480"/>
            <a:ext cx="4819680" cy="3953160"/>
          </a:xfrm>
          <a:prstGeom prst="rect">
            <a:avLst/>
          </a:prstGeom>
          <a:ln w="0">
            <a:noFill/>
          </a:ln>
        </p:spPr>
      </p:pic>
      <p:sp>
        <p:nvSpPr>
          <p:cNvPr id="195" name="Cloud Callout 8"/>
          <p:cNvSpPr/>
          <p:nvPr/>
        </p:nvSpPr>
        <p:spPr>
          <a:xfrm>
            <a:off x="6788160" y="3560760"/>
            <a:ext cx="2057400" cy="1163520"/>
          </a:xfrm>
          <a:prstGeom prst="cloudCallout">
            <a:avLst>
              <a:gd name="adj1" fmla="val 37925"/>
              <a:gd name="adj2" fmla="val 69092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this guys seems to be lost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4"/>
          <a:stretch/>
        </p:blipFill>
        <p:spPr>
          <a:xfrm>
            <a:off x="3352680" y="5105520"/>
            <a:ext cx="11430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2133720" y="1152360"/>
            <a:ext cx="4819680" cy="3953160"/>
          </a:xfrm>
          <a:prstGeom prst="rect">
            <a:avLst/>
          </a:prstGeom>
          <a:ln w="0">
            <a:noFill/>
          </a:ln>
        </p:spPr>
      </p:pic>
      <p:sp>
        <p:nvSpPr>
          <p:cNvPr id="199" name="Freeform 15"/>
          <p:cNvSpPr/>
          <p:nvPr/>
        </p:nvSpPr>
        <p:spPr>
          <a:xfrm>
            <a:off x="4489560" y="20520"/>
            <a:ext cx="169920" cy="2643480"/>
          </a:xfrm>
          <a:prstGeom prst="pie">
            <a:avLst/>
          </a:prstGeom>
          <a:noFill/>
          <a:ln w="25560">
            <a:solidFill>
              <a:srgbClr val="ffc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0" name="TextBox 16"/>
          <p:cNvSpPr/>
          <p:nvPr/>
        </p:nvSpPr>
        <p:spPr>
          <a:xfrm rot="20842800">
            <a:off x="178200" y="892080"/>
            <a:ext cx="3429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45 Light"/>
                <a:ea typeface="Helvetica 45 Light"/>
              </a:rPr>
              <a:t>SUICIDE NOTE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45 Light"/>
                <a:ea typeface="Helvetica 45 Light"/>
              </a:rPr>
              <a:t>bad presentations are responsible for my dea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1639800" y="100008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Straight Connector 22"/>
          <p:cNvSpPr/>
          <p:nvPr/>
        </p:nvSpPr>
        <p:spPr>
          <a:xfrm flipH="1" flipV="1">
            <a:off x="1406160" y="0"/>
            <a:ext cx="322200" cy="113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Oval 17"/>
          <p:cNvSpPr/>
          <p:nvPr/>
        </p:nvSpPr>
        <p:spPr>
          <a:xfrm>
            <a:off x="1639800" y="100008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-1446120" y="3886200"/>
            <a:ext cx="4817880" cy="3952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>
            <a:lum bright="60000"/>
          </a:blip>
          <a:stretch/>
        </p:blipFill>
        <p:spPr>
          <a:xfrm>
            <a:off x="2190600" y="4495680"/>
            <a:ext cx="4819680" cy="395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4">
            <a:lum bright="60000"/>
          </a:blip>
          <a:stretch/>
        </p:blipFill>
        <p:spPr>
          <a:xfrm>
            <a:off x="5638680" y="397188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-14400" y="292104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re you excited about presentations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quiet presentatio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6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o you really have to speak during presentation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you can doesn’t mean you should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reate a simple presenta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0" y="427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hange slide transition from manual(click) to auto transi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&amp; time each slide carefull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 rot="20834400">
            <a:off x="568080" y="1039320"/>
            <a:ext cx="563868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dd some really good music if you want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 tried it and it worked wonderfully well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02720" y="254952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YOU CAN </a:t>
            </a:r>
            <a:r>
              <a:rPr b="1" lang="en-US" sz="7200" spc="-1" strike="noStrike">
                <a:solidFill>
                  <a:srgbClr val="ff6600"/>
                </a:solidFill>
                <a:latin typeface="Helvetica 35 Thin"/>
                <a:ea typeface="Helvetica 45 Light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Text Box 3"/>
          <p:cNvSpPr/>
          <p:nvPr/>
        </p:nvSpPr>
        <p:spPr>
          <a:xfrm rot="20752800">
            <a:off x="6409440" y="30078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a lo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28840" y="31100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Text Box 3"/>
          <p:cNvSpPr/>
          <p:nvPr/>
        </p:nvSpPr>
        <p:spPr>
          <a:xfrm rot="19166400">
            <a:off x="6953040" y="2779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35 Thin"/>
              </a:rPr>
              <a:t>craz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Text Box 3"/>
          <p:cNvSpPr/>
          <p:nvPr/>
        </p:nvSpPr>
        <p:spPr>
          <a:xfrm rot="2925600">
            <a:off x="7211880" y="31309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35 Thin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Text Box 3"/>
          <p:cNvSpPr/>
          <p:nvPr/>
        </p:nvSpPr>
        <p:spPr>
          <a:xfrm rot="18920400">
            <a:off x="7694280" y="308772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Text Box 3"/>
          <p:cNvSpPr/>
          <p:nvPr/>
        </p:nvSpPr>
        <p:spPr>
          <a:xfrm rot="5400000">
            <a:off x="8020440" y="320904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talking pad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7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2209680" y="411336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he modern talking pad: I think this is a big idea, but your mileage may var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09480" y="3678120"/>
            <a:ext cx="65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6600"/>
                </a:solidFill>
                <a:latin typeface="Helvetica 45 Light"/>
                <a:ea typeface="宋体"/>
              </a:rPr>
              <a:t>“”</a:t>
            </a:r>
            <a:endParaRPr b="0" lang="en-US" sz="16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82840" y="4440240"/>
            <a:ext cx="42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- Seth Godi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 rot="20365800">
            <a:off x="846000" y="725040"/>
            <a:ext cx="2895840" cy="27432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0" y="5638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modern talking pad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2971800" y="1612800"/>
            <a:ext cx="3021120" cy="232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228600" y="272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reate a presentation (graphs, images, a few words to anchor a discussion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On every page remove some of the information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rint the presenta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28600" y="27208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when you make your presentation,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it next to the person you're meeting wi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nd go through the booklet page by page, writing directly on each pag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228600" y="27972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he two of you can talk about what's in front of you and mark it u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t's not a brochure/presentation, it's the outcome of a working sess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1533600" cy="1523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4405320" y="2378160"/>
            <a:ext cx="2006640" cy="150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1922400" y="2378160"/>
            <a:ext cx="2259000" cy="150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7" name="Picture 7" descr=""/>
          <p:cNvPicPr/>
          <p:nvPr/>
        </p:nvPicPr>
        <p:blipFill>
          <a:blip r:embed="rId5"/>
          <a:stretch/>
        </p:blipFill>
        <p:spPr>
          <a:xfrm>
            <a:off x="6664320" y="2371680"/>
            <a:ext cx="2260440" cy="1514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48" name="TextBox 7"/>
          <p:cNvSpPr/>
          <p:nvPr/>
        </p:nvSpPr>
        <p:spPr>
          <a:xfrm>
            <a:off x="220320" y="1962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lideles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733840" y="196200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5020200" y="19828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7433640" y="19620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04920" y="57913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hoose your presentation typ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8600" y="45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teve Jobs use many types of presentation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Helvetica 65 Medium"/>
              </a:rPr>
              <a:t>使用规范说明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elvetica 45 Ligh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472000" y="56642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Y</a:t>
            </a:r>
            <a:r>
              <a:rPr b="1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udhvir </a:t>
            </a:r>
            <a:r>
              <a:rPr b="1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D</a:t>
            </a:r>
            <a:r>
              <a:rPr b="1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hiya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TextBox 11"/>
          <p:cNvSpPr/>
          <p:nvPr/>
        </p:nvSpPr>
        <p:spPr>
          <a:xfrm flipV="1">
            <a:off x="4495680" y="522828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Helvetica 45 Light"/>
                <a:ea typeface="宋体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TextBox 12"/>
          <p:cNvSpPr/>
          <p:nvPr/>
        </p:nvSpPr>
        <p:spPr>
          <a:xfrm rot="16200000">
            <a:off x="4792320" y="4930920"/>
            <a:ext cx="6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099440" y="2362320"/>
            <a:ext cx="71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s nk ng feeling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Flowchart: Document 4"/>
          <p:cNvSpPr/>
          <p:nvPr/>
        </p:nvSpPr>
        <p:spPr>
          <a:xfrm flipH="1">
            <a:off x="152280" y="4114800"/>
            <a:ext cx="9144000" cy="3352680"/>
          </a:xfrm>
          <a:prstGeom prst="flowChartDocumen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Text Box 3"/>
          <p:cNvSpPr/>
          <p:nvPr/>
        </p:nvSpPr>
        <p:spPr>
          <a:xfrm flipV="1">
            <a:off x="1655640" y="256932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Text Box 3"/>
          <p:cNvSpPr/>
          <p:nvPr/>
        </p:nvSpPr>
        <p:spPr>
          <a:xfrm flipV="1">
            <a:off x="2997360" y="256932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Flowchart: Document 7"/>
          <p:cNvSpPr/>
          <p:nvPr/>
        </p:nvSpPr>
        <p:spPr>
          <a:xfrm flipH="1" rot="10800000">
            <a:off x="0" y="2895120"/>
            <a:ext cx="9144000" cy="1219320"/>
          </a:xfrm>
          <a:prstGeom prst="flowChartDocumen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234480" y="546408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6e6e"/>
                </a:solidFill>
                <a:latin typeface="Helvetica 35 Thin"/>
                <a:ea typeface="Helvetica 45 Light"/>
              </a:rPr>
              <a:t>c u t t i n g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02960" y="325440"/>
            <a:ext cx="2972160" cy="1557000"/>
            <a:chOff x="102960" y="325440"/>
            <a:chExt cx="2972160" cy="1557000"/>
          </a:xfrm>
        </p:grpSpPr>
        <p:sp>
          <p:nvSpPr>
            <p:cNvPr id="82" name="Text Box 3"/>
            <p:cNvSpPr/>
            <p:nvPr/>
          </p:nvSpPr>
          <p:spPr>
            <a:xfrm>
              <a:off x="189000" y="325440"/>
              <a:ext cx="269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6600"/>
                  </a:solidFill>
                  <a:latin typeface="Helvetica 35 Thin"/>
                </a:rPr>
                <a:t>cost</a:t>
              </a:r>
              <a:endParaRPr b="0" lang="en-US" sz="96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3" name="Lightning Bolt 5"/>
            <p:cNvSpPr/>
            <p:nvPr/>
          </p:nvSpPr>
          <p:spPr>
            <a:xfrm rot="20228400">
              <a:off x="1860480" y="1164960"/>
              <a:ext cx="1187640" cy="3794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4" name="Lightning Bolt 7"/>
            <p:cNvSpPr/>
            <p:nvPr/>
          </p:nvSpPr>
          <p:spPr>
            <a:xfrm rot="20228400">
              <a:off x="1204920" y="765000"/>
              <a:ext cx="838080" cy="3794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5" name="Lightning Bolt 9"/>
            <p:cNvSpPr/>
            <p:nvPr/>
          </p:nvSpPr>
          <p:spPr>
            <a:xfrm rot="20228400">
              <a:off x="140760" y="1333080"/>
              <a:ext cx="615960" cy="32040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-608040" y="19810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8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USE</a:t>
            </a:r>
            <a:endParaRPr b="0" lang="en-US" sz="10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69960" y="3267000"/>
            <a:ext cx="2741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LARGE</a:t>
            </a:r>
            <a:endParaRPr b="0" lang="en-US" sz="63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36840" y="4105440"/>
            <a:ext cx="285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FONTS</a:t>
            </a:r>
            <a:endParaRPr b="0" lang="en-US" sz="6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0" y="4998960"/>
            <a:ext cx="9144000" cy="1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774880" y="304308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35 Thin"/>
                <a:ea typeface="Helvetica 45 Light"/>
              </a:rPr>
              <a:t>but small is also elegant</a:t>
            </a:r>
            <a:r>
              <a:rPr b="0" lang="en-US" sz="2400" spc="-1" strike="noStrike">
                <a:solidFill>
                  <a:srgbClr val="ff6600"/>
                </a:solidFill>
                <a:latin typeface="Helvetica 35 Thin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9:32:00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33Z</dcterms:modified>
  <cp:revision>2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d608000000000001024140</vt:lpwstr>
  </property>
</Properties>
</file>