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566C-8054-4688-A49F-580AFB639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BC23-0280-4515-9592-97A1E1E8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19FB-C8AD-4CD4-9FB6-85D0D084A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FD69-0EAE-4162-ADBF-6E5A90930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6C90-0D14-452A-9753-D7F6EEC5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E64E-3E30-4F92-9095-56EC17BE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92B5-EDBB-4923-B74D-C5962DEB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9C5C-08B4-486B-8E53-3867645C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1B5A-8F14-45C5-BFF1-6CD8B0B8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4651-6522-4444-85B5-0F50367E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CD26-31A1-4A72-9DC1-14BAC2CB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195B-3895-473C-967A-42197BC7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F823-E5E2-4603-A21E-6C18D87C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76B6-217C-4906-ACEE-C5C5A141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04F2-957D-4900-8830-02BA3680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1FDD-F845-438C-9D18-FB5D013CD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13B4-913B-40C0-B8D4-00C6CFF54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5049C-C8E1-4C59-A83C-CBCE6F790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C601A-42C9-4A55-A6E8-EA2BBDBD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5A979-0476-4A13-BFE6-EF0C744C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A38A0-4649-40DE-A340-FFCBAA49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1AAAC-27B9-477A-B79A-A810F959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E382-524B-4C72-867B-05DDC490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AF62A-B020-4921-8BBC-86CBE8EC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F6B2B-CBC0-4503-BE3A-CF1FC212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54B62-CCA4-440C-8A92-912A6777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6DFDE-6D17-4CFC-92E4-DAD28CDC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C92BB-D705-4E8A-A5FD-9A646387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0C43D-07F4-4EF8-B2B1-18551BEE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7685E-CAEE-43E0-B7A7-B9AE023FF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4206-1843-4073-80C6-9AAC911D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E549-BC4D-4F46-B6E3-4D4F4243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866F-98EA-4EF8-8A3C-B1AF7449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B5AA-BD50-44A3-B96B-74C0499F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7F2E-5EA1-4D44-AB03-1BFA1771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FA0C-B9AA-430A-9998-DBD0EDBD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B1CB-9D4E-4157-B306-79E5383C09E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01BB-185E-4723-9141-BE3D495431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9380-7D1F-4C6B-967A-D4ADCD6F9D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3"/>
          <a:stretch/>
        </p:blipFill>
        <p:spPr>
          <a:xfrm>
            <a:off x="1630440" y="1746360"/>
            <a:ext cx="5883120" cy="33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98989"/>
                </a:solidFill>
                <a:latin typeface="Calibri"/>
              </a:rPr>
              <a:t>红色炫彩幻灯片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92160" y="64483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2160" y="30574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2160" y="15570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7873920" y="0"/>
            <a:ext cx="127944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7873920" y="0"/>
            <a:ext cx="1279440" cy="944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50920" y="2852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0055-D5AE-4528-A4A0-42D650EFE2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0:19:21Z</dcterms:created>
  <dc:creator>幻灯片之家：www.eeppt.com</dc:creator>
  <dc:description>幻灯片之家：www.eeppt.com</dc:description>
  <cp:keywords>幻灯片之家：www.eeppt.com</cp:keywords>
  <dc:language>en-US</dc:language>
  <cp:lastModifiedBy>雨林木风</cp:lastModifiedBy>
  <dcterms:modified xsi:type="dcterms:W3CDTF">2015-08-12T14:36:15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NXTAG2">
    <vt:lpwstr>0008000c08000000000001024100</vt:lpwstr>
  </property>
</Properties>
</file>