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6CC-B5EF-472E-9205-1EE100F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D59-1D72-498B-8D96-0534C77E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004-0DCE-4836-828F-590282B0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31C-3866-4D94-A2C2-C825191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0F6A-5516-4836-A53A-AA75C701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8C59-789E-4151-9C74-8A28207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C9A5-D041-4B2E-8B9B-0D8A97F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360-DC2A-4FFF-B232-F0CE9F5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73C-E9E6-4E59-9349-239766CB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68C7-9CA2-4AA7-8666-AD354672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6F2-AF20-4603-9B3F-8B7BFFF0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AF0-C1C5-45DA-82C0-C03BE7F4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BCE6-840D-49AD-957F-9F2B585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E677-6046-4421-A967-C82860E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533E-FA6E-4BB8-9D44-994CDBD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A58-998D-4F9F-9AF4-694F71DF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003-7712-4149-8164-5CCBBB6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5FCA-564F-4501-9FB8-2F80C5EE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D3EE-CD61-4C5F-BF04-26532427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2701-7377-42CD-B960-CD6DAB44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7B2B6-E719-4FA2-8EF7-8FA0508E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43EF-B368-4931-AF02-1CAB88F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B57-EAA4-418F-9D56-2884955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9223-7067-4E94-8656-199549F0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4052-B51F-4FB1-9EC3-953B20B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622E-5E60-42B9-A867-FE4AE7C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C22D-B45F-4669-AFD6-EEDBFCE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6163-0652-4881-94DA-4C9B011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3303-5D09-40F1-8FFB-97AF3288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29EA-5E9C-4136-9FDA-3D25094E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819-4EE9-4999-859C-0727044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999-F0A1-405B-BC5E-C087129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EF1-B50E-47F6-82CF-941000D7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81-B571-4E71-A290-BF69436E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D54-19BB-443E-A09A-29A7D01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1B8-66EE-4CAE-9E9A-D4EF07E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B2F2-6988-4A40-A1E5-24D1262DEB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9A86-BA67-42EF-AFFA-CE7A7145EC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110-57CA-43C3-BA0B-C148DE9832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黄色炫彩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ChangChun\Desktop\ppt01.png"/>
          <p:cNvPicPr/>
          <p:nvPr/>
        </p:nvPicPr>
        <p:blipFill>
          <a:blip r:embed="rId1"/>
          <a:stretch/>
        </p:blipFill>
        <p:spPr>
          <a:xfrm>
            <a:off x="1030320" y="2206800"/>
            <a:ext cx="7023240" cy="190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0CAC-2B23-4CA4-A3E7-7BF02F2AFC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6:3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a10000000000001024100</vt:lpwstr>
  </property>
</Properties>
</file>