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619-6D09-4F70-9D2D-8B5180C5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DFD-ADBA-49CC-A162-F8133F30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02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93F-C07E-4D66-86B0-8AFF210C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48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80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48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80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8F4-1F92-4A5E-9507-15C86A91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6863-89EC-4383-A366-2DA42763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76E8-4C99-4F33-B4D8-8B8BACC7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7FFD-769F-4593-B26B-CED6FC6E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EC02-A39A-491B-B277-D58D1BF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3E55-91A0-46E1-A79A-26D09F1F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1522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80FA-BC3D-4094-82B4-152BA4E9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0C44-0A15-4BA6-8F56-371FBA7F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4D3-BEA8-448D-9347-96C65B20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202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1E52-D764-4C8F-BDA4-0A67751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4EA7-83DA-412C-A8C5-6A2FE5A6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7939-3571-4E2E-8FFC-0F142D8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202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A3EF-976D-4B86-BD40-72F3B2A5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48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80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48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80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545D-211F-4BD6-88B9-E8876693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B2A-FF32-4B79-99A3-179BDCB2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6D0-0531-4385-B5C1-5666F17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C83-A20F-4BF5-A1DE-C8054A5E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1522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CDC-DED4-4132-9313-13C8D623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55A-0E17-4E37-8DCC-3D2D482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02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45E-A102-4997-B3E5-515E092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02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B9D-4742-4748-ADB6-803344C5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0a6ee"/>
                </a:solidFill>
                <a:latin typeface="-윤고딕140"/>
              </a:rPr>
              <a:t>Click to edit the title text format</a:t>
            </a: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Click to edit the outline text format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1" marL="743040" indent="-28584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Second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2" marL="1143000" indent="-22860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Third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3" marL="1600200" indent="-22860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Fourth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4" marL="2057400" indent="-228600">
              <a:spcBef>
                <a:spcPts val="499"/>
              </a:spcBef>
              <a:buClr>
                <a:srgbClr val="bdd7f3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Fifth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Sixth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f3"/>
                </a:solidFill>
                <a:latin typeface="-윤고딕140"/>
              </a:rPr>
              <a:t>Seventh Outline Level</a:t>
            </a: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1197-2447-46DA-9162-8F1066D700C1}" type="slidenum">
              <a:rPr b="0" lang="en-US" sz="1400" spc="-1" strike="noStrike">
                <a:solidFill>
                  <a:srgbClr val="bdd7f3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19160" y="55440"/>
            <a:ext cx="1217520" cy="12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70E7-B08B-4CCC-BA01-D8B348ACA0BE}" type="slidenum">
              <a:rPr b="0" lang="en-US" sz="1400" spc="-1" strike="noStrike">
                <a:solidFill>
                  <a:srgbClr val="99a0f5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dd7f3"/>
                </a:solidFill>
                <a:latin typeface="-윤고딕140"/>
              </a:rPr>
              <a:t>Click to edit the title text format</a:t>
            </a:r>
            <a:endParaRPr b="0" lang="en-US" sz="4500" spc="-1" strike="noStrike">
              <a:solidFill>
                <a:srgbClr val="bdd7f3"/>
              </a:solidFill>
              <a:latin typeface="-윤고딕140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63840" y="1484280"/>
            <a:ext cx="1787760" cy="180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a0f5"/>
                </a:solidFill>
                <a:latin typeface="-윤고딕140"/>
              </a:rPr>
              <a:t>Click to edit the outline text format</a:t>
            </a: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dd7f3"/>
                </a:solidFill>
                <a:latin typeface="-윤고딕140"/>
              </a:rPr>
              <a:t>Second Outline Level</a:t>
            </a:r>
            <a:endParaRPr b="0" lang="en-US" sz="1700" spc="-1" strike="noStrike">
              <a:solidFill>
                <a:srgbClr val="bdd7f3"/>
              </a:solidFill>
              <a:latin typeface="-윤고딕140"/>
            </a:endParaRPr>
          </a:p>
          <a:p>
            <a:pPr lvl="2" marL="914400" algn="ctr">
              <a:spcBef>
                <a:spcPts val="451"/>
              </a:spcBef>
              <a:buClr>
                <a:srgbClr val="bdd7f3"/>
              </a:buClr>
              <a:buFont typeface="-윤고딕14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d7f3"/>
                </a:solidFill>
                <a:latin typeface="-윤고딕140"/>
              </a:rPr>
              <a:t>Third Outline Level</a:t>
            </a:r>
            <a:endParaRPr b="0" lang="en-US" sz="1800" spc="-1" strike="noStrike">
              <a:solidFill>
                <a:srgbClr val="bdd7f3"/>
              </a:solidFill>
              <a:latin typeface="-윤고딕140"/>
            </a:endParaRPr>
          </a:p>
          <a:p>
            <a:pPr lvl="3" marL="1371600" algn="ctr">
              <a:spcBef>
                <a:spcPts val="400"/>
              </a:spcBef>
              <a:buClr>
                <a:srgbClr val="bdd7f3"/>
              </a:buClr>
              <a:buFont typeface="-윤고딕14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dd7f3"/>
                </a:solidFill>
                <a:latin typeface="-윤고딕140"/>
              </a:rPr>
              <a:t>Fourth Outline Level</a:t>
            </a:r>
            <a:endParaRPr b="0" lang="en-US" sz="1600" spc="-1" strike="noStrike">
              <a:solidFill>
                <a:srgbClr val="bdd7f3"/>
              </a:solidFill>
              <a:latin typeface="-윤고딕140"/>
            </a:endParaRPr>
          </a:p>
          <a:p>
            <a:pPr lvl="4" marL="1828800" algn="ctr">
              <a:spcBef>
                <a:spcPts val="349"/>
              </a:spcBef>
              <a:buClr>
                <a:srgbClr val="bdd7f3"/>
              </a:buClr>
              <a:buFont typeface="-윤고딕140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</a:rPr>
              <a:t>Fifth Outline Level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</a:rPr>
              <a:t>Sixth Outline Level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dd7f3"/>
                </a:solidFill>
                <a:latin typeface="-윤고딕140"/>
              </a:rPr>
              <a:t>Seventh Outline Level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bdd7f3"/>
                </a:solidFill>
                <a:latin typeface="-윤고딕140"/>
              </a:rPr>
              <a:t>会议</a:t>
            </a:r>
            <a:r>
              <a:rPr b="0" lang="ko-KR" sz="4000" spc="-1" strike="noStrike">
                <a:solidFill>
                  <a:srgbClr val="bdd7f3"/>
                </a:solidFill>
                <a:latin typeface="-윤고딕140"/>
              </a:rPr>
              <a:t>PPT</a:t>
            </a:r>
            <a:r>
              <a:rPr b="0" lang="ko-KR" sz="4000" spc="-1" strike="noStrike">
                <a:solidFill>
                  <a:srgbClr val="bdd7f3"/>
                </a:solidFill>
                <a:latin typeface="-윤고딕140"/>
              </a:rPr>
              <a:t>背景</a:t>
            </a:r>
            <a:r>
              <a:rPr b="0" lang="zh-CN" sz="4000" spc="-1" strike="noStrike">
                <a:solidFill>
                  <a:srgbClr val="bdd7f3"/>
                </a:solidFill>
                <a:latin typeface="-윤고딕140"/>
                <a:ea typeface="宋体"/>
              </a:rPr>
              <a:t>免费打包下载</a:t>
            </a:r>
            <a:endParaRPr b="0" lang="en-US" sz="4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a0f5"/>
              </a:solidFill>
              <a:latin typeface="-윤고딕140"/>
            </a:endParaRPr>
          </a:p>
        </p:txBody>
      </p:sp>
      <p:sp>
        <p:nvSpPr>
          <p:cNvPr id="88" name=""/>
          <p:cNvSpPr/>
          <p:nvPr/>
        </p:nvSpPr>
        <p:spPr>
          <a:xfrm>
            <a:off x="27000" y="6489720"/>
            <a:ext cx="50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a0a6ee"/>
                </a:solidFill>
                <a:latin typeface="-윤고딕140"/>
              </a:rPr>
              <a:t>使用规范说明</a:t>
            </a: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：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-윤고딕140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-윤고딕140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윤고딕140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特别说明：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윤고딕140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-윤고딕140"/>
              </a:rPr>
              <a:t>：</a:t>
            </a:r>
            <a:endParaRPr b="0" lang="en-US" sz="14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C14-422E-46D6-8A2B-8C469CACA3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0a6ee"/>
              </a:solidFill>
              <a:latin typeface="-윤고딕14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dd7f3"/>
              </a:solidFill>
              <a:latin typeface="-윤고딕140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133720"/>
            <a:ext cx="7151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模板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ulim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6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