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F05-FAFC-4B4F-AAEA-233F265C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7BF-3683-42E4-A833-D0A47448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864-4C35-408C-B77B-350F76C4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140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87880" y="182844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140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87880" y="4097160"/>
            <a:ext cx="3091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5BF-69B4-426A-A76F-E15AFCB8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A23-2497-4504-A9CB-E5F584C8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D9C-8BD7-400B-896D-9E1744F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B35-1457-46D1-B7DB-8A4A6E1F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F03-682F-45CC-8E82-92AEE34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255600"/>
            <a:ext cx="96012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F78-B526-4AC0-AA4F-C173DE41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6E8-7C62-4E25-BC9F-9AB35143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15040" y="409716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785-731E-4883-9152-F6E1421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5040" y="1828440"/>
            <a:ext cx="4685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960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82B-D0BB-4350-AFF0-6AFD260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12192120" cy="1371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371600"/>
            <a:ext cx="12192120" cy="8244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442880"/>
            <a:ext cx="12192120" cy="81000"/>
          </a:xfrm>
          <a:prstGeom prst="rect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1" marL="320760" indent="59364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2" marL="595440" indent="31896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3" marL="870120" indent="442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4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5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lvl="6" marL="1098720" indent="-18432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791480" y="6374880"/>
            <a:ext cx="14810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189-CA3A-43CB-AA47-8539EB545FB8}" type="datetime">
              <a:rPr b="0" lang="zh-CN" sz="1000" spc="-1" strike="noStrike">
                <a:solidFill>
                  <a:srgbClr val="595959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5280" y="6374880"/>
            <a:ext cx="6243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524880" y="6374880"/>
            <a:ext cx="13716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B199-BC8E-4501-AD50-C636A937CA59}" type="slidenum">
              <a:rPr b="0" lang="zh-CN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6540480" y="0"/>
            <a:ext cx="565164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6256440" y="0"/>
            <a:ext cx="167148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6062760" y="0"/>
            <a:ext cx="152856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1874520"/>
            <a:ext cx="65628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会议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PPT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</a:rPr>
              <a:t>模板</a:t>
            </a:r>
            <a:r>
              <a:rPr b="0" lang="zh-CN" sz="4000" spc="-1" strike="noStrike">
                <a:solidFill>
                  <a:srgbClr val="595959"/>
                </a:solidFill>
                <a:latin typeface="Book Antiqua"/>
                <a:ea typeface="宋体"/>
              </a:rPr>
              <a:t>免费打包下载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5121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pic>
        <p:nvPicPr>
          <p:cNvPr id="49" name="Picture Placeholder 4" descr="City street with motion blur"/>
          <p:cNvPicPr/>
          <p:nvPr/>
        </p:nvPicPr>
        <p:blipFill>
          <a:blip r:embed="rId1"/>
          <a:stretch/>
        </p:blipFill>
        <p:spPr>
          <a:xfrm>
            <a:off x="6743880" y="0"/>
            <a:ext cx="54482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9595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727520" y="1828440"/>
            <a:ext cx="6127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94920" y="1828440"/>
            <a:ext cx="301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23920" y="1828440"/>
            <a:ext cx="6172200" cy="434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94920" y="1828440"/>
            <a:ext cx="301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Book Antiqu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0" lang="en-US" sz="14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fc11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0F7-A4F0-43E4-AE03-7DC5B31F0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324480" y="5257800"/>
            <a:ext cx="45720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295280" y="5257800"/>
            <a:ext cx="4572000" cy="5400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324480" y="5257800"/>
            <a:ext cx="4572000" cy="54000"/>
          </a:xfrm>
          <a:prstGeom prst="rect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240" y="53341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1" name="Text Placeholder 3"/>
          <p:cNvSpPr/>
          <p:nvPr/>
        </p:nvSpPr>
        <p:spPr>
          <a:xfrm>
            <a:off x="6413400" y="53341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8284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Picture Placeholder 5"/>
          <p:cNvSpPr/>
          <p:nvPr/>
        </p:nvSpPr>
        <p:spPr>
          <a:xfrm>
            <a:off x="6324480" y="18288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Add your 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87D-01C6-4A53-AE73-7F7EAE7C6FCF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4" name="Content Placeholder 6" descr="Clustered Column"/>
          <p:cNvPicPr/>
          <p:nvPr/>
        </p:nvPicPr>
        <p:blipFill>
          <a:blip r:embed="rId1"/>
          <a:stretch/>
        </p:blipFill>
        <p:spPr>
          <a:xfrm>
            <a:off x="1295280" y="18288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182844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First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Secon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Book Antiqua"/>
              </a:rPr>
              <a:t>Third bullet point here</a:t>
            </a: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324480" y="1828800"/>
          <a:ext cx="4572000" cy="2298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Book Antiqu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  <a:ea typeface="Book Antiqua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eb8c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95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76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8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84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ook Antiqua"/>
                          <a:ea typeface="Book Antiqua"/>
                        </a:rPr>
                        <a:t>90</a:t>
                      </a:r>
                      <a:endParaRPr b="0" lang="en-US" sz="1800" spc="-1" strike="noStrike">
                        <a:solidFill>
                          <a:srgbClr val="5959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6e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tle and Content Layout with Smart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95280" y="1828800"/>
            <a:ext cx="9601200" cy="4343400"/>
            <a:chOff x="1295280" y="1828800"/>
            <a:chExt cx="9601200" cy="4343400"/>
          </a:xfrm>
        </p:grpSpPr>
        <p:sp>
          <p:nvSpPr>
            <p:cNvPr id="60" name=""/>
            <p:cNvSpPr/>
            <p:nvPr/>
          </p:nvSpPr>
          <p:spPr>
            <a:xfrm>
              <a:off x="129528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404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1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3060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972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2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6628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8504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3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1600" y="1828800"/>
              <a:ext cx="2594880" cy="4343400"/>
            </a:xfrm>
            <a:custGeom>
              <a:avLst/>
              <a:gdLst>
                <a:gd name="textAreaLeft" fmla="*/ 0 w 2594880"/>
                <a:gd name="textAreaRight" fmla="*/ 2595240 w 2594880"/>
                <a:gd name="textAreaTop" fmla="*/ 0 h 4343400"/>
                <a:gd name="textAreaBottom" fmla="*/ 434340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20720" y="1828800"/>
              <a:ext cx="15570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2120" rIns="43920" tIns="43920" bIns="4392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Step 4 Title</a:t>
              </a:r>
              <a:endParaRPr b="0" lang="en-US" sz="3300" spc="-1" strike="noStrike">
                <a:solidFill>
                  <a:srgbClr val="595959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11"/>
          <p:cNvSpPr/>
          <p:nvPr/>
        </p:nvSpPr>
        <p:spPr>
          <a:xfrm>
            <a:off x="8429760" y="0"/>
            <a:ext cx="376236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Freeform 6"/>
          <p:cNvSpPr/>
          <p:nvPr/>
        </p:nvSpPr>
        <p:spPr>
          <a:xfrm>
            <a:off x="8145360" y="0"/>
            <a:ext cx="167184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7950240" y="0"/>
            <a:ext cx="152856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872720"/>
            <a:ext cx="640080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9621720" y="0"/>
            <a:ext cx="2570400" cy="6858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9237600" y="0"/>
            <a:ext cx="1671840" cy="6858000"/>
          </a:xfrm>
          <a:prstGeom prst="pie">
            <a:avLst/>
          </a:prstGeom>
          <a:solidFill>
            <a:srgbClr val="ef7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9174240" y="0"/>
            <a:ext cx="146052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9174240" y="0"/>
            <a:ext cx="1460520" cy="6858000"/>
          </a:xfrm>
          <a:prstGeom prst="pie">
            <a:avLst/>
          </a:prstGeom>
          <a:solidFill>
            <a:srgbClr val="1eb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914560"/>
            <a:ext cx="804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4589280"/>
            <a:ext cx="8047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efc11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457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52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24480" y="1828440"/>
            <a:ext cx="45720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24480" y="2704680"/>
            <a:ext cx="45720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595959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55600"/>
            <a:ext cx="9601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efc11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21:5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KSOProductBuildVer">
    <vt:lpwstr>2052-9.1.0.5132</vt:lpwstr>
  </property>
</Properties>
</file>