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766-B939-4787-A134-46F61436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9592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9BB-75B0-44AE-A017-7EC44EBF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B12-CDD8-49E8-91D9-C6BE0413E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070F-EF05-484A-BC2E-47F88711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E4A0-F727-46ED-9D4B-B6BD6B96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884B-A676-4CA3-A537-925AA82A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079E-1275-40CD-99EE-08F3863F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B983-725B-40C2-8B86-655EB805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6317-84CF-4B3C-B068-329F040D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5341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5F1B-D36F-4089-A86F-DC2DB95F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3CB3-9E5D-4376-8A34-3767077B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137-0547-44DD-89CD-28C78215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84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6F24-1CF2-41AD-8517-85DF8C25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B51B-C552-4A30-BCB7-FCB3CF90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4920" y="389592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198C-56DF-4326-AF4D-51067FF3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84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FFA6-BD0E-4F4D-9BFC-741AA40C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068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080" y="99036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492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068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080" y="3895920"/>
            <a:ext cx="27478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48B5-16FD-4F97-8190-050AD168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9B15-1396-4080-8D46-8C3DB447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BC8-79F6-4E35-A49F-6AFB05FB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C7B-52D7-405D-A645-566D87D2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85341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546D-67CE-424A-9E9E-6A3E8270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1B21-6A10-4600-81F8-B061DE15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9592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A412-596C-4840-8952-507AE775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5776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990360"/>
            <a:ext cx="4164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95920"/>
            <a:ext cx="853416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F495-D1EA-43AA-B4C1-B8861609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ffffff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B0EB-F639-4C38-A62D-1F796CC68A33}" type="slidenum">
              <a:rPr b="0" lang="en-US" sz="10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magnifying_glass_contract_hg_clr" descr=""/>
          <p:cNvPicPr/>
          <p:nvPr/>
        </p:nvPicPr>
        <p:blipFill>
          <a:blip r:embed="rId3"/>
          <a:stretch/>
        </p:blipFill>
        <p:spPr>
          <a:xfrm>
            <a:off x="6248520" y="4076640"/>
            <a:ext cx="2895480" cy="2895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230B-5ED5-48DB-B8CC-2A8ABB443058}" type="slidenum"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300000"/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300000"/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300000"/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300000"/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简单英文简历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宋体"/>
              </a:rPr>
              <a:t>Your subtopic goes her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ffffff"/>
              </a:solidFill>
              <a:latin typeface="Arial Black"/>
              <a:ea typeface="宋体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4000680" cy="4000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 Black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01BF-4089-4A00-9D86-0EF534974DE2}" type="slidenum">
              <a:t>4</a:t>
            </a:fld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宋体"/>
              </a:rPr>
              <a:t>Your subtopic goes her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03:21:05Z</dcterms:created>
  <dc:creator>幻灯片之家：www.eeppt.com</dc:creator>
  <dc:description>幻灯片之家：www.eeppt.com</dc:description>
  <cp:keywords>幻灯片之家：www.eeppt.com</cp:keywords>
  <dc:language>en-US</dc:language>
  <cp:lastModifiedBy>lidan</cp:lastModifiedBy>
  <dcterms:modified xsi:type="dcterms:W3CDTF">2015-08-12T14:35:59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