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08F-D424-45FD-A653-30DDE90A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A06-E4F2-4820-8F45-80CE3B68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8F0-39F1-4EEE-AC43-BF9186CC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FFE-3CBA-462E-8AD1-EB5A1D34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E63-5D18-4465-A69D-5563CC6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2CC-7CC2-4C3F-A1E8-F19197C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E61-0D20-4B48-8AC6-36BF222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C32-1B2B-427D-B293-73413BB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DAF-0833-47AE-9728-D2C997D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748-4CF5-40A3-B005-D5D16A8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BE5-2674-43D3-8636-5ECC0EC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442-1AFD-42AF-AE78-6CECD05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A675-D4D1-4ECF-B7C9-D7FA1B57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2,&#20010;&#20154;&#31616;&#21382;" TargetMode="External"/><Relationship Id="rId3" Type="http://schemas.openxmlformats.org/officeDocument/2006/relationships/hyperlink" Target="257,2,&#20010;&#20154;&#31616;&#21382;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95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1557360"/>
            <a:ext cx="266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个 人 简 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 e s u 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9500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765000"/>
            <a:ext cx="69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的个人求职简历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FF1DF-2251-4BC4-9CC7-66C1614F94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F7D-9A3A-4D63-8512-5F908AC78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5000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李历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人才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普通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别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年龄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民族：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汉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文化程度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大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身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重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78cm 62kg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户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业学校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州大学继续教育学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庭住址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大沥镇黄歧街道教表东风新一村二巷横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邮编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282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好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打篮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个人手机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757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3925421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婚姻状况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未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求职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均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工作年限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修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各种办公室软件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hop,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网页设计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S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+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从大专开始已经有做兼职，各方面发展得比较平均，有一定的工作能力跟应变能力，刻苦耐劳善于跟别人沟通，还有相当的销售能力能适应各个职位。更在工作的同时热爱学习跟运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自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在学习阶段，一直有去做一些兼职，如必胜客，各名牌专卖店担任销售员，有一定的销售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能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语语种：英语                国语水平：良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语水平：一般                    粤语水平：精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37:54Z</dcterms:created>
  <dc:creator>幻灯片之家：www.eeppt.com</dc:creator>
  <dc:description>幻灯片之家：www.eeppt.com</dc:description>
  <cp:keywords>幻灯片之家：www.eeppt.com</cp:keywords>
  <dc:language>en-US</dc:language>
  <cp:lastModifiedBy>未知用户</cp:lastModifiedBy>
  <dcterms:modified xsi:type="dcterms:W3CDTF">2015-08-12T14:36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