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DEB-F770-4C40-AB19-C264F7D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614-C6EA-470F-9491-DE5447B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BAD-76C2-454C-BC4B-00419373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B03-12FC-42A9-8E73-093987FD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CD4-507B-4DCD-B9C0-D3FEDAB7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E7E-DBCF-43C5-A64D-A509BBA3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DD5-AD59-48D0-854A-A826C354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D3F-9E1B-47CC-BB9B-02A548B6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665-A4F8-479A-87F1-AFB48FB6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B7E-AE32-4B88-A716-C156476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F79-5377-474D-B2D8-A4E5FA3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172-6F81-4208-9A72-CF2985E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E7E-1C67-4781-B86C-87E44E6F109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CF35-3A90-40E8-8DDF-7EAF664FAFB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SLIDEtoME\TP模板\新建文件夹 (2)\bg\bg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</a:rPr>
              <a:t>简洁工作总结报告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111111"/>
                </a:solidFill>
                <a:latin typeface="Arial"/>
              </a:rPr>
              <a:t>模板在线下载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1784-6607-41AE-B201-D33F80B75DA6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68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7175-A41B-4E3E-B16C-C19ED4BA60A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F08-5C1A-4EB6-A7AD-DBC68C3ED6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72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6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6754-6BF0-43ED-8712-4BFD040E02DF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386-1167-4AA1-B5B3-29B6D29875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D:\SLIDEtoME\TP模板\新建文件夹 (2)\bg\bg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4978-A3D7-4128-A168-94BF8F4AEC46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EAB0-1627-4FB8-9C2A-C23546B83DF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5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1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SLIDEtoME\TP模板\新建文件夹 (2)\bg\b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CFFE-0979-47D1-847D-8F9C1F55A2BB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2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D12E-DA73-4ABE-B7EE-3A87C7F65391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CE2B-57AA-4EDD-B713-0248306138B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109" name=""/>
            <p:cNvSpPr/>
            <p:nvPr/>
          </p:nvSpPr>
          <p:spPr>
            <a:xfrm rot="5400000">
              <a:off x="5386320" y="-5400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4183200" y="23540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24890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8480" y="25070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5386320" y="-1515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183200" y="274212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287748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480" y="289548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386320" y="23652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4183200" y="313056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5280" y="326592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8480" y="328392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5386320" y="6249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4183200" y="351900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280" y="365436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80" y="367236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5386320" y="10134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183200" y="39074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5280" y="404280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8480" y="406080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5386320" y="140184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4183200" y="429588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5280" y="44312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480" y="44492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12720" y="9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136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87F9-5CFD-4D4F-8F8A-C4725F3C0FEA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EC28-F8F0-472C-B3B7-15FB4970A591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286-FB5C-4768-8FE7-D557B9794DCB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59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60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72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3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AEC-9A26-4058-8FB3-130B900233A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0:55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5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