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58B-EB77-4B1F-A535-87D93A62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E96-8463-498C-8192-89D04586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9928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584-5E18-491B-B622-81136297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328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760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328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760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3D4-BB20-4E57-BC36-9931277C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22ED-D6AB-423C-9DED-C540551B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6038-8969-4CF1-9357-FF343DA8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79DA-9485-4139-8DC9-2505CD14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B896-1BDA-4BE9-A1F5-445773B0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F9F-FBAB-4841-B401-F951985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50496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DD12-05F6-4BCD-9DA5-BF9F4ED9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C64F-5FE9-4275-BAE4-E03D0BEF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DCD-3D02-45B6-8EF0-1B299ED6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9928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E34E-9A03-494F-8E75-8741D6B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33C6-6F6D-4888-8FA2-2DC442E8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B156-D8C0-4392-96B0-8405F84A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9928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B42C-3FAE-4A46-846F-637A0C7D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8328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54760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8328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54760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C7E9-623F-408E-BF9A-1B9AE19E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2F4-FB78-436F-B428-82A9BFF2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C7E-3293-4423-99DB-E2488CF4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8CF-9FF2-4545-A298-4B7DAD6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50496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0F6-D411-439A-BF65-D9EFE263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796-40ED-4BB7-9517-521C512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928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D32-E9CC-43AC-829C-58B4C19B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928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F72-57D2-4801-8BD7-9F2F0AC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787320"/>
            <a:ext cx="9156600" cy="6070680"/>
          </a:xfrm>
          <a:custGeom>
            <a:avLst/>
            <a:gdLst/>
            <a:ahLst/>
            <a:rect l="l" t="t" r="r" b="b"/>
            <a:pathLst>
              <a:path w="5768" h="3824">
                <a:moveTo>
                  <a:pt x="4" y="25"/>
                </a:moveTo>
                <a:cubicBezTo>
                  <a:pt x="98" y="70"/>
                  <a:pt x="205" y="103"/>
                  <a:pt x="205" y="106"/>
                </a:cubicBezTo>
                <a:cubicBezTo>
                  <a:pt x="205" y="109"/>
                  <a:pt x="130" y="439"/>
                  <a:pt x="536" y="576"/>
                </a:cubicBezTo>
                <a:cubicBezTo>
                  <a:pt x="942" y="712"/>
                  <a:pt x="1586" y="475"/>
                  <a:pt x="1880" y="360"/>
                </a:cubicBezTo>
                <a:cubicBezTo>
                  <a:pt x="2175" y="246"/>
                  <a:pt x="2432" y="128"/>
                  <a:pt x="3320" y="64"/>
                </a:cubicBezTo>
                <a:cubicBezTo>
                  <a:pt x="4208" y="0"/>
                  <a:pt x="5505" y="312"/>
                  <a:pt x="5768" y="592"/>
                </a:cubicBezTo>
                <a:lnTo>
                  <a:pt x="5768" y="3824"/>
                </a:lnTo>
                <a:lnTo>
                  <a:pt x="0" y="3824"/>
                </a:lnTo>
                <a:lnTo>
                  <a:pt x="4" y="25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3b484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6640" y="23760"/>
            <a:ext cx="1656000" cy="905040"/>
          </a:xfrm>
          <a:custGeom>
            <a:avLst/>
            <a:gdLst/>
            <a:ahLst/>
            <a:rect l="l" t="t" r="r" b="b"/>
            <a:pathLst>
              <a:path w="2557" h="1300">
                <a:moveTo>
                  <a:pt x="109" y="1183"/>
                </a:moveTo>
                <a:cubicBezTo>
                  <a:pt x="0" y="1066"/>
                  <a:pt x="329" y="730"/>
                  <a:pt x="1279" y="365"/>
                </a:cubicBezTo>
                <a:cubicBezTo>
                  <a:pt x="2229" y="0"/>
                  <a:pt x="2557" y="58"/>
                  <a:pt x="2482" y="257"/>
                </a:cubicBezTo>
                <a:cubicBezTo>
                  <a:pt x="2407" y="456"/>
                  <a:pt x="2022" y="710"/>
                  <a:pt x="1577" y="895"/>
                </a:cubicBezTo>
                <a:cubicBezTo>
                  <a:pt x="1132" y="1080"/>
                  <a:pt x="218" y="1300"/>
                  <a:pt x="109" y="1183"/>
                </a:cubicBezTo>
                <a:close/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-28440"/>
            <a:ext cx="1928880" cy="853920"/>
          </a:xfrm>
          <a:custGeom>
            <a:avLst/>
            <a:gdLst/>
            <a:ahLst/>
            <a:rect l="l" t="t" r="r" b="b"/>
            <a:pathLst>
              <a:path w="1215" h="538">
                <a:moveTo>
                  <a:pt x="0" y="394"/>
                </a:moveTo>
                <a:cubicBezTo>
                  <a:pt x="38" y="478"/>
                  <a:pt x="200" y="538"/>
                  <a:pt x="232" y="522"/>
                </a:cubicBezTo>
                <a:cubicBezTo>
                  <a:pt x="264" y="506"/>
                  <a:pt x="298" y="347"/>
                  <a:pt x="653" y="174"/>
                </a:cubicBezTo>
                <a:cubicBezTo>
                  <a:pt x="1008" y="0"/>
                  <a:pt x="1201" y="15"/>
                  <a:pt x="1215" y="12"/>
                </a:cubicBezTo>
                <a:lnTo>
                  <a:pt x="4" y="15"/>
                </a:lnTo>
                <a:lnTo>
                  <a:pt x="0" y="394"/>
                </a:lnTo>
                <a:close/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6120" y="-4680"/>
            <a:ext cx="3378240" cy="1833480"/>
          </a:xfrm>
          <a:custGeom>
            <a:avLst/>
            <a:gdLst/>
            <a:ahLst/>
            <a:rect l="l" t="t" r="r" b="b"/>
            <a:pathLst>
              <a:path w="2128" h="1155">
                <a:moveTo>
                  <a:pt x="0" y="619"/>
                </a:moveTo>
                <a:cubicBezTo>
                  <a:pt x="328" y="691"/>
                  <a:pt x="808" y="507"/>
                  <a:pt x="992" y="403"/>
                </a:cubicBezTo>
                <a:cubicBezTo>
                  <a:pt x="1176" y="299"/>
                  <a:pt x="1406" y="90"/>
                  <a:pt x="1222" y="0"/>
                </a:cubicBezTo>
                <a:lnTo>
                  <a:pt x="2128" y="3"/>
                </a:lnTo>
                <a:cubicBezTo>
                  <a:pt x="2112" y="35"/>
                  <a:pt x="2120" y="155"/>
                  <a:pt x="1648" y="475"/>
                </a:cubicBezTo>
                <a:cubicBezTo>
                  <a:pt x="1176" y="795"/>
                  <a:pt x="64" y="1155"/>
                  <a:pt x="0" y="635"/>
                </a:cubicBezTo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1CC7-E93C-47F2-86F8-73172CE6C2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1160" y="-54000"/>
            <a:ext cx="4724280" cy="2035080"/>
          </a:xfrm>
          <a:custGeom>
            <a:avLst/>
            <a:gdLst/>
            <a:ahLst/>
            <a:rect l="l" t="t" r="r" b="b"/>
            <a:pathLst>
              <a:path w="2976" h="1282">
                <a:moveTo>
                  <a:pt x="0" y="1028"/>
                </a:moveTo>
                <a:cubicBezTo>
                  <a:pt x="90" y="1235"/>
                  <a:pt x="549" y="1282"/>
                  <a:pt x="549" y="1275"/>
                </a:cubicBezTo>
                <a:cubicBezTo>
                  <a:pt x="549" y="1268"/>
                  <a:pt x="727" y="794"/>
                  <a:pt x="1598" y="397"/>
                </a:cubicBezTo>
                <a:cubicBezTo>
                  <a:pt x="2469" y="0"/>
                  <a:pt x="2941" y="34"/>
                  <a:pt x="2976" y="27"/>
                </a:cubicBezTo>
                <a:lnTo>
                  <a:pt x="7" y="34"/>
                </a:lnTo>
                <a:lnTo>
                  <a:pt x="0" y="1028"/>
                </a:lnTo>
                <a:close/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5080" y="125280"/>
            <a:ext cx="4059000" cy="2063880"/>
          </a:xfrm>
          <a:custGeom>
            <a:avLst/>
            <a:gdLst/>
            <a:ahLst/>
            <a:rect l="l" t="t" r="r" b="b"/>
            <a:pathLst>
              <a:path w="2557" h="1300">
                <a:moveTo>
                  <a:pt x="109" y="1183"/>
                </a:moveTo>
                <a:cubicBezTo>
                  <a:pt x="0" y="1066"/>
                  <a:pt x="329" y="730"/>
                  <a:pt x="1279" y="365"/>
                </a:cubicBezTo>
                <a:cubicBezTo>
                  <a:pt x="2229" y="0"/>
                  <a:pt x="2557" y="58"/>
                  <a:pt x="2482" y="257"/>
                </a:cubicBezTo>
                <a:cubicBezTo>
                  <a:pt x="2407" y="456"/>
                  <a:pt x="2022" y="710"/>
                  <a:pt x="1577" y="895"/>
                </a:cubicBezTo>
                <a:cubicBezTo>
                  <a:pt x="1132" y="1080"/>
                  <a:pt x="218" y="1300"/>
                  <a:pt x="109" y="1183"/>
                </a:cubicBezTo>
                <a:close/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9920" y="-11160"/>
            <a:ext cx="7826400" cy="3568680"/>
          </a:xfrm>
          <a:custGeom>
            <a:avLst/>
            <a:gdLst/>
            <a:ahLst/>
            <a:rect l="l" t="t" r="r" b="b"/>
            <a:pathLst>
              <a:path w="4930" h="2248">
                <a:moveTo>
                  <a:pt x="34" y="1522"/>
                </a:moveTo>
                <a:cubicBezTo>
                  <a:pt x="1062" y="1721"/>
                  <a:pt x="2282" y="1091"/>
                  <a:pt x="2598" y="885"/>
                </a:cubicBezTo>
                <a:cubicBezTo>
                  <a:pt x="2914" y="679"/>
                  <a:pt x="3456" y="213"/>
                  <a:pt x="3003" y="7"/>
                </a:cubicBezTo>
                <a:lnTo>
                  <a:pt x="4930" y="0"/>
                </a:lnTo>
                <a:cubicBezTo>
                  <a:pt x="4927" y="288"/>
                  <a:pt x="4084" y="1171"/>
                  <a:pt x="3412" y="1575"/>
                </a:cubicBezTo>
                <a:cubicBezTo>
                  <a:pt x="2740" y="1979"/>
                  <a:pt x="2279" y="2082"/>
                  <a:pt x="1780" y="2167"/>
                </a:cubicBezTo>
                <a:cubicBezTo>
                  <a:pt x="1281" y="2248"/>
                  <a:pt x="740" y="2223"/>
                  <a:pt x="420" y="2063"/>
                </a:cubicBezTo>
                <a:cubicBezTo>
                  <a:pt x="100" y="1903"/>
                  <a:pt x="0" y="1721"/>
                  <a:pt x="34" y="1522"/>
                </a:cubicBezTo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59120"/>
            <a:ext cx="9144000" cy="4898880"/>
          </a:xfrm>
          <a:custGeom>
            <a:avLst/>
            <a:gdLst/>
            <a:ahLst/>
            <a:rect l="l" t="t" r="r" b="b"/>
            <a:pathLst>
              <a:path w="5760" h="3086">
                <a:moveTo>
                  <a:pt x="0" y="0"/>
                </a:moveTo>
                <a:cubicBezTo>
                  <a:pt x="233" y="103"/>
                  <a:pt x="494" y="178"/>
                  <a:pt x="494" y="185"/>
                </a:cubicBezTo>
                <a:cubicBezTo>
                  <a:pt x="494" y="192"/>
                  <a:pt x="232" y="1182"/>
                  <a:pt x="1312" y="1574"/>
                </a:cubicBezTo>
                <a:cubicBezTo>
                  <a:pt x="2392" y="1966"/>
                  <a:pt x="3762" y="1619"/>
                  <a:pt x="4488" y="1358"/>
                </a:cubicBezTo>
                <a:cubicBezTo>
                  <a:pt x="5214" y="1097"/>
                  <a:pt x="5664" y="772"/>
                  <a:pt x="5760" y="662"/>
                </a:cubicBezTo>
                <a:lnTo>
                  <a:pt x="5760" y="3086"/>
                </a:lnTo>
                <a:lnTo>
                  <a:pt x="0" y="3086"/>
                </a:lnTo>
                <a:lnTo>
                  <a:pt x="0" y="0"/>
                </a:lnTo>
                <a:close/>
              </a:path>
            </a:pathLst>
          </a:custGeom>
          <a:solidFill>
            <a:srgbClr val="809ea8"/>
          </a:solidFill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9F2E-F2B4-438D-AA81-31BB6614B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1447920" cy="110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914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极酷医疗报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2209680"/>
            <a:ext cx="7397640" cy="2895480"/>
            <a:chOff x="838080" y="2209680"/>
            <a:chExt cx="7397640" cy="2895480"/>
          </a:xfrm>
        </p:grpSpPr>
        <p:sp>
          <p:nvSpPr>
            <p:cNvPr id="254" name=""/>
            <p:cNvSpPr/>
            <p:nvPr/>
          </p:nvSpPr>
          <p:spPr>
            <a:xfrm>
              <a:off x="293220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8324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78760" y="2349360"/>
              <a:ext cx="1819800" cy="1780560"/>
            </a:xfrm>
            <a:prstGeom prst="ellipse">
              <a:avLst/>
            </a:prstGeom>
            <a:gradFill rotWithShape="0">
              <a:gsLst>
                <a:gs pos="0">
                  <a:srgbClr val="896d36"/>
                </a:gs>
                <a:gs pos="50000">
                  <a:srgbClr val="ffcc66"/>
                </a:gs>
                <a:gs pos="100000">
                  <a:srgbClr val="89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09360" y="23601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a1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70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9dcb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9dcb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74520" y="234324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7d7663"/>
                </a:gs>
                <a:gs pos="50000">
                  <a:srgbClr val="e9dcb9"/>
                </a:gs>
                <a:gs pos="100000">
                  <a:srgbClr val="7d76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76320" y="234648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e9dcb9">
                    <a:alpha val="0"/>
                  </a:srgbClr>
                </a:gs>
                <a:gs pos="100000">
                  <a:srgbClr val="938b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65600" y="2432520"/>
              <a:ext cx="16383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91880" y="2456280"/>
              <a:ext cx="1586160" cy="1551960"/>
              <a:chOff x="1091880" y="2456280"/>
              <a:chExt cx="1586160" cy="1551960"/>
            </a:xfrm>
          </p:grpSpPr>
          <p:sp>
            <p:nvSpPr>
              <p:cNvPr id="267" name=""/>
              <p:cNvSpPr/>
              <p:nvPr/>
            </p:nvSpPr>
            <p:spPr>
              <a:xfrm>
                <a:off x="109188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1204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2860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464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8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464640"/>
                </a:gs>
                <a:gs pos="100000">
                  <a:srgbClr val="99998d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27720" y="23493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52524c"/>
                </a:gs>
                <a:gs pos="50000">
                  <a:srgbClr val="99998d"/>
                </a:gs>
                <a:gs pos="100000">
                  <a:srgbClr val="5252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29160" y="235260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99998d">
                    <a:alpha val="0"/>
                  </a:srgbClr>
                </a:gs>
                <a:gs pos="100000">
                  <a:srgbClr val="6060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84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744360" y="2456280"/>
              <a:ext cx="1586160" cy="1551960"/>
              <a:chOff x="3744360" y="2456280"/>
              <a:chExt cx="1586160" cy="1551960"/>
            </a:xfrm>
          </p:grpSpPr>
          <p:sp>
            <p:nvSpPr>
              <p:cNvPr id="277" name=""/>
              <p:cNvSpPr/>
              <p:nvPr/>
            </p:nvSpPr>
            <p:spPr>
              <a:xfrm>
                <a:off x="37443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645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810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671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406560" y="2456280"/>
              <a:ext cx="1586160" cy="1551960"/>
              <a:chOff x="6406560" y="2456280"/>
              <a:chExt cx="1586160" cy="1551960"/>
            </a:xfrm>
          </p:grpSpPr>
          <p:sp>
            <p:nvSpPr>
              <p:cNvPr id="282" name=""/>
              <p:cNvSpPr/>
              <p:nvPr/>
            </p:nvSpPr>
            <p:spPr>
              <a:xfrm>
                <a:off x="64065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67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432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293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8856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352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0352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08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598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1948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95280" y="1523880"/>
            <a:ext cx="6858000" cy="4495680"/>
            <a:chOff x="1295280" y="1523880"/>
            <a:chExt cx="6858000" cy="4495680"/>
          </a:xfrm>
        </p:grpSpPr>
        <p:sp>
          <p:nvSpPr>
            <p:cNvPr id="294" name=""/>
            <p:cNvSpPr/>
            <p:nvPr/>
          </p:nvSpPr>
          <p:spPr>
            <a:xfrm>
              <a:off x="12952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99998d"/>
                </a:gs>
              </a:gsLst>
              <a:lin ang="135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3760" y="33526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467160" y="3733560"/>
              <a:ext cx="1704960" cy="2028960"/>
              <a:chOff x="3467160" y="3733560"/>
              <a:chExt cx="1704960" cy="2028960"/>
            </a:xfrm>
          </p:grpSpPr>
          <p:sp>
            <p:nvSpPr>
              <p:cNvPr id="297" name=""/>
              <p:cNvSpPr/>
              <p:nvPr/>
            </p:nvSpPr>
            <p:spPr>
              <a:xfrm rot="20876400">
                <a:off x="353556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6716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768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9748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476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630080" y="3352680"/>
              <a:ext cx="1371240" cy="1718640"/>
              <a:chOff x="1630080" y="3352680"/>
              <a:chExt cx="1371240" cy="1718640"/>
            </a:xfrm>
          </p:grpSpPr>
          <p:sp>
            <p:nvSpPr>
              <p:cNvPr id="304" name=""/>
              <p:cNvSpPr/>
              <p:nvPr/>
            </p:nvSpPr>
            <p:spPr>
              <a:xfrm rot="20826600">
                <a:off x="170640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1630080" y="3352680"/>
                <a:ext cx="1371240" cy="1441080"/>
                <a:chOff x="1630080" y="3352680"/>
                <a:chExt cx="1371240" cy="14410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63008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64808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6104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3268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91052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1444680" y="1981080"/>
              <a:ext cx="1099440" cy="1139760"/>
              <a:chOff x="1444680" y="1981080"/>
              <a:chExt cx="1099440" cy="1139760"/>
            </a:xfrm>
          </p:grpSpPr>
          <p:sp>
            <p:nvSpPr>
              <p:cNvPr id="312" name=""/>
              <p:cNvSpPr/>
              <p:nvPr/>
            </p:nvSpPr>
            <p:spPr>
              <a:xfrm>
                <a:off x="1444680" y="25876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20640" y="19810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33240" y="19857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44400" y="19969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98400" y="202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1756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849400" y="1523880"/>
              <a:ext cx="804960" cy="762120"/>
              <a:chOff x="2849400" y="1523880"/>
              <a:chExt cx="804960" cy="762120"/>
            </a:xfrm>
          </p:grpSpPr>
          <p:sp>
            <p:nvSpPr>
              <p:cNvPr id="319" name=""/>
              <p:cNvSpPr/>
              <p:nvPr/>
            </p:nvSpPr>
            <p:spPr>
              <a:xfrm>
                <a:off x="284940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97180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8116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98764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2400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4200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89200" y="1785960"/>
          <a:ext cx="580068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1785960"/>
                    <a:ext cx="58006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990720" y="1863720"/>
            <a:ext cx="2163600" cy="3165480"/>
            <a:chOff x="990720" y="1863720"/>
            <a:chExt cx="2163600" cy="3165480"/>
          </a:xfrm>
        </p:grpSpPr>
        <p:sp>
          <p:nvSpPr>
            <p:cNvPr id="330" name=""/>
            <p:cNvSpPr/>
            <p:nvPr/>
          </p:nvSpPr>
          <p:spPr>
            <a:xfrm>
              <a:off x="99072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2420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4148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4148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735200" y="1863720"/>
              <a:ext cx="642960" cy="642960"/>
              <a:chOff x="1735200" y="1863720"/>
              <a:chExt cx="642960" cy="642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3520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168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4960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5608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8992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87524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6704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715000" y="1863720"/>
            <a:ext cx="2163600" cy="3165480"/>
            <a:chOff x="5715000" y="1863720"/>
            <a:chExt cx="2163600" cy="3165480"/>
          </a:xfrm>
        </p:grpSpPr>
        <p:sp>
          <p:nvSpPr>
            <p:cNvPr id="343" name=""/>
            <p:cNvSpPr/>
            <p:nvPr/>
          </p:nvSpPr>
          <p:spPr>
            <a:xfrm>
              <a:off x="571500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4848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6576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6576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459480" y="1863720"/>
              <a:ext cx="642960" cy="642960"/>
              <a:chOff x="6459480" y="1863720"/>
              <a:chExt cx="642960" cy="642960"/>
            </a:xfrm>
          </p:grpSpPr>
          <p:sp>
            <p:nvSpPr>
              <p:cNvPr id="348" name=""/>
              <p:cNvSpPr/>
              <p:nvPr/>
            </p:nvSpPr>
            <p:spPr>
              <a:xfrm>
                <a:off x="645948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6596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7388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8036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1420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659952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9132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352680" y="1863720"/>
            <a:ext cx="2163600" cy="3165480"/>
            <a:chOff x="3352680" y="1863720"/>
            <a:chExt cx="2163600" cy="3165480"/>
          </a:xfrm>
        </p:grpSpPr>
        <p:sp>
          <p:nvSpPr>
            <p:cNvPr id="356" name=""/>
            <p:cNvSpPr/>
            <p:nvPr/>
          </p:nvSpPr>
          <p:spPr>
            <a:xfrm>
              <a:off x="335268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616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344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0344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9716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03640" y="18684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1560" y="18716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17680" y="18781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2960" y="18939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3720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900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1905120"/>
            <a:ext cx="9144000" cy="3883320"/>
            <a:chOff x="0" y="1905120"/>
            <a:chExt cx="9144000" cy="3883320"/>
          </a:xfrm>
        </p:grpSpPr>
        <p:grpSp>
          <p:nvGrpSpPr>
            <p:cNvPr id="369" name=""/>
            <p:cNvGrpSpPr/>
            <p:nvPr/>
          </p:nvGrpSpPr>
          <p:grpSpPr>
            <a:xfrm>
              <a:off x="0" y="3140280"/>
              <a:ext cx="9144000" cy="147240"/>
              <a:chOff x="0" y="3140280"/>
              <a:chExt cx="9144000" cy="14724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140280"/>
                <a:ext cx="9144000" cy="40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179880"/>
                <a:ext cx="9144000" cy="1076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62120" y="2522520"/>
              <a:ext cx="1891800" cy="3265920"/>
              <a:chOff x="762120" y="2522520"/>
              <a:chExt cx="1891800" cy="3265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1148760" y="3398760"/>
                <a:ext cx="1505160" cy="2389680"/>
                <a:chOff x="1148760" y="3398760"/>
                <a:chExt cx="1505160" cy="238968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1148760" y="3554640"/>
                  <a:ext cx="1400040" cy="2233800"/>
                  <a:chOff x="1148760" y="3554640"/>
                  <a:chExt cx="1400040" cy="22338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3876600">
                    <a:off x="727560" y="44283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3876600">
                    <a:off x="2075040" y="529452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1579680" y="3398760"/>
                  <a:ext cx="1074240" cy="1713960"/>
                  <a:chOff x="1579680" y="3398760"/>
                  <a:chExt cx="1074240" cy="17139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V="1" rot="3876600">
                    <a:off x="1256400" y="406872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V="1" rot="3876600">
                    <a:off x="2274840" y="474084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762120" y="2522520"/>
                <a:ext cx="1289520" cy="1288440"/>
                <a:chOff x="762120" y="2522520"/>
                <a:chExt cx="1289520" cy="1288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47440" y="260604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47440" y="260892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902880" y="2663280"/>
                  <a:ext cx="100764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918360" y="2678400"/>
                  <a:ext cx="976680" cy="977040"/>
                  <a:chOff x="918360" y="2678400"/>
                  <a:chExt cx="976680" cy="9770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918360" y="2678400"/>
                    <a:ext cx="97668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930600" y="2683800"/>
                    <a:ext cx="95328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940680" y="2693160"/>
                    <a:ext cx="90648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993960" y="2718000"/>
                    <a:ext cx="80568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1" name=""/>
              <p:cNvSpPr/>
              <p:nvPr/>
            </p:nvSpPr>
            <p:spPr>
              <a:xfrm rot="3925800">
                <a:off x="1147320" y="4380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925800">
                <a:off x="1630440" y="4106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644920" y="2522520"/>
              <a:ext cx="1977840" cy="3195720"/>
              <a:chOff x="2644920" y="2522520"/>
              <a:chExt cx="1977840" cy="319572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3117960" y="3328920"/>
                <a:ext cx="1504800" cy="2389320"/>
                <a:chOff x="3117960" y="3328920"/>
                <a:chExt cx="1504800" cy="238932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3117960" y="3484440"/>
                  <a:ext cx="1400040" cy="2233800"/>
                  <a:chOff x="3117960" y="3484440"/>
                  <a:chExt cx="1400040" cy="223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3876600">
                    <a:off x="269676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3876600">
                    <a:off x="404424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3548520" y="3328920"/>
                  <a:ext cx="1074240" cy="1713960"/>
                  <a:chOff x="3548520" y="3328920"/>
                  <a:chExt cx="1074240" cy="17139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V="1" rot="3876600">
                    <a:off x="322524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V="1" rot="3876600">
                    <a:off x="424368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2644920" y="2522520"/>
                <a:ext cx="1290960" cy="1288440"/>
                <a:chOff x="2644920" y="2522520"/>
                <a:chExt cx="1290960" cy="12884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730240" y="260604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730240" y="260892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85680" y="2663280"/>
                  <a:ext cx="100872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2801160" y="2678400"/>
                  <a:ext cx="977760" cy="977040"/>
                  <a:chOff x="2801160" y="2678400"/>
                  <a:chExt cx="977760" cy="977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801160" y="2678400"/>
                    <a:ext cx="97776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813400" y="2683800"/>
                    <a:ext cx="95436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823480" y="2693160"/>
                    <a:ext cx="90756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876760" y="2718000"/>
                    <a:ext cx="80676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2" name=""/>
              <p:cNvSpPr/>
              <p:nvPr/>
            </p:nvSpPr>
            <p:spPr>
              <a:xfrm rot="3925800">
                <a:off x="3053880" y="4309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3925800">
                <a:off x="353484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591080" y="2522520"/>
              <a:ext cx="1976400" cy="3195720"/>
              <a:chOff x="4591080" y="2522520"/>
              <a:chExt cx="1976400" cy="319572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5062680" y="3328920"/>
                <a:ext cx="1504800" cy="2389320"/>
                <a:chOff x="5062680" y="3328920"/>
                <a:chExt cx="1504800" cy="238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5062680" y="3484440"/>
                  <a:ext cx="1400040" cy="2233800"/>
                  <a:chOff x="5062680" y="3484440"/>
                  <a:chExt cx="1400040" cy="22338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3876600">
                    <a:off x="464148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3876600">
                    <a:off x="598896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5493240" y="3328920"/>
                  <a:ext cx="1074240" cy="1713960"/>
                  <a:chOff x="5493240" y="3328920"/>
                  <a:chExt cx="1074240" cy="17139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V="1" rot="3876600">
                    <a:off x="516996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 rot="3876600">
                    <a:off x="618840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4591080" y="2522520"/>
                <a:ext cx="1289160" cy="1288440"/>
                <a:chOff x="4591080" y="2522520"/>
                <a:chExt cx="1289160" cy="12884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676400" y="260604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76400" y="260892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731840" y="2663280"/>
                  <a:ext cx="100728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4747320" y="2678400"/>
                  <a:ext cx="976320" cy="977040"/>
                  <a:chOff x="4747320" y="2678400"/>
                  <a:chExt cx="976320" cy="9770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4747320" y="2678400"/>
                    <a:ext cx="97632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759560" y="2683800"/>
                    <a:ext cx="95292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769640" y="2693160"/>
                    <a:ext cx="90612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822920" y="2718000"/>
                    <a:ext cx="80532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"/>
              <p:cNvSpPr/>
              <p:nvPr/>
            </p:nvSpPr>
            <p:spPr>
              <a:xfrm rot="3925800">
                <a:off x="5037120" y="4311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925800">
                <a:off x="551592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519960" y="2381400"/>
              <a:ext cx="2168280" cy="3402360"/>
              <a:chOff x="6519960" y="2381400"/>
              <a:chExt cx="2168280" cy="34023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7185960" y="3398040"/>
                <a:ext cx="1502280" cy="2385720"/>
                <a:chOff x="7185960" y="3398040"/>
                <a:chExt cx="1502280" cy="238572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7185960" y="3553560"/>
                  <a:ext cx="1397880" cy="2230200"/>
                  <a:chOff x="7185960" y="3553560"/>
                  <a:chExt cx="1397880" cy="22302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rot="3876600">
                    <a:off x="6765480" y="4425840"/>
                    <a:ext cx="2238480" cy="48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3876600">
                    <a:off x="8110080" y="5291280"/>
                    <a:ext cx="35172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615800" y="3398040"/>
                  <a:ext cx="1072440" cy="1711440"/>
                  <a:chOff x="7615800" y="3398040"/>
                  <a:chExt cx="1072440" cy="17114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V="1" rot="3876600">
                    <a:off x="7292880" y="4067640"/>
                    <a:ext cx="1717920" cy="37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 rot="3876600">
                    <a:off x="8309520" y="4738680"/>
                    <a:ext cx="2700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16800" y="24829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618240" y="24847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80160" y="2549520"/>
                <a:ext cx="1211400" cy="120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6697800" y="2568600"/>
                <a:ext cx="1173240" cy="1171800"/>
                <a:chOff x="6697800" y="2568600"/>
                <a:chExt cx="1173240" cy="11718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697800" y="2568600"/>
                  <a:ext cx="1173240" cy="11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712560" y="2575080"/>
                  <a:ext cx="1144800" cy="11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724800" y="2586240"/>
                  <a:ext cx="108900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88520" y="2616120"/>
                  <a:ext cx="968040" cy="86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 rot="3925800">
                <a:off x="7140240" y="4365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3925800">
                <a:off x="7647480" y="4154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104616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36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17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64760" y="19051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59" name=""/>
            <p:cNvCxnSpPr>
              <a:stCxn id="455" idx="3"/>
              <a:endCxn id="456" idx="1"/>
            </p:cNvCxnSpPr>
            <p:nvPr/>
          </p:nvCxnSpPr>
          <p:spPr>
            <a:xfrm>
              <a:off x="1743120" y="2107800"/>
              <a:ext cx="1162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6" idx="3"/>
              <a:endCxn id="457" idx="1"/>
            </p:cNvCxnSpPr>
            <p:nvPr/>
          </p:nvCxnSpPr>
          <p:spPr>
            <a:xfrm>
              <a:off x="3634920" y="2107800"/>
              <a:ext cx="115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7" idx="3"/>
              <a:endCxn id="458" idx="1"/>
            </p:cNvCxnSpPr>
            <p:nvPr/>
          </p:nvCxnSpPr>
          <p:spPr>
            <a:xfrm>
              <a:off x="5516280" y="2107800"/>
              <a:ext cx="115956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864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8d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290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fcc6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95280" y="2743200"/>
            <a:ext cx="2667240" cy="26668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09ea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302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809ea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9712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6386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99998d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77120" y="3200400"/>
            <a:ext cx="1511280" cy="2514600"/>
          </a:xfrm>
          <a:custGeom>
            <a:avLst/>
            <a:gdLst>
              <a:gd name="textAreaLeft" fmla="*/ 60840 w 1511280"/>
              <a:gd name="textAreaRight" fmla="*/ 1450440 w 1511280"/>
              <a:gd name="textAreaTop" fmla="*/ 60840 h 2514600"/>
              <a:gd name="textAreaBottom" fmla="*/ 2453760 h 2514600"/>
            </a:gdLst>
            <a:ahLst/>
            <a:rect l="textAreaLeft" t="textAreaTop" r="textAreaRight" b="textAreaBottom"/>
            <a:pathLst>
              <a:path w="21600" h="35937">
                <a:moveTo>
                  <a:pt x="2969" y="0"/>
                </a:moveTo>
                <a:arcTo wR="2969" hR="2969" stAng="16200000" swAng="-5400000"/>
                <a:lnTo>
                  <a:pt x="0" y="32968"/>
                </a:lnTo>
                <a:arcTo wR="2969" hR="2969" stAng="10800000" swAng="-5400000"/>
                <a:lnTo>
                  <a:pt x="18631" y="3593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99160" y="3200400"/>
            <a:ext cx="1525320" cy="2514600"/>
          </a:xfrm>
          <a:custGeom>
            <a:avLst/>
            <a:gdLst>
              <a:gd name="textAreaLeft" fmla="*/ 61200 w 1525320"/>
              <a:gd name="textAreaRight" fmla="*/ 1464120 w 15253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606">
                <a:moveTo>
                  <a:pt x="2969" y="0"/>
                </a:moveTo>
                <a:arcTo wR="2969" hR="2969" stAng="16200000" swAng="-5400000"/>
                <a:lnTo>
                  <a:pt x="0" y="32637"/>
                </a:lnTo>
                <a:arcTo wR="2969" hR="2969" stAng="10800000" swAng="-5400000"/>
                <a:lnTo>
                  <a:pt x="18631" y="356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3200400"/>
            <a:ext cx="1595160" cy="2514600"/>
          </a:xfrm>
          <a:custGeom>
            <a:avLst/>
            <a:gdLst>
              <a:gd name="textAreaLeft" fmla="*/ 64080 w 1595160"/>
              <a:gd name="textAreaRight" fmla="*/ 1531080 w 1595160"/>
              <a:gd name="textAreaTop" fmla="*/ 64080 h 2514600"/>
              <a:gd name="textAreaBottom" fmla="*/ 2450520 h 2514600"/>
            </a:gdLst>
            <a:ahLst/>
            <a:rect l="textAreaLeft" t="textAreaTop" r="textAreaRight" b="textAreaBottom"/>
            <a:pathLst>
              <a:path w="21600" h="34047">
                <a:moveTo>
                  <a:pt x="2969" y="0"/>
                </a:moveTo>
                <a:arcTo wR="2969" hR="2969" stAng="16200000" swAng="-5400000"/>
                <a:lnTo>
                  <a:pt x="0" y="31078"/>
                </a:lnTo>
                <a:arcTo wR="2969" hR="2969" stAng="10800000" swAng="-5400000"/>
                <a:lnTo>
                  <a:pt x="18631" y="3404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295280" y="3200400"/>
            <a:ext cx="1676520" cy="251460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14600"/>
              <a:gd name="textAreaBottom" fmla="*/ 2447280 h 2514600"/>
            </a:gdLst>
            <a:ahLst/>
            <a:rect l="textAreaLeft" t="textAreaTop" r="textAreaRight" b="textAreaBottom"/>
            <a:pathLst>
              <a:path w="21600" h="32395">
                <a:moveTo>
                  <a:pt x="2969" y="0"/>
                </a:moveTo>
                <a:arcTo wR="2969" hR="2969" stAng="16200000" swAng="-5400000"/>
                <a:lnTo>
                  <a:pt x="0" y="29426"/>
                </a:lnTo>
                <a:arcTo wR="2969" hR="2969" stAng="10800000" swAng="-5400000"/>
                <a:lnTo>
                  <a:pt x="18631" y="3239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519920" y="1718280"/>
            <a:ext cx="6014520" cy="1287720"/>
            <a:chOff x="1519920" y="1718280"/>
            <a:chExt cx="6014520" cy="1287720"/>
          </a:xfrm>
        </p:grpSpPr>
        <p:grpSp>
          <p:nvGrpSpPr>
            <p:cNvPr id="475" name=""/>
            <p:cNvGrpSpPr/>
            <p:nvPr/>
          </p:nvGrpSpPr>
          <p:grpSpPr>
            <a:xfrm>
              <a:off x="1519920" y="1718280"/>
              <a:ext cx="6014520" cy="1287720"/>
              <a:chOff x="1519920" y="1718280"/>
              <a:chExt cx="6014520" cy="1287720"/>
            </a:xfrm>
          </p:grpSpPr>
          <p:sp>
            <p:nvSpPr>
              <p:cNvPr id="476" name=""/>
              <p:cNvSpPr/>
              <p:nvPr/>
            </p:nvSpPr>
            <p:spPr>
              <a:xfrm rot="3418800">
                <a:off x="1719360" y="192312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55e2f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2615400" y="2088000"/>
                <a:ext cx="871560" cy="121320"/>
                <a:chOff x="2615400" y="2088000"/>
                <a:chExt cx="871560" cy="1213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261540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9892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35484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42540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 rot="3418800">
                <a:off x="3329280" y="186228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809ea8"/>
                  </a:gs>
                  <a:gs pos="100000">
                    <a:srgbClr val="3b484d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4225320" y="2088000"/>
                <a:ext cx="871560" cy="121320"/>
                <a:chOff x="4225320" y="2088000"/>
                <a:chExt cx="871560" cy="1213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22532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30884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96476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03532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 rot="3418800">
                <a:off x="487152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55e2f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5835240" y="2088000"/>
                <a:ext cx="1140120" cy="121320"/>
                <a:chOff x="5835240" y="2088000"/>
                <a:chExt cx="1140120" cy="1213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835240" y="2088000"/>
                  <a:ext cx="19224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944320" y="2088720"/>
                  <a:ext cx="94500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802560" y="2089800"/>
                  <a:ext cx="17280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894720" y="2127960"/>
                  <a:ext cx="4860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312a"/>
                    </a:gs>
                    <a:gs pos="50000">
                      <a:srgbClr val="686b5d"/>
                    </a:gs>
                    <a:gs pos="100000">
                      <a:srgbClr val="2f31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 rot="3418800">
                <a:off x="648144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809ea8"/>
                  </a:gs>
                  <a:gs pos="100000">
                    <a:srgbClr val="3b484d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182628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6500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6152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0204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671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23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0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2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084320" y="2392200"/>
          <a:ext cx="7053120" cy="2982960"/>
        </p:xfrm>
        <a:graphic>
          <a:graphicData uri="http://schemas.openxmlformats.org/drawingml/2006/table">
            <a:tbl>
              <a:tblPr/>
              <a:tblGrid>
                <a:gridCol w="1590840"/>
                <a:gridCol w="1110960"/>
                <a:gridCol w="1087560"/>
                <a:gridCol w="1085760"/>
                <a:gridCol w="1090800"/>
                <a:gridCol w="1087200"/>
              </a:tblGrid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33280" y="1252800"/>
            <a:ext cx="6701040" cy="4630680"/>
            <a:chOff x="1133280" y="1252800"/>
            <a:chExt cx="6701040" cy="4630680"/>
          </a:xfrm>
        </p:grpSpPr>
        <p:sp>
          <p:nvSpPr>
            <p:cNvPr id="508" name=""/>
            <p:cNvSpPr/>
            <p:nvPr/>
          </p:nvSpPr>
          <p:spPr>
            <a:xfrm>
              <a:off x="2189160" y="4301640"/>
              <a:ext cx="5205240" cy="1184400"/>
            </a:xfrm>
            <a:prstGeom prst="ellipse">
              <a:avLst/>
            </a:prstGeom>
            <a:solidFill>
              <a:srgbClr val="00006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01600">
              <a:off x="1458360" y="224604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01600">
              <a:off x="1514160" y="209088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1429200" y="2084040"/>
              <a:ext cx="5563440" cy="28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20602200">
              <a:off x="1410480" y="2099520"/>
              <a:ext cx="5613480" cy="27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01600">
              <a:off x="1436400" y="2091600"/>
              <a:ext cx="5541480" cy="27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rot="20602200">
              <a:off x="1418040" y="2088720"/>
              <a:ext cx="5561640" cy="270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601600">
              <a:off x="2939400" y="277560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61160" y="2989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20200" y="2112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57480" y="2550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81560" y="306216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539200">
              <a:off x="1438200" y="2112480"/>
              <a:ext cx="6106680" cy="285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22320" y="352368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57480" y="350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7120" y="4231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88440" y="4085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01600">
              <a:off x="3038400" y="3017880"/>
              <a:ext cx="2523240" cy="1045800"/>
            </a:xfrm>
            <a:prstGeom prst="ellipse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262f3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94400" y="390276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599840" y="1752480"/>
            <a:ext cx="6297840" cy="3878280"/>
            <a:chOff x="1599840" y="1752480"/>
            <a:chExt cx="6297840" cy="3878280"/>
          </a:xfrm>
        </p:grpSpPr>
        <p:sp>
          <p:nvSpPr>
            <p:cNvPr id="529" name=""/>
            <p:cNvSpPr/>
            <p:nvPr/>
          </p:nvSpPr>
          <p:spPr>
            <a:xfrm flipH="1">
              <a:off x="1599840" y="5626080"/>
              <a:ext cx="166068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599840" y="4844880"/>
              <a:ext cx="214308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1599840" y="4035240"/>
              <a:ext cx="251604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600200" y="3238560"/>
              <a:ext cx="294480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599840" y="2436840"/>
              <a:ext cx="33735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599840" y="1752480"/>
              <a:ext cx="37479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12960" y="1752480"/>
              <a:ext cx="1440" cy="6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12960" y="243684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12960" y="324648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12960" y="4056120"/>
              <a:ext cx="1440" cy="80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12960" y="4865400"/>
              <a:ext cx="1440" cy="74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66240" y="194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66240" y="2735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6624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66240" y="4316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66240" y="5106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94520" y="4440240"/>
              <a:ext cx="803160" cy="118908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596d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11600" y="4440240"/>
              <a:ext cx="3738600" cy="5061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51636a"/>
                </a:gs>
                <a:gs pos="100000">
                  <a:srgbClr val="809e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48000" y="4944960"/>
              <a:ext cx="4127400" cy="685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a9bd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76920" y="3767040"/>
              <a:ext cx="70812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99998d"/>
                </a:gs>
                <a:gs pos="100000">
                  <a:srgbClr val="6f6f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37120" y="3767040"/>
              <a:ext cx="2808360" cy="3794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43433e"/>
                </a:gs>
                <a:gs pos="100000">
                  <a:srgbClr val="999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81440" y="414468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99998d"/>
                </a:gs>
                <a:gs pos="100000">
                  <a:srgbClr val="cdcd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57880" y="3101760"/>
              <a:ext cx="620640" cy="935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d1d1cb"/>
                </a:gs>
                <a:gs pos="100000">
                  <a:srgbClr val="979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59400" y="3101760"/>
              <a:ext cx="187488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62625f"/>
                </a:gs>
                <a:gs pos="100000">
                  <a:srgbClr val="d1d1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97240" y="3352680"/>
              <a:ext cx="2427480" cy="6843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d1d1cb"/>
                </a:gs>
                <a:gs pos="100000">
                  <a:srgbClr val="e8e8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34160" y="2427120"/>
              <a:ext cx="533160" cy="812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c9a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87800" y="2427120"/>
              <a:ext cx="936720" cy="12240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816733"/>
                </a:gs>
                <a:gs pos="100000">
                  <a:srgbClr val="ff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19520" y="2547720"/>
              <a:ext cx="1581120" cy="6922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ee4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07200" y="1752480"/>
              <a:ext cx="45072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solidFill>
              <a:srgbClr val="e9d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40360" y="1752480"/>
              <a:ext cx="73332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e9dcb9"/>
                </a:gs>
                <a:gs pos="100000">
                  <a:srgbClr val="f5f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37560" y="21193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37560" y="2844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37560" y="3635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37560" y="4425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37560" y="521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05120" y="1981080"/>
            <a:ext cx="5333400" cy="634680"/>
            <a:chOff x="1905120" y="1981080"/>
            <a:chExt cx="5333400" cy="634680"/>
          </a:xfrm>
        </p:grpSpPr>
        <p:sp>
          <p:nvSpPr>
            <p:cNvPr id="96" name=""/>
            <p:cNvSpPr/>
            <p:nvPr/>
          </p:nvSpPr>
          <p:spPr>
            <a:xfrm>
              <a:off x="2438280" y="26128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5480" y="207936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905120" y="1981080"/>
              <a:ext cx="685080" cy="634680"/>
              <a:chOff x="1905120" y="1981080"/>
              <a:chExt cx="685080" cy="634680"/>
            </a:xfrm>
          </p:grpSpPr>
          <p:sp>
            <p:nvSpPr>
              <p:cNvPr id="99" name=""/>
              <p:cNvSpPr/>
              <p:nvPr/>
            </p:nvSpPr>
            <p:spPr>
              <a:xfrm>
                <a:off x="1910520" y="19915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5120" y="19810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44720" y="20185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b484d"/>
                  </a:gs>
                  <a:gs pos="50000">
                    <a:srgbClr val="809ea8"/>
                  </a:gs>
                  <a:gs pos="100000">
                    <a:srgbClr val="3b484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065320" y="207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05120" y="2809800"/>
            <a:ext cx="5333400" cy="634680"/>
            <a:chOff x="1905120" y="2809800"/>
            <a:chExt cx="5333400" cy="634680"/>
          </a:xfrm>
        </p:grpSpPr>
        <p:sp>
          <p:nvSpPr>
            <p:cNvPr id="104" name=""/>
            <p:cNvSpPr/>
            <p:nvPr/>
          </p:nvSpPr>
          <p:spPr>
            <a:xfrm>
              <a:off x="2438280" y="343224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289872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905120" y="2809800"/>
              <a:ext cx="685080" cy="634680"/>
              <a:chOff x="1905120" y="2809800"/>
              <a:chExt cx="685080" cy="634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10520" y="282024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05120" y="28098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4720" y="284724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46464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065320" y="29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668760"/>
            <a:ext cx="5333400" cy="634680"/>
            <a:chOff x="1905120" y="3668760"/>
            <a:chExt cx="5333400" cy="634680"/>
          </a:xfrm>
        </p:grpSpPr>
        <p:sp>
          <p:nvSpPr>
            <p:cNvPr id="112" name=""/>
            <p:cNvSpPr/>
            <p:nvPr/>
          </p:nvSpPr>
          <p:spPr>
            <a:xfrm>
              <a:off x="2438280" y="427032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371484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905120" y="3668760"/>
              <a:ext cx="685080" cy="634680"/>
              <a:chOff x="1905120" y="3668760"/>
              <a:chExt cx="685080" cy="634680"/>
            </a:xfrm>
          </p:grpSpPr>
          <p:sp>
            <p:nvSpPr>
              <p:cNvPr id="115" name=""/>
              <p:cNvSpPr/>
              <p:nvPr/>
            </p:nvSpPr>
            <p:spPr>
              <a:xfrm>
                <a:off x="1910520" y="36792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05120" y="366876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44720" y="370620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b484d"/>
                  </a:gs>
                  <a:gs pos="50000">
                    <a:srgbClr val="809ea8"/>
                  </a:gs>
                  <a:gs pos="100000">
                    <a:srgbClr val="3b484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065320" y="373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05120" y="4495680"/>
            <a:ext cx="5333400" cy="634680"/>
            <a:chOff x="1905120" y="4495680"/>
            <a:chExt cx="5333400" cy="634680"/>
          </a:xfrm>
        </p:grpSpPr>
        <p:sp>
          <p:nvSpPr>
            <p:cNvPr id="120" name=""/>
            <p:cNvSpPr/>
            <p:nvPr/>
          </p:nvSpPr>
          <p:spPr>
            <a:xfrm>
              <a:off x="2438280" y="510840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5748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905120" y="4495680"/>
              <a:ext cx="685080" cy="634680"/>
              <a:chOff x="1905120" y="4495680"/>
              <a:chExt cx="685080" cy="634680"/>
            </a:xfrm>
          </p:grpSpPr>
          <p:sp>
            <p:nvSpPr>
              <p:cNvPr id="123" name=""/>
              <p:cNvSpPr/>
              <p:nvPr/>
            </p:nvSpPr>
            <p:spPr>
              <a:xfrm>
                <a:off x="1910520" y="45061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05120" y="44956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44720" y="45331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46464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065320" y="458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BD6-6DF7-4B86-9049-8F844778C9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752480" y="358128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09ea8"/>
                    </a:gs>
                    <a:gs pos="100000">
                      <a:srgbClr val="ffcc6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09ea8"/>
                  </a:gs>
                  <a:gs pos="100000">
                    <a:srgbClr val="ffcc66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1920" y="1734840"/>
            <a:ext cx="79167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n click [Slide Master] or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48640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:  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486400" y="2971800"/>
            <a:ext cx="2286000" cy="2666880"/>
            <a:chOff x="5486400" y="2971800"/>
            <a:chExt cx="2286000" cy="2666880"/>
          </a:xfrm>
        </p:grpSpPr>
        <p:sp>
          <p:nvSpPr>
            <p:cNvPr id="132" name=""/>
            <p:cNvSpPr/>
            <p:nvPr/>
          </p:nvSpPr>
          <p:spPr>
            <a:xfrm>
              <a:off x="548640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1d1c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316692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295280" y="2971800"/>
            <a:ext cx="2286000" cy="2666880"/>
            <a:chOff x="1295280" y="2971800"/>
            <a:chExt cx="2286000" cy="2666880"/>
          </a:xfrm>
        </p:grpSpPr>
        <p:sp>
          <p:nvSpPr>
            <p:cNvPr id="135" name=""/>
            <p:cNvSpPr/>
            <p:nvPr/>
          </p:nvSpPr>
          <p:spPr>
            <a:xfrm>
              <a:off x="12952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1d1c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90680" y="31719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2272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cfca"/>
              </a:gs>
              <a:gs pos="100000">
                <a:srgbClr val="686b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7440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d9"/>
              </a:gs>
              <a:gs pos="100000">
                <a:srgbClr val="999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40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e7b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99998d"/>
                  </a:gs>
                  <a:gs pos="100000">
                    <a:srgbClr val="4646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adad6"/>
                  </a:gs>
                  <a:gs pos="100000">
                    <a:srgbClr val="99998d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99998d">
                      <a:alpha val="48235"/>
                    </a:srgbClr>
                  </a:gs>
                  <a:gs pos="100000">
                    <a:srgbClr val="7878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99998d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06120" y="1494360"/>
            <a:ext cx="7554600" cy="4800960"/>
            <a:chOff x="906120" y="1494360"/>
            <a:chExt cx="7554600" cy="4800960"/>
          </a:xfrm>
        </p:grpSpPr>
        <p:sp>
          <p:nvSpPr>
            <p:cNvPr id="152" name=""/>
            <p:cNvSpPr/>
            <p:nvPr/>
          </p:nvSpPr>
          <p:spPr>
            <a:xfrm rot="20241600">
              <a:off x="1485720" y="2628360"/>
              <a:ext cx="6400800" cy="2532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ef9ef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4749840" y="2538000"/>
              <a:ext cx="9954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7453440" y="28144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3040200" y="55990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5816520" y="4878000"/>
              <a:ext cx="9972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400480" y="3914280"/>
              <a:ext cx="996840" cy="2764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1851120"/>
              <a:ext cx="1198800" cy="11509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5746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89120" y="3227400"/>
              <a:ext cx="1200240" cy="1150920"/>
            </a:xfrm>
            <a:prstGeom prst="ellipse">
              <a:avLst/>
            </a:prstGeom>
            <a:gradFill rotWithShape="0">
              <a:gsLst>
                <a:gs pos="0">
                  <a:srgbClr val="99998d"/>
                </a:gs>
                <a:gs pos="100000">
                  <a:srgbClr val="2f2f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3160" y="4829040"/>
              <a:ext cx="1198440" cy="1150920"/>
            </a:xfrm>
            <a:prstGeom prst="ellipse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2d38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191120"/>
              <a:ext cx="1199880" cy="115092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3720" y="2057400"/>
              <a:ext cx="1131840" cy="1150920"/>
            </a:xfrm>
            <a:prstGeom prst="ellipse">
              <a:avLst/>
            </a:prstGeom>
            <a:gradFill rotWithShape="0">
              <a:gsLst>
                <a:gs pos="0">
                  <a:srgbClr val="e9dcb9"/>
                </a:gs>
                <a:gs pos="100000">
                  <a:srgbClr val="504b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65600" y="3638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6640" y="226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6600" y="2514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3320" y="460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9920" y="5235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1360" y="3645000"/>
              <a:ext cx="2421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89280" y="2109600"/>
              <a:ext cx="1676520" cy="14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0" name=""/>
            <p:cNvCxnSpPr/>
            <p:nvPr/>
          </p:nvCxnSpPr>
          <p:spPr>
            <a:xfrm flipH="1">
              <a:off x="906120" y="2109240"/>
              <a:ext cx="18835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981720" y="1712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19320" y="1811160"/>
            <a:ext cx="6629400" cy="4056840"/>
            <a:chOff x="1219320" y="1811160"/>
            <a:chExt cx="6629400" cy="4056840"/>
          </a:xfrm>
        </p:grpSpPr>
        <p:sp>
          <p:nvSpPr>
            <p:cNvPr id="174" name=""/>
            <p:cNvSpPr/>
            <p:nvPr/>
          </p:nvSpPr>
          <p:spPr>
            <a:xfrm>
              <a:off x="3741120" y="4078080"/>
              <a:ext cx="1585080" cy="567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b6555"/>
                </a:gs>
                <a:gs pos="50000">
                  <a:srgbClr val="e9dcb9"/>
                </a:gs>
                <a:gs pos="100000">
                  <a:srgbClr val="6b6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41120" y="358236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b6555"/>
                </a:gs>
                <a:gs pos="50000">
                  <a:srgbClr val="e9dcb9"/>
                </a:gs>
                <a:gs pos="100000">
                  <a:srgbClr val="6b6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41120" y="308628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b6555"/>
                </a:gs>
                <a:gs pos="50000">
                  <a:srgbClr val="e9dcb9"/>
                </a:gs>
                <a:gs pos="100000">
                  <a:srgbClr val="6b6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6480" y="3300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36480" y="3796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36480" y="4292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92760" y="2873880"/>
              <a:ext cx="504360" cy="191268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932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9ea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132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1928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9ea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9128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3800" y="2873880"/>
              <a:ext cx="501120" cy="191268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20760" y="1811160"/>
              <a:ext cx="2882160" cy="5666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f312a"/>
                </a:gs>
                <a:gs pos="50000">
                  <a:srgbClr val="686b5d"/>
                </a:gs>
                <a:gs pos="100000">
                  <a:srgbClr val="2f3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9800" y="2519640"/>
              <a:ext cx="1657080" cy="49572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4160" y="202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92760" y="5282640"/>
              <a:ext cx="2882160" cy="566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14160" y="5499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88560" y="4715640"/>
              <a:ext cx="1660320" cy="48852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194" name="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84d"/>
                </a:gs>
                <a:gs pos="50000">
                  <a:srgbClr val="809ea8"/>
                </a:gs>
                <a:gs pos="100000">
                  <a:srgbClr val="3b48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84d"/>
                </a:gs>
                <a:gs pos="50000">
                  <a:srgbClr val="809ea8"/>
                </a:gs>
                <a:gs pos="100000">
                  <a:srgbClr val="3b48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84d"/>
                </a:gs>
                <a:gs pos="50000">
                  <a:srgbClr val="809ea8"/>
                </a:gs>
                <a:gs pos="100000">
                  <a:srgbClr val="3b48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40"/>
                </a:gs>
                <a:gs pos="50000">
                  <a:srgbClr val="99998d"/>
                </a:gs>
                <a:gs pos="100000">
                  <a:srgbClr val="4646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40"/>
                </a:gs>
                <a:gs pos="50000">
                  <a:srgbClr val="99998d"/>
                </a:gs>
                <a:gs pos="100000">
                  <a:srgbClr val="4646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40"/>
                </a:gs>
                <a:gs pos="50000">
                  <a:srgbClr val="99998d"/>
                </a:gs>
                <a:gs pos="100000">
                  <a:srgbClr val="4646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201" name="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d6d1"/>
                  </a:gs>
                  <a:gs pos="100000">
                    <a:srgbClr val="9999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5400000">
                <a:off x="568332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d6d1"/>
                  </a:gs>
                  <a:gs pos="100000">
                    <a:srgbClr val="99998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0800000">
                <a:off x="4250520" y="45720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d6d1"/>
                  </a:gs>
                  <a:gs pos="100000">
                    <a:srgbClr val="999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222360" y="205740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68880" y="220176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cc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896d36"/>
                  </a:gs>
                  <a:gs pos="50000">
                    <a:srgbClr val="ffcc66"/>
                  </a:gs>
                  <a:gs pos="100000">
                    <a:srgbClr val="896d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134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9ea8"/>
                </a:gs>
                <a:gs pos="50000">
                  <a:srgbClr val="d3dde0"/>
                </a:gs>
                <a:gs pos="100000">
                  <a:srgbClr val="809ea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294920" y="1981080"/>
            <a:ext cx="7086960" cy="3581280"/>
            <a:chOff x="1294920" y="1981080"/>
            <a:chExt cx="7086960" cy="3581280"/>
          </a:xfrm>
        </p:grpSpPr>
        <p:sp>
          <p:nvSpPr>
            <p:cNvPr id="220" name=""/>
            <p:cNvSpPr/>
            <p:nvPr/>
          </p:nvSpPr>
          <p:spPr>
            <a:xfrm>
              <a:off x="7792920" y="1981080"/>
              <a:ext cx="58248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02200" y="1981080"/>
              <a:ext cx="337968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07200" y="2879640"/>
              <a:ext cx="58104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63760" y="2869920"/>
              <a:ext cx="3632400" cy="58608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19680" y="3767040"/>
              <a:ext cx="579600" cy="9046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5400" y="4657680"/>
              <a:ext cx="58428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93720" y="4662360"/>
              <a:ext cx="412596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294920" y="555624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295280" y="4657680"/>
              <a:ext cx="2036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295280" y="3771720"/>
              <a:ext cx="287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94920" y="2886120"/>
              <a:ext cx="3714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294920" y="1987560"/>
              <a:ext cx="455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76360" y="1981080"/>
              <a:ext cx="0" cy="9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2913120"/>
              <a:ext cx="0" cy="87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3784320"/>
              <a:ext cx="0" cy="87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6360" y="4657680"/>
              <a:ext cx="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92400" y="2155680"/>
              <a:ext cx="185724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8320" y="2558880"/>
              <a:ext cx="2797200" cy="325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65560" y="3456000"/>
              <a:ext cx="3047760" cy="318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30360" y="3767040"/>
              <a:ext cx="3875040" cy="5824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32160" y="4349520"/>
              <a:ext cx="3300120" cy="317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2280" y="5241960"/>
              <a:ext cx="3551040" cy="317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3440" y="2327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3440" y="3209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13440" y="4133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13440" y="4994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9bab4"/>
            </a:gs>
            <a:gs pos="100000">
              <a:srgbClr val="686b5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600200"/>
            <a:ext cx="5562720" cy="4191120"/>
          </a:xfrm>
          <a:prstGeom prst="rightArrow">
            <a:avLst>
              <a:gd name="adj1" fmla="val 79306"/>
              <a:gd name="adj2" fmla="val 32874"/>
            </a:avLst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2280" y="216864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9dcb9"/>
              </a:gs>
              <a:gs pos="100000">
                <a:srgbClr val="6b655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2280" y="323388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8d"/>
              </a:gs>
              <a:gs pos="100000">
                <a:srgbClr val="46464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2280" y="429912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9ea8"/>
              </a:gs>
              <a:gs pos="100000">
                <a:srgbClr val="3b48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2971800"/>
            <a:ext cx="27432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8:45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0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