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CAF-BEB6-4E34-87E8-6637921E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FAC-9975-407F-AA83-D990B1B3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C85-6972-4D08-8635-979ED2E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566-327E-404B-944F-AC05B618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F19-3775-4911-AAA0-79AC55E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60E-46F7-4B98-BAD9-D0170BC6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235-BFFA-4A80-9448-68643E2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2ED-B73A-4E76-8A80-1ECC4801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0E5-8582-4AD7-8A42-100EBAD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0CF-A826-4525-B56F-F973D728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430-6D8F-420D-A875-D74954A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C12F-B7E6-46FC-832E-F19B44E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1B07-6FBA-4729-BA84-3472B359A5E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01C-D3D2-45D3-9708-F890EFF36ED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未标题-1"/>
          <p:cNvPicPr/>
          <p:nvPr/>
        </p:nvPicPr>
        <p:blipFill>
          <a:blip r:embed="rId2"/>
          <a:stretch/>
        </p:blipFill>
        <p:spPr>
          <a:xfrm>
            <a:off x="-1440" y="-358920"/>
            <a:ext cx="9144000" cy="31464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1187280" y="984240"/>
            <a:ext cx="7990200" cy="28828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02.png"/>
          <p:cNvPicPr/>
          <p:nvPr/>
        </p:nvPicPr>
        <p:blipFill>
          <a:blip r:embed="rId4"/>
          <a:stretch/>
        </p:blipFill>
        <p:spPr>
          <a:xfrm>
            <a:off x="6983280" y="447840"/>
            <a:ext cx="2194200" cy="47005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16.png"/>
          <p:cNvPicPr/>
          <p:nvPr/>
        </p:nvPicPr>
        <p:blipFill>
          <a:blip r:embed="rId5"/>
          <a:srcRect l="14824" t="42067" r="31554" b="28964"/>
          <a:stretch/>
        </p:blipFill>
        <p:spPr>
          <a:xfrm>
            <a:off x="14400" y="447840"/>
            <a:ext cx="4903560" cy="198756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8"/>
          <p:cNvSpPr/>
          <p:nvPr/>
        </p:nvSpPr>
        <p:spPr>
          <a:xfrm flipH="1">
            <a:off x="250200" y="3105000"/>
            <a:ext cx="4825800" cy="51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夯实民生之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"/>
          <p:cNvSpPr/>
          <p:nvPr/>
        </p:nvSpPr>
        <p:spPr>
          <a:xfrm flipH="1">
            <a:off x="2339280" y="4083120"/>
            <a:ext cx="4824360" cy="517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服务民生之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0680" y="33984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精美政府工作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300"/>
                            </p:stCondLst>
                            <p:childTnLst>
                              <p:par>
                                <p:cTn id="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189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巩固国防基础，深入推进双拥优抚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1860480" y="1052640"/>
            <a:ext cx="2706840" cy="2030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4"/>
          <a:stretch/>
        </p:blipFill>
        <p:spPr>
          <a:xfrm>
            <a:off x="492120" y="2781360"/>
            <a:ext cx="2708280" cy="2030400"/>
          </a:xfrm>
          <a:prstGeom prst="rect">
            <a:avLst/>
          </a:prstGeom>
          <a:ln w="0">
            <a:noFill/>
          </a:ln>
        </p:spPr>
      </p:pic>
      <p:grpSp>
        <p:nvGrpSpPr>
          <p:cNvPr id="193" name="组合 11"/>
          <p:cNvGrpSpPr/>
          <p:nvPr/>
        </p:nvGrpSpPr>
        <p:grpSpPr>
          <a:xfrm>
            <a:off x="5724360" y="1301760"/>
            <a:ext cx="2592720" cy="3311640"/>
            <a:chOff x="5724360" y="1301760"/>
            <a:chExt cx="2592720" cy="3311640"/>
          </a:xfrm>
        </p:grpSpPr>
        <p:sp>
          <p:nvSpPr>
            <p:cNvPr id="194" name="AutoShape 3"/>
            <p:cNvSpPr/>
            <p:nvPr/>
          </p:nvSpPr>
          <p:spPr>
            <a:xfrm>
              <a:off x="5724360" y="1301760"/>
              <a:ext cx="2592720" cy="3311640"/>
            </a:xfrm>
            <a:custGeom>
              <a:avLst/>
              <a:gdLst>
                <a:gd name="textAreaLeft" fmla="*/ 18360 w 2592720"/>
                <a:gd name="textAreaRight" fmla="*/ 2574360 w 2592720"/>
                <a:gd name="textAreaTop" fmla="*/ 18360 h 3311640"/>
                <a:gd name="textAreaBottom" fmla="*/ 3293280 h 3311640"/>
              </a:gdLst>
              <a:ahLst/>
              <a:rect l="textAreaLeft" t="textAreaTop" r="textAreaRight" b="textAreaBottom"/>
              <a:pathLst>
                <a:path w="21600" h="27589">
                  <a:moveTo>
                    <a:pt x="529" y="0"/>
                  </a:moveTo>
                  <a:arcTo wR="529" hR="529" stAng="16200000" swAng="-5400000"/>
                  <a:lnTo>
                    <a:pt x="0" y="27060"/>
                  </a:lnTo>
                  <a:arcTo wR="529" hR="529" stAng="10800000" swAng="-5400000"/>
                  <a:lnTo>
                    <a:pt x="21071" y="27589"/>
                  </a:lnTo>
                  <a:arcTo wR="529" hR="529" stAng="5400000" swAng="-5400000"/>
                  <a:lnTo>
                    <a:pt x="21600" y="529"/>
                  </a:lnTo>
                  <a:arcTo wR="529" hR="529" stAng="0" swAng="-5400000"/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"/>
            <p:cNvSpPr/>
            <p:nvPr/>
          </p:nvSpPr>
          <p:spPr>
            <a:xfrm>
              <a:off x="5726160" y="1506600"/>
              <a:ext cx="2590920" cy="2953080"/>
            </a:xfrm>
            <a:custGeom>
              <a:avLst/>
              <a:gdLst>
                <a:gd name="textAreaLeft" fmla="*/ 20520 w 2590920"/>
                <a:gd name="textAreaRight" fmla="*/ 2570400 w 2590920"/>
                <a:gd name="textAreaTop" fmla="*/ 20520 h 2953080"/>
                <a:gd name="textAreaBottom" fmla="*/ 2932560 h 2953080"/>
              </a:gdLst>
              <a:ahLst/>
              <a:rect l="textAreaLeft" t="textAreaTop" r="textAreaRight" b="textAreaBottom"/>
              <a:pathLst>
                <a:path w="21600" h="24619">
                  <a:moveTo>
                    <a:pt x="589" y="0"/>
                  </a:moveTo>
                  <a:arcTo wR="589" hR="589" stAng="16200000" swAng="-5400000"/>
                  <a:lnTo>
                    <a:pt x="0" y="24030"/>
                  </a:lnTo>
                  <a:arcTo wR="589" hR="589" stAng="10800000" swAng="-5400000"/>
                  <a:lnTo>
                    <a:pt x="21011" y="24619"/>
                  </a:lnTo>
                  <a:arcTo wR="589" hR="589" stAng="5400000" swAng="-5400000"/>
                  <a:lnTo>
                    <a:pt x="21600" y="589"/>
                  </a:lnTo>
                  <a:arcTo wR="589" hR="58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11"/>
          <p:cNvSpPr/>
          <p:nvPr/>
        </p:nvSpPr>
        <p:spPr>
          <a:xfrm>
            <a:off x="5834160" y="1581120"/>
            <a:ext cx="237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低保救助管理。实现了低保动态管理和社会救助的全面覆盖。全面实施“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+X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救助工程基础上，新增“边缘补充医疗救助”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落实区党建工作要求，不断推进局党建工作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7"/>
          <p:cNvGrpSpPr/>
          <p:nvPr/>
        </p:nvGrpSpPr>
        <p:grpSpPr>
          <a:xfrm>
            <a:off x="5724360" y="1301760"/>
            <a:ext cx="2592720" cy="3311640"/>
            <a:chOff x="5724360" y="1301760"/>
            <a:chExt cx="2592720" cy="3311640"/>
          </a:xfrm>
        </p:grpSpPr>
        <p:sp>
          <p:nvSpPr>
            <p:cNvPr id="202" name="AutoShape 3"/>
            <p:cNvSpPr/>
            <p:nvPr/>
          </p:nvSpPr>
          <p:spPr>
            <a:xfrm>
              <a:off x="5724360" y="1301760"/>
              <a:ext cx="2592720" cy="3311640"/>
            </a:xfrm>
            <a:custGeom>
              <a:avLst/>
              <a:gdLst>
                <a:gd name="textAreaLeft" fmla="*/ 18360 w 2592720"/>
                <a:gd name="textAreaRight" fmla="*/ 2574360 w 2592720"/>
                <a:gd name="textAreaTop" fmla="*/ 18360 h 3311640"/>
                <a:gd name="textAreaBottom" fmla="*/ 3293280 h 3311640"/>
              </a:gdLst>
              <a:ahLst/>
              <a:rect l="textAreaLeft" t="textAreaTop" r="textAreaRight" b="textAreaBottom"/>
              <a:pathLst>
                <a:path w="21600" h="27589">
                  <a:moveTo>
                    <a:pt x="529" y="0"/>
                  </a:moveTo>
                  <a:arcTo wR="529" hR="529" stAng="16200000" swAng="-5400000"/>
                  <a:lnTo>
                    <a:pt x="0" y="27060"/>
                  </a:lnTo>
                  <a:arcTo wR="529" hR="529" stAng="10800000" swAng="-5400000"/>
                  <a:lnTo>
                    <a:pt x="21071" y="27589"/>
                  </a:lnTo>
                  <a:arcTo wR="529" hR="529" stAng="5400000" swAng="-5400000"/>
                  <a:lnTo>
                    <a:pt x="21600" y="529"/>
                  </a:lnTo>
                  <a:arcTo wR="529" hR="529" stAng="0" swAng="-5400000"/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"/>
            <p:cNvSpPr/>
            <p:nvPr/>
          </p:nvSpPr>
          <p:spPr>
            <a:xfrm>
              <a:off x="5726160" y="1506600"/>
              <a:ext cx="2590920" cy="2953080"/>
            </a:xfrm>
            <a:custGeom>
              <a:avLst/>
              <a:gdLst>
                <a:gd name="textAreaLeft" fmla="*/ 20520 w 2590920"/>
                <a:gd name="textAreaRight" fmla="*/ 2570400 w 2590920"/>
                <a:gd name="textAreaTop" fmla="*/ 20520 h 2953080"/>
                <a:gd name="textAreaBottom" fmla="*/ 2932560 h 2953080"/>
              </a:gdLst>
              <a:ahLst/>
              <a:rect l="textAreaLeft" t="textAreaTop" r="textAreaRight" b="textAreaBottom"/>
              <a:pathLst>
                <a:path w="21600" h="24619">
                  <a:moveTo>
                    <a:pt x="589" y="0"/>
                  </a:moveTo>
                  <a:arcTo wR="589" hR="589" stAng="16200000" swAng="-5400000"/>
                  <a:lnTo>
                    <a:pt x="0" y="24030"/>
                  </a:lnTo>
                  <a:arcTo wR="589" hR="589" stAng="10800000" swAng="-5400000"/>
                  <a:lnTo>
                    <a:pt x="21011" y="24619"/>
                  </a:lnTo>
                  <a:arcTo wR="589" hR="589" stAng="5400000" swAng="-5400000"/>
                  <a:lnTo>
                    <a:pt x="21600" y="589"/>
                  </a:lnTo>
                  <a:arcTo wR="589" hR="58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1"/>
          <p:cNvSpPr/>
          <p:nvPr/>
        </p:nvSpPr>
        <p:spPr>
          <a:xfrm>
            <a:off x="5834160" y="1581120"/>
            <a:ext cx="2374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ts val="19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范低保救助管理。实现了低保动态管理和社会救助的全面覆盖。全面实施“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+X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救助工程基础上，新增“边缘补充医疗救助”项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2" descr=""/>
          <p:cNvPicPr/>
          <p:nvPr/>
        </p:nvPicPr>
        <p:blipFill>
          <a:blip r:embed="rId3"/>
          <a:stretch/>
        </p:blipFill>
        <p:spPr>
          <a:xfrm>
            <a:off x="482760" y="1203480"/>
            <a:ext cx="2912760" cy="1962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2" descr=""/>
          <p:cNvPicPr/>
          <p:nvPr/>
        </p:nvPicPr>
        <p:blipFill>
          <a:blip r:embed="rId4"/>
          <a:stretch/>
        </p:blipFill>
        <p:spPr>
          <a:xfrm>
            <a:off x="2200320" y="2498760"/>
            <a:ext cx="2913120" cy="196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3"/>
          <p:cNvGrpSpPr/>
          <p:nvPr/>
        </p:nvGrpSpPr>
        <p:grpSpPr>
          <a:xfrm>
            <a:off x="2836800" y="1282680"/>
            <a:ext cx="3429000" cy="3219480"/>
            <a:chOff x="2836800" y="1282680"/>
            <a:chExt cx="3429000" cy="3219480"/>
          </a:xfrm>
        </p:grpSpPr>
        <p:sp>
          <p:nvSpPr>
            <p:cNvPr id="208" name="Freeform 6"/>
            <p:cNvSpPr/>
            <p:nvPr/>
          </p:nvSpPr>
          <p:spPr>
            <a:xfrm>
              <a:off x="5426280" y="2892240"/>
              <a:ext cx="9360" cy="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"/>
            <p:cNvSpPr/>
            <p:nvPr/>
          </p:nvSpPr>
          <p:spPr>
            <a:xfrm>
              <a:off x="3367080" y="3262320"/>
              <a:ext cx="2498760" cy="1239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"/>
            <p:cNvSpPr/>
            <p:nvPr/>
          </p:nvSpPr>
          <p:spPr>
            <a:xfrm>
              <a:off x="5735520" y="1542960"/>
              <a:ext cx="530280" cy="168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2997000" y="3591000"/>
              <a:ext cx="4680" cy="10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"/>
            <p:cNvSpPr/>
            <p:nvPr/>
          </p:nvSpPr>
          <p:spPr>
            <a:xfrm>
              <a:off x="4295520" y="1433160"/>
              <a:ext cx="90360" cy="3888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"/>
            <p:cNvSpPr/>
            <p:nvPr/>
          </p:nvSpPr>
          <p:spPr>
            <a:xfrm>
              <a:off x="2997000" y="3392640"/>
              <a:ext cx="409320" cy="2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"/>
            <p:cNvSpPr/>
            <p:nvPr/>
          </p:nvSpPr>
          <p:spPr>
            <a:xfrm>
              <a:off x="5426280" y="2892240"/>
              <a:ext cx="520560" cy="33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2"/>
            <p:cNvGrpSpPr/>
            <p:nvPr/>
          </p:nvGrpSpPr>
          <p:grpSpPr>
            <a:xfrm>
              <a:off x="2836800" y="1282680"/>
              <a:ext cx="3340440" cy="3200760"/>
              <a:chOff x="2836800" y="1282680"/>
              <a:chExt cx="3340440" cy="3200760"/>
            </a:xfrm>
          </p:grpSpPr>
          <p:sp>
            <p:nvSpPr>
              <p:cNvPr id="216" name="Freeform 12"/>
              <p:cNvSpPr/>
              <p:nvPr/>
            </p:nvSpPr>
            <p:spPr>
              <a:xfrm>
                <a:off x="2836800" y="1442880"/>
                <a:ext cx="1500480" cy="2148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"/>
              <p:cNvSpPr/>
              <p:nvPr/>
            </p:nvSpPr>
            <p:spPr>
              <a:xfrm>
                <a:off x="3036600" y="3052800"/>
                <a:ext cx="2799000" cy="143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"/>
              <p:cNvSpPr/>
              <p:nvPr/>
            </p:nvSpPr>
            <p:spPr>
              <a:xfrm>
                <a:off x="4426200" y="1282680"/>
                <a:ext cx="1751040" cy="181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Freeform 16"/>
            <p:cNvSpPr/>
            <p:nvPr/>
          </p:nvSpPr>
          <p:spPr>
            <a:xfrm>
              <a:off x="4295520" y="1442880"/>
              <a:ext cx="41040" cy="29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3206520" y="1742760"/>
              <a:ext cx="1139760" cy="1649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3355920" y="3483000"/>
              <a:ext cx="392040" cy="33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4425840" y="1562040"/>
              <a:ext cx="1071360" cy="460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1"/>
            <p:cNvSpPr/>
            <p:nvPr/>
          </p:nvSpPr>
          <p:spPr>
            <a:xfrm>
              <a:off x="3114720" y="2322360"/>
              <a:ext cx="274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三争一创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实践活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5"/>
          <p:cNvSpPr/>
          <p:nvPr/>
        </p:nvSpPr>
        <p:spPr>
          <a:xfrm>
            <a:off x="2090880" y="4449600"/>
            <a:ext cx="44193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4"/>
          <p:cNvGrpSpPr/>
          <p:nvPr/>
        </p:nvGrpSpPr>
        <p:grpSpPr>
          <a:xfrm>
            <a:off x="74520" y="2540160"/>
            <a:ext cx="3057480" cy="532800"/>
            <a:chOff x="74520" y="2540160"/>
            <a:chExt cx="3057480" cy="532800"/>
          </a:xfrm>
        </p:grpSpPr>
        <p:sp>
          <p:nvSpPr>
            <p:cNvPr id="226" name="Text Box 11"/>
            <p:cNvSpPr/>
            <p:nvPr/>
          </p:nvSpPr>
          <p:spPr>
            <a:xfrm>
              <a:off x="74520" y="2540160"/>
              <a:ext cx="29854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最兜底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社会保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53800" y="3030840"/>
              <a:ext cx="2878200" cy="360"/>
              <a:chOff x="253800" y="3030840"/>
              <a:chExt cx="2878200" cy="360"/>
            </a:xfrm>
          </p:grpSpPr>
          <p:sp>
            <p:nvSpPr>
              <p:cNvPr id="228" name="Line 21"/>
              <p:cNvSpPr/>
              <p:nvPr/>
            </p:nvSpPr>
            <p:spPr>
              <a:xfrm>
                <a:off x="253800" y="3030840"/>
                <a:ext cx="2878200" cy="0"/>
              </a:xfrm>
              <a:prstGeom prst="line">
                <a:avLst/>
              </a:prstGeom>
              <a:ln w="12600">
                <a:solidFill>
                  <a:srgbClr val="8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253800" y="3030840"/>
                <a:ext cx="287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组合 60"/>
          <p:cNvGrpSpPr/>
          <p:nvPr/>
        </p:nvGrpSpPr>
        <p:grpSpPr>
          <a:xfrm>
            <a:off x="5076360" y="3370320"/>
            <a:ext cx="3634200" cy="532800"/>
            <a:chOff x="5076360" y="3370320"/>
            <a:chExt cx="3634200" cy="532800"/>
          </a:xfrm>
        </p:grpSpPr>
        <p:grpSp>
          <p:nvGrpSpPr>
            <p:cNvPr id="231" name=""/>
            <p:cNvGrpSpPr/>
            <p:nvPr/>
          </p:nvGrpSpPr>
          <p:grpSpPr>
            <a:xfrm>
              <a:off x="5076360" y="3836880"/>
              <a:ext cx="3456720" cy="360"/>
              <a:chOff x="5076360" y="3836880"/>
              <a:chExt cx="3456720" cy="360"/>
            </a:xfrm>
          </p:grpSpPr>
          <p:sp>
            <p:nvSpPr>
              <p:cNvPr id="232" name="Line 22"/>
              <p:cNvSpPr/>
              <p:nvPr/>
            </p:nvSpPr>
            <p:spPr>
              <a:xfrm>
                <a:off x="5076720" y="3837240"/>
                <a:ext cx="345636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 rot="10800000">
                <a:off x="5076360" y="3836880"/>
                <a:ext cx="345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1"/>
            <p:cNvSpPr/>
            <p:nvPr/>
          </p:nvSpPr>
          <p:spPr>
            <a:xfrm>
              <a:off x="5724720" y="3370320"/>
              <a:ext cx="2985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最贴近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民政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59"/>
          <p:cNvGrpSpPr/>
          <p:nvPr/>
        </p:nvGrpSpPr>
        <p:grpSpPr>
          <a:xfrm>
            <a:off x="5411520" y="1138320"/>
            <a:ext cx="3121200" cy="532800"/>
            <a:chOff x="5411520" y="1138320"/>
            <a:chExt cx="3121200" cy="532800"/>
          </a:xfrm>
        </p:grpSpPr>
        <p:grpSp>
          <p:nvGrpSpPr>
            <p:cNvPr id="236" name=""/>
            <p:cNvGrpSpPr/>
            <p:nvPr/>
          </p:nvGrpSpPr>
          <p:grpSpPr>
            <a:xfrm>
              <a:off x="5411520" y="1642680"/>
              <a:ext cx="3121200" cy="360"/>
              <a:chOff x="5411520" y="1642680"/>
              <a:chExt cx="3121200" cy="360"/>
            </a:xfrm>
          </p:grpSpPr>
          <p:sp>
            <p:nvSpPr>
              <p:cNvPr id="237" name="Line 23"/>
              <p:cNvSpPr/>
              <p:nvPr/>
            </p:nvSpPr>
            <p:spPr>
              <a:xfrm>
                <a:off x="5411880" y="1643040"/>
                <a:ext cx="3120840" cy="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 rot="10800000">
                <a:off x="5411520" y="1642320"/>
                <a:ext cx="3120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11"/>
            <p:cNvSpPr/>
            <p:nvPr/>
          </p:nvSpPr>
          <p:spPr>
            <a:xfrm>
              <a:off x="5546160" y="1138320"/>
              <a:ext cx="29865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最基层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社会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autoRev="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38175E-006 L -8.33333E-007 0.01234 E">
                                      <p:cBhvr>
                                        <p:cTn id="425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1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" presetSubtype="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F9B-A561-456A-9C40-8E350A849A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6" descr="0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未标题-1"/>
          <p:cNvPicPr/>
          <p:nvPr/>
        </p:nvPicPr>
        <p:blipFill>
          <a:blip r:embed="rId2"/>
          <a:stretch/>
        </p:blipFill>
        <p:spPr>
          <a:xfrm>
            <a:off x="-1440" y="-358920"/>
            <a:ext cx="9144000" cy="31464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6" descr=""/>
          <p:cNvPicPr/>
          <p:nvPr/>
        </p:nvPicPr>
        <p:blipFill>
          <a:blip r:embed="rId3"/>
          <a:stretch/>
        </p:blipFill>
        <p:spPr>
          <a:xfrm>
            <a:off x="1187280" y="984240"/>
            <a:ext cx="7990200" cy="28828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3" descr="02.png"/>
          <p:cNvPicPr/>
          <p:nvPr/>
        </p:nvPicPr>
        <p:blipFill>
          <a:blip r:embed="rId4"/>
          <a:stretch/>
        </p:blipFill>
        <p:spPr>
          <a:xfrm>
            <a:off x="6950160" y="1327320"/>
            <a:ext cx="2193840" cy="38163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7" descr="16.png"/>
          <p:cNvPicPr/>
          <p:nvPr/>
        </p:nvPicPr>
        <p:blipFill>
          <a:blip r:embed="rId5"/>
          <a:srcRect l="14824" t="42067" r="31554" b="28964"/>
          <a:stretch/>
        </p:blipFill>
        <p:spPr>
          <a:xfrm>
            <a:off x="14400" y="447840"/>
            <a:ext cx="4903560" cy="1987560"/>
          </a:xfrm>
          <a:prstGeom prst="rect">
            <a:avLst/>
          </a:prstGeom>
          <a:ln w="0">
            <a:noFill/>
          </a:ln>
        </p:spPr>
      </p:pic>
      <p:sp>
        <p:nvSpPr>
          <p:cNvPr id="249" name="圆角矩形 8"/>
          <p:cNvSpPr/>
          <p:nvPr/>
        </p:nvSpPr>
        <p:spPr>
          <a:xfrm flipH="1">
            <a:off x="755640" y="3782880"/>
            <a:ext cx="5688000" cy="51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谢谢您的支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　</a:t>
            </a:r>
            <a:r>
              <a:rPr b="1" lang="en-US" sz="5400" spc="-1" strike="noStrike">
                <a:solidFill>
                  <a:srgbClr val="000000"/>
                </a:solidFill>
                <a:latin typeface="叶根友刀锋黑草"/>
                <a:ea typeface="叶根友刀锋黑草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7"/>
          <p:cNvGrpSpPr/>
          <p:nvPr/>
        </p:nvGrpSpPr>
        <p:grpSpPr>
          <a:xfrm>
            <a:off x="971640" y="1276200"/>
            <a:ext cx="7200720" cy="2664000"/>
            <a:chOff x="971640" y="1276200"/>
            <a:chExt cx="7200720" cy="2664000"/>
          </a:xfrm>
        </p:grpSpPr>
        <p:sp>
          <p:nvSpPr>
            <p:cNvPr id="51" name="AutoShape 3"/>
            <p:cNvSpPr/>
            <p:nvPr/>
          </p:nvSpPr>
          <p:spPr>
            <a:xfrm>
              <a:off x="971640" y="1276200"/>
              <a:ext cx="7200720" cy="2664000"/>
            </a:xfrm>
            <a:prstGeom prst="roundRect">
              <a:avLst>
                <a:gd name="adj" fmla="val 2449"/>
              </a:avLst>
            </a:prstGeom>
            <a:solidFill>
              <a:srgbClr val="c00000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977040" y="1441080"/>
              <a:ext cx="7195320" cy="2375640"/>
            </a:xfrm>
            <a:prstGeom prst="roundRect">
              <a:avLst>
                <a:gd name="adj" fmla="val 272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301760" y="1822320"/>
            <a:ext cx="66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依托在全省民政系统开展的“党心暖民心、满意在民政”和“为民服务、创先争优”主题活动平台，坚持围绕“六个着眼”，积极“建品牌、创特色、争第一、做标兵”，取得了良好的工作成效和社会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3181320" y="425520"/>
            <a:ext cx="1882800" cy="1122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5" name="图片 4" descr=""/>
          <p:cNvPicPr/>
          <p:nvPr/>
        </p:nvPicPr>
        <p:blipFill>
          <a:blip r:embed="rId2"/>
          <a:stretch/>
        </p:blipFill>
        <p:spPr>
          <a:xfrm>
            <a:off x="3156120" y="1932120"/>
            <a:ext cx="1935000" cy="1176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6" name="图片 5" descr=""/>
          <p:cNvPicPr/>
          <p:nvPr/>
        </p:nvPicPr>
        <p:blipFill>
          <a:blip r:embed="rId3"/>
          <a:stretch/>
        </p:blipFill>
        <p:spPr>
          <a:xfrm>
            <a:off x="3154320" y="3438360"/>
            <a:ext cx="1936800" cy="1229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7" name="图片 6" descr=""/>
          <p:cNvPicPr/>
          <p:nvPr/>
        </p:nvPicPr>
        <p:blipFill>
          <a:blip r:embed="rId4"/>
          <a:stretch/>
        </p:blipFill>
        <p:spPr>
          <a:xfrm>
            <a:off x="755640" y="1214280"/>
            <a:ext cx="2017800" cy="120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8" name="直接连接符 7"/>
          <p:cNvSpPr/>
          <p:nvPr/>
        </p:nvSpPr>
        <p:spPr>
          <a:xfrm>
            <a:off x="5641920" y="781200"/>
            <a:ext cx="0" cy="3673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8" descr=""/>
          <p:cNvPicPr/>
          <p:nvPr/>
        </p:nvPicPr>
        <p:blipFill>
          <a:blip r:embed="rId5"/>
          <a:stretch/>
        </p:blipFill>
        <p:spPr>
          <a:xfrm>
            <a:off x="755640" y="2949480"/>
            <a:ext cx="2017800" cy="1204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0" name="图片 9" descr=""/>
          <p:cNvPicPr/>
          <p:nvPr/>
        </p:nvPicPr>
        <p:blipFill>
          <a:blip r:embed="rId6"/>
          <a:stretch/>
        </p:blipFill>
        <p:spPr>
          <a:xfrm>
            <a:off x="6308640" y="1141560"/>
            <a:ext cx="1978200" cy="29527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860"/>
          <p:cNvSpPr/>
          <p:nvPr/>
        </p:nvSpPr>
        <p:spPr>
          <a:xfrm>
            <a:off x="5219640" y="2006640"/>
            <a:ext cx="2952720" cy="453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规范社会事务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64"/>
          <p:cNvSpPr/>
          <p:nvPr/>
        </p:nvSpPr>
        <p:spPr>
          <a:xfrm>
            <a:off x="939960" y="2006640"/>
            <a:ext cx="2928600" cy="453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维护稳定和促进公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73"/>
          <p:cNvSpPr/>
          <p:nvPr/>
        </p:nvSpPr>
        <p:spPr>
          <a:xfrm>
            <a:off x="5722920" y="3063960"/>
            <a:ext cx="2449440" cy="453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巩固国防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76"/>
          <p:cNvSpPr/>
          <p:nvPr/>
        </p:nvSpPr>
        <p:spPr>
          <a:xfrm>
            <a:off x="939960" y="3063960"/>
            <a:ext cx="2423880" cy="453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创新社会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79"/>
          <p:cNvSpPr/>
          <p:nvPr/>
        </p:nvSpPr>
        <p:spPr>
          <a:xfrm>
            <a:off x="5219640" y="4143240"/>
            <a:ext cx="2952720" cy="454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落实区党建工作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82"/>
          <p:cNvSpPr/>
          <p:nvPr/>
        </p:nvSpPr>
        <p:spPr>
          <a:xfrm>
            <a:off x="939960" y="4143240"/>
            <a:ext cx="2928600" cy="454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推进社会化养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오른쪽 화살표 80"/>
          <p:cNvSpPr/>
          <p:nvPr/>
        </p:nvSpPr>
        <p:spPr>
          <a:xfrm rot="10800000">
            <a:off x="5305320" y="3122640"/>
            <a:ext cx="357120" cy="277920"/>
          </a:xfrm>
          <a:prstGeom prst="rightArrow">
            <a:avLst>
              <a:gd name="adj1" fmla="val 33241"/>
              <a:gd name="adj2" fmla="val 76462"/>
            </a:avLst>
          </a:prstGeom>
          <a:solidFill>
            <a:srgbClr val="fd7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오른쪽 화살표 81"/>
          <p:cNvSpPr/>
          <p:nvPr/>
        </p:nvSpPr>
        <p:spPr>
          <a:xfrm rot="8233200">
            <a:off x="4852800" y="2329920"/>
            <a:ext cx="357120" cy="277920"/>
          </a:xfrm>
          <a:prstGeom prst="rightArrow">
            <a:avLst>
              <a:gd name="adj1" fmla="val 33241"/>
              <a:gd name="adj2" fmla="val 76777"/>
            </a:avLst>
          </a:prstGeom>
          <a:solidFill>
            <a:srgbClr val="fd7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오른쪽 화살표 82"/>
          <p:cNvSpPr/>
          <p:nvPr/>
        </p:nvSpPr>
        <p:spPr>
          <a:xfrm rot="13500000">
            <a:off x="4852440" y="4008240"/>
            <a:ext cx="357120" cy="277560"/>
          </a:xfrm>
          <a:prstGeom prst="rightArrow">
            <a:avLst>
              <a:gd name="adj1" fmla="val 33241"/>
              <a:gd name="adj2" fmla="val 76740"/>
            </a:avLst>
          </a:prstGeom>
          <a:solidFill>
            <a:srgbClr val="fd7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오른쪽 화살표 84"/>
          <p:cNvSpPr/>
          <p:nvPr/>
        </p:nvSpPr>
        <p:spPr>
          <a:xfrm flipH="1" rot="10800000">
            <a:off x="3405240" y="3122640"/>
            <a:ext cx="357120" cy="277920"/>
          </a:xfrm>
          <a:prstGeom prst="rightArrow">
            <a:avLst>
              <a:gd name="adj1" fmla="val 33241"/>
              <a:gd name="adj2" fmla="val 7659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오른쪽 화살표 85"/>
          <p:cNvSpPr/>
          <p:nvPr/>
        </p:nvSpPr>
        <p:spPr>
          <a:xfrm flipH="1" rot="13366800">
            <a:off x="3857400" y="2329920"/>
            <a:ext cx="357120" cy="277920"/>
          </a:xfrm>
          <a:prstGeom prst="rightArrow">
            <a:avLst>
              <a:gd name="adj1" fmla="val 33241"/>
              <a:gd name="adj2" fmla="val 7664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오른쪽 화살표 86"/>
          <p:cNvSpPr/>
          <p:nvPr/>
        </p:nvSpPr>
        <p:spPr>
          <a:xfrm flipH="1" rot="8100000">
            <a:off x="3857760" y="4008600"/>
            <a:ext cx="356760" cy="277560"/>
          </a:xfrm>
          <a:prstGeom prst="rightArrow">
            <a:avLst>
              <a:gd name="adj1" fmla="val 33241"/>
              <a:gd name="adj2" fmla="val 7648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그룹 54"/>
          <p:cNvGrpSpPr/>
          <p:nvPr/>
        </p:nvGrpSpPr>
        <p:grpSpPr>
          <a:xfrm>
            <a:off x="1601640" y="493560"/>
            <a:ext cx="5929560" cy="930240"/>
            <a:chOff x="1601640" y="493560"/>
            <a:chExt cx="5929560" cy="930240"/>
          </a:xfrm>
        </p:grpSpPr>
        <p:sp>
          <p:nvSpPr>
            <p:cNvPr id="74" name="AutoShape 864"/>
            <p:cNvSpPr/>
            <p:nvPr/>
          </p:nvSpPr>
          <p:spPr>
            <a:xfrm>
              <a:off x="1601640" y="527040"/>
              <a:ext cx="5929560" cy="784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8"/>
            <p:cNvGrpSpPr/>
            <p:nvPr/>
          </p:nvGrpSpPr>
          <p:grpSpPr>
            <a:xfrm>
              <a:off x="1833840" y="493560"/>
              <a:ext cx="5464800" cy="930240"/>
              <a:chOff x="1833840" y="493560"/>
              <a:chExt cx="5464800" cy="930240"/>
            </a:xfrm>
          </p:grpSpPr>
          <p:pic>
            <p:nvPicPr>
              <p:cNvPr id="76" name="Picture 49" descr="그림자"/>
              <p:cNvPicPr/>
              <p:nvPr/>
            </p:nvPicPr>
            <p:blipFill>
              <a:blip r:embed="rId1"/>
              <a:stretch/>
            </p:blipFill>
            <p:spPr>
              <a:xfrm>
                <a:off x="1833840" y="493560"/>
                <a:ext cx="546480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AutoShape 50"/>
              <p:cNvSpPr/>
              <p:nvPr/>
            </p:nvSpPr>
            <p:spPr>
              <a:xfrm>
                <a:off x="1976760" y="632520"/>
                <a:ext cx="5169960" cy="55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夯实民生之基  服务民生之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51"/>
              <p:cNvSpPr/>
              <p:nvPr/>
            </p:nvSpPr>
            <p:spPr>
              <a:xfrm>
                <a:off x="2145240" y="662760"/>
                <a:ext cx="484344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9320" bIns="-468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Oval 4"/>
          <p:cNvSpPr/>
          <p:nvPr/>
        </p:nvSpPr>
        <p:spPr>
          <a:xfrm>
            <a:off x="3676680" y="3444840"/>
            <a:ext cx="1614600" cy="95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3871800" y="2554200"/>
            <a:ext cx="1268640" cy="1268640"/>
            <a:chOff x="3871800" y="2554200"/>
            <a:chExt cx="1268640" cy="1268640"/>
          </a:xfrm>
        </p:grpSpPr>
        <p:sp>
          <p:nvSpPr>
            <p:cNvPr id="81" name="Oval 21"/>
            <p:cNvSpPr/>
            <p:nvPr/>
          </p:nvSpPr>
          <p:spPr>
            <a:xfrm>
              <a:off x="3871800" y="2554200"/>
              <a:ext cx="1268640" cy="126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为民服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先争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>
              <a:off x="3977640" y="2583000"/>
              <a:ext cx="1057680" cy="34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3"/>
            <p:cNvSpPr/>
            <p:nvPr/>
          </p:nvSpPr>
          <p:spPr>
            <a:xfrm>
              <a:off x="4137120" y="2660040"/>
              <a:ext cx="266760" cy="23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autoRev="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38175E-006 L -8.33333E-007 0.01234 E">
                                      <p:cBhvr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维护稳定和促进公平，全力保障困难群体利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8" descr=""/>
          <p:cNvPicPr/>
          <p:nvPr/>
        </p:nvPicPr>
        <p:blipFill>
          <a:blip r:embed="rId3"/>
          <a:stretch/>
        </p:blipFill>
        <p:spPr>
          <a:xfrm>
            <a:off x="717480" y="1344600"/>
            <a:ext cx="2886120" cy="21636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89" name="组合 10"/>
          <p:cNvGrpSpPr/>
          <p:nvPr/>
        </p:nvGrpSpPr>
        <p:grpSpPr>
          <a:xfrm>
            <a:off x="5724360" y="1301760"/>
            <a:ext cx="2592720" cy="3311640"/>
            <a:chOff x="5724360" y="1301760"/>
            <a:chExt cx="2592720" cy="3311640"/>
          </a:xfrm>
        </p:grpSpPr>
        <p:sp>
          <p:nvSpPr>
            <p:cNvPr id="90" name="AutoShape 3"/>
            <p:cNvSpPr/>
            <p:nvPr/>
          </p:nvSpPr>
          <p:spPr>
            <a:xfrm>
              <a:off x="5724360" y="1301760"/>
              <a:ext cx="2592720" cy="3311640"/>
            </a:xfrm>
            <a:custGeom>
              <a:avLst/>
              <a:gdLst>
                <a:gd name="textAreaLeft" fmla="*/ 18360 w 2592720"/>
                <a:gd name="textAreaRight" fmla="*/ 2574360 w 2592720"/>
                <a:gd name="textAreaTop" fmla="*/ 18360 h 3311640"/>
                <a:gd name="textAreaBottom" fmla="*/ 3293280 h 3311640"/>
              </a:gdLst>
              <a:ahLst/>
              <a:rect l="textAreaLeft" t="textAreaTop" r="textAreaRight" b="textAreaBottom"/>
              <a:pathLst>
                <a:path w="21600" h="27589">
                  <a:moveTo>
                    <a:pt x="529" y="0"/>
                  </a:moveTo>
                  <a:arcTo wR="529" hR="529" stAng="16200000" swAng="-5400000"/>
                  <a:lnTo>
                    <a:pt x="0" y="27060"/>
                  </a:lnTo>
                  <a:arcTo wR="529" hR="529" stAng="10800000" swAng="-5400000"/>
                  <a:lnTo>
                    <a:pt x="21071" y="27589"/>
                  </a:lnTo>
                  <a:arcTo wR="529" hR="529" stAng="5400000" swAng="-5400000"/>
                  <a:lnTo>
                    <a:pt x="21600" y="529"/>
                  </a:lnTo>
                  <a:arcTo wR="529" hR="529" stAng="0" swAng="-5400000"/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"/>
            <p:cNvSpPr/>
            <p:nvPr/>
          </p:nvSpPr>
          <p:spPr>
            <a:xfrm>
              <a:off x="5726160" y="1506600"/>
              <a:ext cx="2590920" cy="2953080"/>
            </a:xfrm>
            <a:custGeom>
              <a:avLst/>
              <a:gdLst>
                <a:gd name="textAreaLeft" fmla="*/ 20520 w 2590920"/>
                <a:gd name="textAreaRight" fmla="*/ 2570400 w 2590920"/>
                <a:gd name="textAreaTop" fmla="*/ 20520 h 2953080"/>
                <a:gd name="textAreaBottom" fmla="*/ 2932560 h 2953080"/>
              </a:gdLst>
              <a:ahLst/>
              <a:rect l="textAreaLeft" t="textAreaTop" r="textAreaRight" b="textAreaBottom"/>
              <a:pathLst>
                <a:path w="21600" h="24619">
                  <a:moveTo>
                    <a:pt x="589" y="0"/>
                  </a:moveTo>
                  <a:arcTo wR="589" hR="589" stAng="16200000" swAng="-5400000"/>
                  <a:lnTo>
                    <a:pt x="0" y="24030"/>
                  </a:lnTo>
                  <a:arcTo wR="589" hR="589" stAng="10800000" swAng="-5400000"/>
                  <a:lnTo>
                    <a:pt x="21011" y="24619"/>
                  </a:lnTo>
                  <a:arcTo wR="589" hR="589" stAng="5400000" swAng="-5400000"/>
                  <a:lnTo>
                    <a:pt x="21600" y="589"/>
                  </a:lnTo>
                  <a:arcTo wR="589" hR="58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1"/>
          <p:cNvSpPr/>
          <p:nvPr/>
        </p:nvSpPr>
        <p:spPr>
          <a:xfrm>
            <a:off x="5973840" y="159696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规范低保救助管理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现了低保动态管理和社会救助的全面覆盖。全面实施“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+X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救助工程基础上，新增“边缘补充医疗救助”项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2532E-006 L 0.09462 0.03775 E">
                                      <p:cBhvr>
                                        <p:cTn id="155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95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维护稳定和促进公平，全力保障困难群体利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表 7" descr=""/>
          <p:cNvPicPr/>
          <p:nvPr/>
        </p:nvPicPr>
        <p:blipFill>
          <a:blip r:embed="rId3"/>
          <a:stretch/>
        </p:blipFill>
        <p:spPr>
          <a:xfrm>
            <a:off x="149400" y="1101600"/>
            <a:ext cx="6684840" cy="358776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8"/>
          <p:cNvGrpSpPr/>
          <p:nvPr/>
        </p:nvGrpSpPr>
        <p:grpSpPr>
          <a:xfrm>
            <a:off x="6227640" y="1216080"/>
            <a:ext cx="2592360" cy="3313080"/>
            <a:chOff x="6227640" y="1216080"/>
            <a:chExt cx="2592360" cy="3313080"/>
          </a:xfrm>
        </p:grpSpPr>
        <p:sp>
          <p:nvSpPr>
            <p:cNvPr id="99" name="AutoShape 3"/>
            <p:cNvSpPr/>
            <p:nvPr/>
          </p:nvSpPr>
          <p:spPr>
            <a:xfrm>
              <a:off x="6227640" y="1216080"/>
              <a:ext cx="2592360" cy="3313080"/>
            </a:xfrm>
            <a:custGeom>
              <a:avLst/>
              <a:gdLst>
                <a:gd name="textAreaLeft" fmla="*/ 18360 w 2592360"/>
                <a:gd name="textAreaRight" fmla="*/ 2574000 w 2592360"/>
                <a:gd name="textAreaTop" fmla="*/ 18360 h 3313080"/>
                <a:gd name="textAreaBottom" fmla="*/ 3294720 h 3313080"/>
              </a:gdLst>
              <a:ahLst/>
              <a:rect l="textAreaLeft" t="textAreaTop" r="textAreaRight" b="textAreaBottom"/>
              <a:pathLst>
                <a:path w="21600" h="27604">
                  <a:moveTo>
                    <a:pt x="529" y="0"/>
                  </a:moveTo>
                  <a:arcTo wR="529" hR="529" stAng="16200000" swAng="-5400000"/>
                  <a:lnTo>
                    <a:pt x="0" y="27075"/>
                  </a:lnTo>
                  <a:arcTo wR="529" hR="529" stAng="10800000" swAng="-5400000"/>
                  <a:lnTo>
                    <a:pt x="21071" y="27604"/>
                  </a:lnTo>
                  <a:arcTo wR="529" hR="529" stAng="5400000" swAng="-5400000"/>
                  <a:lnTo>
                    <a:pt x="21600" y="529"/>
                  </a:lnTo>
                  <a:arcTo wR="529" hR="529" stAng="0" swAng="-5400000"/>
                  <a:close/>
                </a:path>
              </a:pathLst>
            </a:custGeom>
            <a:solidFill>
              <a:srgbClr val="c00000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3"/>
            <p:cNvSpPr/>
            <p:nvPr/>
          </p:nvSpPr>
          <p:spPr>
            <a:xfrm>
              <a:off x="6229440" y="1420920"/>
              <a:ext cx="2590560" cy="2954160"/>
            </a:xfrm>
            <a:custGeom>
              <a:avLst/>
              <a:gdLst>
                <a:gd name="textAreaLeft" fmla="*/ 20520 w 2590560"/>
                <a:gd name="textAreaRight" fmla="*/ 2570040 w 2590560"/>
                <a:gd name="textAreaTop" fmla="*/ 20520 h 2954160"/>
                <a:gd name="textAreaBottom" fmla="*/ 2933640 h 2954160"/>
              </a:gdLst>
              <a:ahLst/>
              <a:rect l="textAreaLeft" t="textAreaTop" r="textAreaRight" b="textAreaBottom"/>
              <a:pathLst>
                <a:path w="21600" h="24631">
                  <a:moveTo>
                    <a:pt x="589" y="0"/>
                  </a:moveTo>
                  <a:arcTo wR="589" hR="589" stAng="16200000" swAng="-5400000"/>
                  <a:lnTo>
                    <a:pt x="0" y="24042"/>
                  </a:lnTo>
                  <a:arcTo wR="589" hR="589" stAng="10800000" swAng="-5400000"/>
                  <a:lnTo>
                    <a:pt x="21011" y="24631"/>
                  </a:lnTo>
                  <a:arcTo wR="589" hR="589" stAng="5400000" swAng="-5400000"/>
                  <a:lnTo>
                    <a:pt x="21600" y="589"/>
                  </a:lnTo>
                  <a:arcTo wR="589" hR="589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1"/>
          <p:cNvSpPr/>
          <p:nvPr/>
        </p:nvSpPr>
        <p:spPr>
          <a:xfrm>
            <a:off x="6454800" y="151272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规范低保救助管理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现了低保动态管理和社会救助的全面覆盖。全面实施“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+X”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色救助工程基础上，新增“边缘补充医疗救助”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104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创新社会管理，全面推进新一轮和谐社区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7"/>
          <p:cNvGrpSpPr/>
          <p:nvPr/>
        </p:nvGrpSpPr>
        <p:grpSpPr>
          <a:xfrm>
            <a:off x="3514680" y="1609560"/>
            <a:ext cx="2114640" cy="2988000"/>
            <a:chOff x="3514680" y="1609560"/>
            <a:chExt cx="2114640" cy="2988000"/>
          </a:xfrm>
        </p:grpSpPr>
        <p:sp>
          <p:nvSpPr>
            <p:cNvPr id="107" name="同心圆 8"/>
            <p:cNvSpPr/>
            <p:nvPr/>
          </p:nvSpPr>
          <p:spPr>
            <a:xfrm>
              <a:off x="3756960" y="3153960"/>
              <a:ext cx="1630080" cy="1443600"/>
            </a:xfrm>
            <a:prstGeom prst="donut">
              <a:avLst>
                <a:gd name="adj" fmla="val 9527"/>
              </a:avLst>
            </a:prstGeom>
            <a:solidFill>
              <a:srgbClr val="fbd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等腰三角形 9"/>
            <p:cNvSpPr/>
            <p:nvPr/>
          </p:nvSpPr>
          <p:spPr>
            <a:xfrm flipV="1">
              <a:off x="3514680" y="1609560"/>
              <a:ext cx="2114640" cy="2483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10"/>
          <p:cNvGrpSpPr/>
          <p:nvPr/>
        </p:nvGrpSpPr>
        <p:grpSpPr>
          <a:xfrm>
            <a:off x="571680" y="1596960"/>
            <a:ext cx="1842840" cy="2665440"/>
            <a:chOff x="571680" y="1596960"/>
            <a:chExt cx="1842840" cy="2665440"/>
          </a:xfrm>
        </p:grpSpPr>
        <p:sp>
          <p:nvSpPr>
            <p:cNvPr id="110" name="同心圆 11"/>
            <p:cNvSpPr/>
            <p:nvPr/>
          </p:nvSpPr>
          <p:spPr>
            <a:xfrm>
              <a:off x="782640" y="2974680"/>
              <a:ext cx="1420560" cy="1287720"/>
            </a:xfrm>
            <a:prstGeom prst="donut">
              <a:avLst>
                <a:gd name="adj" fmla="val 9527"/>
              </a:avLst>
            </a:prstGeom>
            <a:solidFill>
              <a:srgbClr val="e5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等腰三角形 12"/>
            <p:cNvSpPr/>
            <p:nvPr/>
          </p:nvSpPr>
          <p:spPr>
            <a:xfrm flipV="1">
              <a:off x="571680" y="1596960"/>
              <a:ext cx="1842840" cy="2214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3"/>
          <p:cNvGrpSpPr/>
          <p:nvPr/>
        </p:nvGrpSpPr>
        <p:grpSpPr>
          <a:xfrm>
            <a:off x="6532560" y="1622160"/>
            <a:ext cx="2216160" cy="3102120"/>
            <a:chOff x="6532560" y="1622160"/>
            <a:chExt cx="2216160" cy="3102120"/>
          </a:xfrm>
        </p:grpSpPr>
        <p:sp>
          <p:nvSpPr>
            <p:cNvPr id="113" name="同心圆 14"/>
            <p:cNvSpPr/>
            <p:nvPr/>
          </p:nvSpPr>
          <p:spPr>
            <a:xfrm>
              <a:off x="6786360" y="3225600"/>
              <a:ext cx="1708200" cy="1498680"/>
            </a:xfrm>
            <a:prstGeom prst="donut">
              <a:avLst>
                <a:gd name="adj" fmla="val 9527"/>
              </a:avLst>
            </a:prstGeom>
            <a:solidFill>
              <a:srgbClr val="92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15"/>
            <p:cNvSpPr/>
            <p:nvPr/>
          </p:nvSpPr>
          <p:spPr>
            <a:xfrm flipV="1">
              <a:off x="6532560" y="1621800"/>
              <a:ext cx="2216160" cy="2577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16"/>
          <p:cNvSpPr/>
          <p:nvPr/>
        </p:nvSpPr>
        <p:spPr>
          <a:xfrm>
            <a:off x="3492360" y="4405320"/>
            <a:ext cx="2041560" cy="503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7"/>
          <p:cNvSpPr/>
          <p:nvPr/>
        </p:nvSpPr>
        <p:spPr>
          <a:xfrm>
            <a:off x="6588000" y="4500720"/>
            <a:ext cx="2041560" cy="502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8"/>
          <p:cNvSpPr/>
          <p:nvPr/>
        </p:nvSpPr>
        <p:spPr>
          <a:xfrm>
            <a:off x="395280" y="4156200"/>
            <a:ext cx="204156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0"/>
          <p:cNvSpPr/>
          <p:nvPr/>
        </p:nvSpPr>
        <p:spPr>
          <a:xfrm>
            <a:off x="3203640" y="1830240"/>
            <a:ext cx="2952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36c09"/>
                </a:solidFill>
                <a:latin typeface="Calibri"/>
                <a:ea typeface="宋体"/>
              </a:rPr>
              <a:t>        </a:t>
            </a:r>
            <a:r>
              <a:rPr b="1" lang="zh-CN" sz="1400" spc="-1" strike="noStrike">
                <a:solidFill>
                  <a:srgbClr val="e36c09"/>
                </a:solidFill>
                <a:latin typeface="微软雅黑"/>
                <a:ea typeface="微软雅黑"/>
              </a:rPr>
              <a:t>实施社区服务“公益创投”试点项目</a:t>
            </a:r>
            <a:r>
              <a:rPr b="1" lang="en-US" sz="1400" spc="-1" strike="noStrike">
                <a:solidFill>
                  <a:srgbClr val="e36c09"/>
                </a:solidFill>
                <a:latin typeface="微软雅黑"/>
                <a:ea typeface="微软雅黑"/>
              </a:rPr>
              <a:t>,</a:t>
            </a:r>
            <a:r>
              <a:rPr b="1" lang="zh-CN" sz="1400" spc="-1" strike="noStrike">
                <a:solidFill>
                  <a:srgbClr val="e36c09"/>
                </a:solidFill>
                <a:latin typeface="微软雅黑"/>
                <a:ea typeface="微软雅黑"/>
              </a:rPr>
              <a:t>推行社区服务项目社会专业督导机制，全力打造“精品社区”，创新实践“三社联动”机制，启动“环玄武湖和谐社区建设示范带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1"/>
          <p:cNvSpPr/>
          <p:nvPr/>
        </p:nvSpPr>
        <p:spPr>
          <a:xfrm>
            <a:off x="6286680" y="2068560"/>
            <a:ext cx="2585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1859b"/>
                </a:solidFill>
                <a:latin typeface="微软雅黑"/>
                <a:ea typeface="微软雅黑"/>
              </a:rPr>
              <a:t>       </a:t>
            </a:r>
            <a:r>
              <a:rPr b="1" lang="zh-CN" sz="1400" spc="-1" strike="noStrike">
                <a:solidFill>
                  <a:srgbClr val="31859b"/>
                </a:solidFill>
                <a:latin typeface="微软雅黑"/>
                <a:ea typeface="微软雅黑"/>
              </a:rPr>
              <a:t>率先在全市出台</a:t>
            </a:r>
            <a:r>
              <a:rPr b="1" lang="en-US" sz="1400" spc="-1" strike="noStrike">
                <a:solidFill>
                  <a:srgbClr val="31859b"/>
                </a:solidFill>
                <a:latin typeface="微软雅黑"/>
                <a:ea typeface="微软雅黑"/>
              </a:rPr>
              <a:t>《</a:t>
            </a:r>
            <a:r>
              <a:rPr b="1" lang="zh-CN" sz="1400" spc="-1" strike="noStrike">
                <a:solidFill>
                  <a:srgbClr val="31859b"/>
                </a:solidFill>
                <a:latin typeface="微软雅黑"/>
                <a:ea typeface="微软雅黑"/>
              </a:rPr>
              <a:t>关于加强社区社会工作人才队伍建设的若干意见</a:t>
            </a:r>
            <a:r>
              <a:rPr b="1" lang="en-US" sz="1400" spc="-1" strike="noStrike">
                <a:solidFill>
                  <a:srgbClr val="31859b"/>
                </a:solidFill>
                <a:latin typeface="微软雅黑"/>
                <a:ea typeface="微软雅黑"/>
              </a:rPr>
              <a:t>》</a:t>
            </a:r>
            <a:r>
              <a:rPr b="1" lang="zh-CN" sz="1400" spc="-1" strike="noStrike">
                <a:solidFill>
                  <a:srgbClr val="31859b"/>
                </a:solidFill>
                <a:latin typeface="微软雅黑"/>
                <a:ea typeface="微软雅黑"/>
              </a:rPr>
              <a:t>，率先在全市尝试社会工作者继续教育的试点工作；率先在全市调整社工的工资待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3113280" y="12873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重点工作成效明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5985000" y="160956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859b"/>
                </a:solidFill>
                <a:latin typeface="微软雅黑"/>
                <a:ea typeface="微软雅黑"/>
              </a:rPr>
              <a:t>推进社工队伍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"/>
          <p:cNvSpPr/>
          <p:nvPr/>
        </p:nvSpPr>
        <p:spPr>
          <a:xfrm>
            <a:off x="276120" y="1471680"/>
            <a:ext cx="2592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lnSpc>
                <a:spcPct val="11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3734"/>
                </a:solidFill>
                <a:latin typeface="微软雅黑"/>
                <a:ea typeface="微软雅黑"/>
              </a:rPr>
              <a:t>       </a:t>
            </a:r>
            <a:r>
              <a:rPr b="1" lang="zh-CN" sz="1400" spc="-1" strike="noStrike">
                <a:solidFill>
                  <a:srgbClr val="953734"/>
                </a:solidFill>
                <a:latin typeface="微软雅黑"/>
                <a:ea typeface="微软雅黑"/>
              </a:rPr>
              <a:t>推广“社区开放空间论坛”、“社区议员制”等民主协商形式，建立“网上</a:t>
            </a:r>
            <a:r>
              <a:rPr b="1" lang="en-US" sz="1400" spc="-1" strike="noStrike">
                <a:solidFill>
                  <a:srgbClr val="953734"/>
                </a:solidFill>
                <a:latin typeface="微软雅黑"/>
                <a:ea typeface="微软雅黑"/>
              </a:rPr>
              <a:t>e</a:t>
            </a:r>
            <a:r>
              <a:rPr b="1" lang="zh-CN" sz="1400" spc="-1" strike="noStrike">
                <a:solidFill>
                  <a:srgbClr val="953734"/>
                </a:solidFill>
                <a:latin typeface="微软雅黑"/>
                <a:ea typeface="微软雅黑"/>
              </a:rPr>
              <a:t>社区”、“阳光网络论坛”等新型民主参与平台，落实社区公益金，及时解决社区群众“急、小、难”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17640" y="110340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53734"/>
                </a:solidFill>
                <a:latin typeface="微软雅黑"/>
                <a:ea typeface="微软雅黑"/>
              </a:rPr>
              <a:t>深化民主自治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6"/>
          <a:stretch/>
        </p:blipFill>
        <p:spPr>
          <a:xfrm>
            <a:off x="469800" y="1609560"/>
            <a:ext cx="2206800" cy="13431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5" name="图片 26" descr=""/>
          <p:cNvPicPr/>
          <p:nvPr/>
        </p:nvPicPr>
        <p:blipFill>
          <a:blip r:embed="rId7"/>
          <a:stretch/>
        </p:blipFill>
        <p:spPr>
          <a:xfrm>
            <a:off x="3576600" y="1816200"/>
            <a:ext cx="2206800" cy="1368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26" name="图片 27" descr=""/>
          <p:cNvPicPr/>
          <p:nvPr/>
        </p:nvPicPr>
        <p:blipFill>
          <a:blip r:embed="rId8"/>
          <a:stretch/>
        </p:blipFill>
        <p:spPr>
          <a:xfrm>
            <a:off x="6616800" y="2066760"/>
            <a:ext cx="1925640" cy="14464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 spd="slow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autoRev="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38175E-006 L -8.33333E-007 0.01234 E">
                                      <p:cBhvr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autoRev="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38175E-006 L -8.33333E-007 0.01234 E">
                                      <p:cBhvr>
                                        <p:cTn id="229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autoRev="1" nodeType="withEffect" fill="remove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38175E-006 L -8.33333E-007 0.01234 E">
                                      <p:cBhvr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129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推进社会化养老，不断提升社会福利工作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50"/>
          <p:cNvGrpSpPr/>
          <p:nvPr/>
        </p:nvGrpSpPr>
        <p:grpSpPr>
          <a:xfrm>
            <a:off x="2398320" y="3435480"/>
            <a:ext cx="2126160" cy="777600"/>
            <a:chOff x="2398320" y="3435480"/>
            <a:chExt cx="2126160" cy="777600"/>
          </a:xfrm>
        </p:grpSpPr>
        <p:grpSp>
          <p:nvGrpSpPr>
            <p:cNvPr id="132" name=""/>
            <p:cNvGrpSpPr/>
            <p:nvPr/>
          </p:nvGrpSpPr>
          <p:grpSpPr>
            <a:xfrm>
              <a:off x="2398320" y="3435480"/>
              <a:ext cx="1003680" cy="777600"/>
              <a:chOff x="2398320" y="3435480"/>
              <a:chExt cx="1003680" cy="777600"/>
            </a:xfrm>
          </p:grpSpPr>
          <p:sp>
            <p:nvSpPr>
              <p:cNvPr id="133" name="Line 14"/>
              <p:cNvSpPr/>
              <p:nvPr/>
            </p:nvSpPr>
            <p:spPr>
              <a:xfrm flipV="1">
                <a:off x="2398680" y="3435480"/>
                <a:ext cx="1003320" cy="77760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 rot="10800000">
                <a:off x="2398320" y="3435480"/>
                <a:ext cx="1003320" cy="77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395520" y="3436920"/>
              <a:ext cx="1128960" cy="360"/>
              <a:chOff x="3395520" y="3436920"/>
              <a:chExt cx="1128960" cy="360"/>
            </a:xfrm>
          </p:grpSpPr>
          <p:sp>
            <p:nvSpPr>
              <p:cNvPr id="136" name="Line 15"/>
              <p:cNvSpPr/>
              <p:nvPr/>
            </p:nvSpPr>
            <p:spPr>
              <a:xfrm>
                <a:off x="3395520" y="3436920"/>
                <a:ext cx="11289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3395520" y="3436920"/>
                <a:ext cx="112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组合 34"/>
          <p:cNvGrpSpPr/>
          <p:nvPr/>
        </p:nvGrpSpPr>
        <p:grpSpPr>
          <a:xfrm>
            <a:off x="2350800" y="1347840"/>
            <a:ext cx="2257560" cy="630000"/>
            <a:chOff x="2350800" y="1347840"/>
            <a:chExt cx="2257560" cy="630000"/>
          </a:xfrm>
        </p:grpSpPr>
        <p:grpSp>
          <p:nvGrpSpPr>
            <p:cNvPr id="139" name=""/>
            <p:cNvGrpSpPr/>
            <p:nvPr/>
          </p:nvGrpSpPr>
          <p:grpSpPr>
            <a:xfrm>
              <a:off x="2350800" y="1348920"/>
              <a:ext cx="812880" cy="628920"/>
              <a:chOff x="2350800" y="1348920"/>
              <a:chExt cx="812880" cy="628920"/>
            </a:xfrm>
          </p:grpSpPr>
          <p:sp>
            <p:nvSpPr>
              <p:cNvPr id="140" name="Line 13"/>
              <p:cNvSpPr/>
              <p:nvPr/>
            </p:nvSpPr>
            <p:spPr>
              <a:xfrm flipV="1">
                <a:off x="2351160" y="1348920"/>
                <a:ext cx="812520" cy="628920"/>
              </a:xfrm>
              <a:prstGeom prst="line">
                <a:avLst/>
              </a:prstGeom>
              <a:ln w="9360">
                <a:solidFill>
                  <a:srgbClr val="007e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 rot="10800000">
                <a:off x="2350800" y="1348920"/>
                <a:ext cx="812520" cy="62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166920" y="1347840"/>
              <a:ext cx="1441440" cy="360"/>
              <a:chOff x="3166920" y="1347840"/>
              <a:chExt cx="1441440" cy="360"/>
            </a:xfrm>
          </p:grpSpPr>
          <p:sp>
            <p:nvSpPr>
              <p:cNvPr id="143" name="Line 16"/>
              <p:cNvSpPr/>
              <p:nvPr/>
            </p:nvSpPr>
            <p:spPr>
              <a:xfrm>
                <a:off x="3166920" y="1347840"/>
                <a:ext cx="1441440" cy="0"/>
              </a:xfrm>
              <a:prstGeom prst="line">
                <a:avLst/>
              </a:prstGeom>
              <a:ln w="9360">
                <a:solidFill>
                  <a:srgbClr val="007eea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3166920" y="1347840"/>
                <a:ext cx="144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组合 2"/>
          <p:cNvGrpSpPr/>
          <p:nvPr/>
        </p:nvGrpSpPr>
        <p:grpSpPr>
          <a:xfrm>
            <a:off x="4768920" y="1203480"/>
            <a:ext cx="3979800" cy="1584360"/>
            <a:chOff x="4768920" y="1203480"/>
            <a:chExt cx="3979800" cy="1584360"/>
          </a:xfrm>
        </p:grpSpPr>
        <p:sp>
          <p:nvSpPr>
            <p:cNvPr id="146" name="AutoShape 39"/>
            <p:cNvSpPr/>
            <p:nvPr/>
          </p:nvSpPr>
          <p:spPr>
            <a:xfrm>
              <a:off x="4768920" y="1552680"/>
              <a:ext cx="3944880" cy="1235160"/>
            </a:xfrm>
            <a:prstGeom prst="roundRect">
              <a:avLst>
                <a:gd name="adj" fmla="val 28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38"/>
            <p:cNvSpPr/>
            <p:nvPr/>
          </p:nvSpPr>
          <p:spPr>
            <a:xfrm>
              <a:off x="4768920" y="1203480"/>
              <a:ext cx="3944880" cy="30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社会化养老全面推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4768920" y="1563840"/>
              <a:ext cx="397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抓投入，促发展。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前全区各类养老服务机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所，床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41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张，每千名老人拥有床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6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张以上。</a:t>
              </a: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抓管理，促规范。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期检查养老服务机构安全，举办老年公寓负责人消防安全知识讲座，积极强化安全服务意识，杜绝事故隐患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49"/>
          <p:cNvGrpSpPr/>
          <p:nvPr/>
        </p:nvGrpSpPr>
        <p:grpSpPr>
          <a:xfrm>
            <a:off x="4735440" y="3273480"/>
            <a:ext cx="3978360" cy="1601640"/>
            <a:chOff x="4735440" y="3273480"/>
            <a:chExt cx="3978360" cy="1601640"/>
          </a:xfrm>
        </p:grpSpPr>
        <p:sp>
          <p:nvSpPr>
            <p:cNvPr id="150" name="AutoShape 39"/>
            <p:cNvSpPr/>
            <p:nvPr/>
          </p:nvSpPr>
          <p:spPr>
            <a:xfrm>
              <a:off x="4752720" y="3652920"/>
              <a:ext cx="3943440" cy="1222200"/>
            </a:xfrm>
            <a:prstGeom prst="roundRect">
              <a:avLst>
                <a:gd name="adj" fmla="val 28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8"/>
            <p:cNvSpPr/>
            <p:nvPr/>
          </p:nvSpPr>
          <p:spPr>
            <a:xfrm>
              <a:off x="4752720" y="3273480"/>
              <a:ext cx="3943440" cy="328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老龄事业稳步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4735440" y="3706920"/>
              <a:ext cx="3978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全区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符合条件的老人免费提供家政服务，为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户老人免费安装和使用紧急呼叫系统，为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名老人免费办理人寿民安保险。完成了居家养老服务评估标准课题的研究，申报创建国家老年友好城区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47" descr=""/>
          <p:cNvPicPr/>
          <p:nvPr/>
        </p:nvPicPr>
        <p:blipFill>
          <a:blip r:embed="rId3"/>
          <a:stretch/>
        </p:blipFill>
        <p:spPr>
          <a:xfrm>
            <a:off x="482760" y="1425600"/>
            <a:ext cx="2022480" cy="1440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54" name="图片 48" descr=""/>
          <p:cNvPicPr/>
          <p:nvPr/>
        </p:nvPicPr>
        <p:blipFill>
          <a:blip r:embed="rId4"/>
          <a:stretch/>
        </p:blipFill>
        <p:spPr>
          <a:xfrm>
            <a:off x="471600" y="3363840"/>
            <a:ext cx="2022480" cy="144000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9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2465280" y="-92160"/>
            <a:ext cx="678672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0" descr="未标题-1"/>
          <p:cNvPicPr/>
          <p:nvPr/>
        </p:nvPicPr>
        <p:blipFill>
          <a:blip r:embed="rId2"/>
          <a:srcRect l="0" t="0" r="2868" b="0"/>
          <a:stretch/>
        </p:blipFill>
        <p:spPr>
          <a:xfrm>
            <a:off x="-108000" y="-92160"/>
            <a:ext cx="257328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5"/>
          <p:cNvSpPr/>
          <p:nvPr/>
        </p:nvSpPr>
        <p:spPr>
          <a:xfrm>
            <a:off x="0" y="771480"/>
            <a:ext cx="9144000" cy="90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-306360" y="123840"/>
            <a:ext cx="9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着眼规范社会事务管理，有序开展社会事务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2"/>
          <p:cNvGrpSpPr/>
          <p:nvPr/>
        </p:nvGrpSpPr>
        <p:grpSpPr>
          <a:xfrm>
            <a:off x="3130560" y="1092240"/>
            <a:ext cx="2543040" cy="3786120"/>
            <a:chOff x="3130560" y="1092240"/>
            <a:chExt cx="2543040" cy="3786120"/>
          </a:xfrm>
        </p:grpSpPr>
        <p:grpSp>
          <p:nvGrpSpPr>
            <p:cNvPr id="161" name="组合 1"/>
            <p:cNvGrpSpPr/>
            <p:nvPr/>
          </p:nvGrpSpPr>
          <p:grpSpPr>
            <a:xfrm>
              <a:off x="3130560" y="1092240"/>
              <a:ext cx="2543040" cy="3786120"/>
              <a:chOff x="3130560" y="1092240"/>
              <a:chExt cx="2543040" cy="3786120"/>
            </a:xfrm>
          </p:grpSpPr>
          <p:sp>
            <p:nvSpPr>
              <p:cNvPr id="162" name="AutoShape 2"/>
              <p:cNvSpPr/>
              <p:nvPr/>
            </p:nvSpPr>
            <p:spPr>
              <a:xfrm>
                <a:off x="3714840" y="1092240"/>
                <a:ext cx="1433520" cy="1967040"/>
              </a:xfrm>
              <a:prstGeom prst="downArrowCallout">
                <a:avLst>
                  <a:gd name="adj1" fmla="val 49894"/>
                  <a:gd name="adj2" fmla="val 24944"/>
                  <a:gd name="adj3" fmla="val 15253"/>
                  <a:gd name="adj4" fmla="val 888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>
                <a:off x="3852720" y="4548240"/>
                <a:ext cx="1133640" cy="33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8"/>
              <p:cNvSpPr/>
              <p:nvPr/>
            </p:nvSpPr>
            <p:spPr>
              <a:xfrm>
                <a:off x="3851280" y="3395880"/>
                <a:ext cx="1128960" cy="11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>
                <a:off x="3892680" y="3425760"/>
                <a:ext cx="1044720" cy="50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24"/>
              <p:cNvSpPr/>
              <p:nvPr/>
            </p:nvSpPr>
            <p:spPr>
              <a:xfrm>
                <a:off x="3130560" y="3760920"/>
                <a:ext cx="2543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婚姻、收养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记守法正规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11"/>
            <p:cNvSpPr/>
            <p:nvPr/>
          </p:nvSpPr>
          <p:spPr>
            <a:xfrm>
              <a:off x="3714840" y="1134000"/>
              <a:ext cx="143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格按照“省婚姻登记工作规范”依法行政，积极开展亲情服务、优质服务活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图片 50" descr=""/>
          <p:cNvPicPr/>
          <p:nvPr/>
        </p:nvPicPr>
        <p:blipFill>
          <a:blip r:embed="rId3"/>
          <a:stretch/>
        </p:blipFill>
        <p:spPr>
          <a:xfrm>
            <a:off x="803160" y="1308240"/>
            <a:ext cx="1919520" cy="14349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grpSp>
        <p:nvGrpSpPr>
          <p:cNvPr id="169" name="组合 52"/>
          <p:cNvGrpSpPr/>
          <p:nvPr/>
        </p:nvGrpSpPr>
        <p:grpSpPr>
          <a:xfrm>
            <a:off x="6742800" y="1092240"/>
            <a:ext cx="2649600" cy="3786120"/>
            <a:chOff x="6742800" y="1092240"/>
            <a:chExt cx="2649600" cy="3786120"/>
          </a:xfrm>
        </p:grpSpPr>
        <p:grpSp>
          <p:nvGrpSpPr>
            <p:cNvPr id="170" name="组合 53"/>
            <p:cNvGrpSpPr/>
            <p:nvPr/>
          </p:nvGrpSpPr>
          <p:grpSpPr>
            <a:xfrm>
              <a:off x="6742800" y="1092240"/>
              <a:ext cx="2649600" cy="3786120"/>
              <a:chOff x="6742800" y="1092240"/>
              <a:chExt cx="2649600" cy="3786120"/>
            </a:xfrm>
          </p:grpSpPr>
          <p:sp>
            <p:nvSpPr>
              <p:cNvPr id="171" name="AutoShape 2"/>
              <p:cNvSpPr/>
              <p:nvPr/>
            </p:nvSpPr>
            <p:spPr>
              <a:xfrm>
                <a:off x="7380360" y="1092240"/>
                <a:ext cx="1433520" cy="1967040"/>
              </a:xfrm>
              <a:prstGeom prst="downArrowCallout">
                <a:avLst>
                  <a:gd name="adj1" fmla="val 49894"/>
                  <a:gd name="adj2" fmla="val 24944"/>
                  <a:gd name="adj3" fmla="val 15253"/>
                  <a:gd name="adj4" fmla="val 888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>
                <a:off x="7518240" y="4548240"/>
                <a:ext cx="1133640" cy="33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8"/>
              <p:cNvSpPr/>
              <p:nvPr/>
            </p:nvSpPr>
            <p:spPr>
              <a:xfrm>
                <a:off x="7516800" y="3395880"/>
                <a:ext cx="1128960" cy="11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9"/>
              <p:cNvSpPr/>
              <p:nvPr/>
            </p:nvSpPr>
            <p:spPr>
              <a:xfrm>
                <a:off x="7558200" y="3425760"/>
                <a:ext cx="1044720" cy="50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24"/>
              <p:cNvSpPr/>
              <p:nvPr/>
            </p:nvSpPr>
            <p:spPr>
              <a:xfrm>
                <a:off x="6742800" y="3760920"/>
                <a:ext cx="2649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加大福彩销售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工作力度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Text Box 11"/>
            <p:cNvSpPr/>
            <p:nvPr/>
          </p:nvSpPr>
          <p:spPr>
            <a:xfrm>
              <a:off x="7380360" y="1134000"/>
              <a:ext cx="143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格按照“省婚姻登记工作规范”依法行政，积极开展亲情服务、优质服务活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0"/>
          <p:cNvGrpSpPr/>
          <p:nvPr/>
        </p:nvGrpSpPr>
        <p:grpSpPr>
          <a:xfrm>
            <a:off x="4915440" y="1092240"/>
            <a:ext cx="2649600" cy="3786120"/>
            <a:chOff x="4915440" y="1092240"/>
            <a:chExt cx="2649600" cy="3786120"/>
          </a:xfrm>
        </p:grpSpPr>
        <p:grpSp>
          <p:nvGrpSpPr>
            <p:cNvPr id="178" name="组合 61"/>
            <p:cNvGrpSpPr/>
            <p:nvPr/>
          </p:nvGrpSpPr>
          <p:grpSpPr>
            <a:xfrm>
              <a:off x="4915440" y="1092240"/>
              <a:ext cx="2649600" cy="3786120"/>
              <a:chOff x="4915440" y="1092240"/>
              <a:chExt cx="2649600" cy="3786120"/>
            </a:xfrm>
          </p:grpSpPr>
          <p:sp>
            <p:nvSpPr>
              <p:cNvPr id="179" name="AutoShape 2"/>
              <p:cNvSpPr/>
              <p:nvPr/>
            </p:nvSpPr>
            <p:spPr>
              <a:xfrm>
                <a:off x="5553720" y="1092240"/>
                <a:ext cx="1432800" cy="1967040"/>
              </a:xfrm>
              <a:prstGeom prst="downArrowCallout">
                <a:avLst>
                  <a:gd name="adj1" fmla="val 49894"/>
                  <a:gd name="adj2" fmla="val 24944"/>
                  <a:gd name="adj3" fmla="val 15260"/>
                  <a:gd name="adj4" fmla="val 8888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>
                <a:off x="5690880" y="4548240"/>
                <a:ext cx="1133640" cy="33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8"/>
              <p:cNvSpPr/>
              <p:nvPr/>
            </p:nvSpPr>
            <p:spPr>
              <a:xfrm>
                <a:off x="5689440" y="3395880"/>
                <a:ext cx="1128960" cy="11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>
                <a:off x="5730480" y="3425760"/>
                <a:ext cx="1044720" cy="50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4"/>
              <p:cNvSpPr/>
              <p:nvPr/>
            </p:nvSpPr>
            <p:spPr>
              <a:xfrm>
                <a:off x="4915440" y="3760920"/>
                <a:ext cx="26496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推进社会组织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健康发展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11"/>
            <p:cNvSpPr/>
            <p:nvPr/>
          </p:nvSpPr>
          <p:spPr>
            <a:xfrm>
              <a:off x="5541840" y="1128600"/>
              <a:ext cx="144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just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严格按照“省婚姻登记工作规范”依法行政，积极开展亲情服务、优质服务活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图片 68" descr=""/>
          <p:cNvPicPr/>
          <p:nvPr/>
        </p:nvPicPr>
        <p:blipFill>
          <a:blip r:embed="rId4"/>
          <a:stretch/>
        </p:blipFill>
        <p:spPr>
          <a:xfrm>
            <a:off x="793800" y="2106720"/>
            <a:ext cx="1920960" cy="14396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186" name="图片 69" descr=""/>
          <p:cNvPicPr/>
          <p:nvPr/>
        </p:nvPicPr>
        <p:blipFill>
          <a:blip r:embed="rId5"/>
          <a:stretch/>
        </p:blipFill>
        <p:spPr>
          <a:xfrm>
            <a:off x="798480" y="3081240"/>
            <a:ext cx="1919160" cy="14353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</p:spTree>
  </p:cSld>
  <p:transition spd="slow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8:35:00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8-14T12:52:30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