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DE5A-02E1-4992-AE36-997E454176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7450-F539-432B-ADB3-326AB5CB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C395-71FE-40AF-B84A-16DE342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D4AE-4697-42E4-BB65-095154013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8356-E81A-465C-AEEB-63225FBA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7DED-8DDE-412F-805F-7DA594B0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1950-FE8A-4CB3-9121-2C425AA3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5376F-5664-4CDA-B43D-C9F908C6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B3AE-57E3-4326-8950-86E95CFE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BDDE-9E06-4EF3-BA1A-02FF7CD3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1FB9-A366-440D-9B4B-59A2B8D9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C14F-826A-4A74-A15A-6416F1BD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3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Wingdings" charset="2"/>
              <a:buChar char="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c3d69b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c3d69b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c3d69b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7EF0-16A5-46F1-9FEB-9E287A40860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7308-0931-496B-953E-F0F8470CE20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5214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9bbb5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928800" y="3571920"/>
            <a:ext cx="45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9800" y="4237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3840" y="835200"/>
            <a:ext cx="84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经济管理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9bbb59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CAC4-3A5D-4B59-AA63-147C1AA744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61437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9bbb59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85560" y="3500280"/>
            <a:ext cx="45003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0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08-12T14:36:02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