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B4D-E07A-4B0A-BF51-D58F1B3D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55F-B0F0-4661-B6B4-2FCF5B71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33A-D3AC-4ECA-861F-9FD8F056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C21-9002-4F08-8CE7-267C692B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A39-734C-4155-BAC9-D4EF228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BF6-A170-4D39-BCB5-AF065C50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362-EFA5-4DF8-B5D7-A6288B5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92E-9E28-491F-9CDC-F581B33A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BF7-1835-4F12-8D1D-6617AA7F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988-EB6A-429A-97BA-A29AC61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43D-C2E3-403E-8B4A-FD9C208B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07C-9924-4D75-95E9-D1DEF06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589F-C607-4830-B79A-2E51F1380F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5C1-85EC-47A4-9F0C-C4FA093DBF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88840" y="255276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1568880" y="2590920"/>
            <a:ext cx="60123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精准营销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vs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效果营销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395960" y="4610160"/>
            <a:ext cx="6181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杨炯纬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1002960" y="546120"/>
            <a:ext cx="1372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测量与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2088720" y="4152960"/>
            <a:ext cx="6865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广告监测系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868280" y="1422360"/>
            <a:ext cx="8931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搜索引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百度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谷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64240" y="1486080"/>
            <a:ext cx="91872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门户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新浪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搜狐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标准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5560"/>
                <a:tab algn="l" pos="8892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富媒体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433800" y="3759120"/>
            <a:ext cx="427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视频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33800" y="4127400"/>
            <a:ext cx="427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口碑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356400" y="4508640"/>
            <a:ext cx="5824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搜索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DM</a:t>
            </a: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33800" y="5219640"/>
            <a:ext cx="427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微软雅黑"/>
              </a:rPr>
              <a:t>线下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4044600" y="4140360"/>
            <a:ext cx="6865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网站流量系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922360" y="4152960"/>
            <a:ext cx="931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CRM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管理系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889640" y="1473120"/>
            <a:ext cx="109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垂直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视频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IT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活动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Minsi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560"/>
                <a:tab algn="l" pos="5076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活动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A\B\C.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454200" y="1473120"/>
            <a:ext cx="1156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电商类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淘宝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卓越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336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官方网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5922360" y="1473120"/>
            <a:ext cx="1362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舆论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猫扑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\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天涯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会员丏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127080"/>
                <a:tab algn="l" pos="46980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增值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\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丏家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951200" y="5130720"/>
            <a:ext cx="961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合作媒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新闻稿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/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丏题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909600" y="5130720"/>
            <a:ext cx="9565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官方舆论网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微博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\S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5844240" y="5130720"/>
            <a:ext cx="10753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电子商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(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渠道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/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促销活动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7931880" y="1486080"/>
            <a:ext cx="874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分类黄页类媒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网址之家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3968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电话回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8159400" y="373392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促销礼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8083800" y="4203720"/>
            <a:ext cx="5961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DM</a:t>
            </a: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邮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8159400" y="466092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短信渠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8159400" y="511812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微软雅黑"/>
              </a:rPr>
              <a:t>病毒传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148480" y="5816520"/>
            <a:ext cx="322128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网站的深度访客是精准营销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31A-4059-4A1F-AF63-A0A8A891D2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828800" y="3987720"/>
            <a:ext cx="4838760" cy="200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911520" y="546120"/>
            <a:ext cx="1098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写在最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3390120" y="1625760"/>
            <a:ext cx="40752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精准营销是一项无止境的数字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185480" y="2171880"/>
            <a:ext cx="3356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举例——频次控制</a:t>
            </a: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3140280" y="2552760"/>
            <a:ext cx="3180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人工频次控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：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____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小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天对同一受众显示丌超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___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智能频次控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：个性化加权频次控制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4476240" y="3314880"/>
            <a:ext cx="13723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对每个受众触及广告的位置、尺寸、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静态等多个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素进行加权统计和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3326760" y="6019920"/>
            <a:ext cx="1829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频次权重简化模型（示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987840" y="419040"/>
            <a:ext cx="1098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4015080" y="3454560"/>
            <a:ext cx="643680" cy="13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553400" y="2146320"/>
            <a:ext cx="616392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精准营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效果营销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按效果付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1" lang="en-US" sz="3200" spc="-1" strike="noStrike">
                <a:solidFill>
                  <a:srgbClr val="e46c0a"/>
                </a:solidFill>
                <a:latin typeface="微软雅黑"/>
              </a:rPr>
              <a:t>CPA/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73520" y="419040"/>
            <a:ext cx="3834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≈精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802080" y="251460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成本可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44160" y="2882880"/>
            <a:ext cx="2058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按订单结算，投入产出比事先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41240" y="1434960"/>
            <a:ext cx="54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无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289880" y="1803240"/>
            <a:ext cx="2195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按订单结算，没有订单就没有广告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865800" y="359424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怕作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2466000" y="3962520"/>
            <a:ext cx="92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点击、注册都可以作弊，订单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能作弊了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865800" y="461016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优化迅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4227120" y="4978440"/>
            <a:ext cx="105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广告公司、媒体有强大的动力通过各种手段提升广告效果，并扩大获单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92160" y="284472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892160" y="3632040"/>
            <a:ext cx="4635720" cy="6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654048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170720" y="419040"/>
            <a:ext cx="16466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混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1015560" y="2451240"/>
            <a:ext cx="1372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广告价值及效果评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95520" y="2921040"/>
            <a:ext cx="412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返利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741240" y="3746520"/>
            <a:ext cx="549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网址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741240" y="4572000"/>
            <a:ext cx="549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显示广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863280" y="1371600"/>
            <a:ext cx="915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订单判定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75640" y="1676520"/>
            <a:ext cx="193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ssion/Cookie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226520" y="1943280"/>
            <a:ext cx="29444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点击到下单之间的时间间隔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小时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3280" y="5283360"/>
            <a:ext cx="915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微软雅黑"/>
              </a:rPr>
              <a:t>广告订单归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016280" y="5600880"/>
            <a:ext cx="23994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第一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ferrer/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最后一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fe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多次广告行为如何判定和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1170720" y="419040"/>
            <a:ext cx="16466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效果营销乱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45480" y="273060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898560" y="3098880"/>
            <a:ext cx="2139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公司不电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以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:1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结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978920" y="3416400"/>
            <a:ext cx="504612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通知全体员工，作为福利，员工通过广告下单，公司补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，公司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645480" y="431784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1314360" y="4686480"/>
            <a:ext cx="3796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客户端通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js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插入或修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ooki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进行订单劫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45480" y="529596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71240" y="5664240"/>
            <a:ext cx="2439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广告主对订单量按照一定比例扣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645480" y="1612800"/>
            <a:ext cx="6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案例</a:t>
            </a: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948960" y="1981080"/>
            <a:ext cx="2292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某公司不电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按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1:1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结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920960" y="2286000"/>
            <a:ext cx="5314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其通过优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折代购帮助线下客户通过广告链接下单，获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80%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超额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1213560" y="1625760"/>
            <a:ext cx="18525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对营销灵活性的影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376280" y="2044800"/>
            <a:ext cx="146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同毛利率的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225240" y="2514600"/>
            <a:ext cx="573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手机和服装毛利率、转化率各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437120" y="2921040"/>
            <a:ext cx="164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同市场环境和时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2132280" y="3340080"/>
            <a:ext cx="2850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大促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常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旺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淡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转化率各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254240" y="3720960"/>
            <a:ext cx="109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不同营销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1796400" y="4152960"/>
            <a:ext cx="3112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上新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甩尾货，如何利用价格杠杆达到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213560" y="4533840"/>
            <a:ext cx="18525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对营销灵敏性的影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2418840" y="5156280"/>
            <a:ext cx="32644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对获单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获单成本之间的相互平衡关系的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对转化率的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505160" y="419040"/>
            <a:ext cx="13964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另一只眼看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002960" y="546120"/>
            <a:ext cx="1372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打开黑盒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39160" y="162576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效果营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189800" y="2044800"/>
            <a:ext cx="5366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CPS=CPC/CR=(CPM/CTR/1000)/C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53520" y="2552760"/>
            <a:ext cx="2741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：以合适的价格购买到广告曝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T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衡量广告的受关注程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098440" y="3276720"/>
            <a:ext cx="2495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带来的人有多大机会产生订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940680" y="365760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精准营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184400" y="4165560"/>
            <a:ext cx="65718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CPS=∑</a:t>
            </a: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（</a:t>
            </a:r>
            <a:r>
              <a:rPr b="0" lang="en-US" sz="2700" spc="-1" strike="noStrike">
                <a:solidFill>
                  <a:srgbClr val="e46c0a"/>
                </a:solidFill>
                <a:latin typeface="微软雅黑"/>
              </a:rPr>
              <a:t>CPC/CR)=∑(CPM/(CTR*1000))/C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18440" y="4699080"/>
            <a:ext cx="193824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微软雅黑"/>
              </a:rPr>
              <a:t>回归广告的本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语境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受众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微软雅黑"/>
              </a:rPr>
              <a:t>广告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3"/>
          <p:cNvSpPr/>
          <p:nvPr/>
        </p:nvSpPr>
        <p:spPr>
          <a:xfrm>
            <a:off x="6437160" y="4214880"/>
            <a:ext cx="2389320" cy="7318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5357880" y="685800"/>
            <a:ext cx="2747880" cy="8049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101520" y="4143240"/>
            <a:ext cx="3071880" cy="87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0760" y="647640"/>
            <a:ext cx="8826480" cy="443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4477680" y="1663560"/>
            <a:ext cx="59508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语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匹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与购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839200" y="990720"/>
            <a:ext cx="240588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媒体选择：媒体、位置、尺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出价及评价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PM/C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广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创意匹配：关联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冲击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7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评价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353880" y="673200"/>
            <a:ext cx="33814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语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受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广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受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受众选择：受众属性特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多维定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317520"/>
                <a:tab algn="l" pos="298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出价及评价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PC/C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901520" y="5270400"/>
            <a:ext cx="454032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微软雅黑"/>
              </a:rPr>
              <a:t>CPS=∑</a:t>
            </a:r>
            <a:r>
              <a:rPr b="1" lang="en-US" sz="1800" spc="-1" strike="noStrike">
                <a:solidFill>
                  <a:srgbClr val="e46c0a"/>
                </a:solidFill>
                <a:latin typeface="微软雅黑"/>
              </a:rPr>
              <a:t>（</a:t>
            </a:r>
            <a:r>
              <a:rPr b="1" lang="en-US" sz="1800" spc="-1" strike="noStrike">
                <a:solidFill>
                  <a:srgbClr val="e46c0a"/>
                </a:solidFill>
                <a:latin typeface="微软雅黑"/>
              </a:rPr>
              <a:t>CPC/CR)=∑(CPM/(CTR*1000))/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关注媒体选择，关注受众选择，关注广告的关联匹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5560" y="469800"/>
            <a:ext cx="8953200" cy="5969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28640" y="546120"/>
            <a:ext cx="5493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举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1644120" y="2921040"/>
            <a:ext cx="14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流量预估、出价及投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59360" y="3784680"/>
            <a:ext cx="73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</a:rPr>
              <a:t>广告匹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72960" y="1384200"/>
            <a:ext cx="549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选媒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选受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eeppt.com</dc:creator>
  <dc:description>www.eeppt.com</dc:description>
  <cp:keywords>www.eeppt.com</cp:keywords>
  <dc:language>en-US</dc:language>
  <cp:lastModifiedBy>SUNNY-PC</cp:lastModifiedBy>
  <dcterms:modified xsi:type="dcterms:W3CDTF">2015-08-14T12:52:2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