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66B-DE55-4628-B86D-D3108E5B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415-EC75-4A33-8B41-8FC08DC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608-2BE1-4FE1-AD1A-C30DD09C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6A5-15D9-4668-B588-73414681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890-2194-4F3D-BE79-ABA28D63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32D-F972-4FB7-9CEA-DF5B35E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C5A-95D1-4DAC-9E6D-DDBD559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CCF-CC85-449F-84E3-8F1CFA7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D0E-C0C9-4C8C-9850-F3147EAB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EA3-1A7D-47DE-B25E-47401B8D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3DA-2467-4730-90F5-5C8C1E8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F07-4FD2-425B-841C-540D3F8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5758-45CA-4135-A5DE-31FF6E8B0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7560" y="5410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我就是你在找的多面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0720" y="12952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卡通毛毛虫背景球职简历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6A5-1BF9-43B6-AF3A-6FCECD65D5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9640" y="2387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13:42:22Z</dcterms:created>
  <dc:creator>幻灯片之家：www.eeppt.com</dc:creator>
  <dc:description>幻灯片之家：www.eeppt.com</dc:description>
  <cp:keywords>幻灯片之家：www.eeppt.com</cp:keywords>
  <dc:language>en-US</dc:language>
  <cp:lastModifiedBy>Lenovo User</cp:lastModifiedBy>
  <dcterms:modified xsi:type="dcterms:W3CDTF">2015-08-12T14:34:1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