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ECA-1E02-41F8-B9F2-95F1F90F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E26-C1DB-4ED3-946F-6CD629C2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8B9-94F3-4E82-ACDA-5129B564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483-F688-4B21-A9DF-D45979D6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CF5-5292-457F-9672-7C340CFF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01E-9666-4978-ADA4-C4F31081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95D-1AD1-4961-AFB6-76D42712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DDB-6970-45FD-B28F-F8AC4536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5EB-4D7C-41BF-BB0C-4FCDF6B3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5FA-2048-4E6D-9ECB-45164DF0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AB8-BFF3-4537-992F-01F44280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228-C195-4866-9D72-A241F9B5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84CC-13FF-40E6-9784-AEA371584F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03"/>
          <p:cNvSpPr/>
          <p:nvPr/>
        </p:nvSpPr>
        <p:spPr>
          <a:xfrm>
            <a:off x="-9360" y="0"/>
            <a:ext cx="3719520" cy="372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6bb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6"/>
          <p:cNvSpPr/>
          <p:nvPr/>
        </p:nvSpPr>
        <p:spPr>
          <a:xfrm>
            <a:off x="-20520" y="-27000"/>
            <a:ext cx="5892840" cy="590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58" y="0"/>
                </a:moveTo>
                <a:lnTo>
                  <a:pt x="0" y="14028"/>
                </a:lnTo>
                <a:lnTo>
                  <a:pt x="0" y="21600"/>
                </a:lnTo>
                <a:lnTo>
                  <a:pt x="21600" y="48"/>
                </a:lnTo>
                <a:lnTo>
                  <a:pt x="14058" y="0"/>
                </a:lnTo>
                <a:close/>
              </a:path>
            </a:pathLst>
          </a:custGeom>
          <a:solidFill>
            <a:srgbClr val="3b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08"/>
          <p:cNvSpPr/>
          <p:nvPr/>
        </p:nvSpPr>
        <p:spPr>
          <a:xfrm>
            <a:off x="-54000" y="-39600"/>
            <a:ext cx="9207360" cy="698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92" y="39"/>
                </a:moveTo>
                <a:lnTo>
                  <a:pt x="0" y="18615"/>
                </a:ln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14092" y="39"/>
                </a:lnTo>
                <a:close/>
              </a:path>
            </a:pathLst>
          </a:custGeom>
          <a:solidFill>
            <a:srgbClr val="db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三角箭头2 123"/>
          <p:cNvSpPr/>
          <p:nvPr/>
        </p:nvSpPr>
        <p:spPr>
          <a:xfrm>
            <a:off x="1042920" y="549360"/>
            <a:ext cx="432000" cy="576000"/>
          </a:xfrm>
          <a:custGeom>
            <a:avLst/>
            <a:gdLst/>
            <a:ahLst/>
            <a:rect l="l" t="t" r="r" b="b"/>
            <a:pathLst>
              <a:path w="1360" h="1362">
                <a:moveTo>
                  <a:pt x="0" y="0"/>
                </a:moveTo>
                <a:lnTo>
                  <a:pt x="1360" y="680"/>
                </a:lnTo>
                <a:lnTo>
                  <a:pt x="0" y="1362"/>
                </a:lnTo>
                <a:lnTo>
                  <a:pt x="0" y="766"/>
                </a:lnTo>
                <a:lnTo>
                  <a:pt x="340" y="766"/>
                </a:lnTo>
                <a:lnTo>
                  <a:pt x="340" y="953"/>
                </a:lnTo>
                <a:lnTo>
                  <a:pt x="880" y="680"/>
                </a:lnTo>
                <a:lnTo>
                  <a:pt x="340" y="409"/>
                </a:lnTo>
                <a:lnTo>
                  <a:pt x="340" y="596"/>
                </a:lnTo>
                <a:lnTo>
                  <a:pt x="0" y="5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三角箭头2 123"/>
          <p:cNvSpPr/>
          <p:nvPr/>
        </p:nvSpPr>
        <p:spPr>
          <a:xfrm>
            <a:off x="2700360" y="1486080"/>
            <a:ext cx="431640" cy="574560"/>
          </a:xfrm>
          <a:custGeom>
            <a:avLst/>
            <a:gdLst/>
            <a:ahLst/>
            <a:rect l="l" t="t" r="r" b="b"/>
            <a:pathLst>
              <a:path w="1360" h="1362">
                <a:moveTo>
                  <a:pt x="0" y="0"/>
                </a:moveTo>
                <a:lnTo>
                  <a:pt x="1360" y="680"/>
                </a:lnTo>
                <a:lnTo>
                  <a:pt x="0" y="1362"/>
                </a:lnTo>
                <a:lnTo>
                  <a:pt x="0" y="766"/>
                </a:lnTo>
                <a:lnTo>
                  <a:pt x="340" y="766"/>
                </a:lnTo>
                <a:lnTo>
                  <a:pt x="340" y="953"/>
                </a:lnTo>
                <a:lnTo>
                  <a:pt x="880" y="680"/>
                </a:lnTo>
                <a:lnTo>
                  <a:pt x="340" y="409"/>
                </a:lnTo>
                <a:lnTo>
                  <a:pt x="340" y="596"/>
                </a:lnTo>
                <a:lnTo>
                  <a:pt x="0" y="5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165480" y="3048120"/>
            <a:ext cx="4551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d Your T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your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小人3 184"/>
          <p:cNvSpPr/>
          <p:nvPr/>
        </p:nvSpPr>
        <p:spPr>
          <a:xfrm rot="10800000">
            <a:off x="7812000" y="549360"/>
            <a:ext cx="433440" cy="10792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小人2 185"/>
          <p:cNvSpPr/>
          <p:nvPr/>
        </p:nvSpPr>
        <p:spPr>
          <a:xfrm>
            <a:off x="2124000" y="5157720"/>
            <a:ext cx="505080" cy="107964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2556000" y="4076640"/>
            <a:ext cx="1295280" cy="1152720"/>
          </a:xfrm>
          <a:prstGeom prst="rtTriangle">
            <a:avLst/>
          </a:prstGeom>
          <a:gradFill rotWithShape="0">
            <a:gsLst>
              <a:gs pos="0">
                <a:srgbClr val="db4453"/>
              </a:gs>
              <a:gs pos="50000">
                <a:srgbClr val="ffffff"/>
              </a:gs>
              <a:gs pos="100000">
                <a:srgbClr val="db445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rot="10740000">
            <a:off x="6587640" y="1628280"/>
            <a:ext cx="1297080" cy="1152720"/>
          </a:xfrm>
          <a:prstGeom prst="rtTriangle">
            <a:avLst/>
          </a:prstGeom>
          <a:gradFill rotWithShape="0">
            <a:gsLst>
              <a:gs pos="0">
                <a:srgbClr val="db4453"/>
              </a:gs>
              <a:gs pos="50000">
                <a:srgbClr val="ffffff"/>
              </a:gs>
              <a:gs pos="100000">
                <a:srgbClr val="db445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84000" y="24922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黄红色块通用工作汇报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565200" y="-12600"/>
            <a:ext cx="8624880" cy="6921360"/>
            <a:chOff x="565200" y="-12600"/>
            <a:chExt cx="8624880" cy="6921360"/>
          </a:xfrm>
        </p:grpSpPr>
        <p:pic>
          <p:nvPicPr>
            <p:cNvPr id="54" name="Picture 3" descr="11"/>
            <p:cNvPicPr/>
            <p:nvPr/>
          </p:nvPicPr>
          <p:blipFill>
            <a:blip r:embed="rId1"/>
            <a:stretch/>
          </p:blipFill>
          <p:spPr>
            <a:xfrm>
              <a:off x="621000" y="-1440"/>
              <a:ext cx="8545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任意多边形 27"/>
            <p:cNvSpPr/>
            <p:nvPr/>
          </p:nvSpPr>
          <p:spPr>
            <a:xfrm>
              <a:off x="565200" y="-12600"/>
              <a:ext cx="5557320" cy="692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5588" y="0"/>
                  </a:lnTo>
                  <a:lnTo>
                    <a:pt x="21600" y="0"/>
                  </a:lnTo>
                  <a:lnTo>
                    <a:pt x="6044" y="21554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6bb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27"/>
            <p:cNvSpPr/>
            <p:nvPr/>
          </p:nvSpPr>
          <p:spPr>
            <a:xfrm>
              <a:off x="2121480" y="-12600"/>
              <a:ext cx="5537160" cy="692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5588" y="0"/>
                  </a:lnTo>
                  <a:lnTo>
                    <a:pt x="21600" y="0"/>
                  </a:lnTo>
                  <a:lnTo>
                    <a:pt x="6044" y="21554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bae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27"/>
            <p:cNvSpPr/>
            <p:nvPr/>
          </p:nvSpPr>
          <p:spPr>
            <a:xfrm>
              <a:off x="3621240" y="-12600"/>
              <a:ext cx="5568840" cy="692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5588" y="0"/>
                  </a:lnTo>
                  <a:lnTo>
                    <a:pt x="21600" y="0"/>
                  </a:lnTo>
                  <a:lnTo>
                    <a:pt x="6044" y="21554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db44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7"/>
          <p:cNvSpPr/>
          <p:nvPr/>
        </p:nvSpPr>
        <p:spPr>
          <a:xfrm>
            <a:off x="1187280" y="2060640"/>
            <a:ext cx="2016360" cy="1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971640" y="549360"/>
            <a:ext cx="11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835280" y="1079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349280" y="2133720"/>
            <a:ext cx="16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373560" y="1379520"/>
            <a:ext cx="156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d22f"/>
                </a:solidFill>
                <a:latin typeface="Times New Roman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960800" y="1366920"/>
            <a:ext cx="156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1ced1"/>
                </a:solidFill>
                <a:latin typeface="Times New Roman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485040" y="1362240"/>
            <a:ext cx="156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4444"/>
                </a:solidFill>
                <a:latin typeface="Times New Roman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 rot="18000000">
            <a:off x="2542320" y="31024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 rot="18000000">
            <a:off x="3951720" y="31024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 rot="18000000">
            <a:off x="5437800" y="31024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96"/>
          <p:cNvSpPr/>
          <p:nvPr/>
        </p:nvSpPr>
        <p:spPr>
          <a:xfrm>
            <a:off x="0" y="-7920"/>
            <a:ext cx="5892840" cy="691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20"/>
                </a:moveTo>
                <a:lnTo>
                  <a:pt x="0" y="15176"/>
                </a:lnTo>
                <a:lnTo>
                  <a:pt x="10999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20"/>
                </a:lnTo>
                <a:close/>
              </a:path>
            </a:pathLst>
          </a:cu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7"/>
          <p:cNvSpPr/>
          <p:nvPr/>
        </p:nvSpPr>
        <p:spPr>
          <a:xfrm>
            <a:off x="5878440" y="-17640"/>
            <a:ext cx="3265560" cy="693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3"/>
                </a:lnTo>
                <a:lnTo>
                  <a:pt x="0" y="0"/>
                </a:lnTo>
                <a:close/>
              </a:path>
            </a:pathLst>
          </a:custGeom>
          <a:solidFill>
            <a:srgbClr val="787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6016680" y="620640"/>
            <a:ext cx="576360" cy="0"/>
          </a:xfrm>
          <a:prstGeom prst="line">
            <a:avLst/>
          </a:prstGeom>
          <a:ln w="93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940360" y="6206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22f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22f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6012000" y="1495440"/>
            <a:ext cx="14256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940360" y="14954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019920" y="2328840"/>
            <a:ext cx="14292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948280" y="23288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700360" y="622440"/>
            <a:ext cx="302400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1352520" y="2751120"/>
            <a:ext cx="437184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4280" y="4870440"/>
            <a:ext cx="568008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66920" y="1270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203640" y="1247760"/>
            <a:ext cx="18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060720" y="1197000"/>
            <a:ext cx="0" cy="1008000"/>
          </a:xfrm>
          <a:prstGeom prst="line">
            <a:avLst/>
          </a:prstGeom>
          <a:ln w="255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971640" y="334800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2073240" y="332748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1930320" y="3276720"/>
            <a:ext cx="0" cy="1006200"/>
          </a:xfrm>
          <a:prstGeom prst="line">
            <a:avLst/>
          </a:prstGeom>
          <a:ln w="255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185760" y="532116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1122480" y="529920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977760" y="5248440"/>
            <a:ext cx="1800" cy="1008000"/>
          </a:xfrm>
          <a:prstGeom prst="line">
            <a:avLst/>
          </a:prstGeom>
          <a:ln w="255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27"/>
          <p:cNvSpPr/>
          <p:nvPr/>
        </p:nvSpPr>
        <p:spPr>
          <a:xfrm>
            <a:off x="-9360" y="-19080"/>
            <a:ext cx="2898720" cy="471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81"/>
                </a:ln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6b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7"/>
          <p:cNvSpPr/>
          <p:nvPr/>
        </p:nvSpPr>
        <p:spPr>
          <a:xfrm>
            <a:off x="6016680" y="98280"/>
            <a:ext cx="3133800" cy="676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51" y="21600"/>
                </a:moveTo>
                <a:lnTo>
                  <a:pt x="0" y="21563"/>
                </a:lnTo>
                <a:lnTo>
                  <a:pt x="21600" y="0"/>
                </a:lnTo>
                <a:lnTo>
                  <a:pt x="21551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6b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4"/>
          <p:cNvSpPr/>
          <p:nvPr/>
        </p:nvSpPr>
        <p:spPr>
          <a:xfrm flipH="1">
            <a:off x="5806440" y="-17640"/>
            <a:ext cx="74520" cy="69120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4040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76500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任意多边形 37"/>
          <p:cNvSpPr/>
          <p:nvPr/>
        </p:nvSpPr>
        <p:spPr>
          <a:xfrm>
            <a:off x="5878440" y="-17640"/>
            <a:ext cx="3265560" cy="693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3"/>
                </a:lnTo>
                <a:lnTo>
                  <a:pt x="0" y="0"/>
                </a:lnTo>
                <a:close/>
              </a:path>
            </a:pathLst>
          </a:custGeom>
          <a:solidFill>
            <a:srgbClr val="787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96"/>
          <p:cNvSpPr/>
          <p:nvPr/>
        </p:nvSpPr>
        <p:spPr>
          <a:xfrm>
            <a:off x="0" y="-7920"/>
            <a:ext cx="5892840" cy="691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20"/>
                </a:moveTo>
                <a:lnTo>
                  <a:pt x="0" y="15176"/>
                </a:lnTo>
                <a:lnTo>
                  <a:pt x="10999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20"/>
                </a:lnTo>
                <a:close/>
              </a:path>
            </a:pathLst>
          </a:cu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016680" y="620640"/>
            <a:ext cx="139680" cy="180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940360" y="6206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6012000" y="1496880"/>
            <a:ext cx="576000" cy="0"/>
          </a:xfrm>
          <a:prstGeom prst="line">
            <a:avLst/>
          </a:prstGeom>
          <a:ln w="93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940360" y="14954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ed1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ed1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6019920" y="2328840"/>
            <a:ext cx="14292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948280" y="23288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700360" y="622440"/>
            <a:ext cx="302400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1352520" y="2751120"/>
            <a:ext cx="437184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4280" y="4870440"/>
            <a:ext cx="568008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66920" y="1270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3203640" y="1247760"/>
            <a:ext cx="18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060720" y="1197000"/>
            <a:ext cx="0" cy="1008000"/>
          </a:xfrm>
          <a:prstGeom prst="line">
            <a:avLst/>
          </a:prstGeom>
          <a:ln w="255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971640" y="334800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073240" y="332748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1930320" y="3276720"/>
            <a:ext cx="0" cy="1006200"/>
          </a:xfrm>
          <a:prstGeom prst="line">
            <a:avLst/>
          </a:prstGeom>
          <a:ln w="255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185760" y="532116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1122480" y="529920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977760" y="5248440"/>
            <a:ext cx="1800" cy="1008000"/>
          </a:xfrm>
          <a:prstGeom prst="line">
            <a:avLst/>
          </a:prstGeom>
          <a:ln w="255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7"/>
          <p:cNvSpPr/>
          <p:nvPr/>
        </p:nvSpPr>
        <p:spPr>
          <a:xfrm>
            <a:off x="-9360" y="-19080"/>
            <a:ext cx="2898720" cy="471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81"/>
                </a:ln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ae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 flipH="1">
            <a:off x="5806440" y="-17640"/>
            <a:ext cx="74520" cy="69120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4040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27"/>
          <p:cNvSpPr/>
          <p:nvPr/>
        </p:nvSpPr>
        <p:spPr>
          <a:xfrm>
            <a:off x="6016680" y="98280"/>
            <a:ext cx="3133800" cy="676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51" y="21600"/>
                </a:moveTo>
                <a:lnTo>
                  <a:pt x="0" y="21563"/>
                </a:lnTo>
                <a:lnTo>
                  <a:pt x="21600" y="0"/>
                </a:lnTo>
                <a:lnTo>
                  <a:pt x="21551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ae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692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任意多边形 37"/>
          <p:cNvSpPr/>
          <p:nvPr/>
        </p:nvSpPr>
        <p:spPr>
          <a:xfrm>
            <a:off x="5878440" y="-17640"/>
            <a:ext cx="3265560" cy="693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3"/>
                </a:lnTo>
                <a:lnTo>
                  <a:pt x="0" y="0"/>
                </a:lnTo>
                <a:close/>
              </a:path>
            </a:pathLst>
          </a:custGeom>
          <a:solidFill>
            <a:srgbClr val="787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96"/>
          <p:cNvSpPr/>
          <p:nvPr/>
        </p:nvSpPr>
        <p:spPr>
          <a:xfrm>
            <a:off x="0" y="-7920"/>
            <a:ext cx="5892840" cy="691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20"/>
                </a:moveTo>
                <a:lnTo>
                  <a:pt x="0" y="15176"/>
                </a:lnTo>
                <a:lnTo>
                  <a:pt x="10999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20"/>
                </a:lnTo>
                <a:close/>
              </a:path>
            </a:pathLst>
          </a:cu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012000" y="1495440"/>
            <a:ext cx="14256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940360" y="14954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6019920" y="2330280"/>
            <a:ext cx="568080" cy="0"/>
          </a:xfrm>
          <a:prstGeom prst="line">
            <a:avLst/>
          </a:prstGeom>
          <a:ln w="93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948280" y="23288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4444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4444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700360" y="622440"/>
            <a:ext cx="302400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352520" y="2751120"/>
            <a:ext cx="437184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4280" y="4870440"/>
            <a:ext cx="568008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266920" y="1270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203640" y="1247760"/>
            <a:ext cx="18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3060720" y="1197000"/>
            <a:ext cx="0" cy="1008000"/>
          </a:xfrm>
          <a:prstGeom prst="line">
            <a:avLst/>
          </a:prstGeom>
          <a:ln w="255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971640" y="334800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073240" y="332748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1930320" y="3276720"/>
            <a:ext cx="0" cy="1006200"/>
          </a:xfrm>
          <a:prstGeom prst="line">
            <a:avLst/>
          </a:prstGeom>
          <a:ln w="255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85760" y="532116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122480" y="529920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977760" y="5248440"/>
            <a:ext cx="1800" cy="1008000"/>
          </a:xfrm>
          <a:prstGeom prst="line">
            <a:avLst/>
          </a:prstGeom>
          <a:ln w="255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6016680" y="620640"/>
            <a:ext cx="139680" cy="180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5940360" y="6206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27"/>
          <p:cNvSpPr/>
          <p:nvPr/>
        </p:nvSpPr>
        <p:spPr>
          <a:xfrm>
            <a:off x="-9360" y="-19080"/>
            <a:ext cx="2898720" cy="471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81"/>
                </a:ln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44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5806440" y="-17640"/>
            <a:ext cx="74520" cy="69120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4040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7"/>
          <p:cNvSpPr/>
          <p:nvPr/>
        </p:nvSpPr>
        <p:spPr>
          <a:xfrm>
            <a:off x="6016680" y="98280"/>
            <a:ext cx="3133800" cy="676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51" y="21600"/>
                </a:moveTo>
                <a:lnTo>
                  <a:pt x="0" y="21563"/>
                </a:lnTo>
                <a:lnTo>
                  <a:pt x="21600" y="0"/>
                </a:lnTo>
                <a:lnTo>
                  <a:pt x="21551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44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62E-71B6-4CEF-A9E7-A5042F5F5E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任意多边形 27"/>
          <p:cNvSpPr/>
          <p:nvPr/>
        </p:nvSpPr>
        <p:spPr>
          <a:xfrm>
            <a:off x="0" y="-204840"/>
            <a:ext cx="6122880" cy="70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15588" y="0"/>
                </a:lnTo>
                <a:lnTo>
                  <a:pt x="21600" y="0"/>
                </a:lnTo>
                <a:lnTo>
                  <a:pt x="6044" y="21554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6b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27"/>
          <p:cNvSpPr/>
          <p:nvPr/>
        </p:nvSpPr>
        <p:spPr>
          <a:xfrm>
            <a:off x="1714680" y="-204840"/>
            <a:ext cx="6102000" cy="70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15588" y="0"/>
                </a:lnTo>
                <a:lnTo>
                  <a:pt x="21600" y="0"/>
                </a:lnTo>
                <a:lnTo>
                  <a:pt x="6044" y="21554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ae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27"/>
          <p:cNvSpPr/>
          <p:nvPr/>
        </p:nvSpPr>
        <p:spPr>
          <a:xfrm>
            <a:off x="3392640" y="-204840"/>
            <a:ext cx="6135480" cy="70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15588" y="0"/>
                </a:lnTo>
                <a:lnTo>
                  <a:pt x="21600" y="0"/>
                </a:lnTo>
                <a:lnTo>
                  <a:pt x="6044" y="21554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44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58840" y="2637000"/>
            <a:ext cx="713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hank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fo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d14444"/>
                </a:solidFill>
                <a:latin typeface="Times New Roman"/>
                <a:ea typeface="Times New Roman"/>
              </a:rPr>
              <a:t>listen</a:t>
            </a:r>
            <a:r>
              <a:rPr b="0" lang="zh-CN" sz="6000" spc="-1" strike="noStrike">
                <a:solidFill>
                  <a:srgbClr val="d14444"/>
                </a:solidFill>
                <a:latin typeface="Times New Roman"/>
                <a:ea typeface="Times New Roman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05:51:43Z</dcterms:created>
  <dc:creator>www.eeppt.com</dc:creator>
  <dc:description>www.eeppt.com</dc:description>
  <cp:keywords>www.eeppt.com</cp:keywords>
  <dc:language>en-US</dc:language>
  <cp:lastModifiedBy>YANGS2015</cp:lastModifiedBy>
  <dcterms:modified xsi:type="dcterms:W3CDTF">2015-08-14T12:52:3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