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8F2-2A9A-4620-9FB8-B7788991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422-76EC-4DD4-AF1A-99A85308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CC1-C09B-452F-B2D0-CDFBD96D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D67-D1E2-4786-AFCC-EBA406DC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BF96-F72B-492D-85EE-C7BCD106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6466-9A6E-4216-8820-D1FB43EC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44EE-2144-4DF7-A72F-13E15A2D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D6DB-8EC1-4D03-A7B5-15B21B54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2C63-D736-4580-97E1-8CC42275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2C70-C6AA-4C55-A1DE-8652E22E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D7C6-DD05-4FF3-A6CA-C4B9CB8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433-7B91-4271-993E-69D7F88C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CC69-5FCF-4037-AF06-5CF359DF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5614-5075-4764-8571-42D7B053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F65B-1B94-4E8E-99FA-8F874474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E4C0-0227-4BB2-AB36-792AFDEA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855-3594-44C3-BE47-A69F5F35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1AF-C146-4E9C-A616-D13620EA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50A-58E1-4B5E-B08C-389913D2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E8F-E9F3-4919-9FBB-74226A02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189-C134-4E28-9472-ABE5BE3B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D20-7798-4A0E-9F87-9FF3636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668-1914-45CC-823A-D6324AB2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F8D-2094-4EEC-BBEB-D4FF51F5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8840"/>
            <a:chOff x="685800" y="117360"/>
            <a:chExt cx="8456760" cy="673884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680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240" cy="65160"/>
              <a:chOff x="4538520" y="6746760"/>
              <a:chExt cx="433224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00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48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680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60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1760"/>
              <a:ext cx="838044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40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2979-B540-48D5-8467-687618490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40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20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40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600"/>
              <a:ext cx="66960" cy="6372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20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440"/>
              <a:ext cx="4332240" cy="65160"/>
              <a:chOff x="4538520" y="6670440"/>
              <a:chExt cx="4332240" cy="6516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44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000" y="667044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440"/>
                <a:ext cx="648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44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6800" y="667044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44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44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600" y="667044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600"/>
              <a:ext cx="66960" cy="6372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160"/>
                <a:ext cx="703440" cy="164016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B71D-A0D1-4EF8-9DF9-3576CB5BD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204640"/>
            <a:ext cx="813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bcbcb"/>
                </a:solidFill>
                <a:latin typeface="Times New Roman"/>
              </a:rPr>
              <a:t>蓝色背景简洁求职简历幻灯片下载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26920" y="4652640"/>
            <a:ext cx="222732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所学专业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求职意向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91560" y="1015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基本信息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91560" y="1015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自我评价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20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91560" y="1015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教育背景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91560" y="1015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工作经验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91560" y="1015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求职陈述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D1A-B96F-40DF-8D88-1039B815F8A9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51360" y="31417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谢谢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>USER</cp:lastModifiedBy>
  <dcterms:modified xsi:type="dcterms:W3CDTF">2015-08-12T14:36:20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