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A416-6B8E-42CB-930C-C0E280848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860C-522F-4301-810A-C9AEDC2C0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B025-836F-4ADA-82B5-1F2D25097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248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5864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248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5864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7DC3-3687-4F49-BBF6-ED86842F2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8CC3-81EA-4E26-AD1A-D63C5A6EC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248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58640" y="1905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248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858640" y="2104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033D-99EE-4106-BCB4-5B28595C3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9407-5C51-4DE2-AB88-970D63203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DA87-75D0-4AFF-963D-81027B3EF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12189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F070-A8DE-4C4A-8C0A-58EF38C23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CC9F-4637-4CEE-9BF3-104618582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97640" y="2104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BB0A-547A-4EF0-BCDD-552E51BFF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7640" y="1905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2104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B245-284C-4FE2-9782-2A30E2C0E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04640"/>
            <a:ext cx="9144000" cy="72072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6692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a3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e8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501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4940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4940"/>
                </a:solidFill>
                <a:latin typeface="Verdana"/>
                <a:ea typeface="宋体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352320" y="649872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1d4940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FAF4-7C73-4E72-86AC-41048CF302E8}" type="slidenum">
              <a:rPr b="1" lang="zh-CN" sz="1000" spc="-1" strike="noStrike">
                <a:solidFill>
                  <a:srgbClr val="1d494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-9360" y="0"/>
            <a:ext cx="188640" cy="6858000"/>
          </a:xfrm>
          <a:prstGeom prst="rect">
            <a:avLst/>
          </a:prstGeom>
          <a:solidFill>
            <a:srgbClr val="ba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04640"/>
            <a:ext cx="184320" cy="72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14400" y="1128600"/>
            <a:ext cx="184320" cy="720720"/>
          </a:xfrm>
          <a:prstGeom prst="rect">
            <a:avLst/>
          </a:pr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14400" y="1847880"/>
            <a:ext cx="184320" cy="72072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14400" y="2552760"/>
            <a:ext cx="184320" cy="720720"/>
          </a:xfrm>
          <a:prstGeom prst="rect">
            <a:avLst/>
          </a:prstGeom>
          <a:solidFill>
            <a:srgbClr val="1d4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885080" y="260280"/>
            <a:ext cx="1079640" cy="115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173560"/>
            <a:ext cx="8763120" cy="1684440"/>
          </a:xfrm>
          <a:prstGeom prst="rect">
            <a:avLst/>
          </a:prstGeom>
          <a:solidFill>
            <a:srgbClr val="669e86"/>
          </a:solidFill>
          <a:ln w="9360">
            <a:solidFill>
              <a:srgbClr val="1d49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5138640"/>
            <a:ext cx="431640" cy="1719360"/>
          </a:xfrm>
          <a:prstGeom prst="rect">
            <a:avLst/>
          </a:prstGeom>
          <a:solidFill>
            <a:srgbClr val="1d49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6360" y="4149720"/>
            <a:ext cx="431640" cy="1006560"/>
          </a:xfrm>
          <a:prstGeom prst="rect">
            <a:avLst/>
          </a:prstGeom>
          <a:solidFill>
            <a:srgbClr val="3f71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6360" y="0"/>
            <a:ext cx="431640" cy="234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360" y="2349360"/>
            <a:ext cx="431640" cy="863640"/>
          </a:xfrm>
          <a:prstGeom prst="rect">
            <a:avLst/>
          </a:prstGeom>
          <a:solidFill>
            <a:srgbClr val="a2c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1d4940"/>
              </a:solidFill>
              <a:latin typeface="Verdan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267080" y="5867280"/>
            <a:ext cx="1079640" cy="635760"/>
            <a:chOff x="4267080" y="5867280"/>
            <a:chExt cx="1079640" cy="635760"/>
          </a:xfrm>
        </p:grpSpPr>
        <p:sp>
          <p:nvSpPr>
            <p:cNvPr id="54" name=""/>
            <p:cNvSpPr/>
            <p:nvPr/>
          </p:nvSpPr>
          <p:spPr>
            <a:xfrm>
              <a:off x="4267080" y="60433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4660920" y="557352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a2ca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-36360" y="3200400"/>
            <a:ext cx="431640" cy="961920"/>
          </a:xfrm>
          <a:prstGeom prst="rect">
            <a:avLst/>
          </a:prstGeom>
          <a:solidFill>
            <a:srgbClr val="669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2362320"/>
            <a:ext cx="8759880" cy="280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e8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669e8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9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94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494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9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94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494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9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9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9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94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9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451640" y="1773360"/>
            <a:ext cx="1224000" cy="12952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d494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d494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7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4940"/>
                </a:solidFill>
                <a:latin typeface="Verdana"/>
              </a:rPr>
              <a:t>绿色年终工作报告</a:t>
            </a:r>
            <a:r>
              <a:rPr b="1" lang="en-US" sz="3600" spc="-1" strike="noStrike">
                <a:solidFill>
                  <a:srgbClr val="1d4940"/>
                </a:solidFill>
                <a:latin typeface="Verdana"/>
              </a:rPr>
              <a:t>PPT</a:t>
            </a:r>
            <a:r>
              <a:rPr b="1" lang="zh-CN" sz="3600" spc="-1" strike="noStrike">
                <a:solidFill>
                  <a:srgbClr val="1d4940"/>
                </a:solidFill>
                <a:latin typeface="Verdana"/>
              </a:rPr>
              <a:t>模板在线下载</a:t>
            </a:r>
            <a:endParaRPr b="1" lang="en-US" sz="3600" spc="-1" strike="noStrike">
              <a:solidFill>
                <a:srgbClr val="1d49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3911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-2223000" y="1600200"/>
            <a:ext cx="9253800" cy="4824360"/>
            <a:chOff x="-2223000" y="1600200"/>
            <a:chExt cx="9253800" cy="4824360"/>
          </a:xfrm>
        </p:grpSpPr>
        <p:sp>
          <p:nvSpPr>
            <p:cNvPr id="100" name=""/>
            <p:cNvSpPr/>
            <p:nvPr/>
          </p:nvSpPr>
          <p:spPr>
            <a:xfrm rot="5400000">
              <a:off x="-2250000" y="1626840"/>
              <a:ext cx="4824360" cy="4770360"/>
            </a:xfrm>
            <a:prstGeom prst="blockArc">
              <a:avLst>
                <a:gd name="adj1" fmla="val 10852167"/>
                <a:gd name="adj2" fmla="val 21547833"/>
                <a:gd name="adj3" fmla="val 1491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rot="5400000">
              <a:off x="-1846800" y="2059200"/>
              <a:ext cx="4032360" cy="3929040"/>
            </a:xfrm>
            <a:prstGeom prst="blockArc">
              <a:avLst>
                <a:gd name="adj1" fmla="val 10800000"/>
                <a:gd name="adj2" fmla="val 0"/>
                <a:gd name="adj3" fmla="val 4974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494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620720" y="1973160"/>
              <a:ext cx="4737240" cy="507960"/>
              <a:chOff x="1620720" y="1973160"/>
              <a:chExt cx="4737240" cy="507960"/>
            </a:xfrm>
          </p:grpSpPr>
          <p:sp>
            <p:nvSpPr>
              <p:cNvPr id="103" name=""/>
              <p:cNvSpPr/>
              <p:nvPr/>
            </p:nvSpPr>
            <p:spPr>
              <a:xfrm>
                <a:off x="1938240" y="1973160"/>
                <a:ext cx="441972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1620720" y="2062080"/>
                <a:ext cx="380880" cy="380880"/>
                <a:chOff x="1620720" y="2062080"/>
                <a:chExt cx="380880" cy="380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620720" y="206208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642320" y="2083320"/>
                  <a:ext cx="33732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662120" y="210348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662120" y="210348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681560" y="212292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560" y="212292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00"/>
                    </a:gs>
                    <a:gs pos="100000">
                      <a:srgbClr val="ffcc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2154240" y="2743200"/>
              <a:ext cx="4724280" cy="507960"/>
              <a:chOff x="2154240" y="2743200"/>
              <a:chExt cx="4724280" cy="507960"/>
            </a:xfrm>
          </p:grpSpPr>
          <p:sp>
            <p:nvSpPr>
              <p:cNvPr id="112" name=""/>
              <p:cNvSpPr/>
              <p:nvPr/>
            </p:nvSpPr>
            <p:spPr>
              <a:xfrm>
                <a:off x="2459160" y="27432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2154240" y="2849400"/>
                <a:ext cx="380880" cy="381240"/>
                <a:chOff x="2154240" y="2849400"/>
                <a:chExt cx="380880" cy="381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154240" y="284940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175840" y="2870640"/>
                  <a:ext cx="33732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195640" y="2890800"/>
                  <a:ext cx="29772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195640" y="2890800"/>
                  <a:ext cx="29772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8be67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215080" y="2910240"/>
                  <a:ext cx="2584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215080" y="2910240"/>
                  <a:ext cx="25848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5c31"/>
                    </a:gs>
                    <a:gs pos="100000">
                      <a:srgbClr val="48be6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2306520" y="3611520"/>
              <a:ext cx="4724280" cy="507960"/>
              <a:chOff x="2306520" y="3611520"/>
              <a:chExt cx="4724280" cy="507960"/>
            </a:xfrm>
          </p:grpSpPr>
          <p:sp>
            <p:nvSpPr>
              <p:cNvPr id="121" name=""/>
              <p:cNvSpPr/>
              <p:nvPr/>
            </p:nvSpPr>
            <p:spPr>
              <a:xfrm>
                <a:off x="2611440" y="361152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306520" y="3687840"/>
                <a:ext cx="380880" cy="380880"/>
                <a:chOff x="2306520" y="3687840"/>
                <a:chExt cx="380880" cy="380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306520" y="3687840"/>
                  <a:ext cx="38088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328120" y="3709080"/>
                  <a:ext cx="33732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47920" y="372924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347920" y="3729240"/>
                  <a:ext cx="29772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b3e1"/>
                    </a:gs>
                    <a:gs pos="100000">
                      <a:srgbClr val="0f526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367360" y="374868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67360" y="3748680"/>
                  <a:ext cx="25848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566c"/>
                    </a:gs>
                    <a:gs pos="100000">
                      <a:srgbClr val="21b3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2154240" y="4424400"/>
              <a:ext cx="4755600" cy="507960"/>
              <a:chOff x="2154240" y="4424400"/>
              <a:chExt cx="4755600" cy="507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490480" y="442440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2154240" y="4525920"/>
                <a:ext cx="380520" cy="381240"/>
                <a:chOff x="2154240" y="4525920"/>
                <a:chExt cx="380520" cy="381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154240" y="4525920"/>
                  <a:ext cx="38052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75840" y="4547160"/>
                  <a:ext cx="336960" cy="33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95640" y="456732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95640" y="4567320"/>
                  <a:ext cx="297360" cy="29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67e1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215080" y="458676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215080" y="4586760"/>
                  <a:ext cx="25812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316c"/>
                    </a:gs>
                    <a:gs pos="100000">
                      <a:srgbClr val="8d67e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1697040" y="5251320"/>
              <a:ext cx="4717440" cy="507960"/>
              <a:chOff x="1697040" y="5251320"/>
              <a:chExt cx="4717440" cy="507960"/>
            </a:xfrm>
          </p:grpSpPr>
          <p:sp>
            <p:nvSpPr>
              <p:cNvPr id="139" name=""/>
              <p:cNvSpPr/>
              <p:nvPr/>
            </p:nvSpPr>
            <p:spPr>
              <a:xfrm>
                <a:off x="1995120" y="5251320"/>
                <a:ext cx="4419360" cy="507960"/>
              </a:xfrm>
              <a:prstGeom prst="roundRect">
                <a:avLst>
                  <a:gd name="adj" fmla="val 50000"/>
                </a:avLst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d494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1d4940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1697040" y="5300640"/>
                <a:ext cx="355320" cy="380880"/>
                <a:chOff x="1697040" y="5300640"/>
                <a:chExt cx="355320" cy="3808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697040" y="5300640"/>
                  <a:ext cx="35532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717200" y="5321880"/>
                  <a:ext cx="314640" cy="33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1a1a1"/>
                    </a:gs>
                    <a:gs pos="50000">
                      <a:srgbClr val="ffffff"/>
                    </a:gs>
                    <a:gs pos="100000">
                      <a:srgbClr val="a1a1a1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35560" y="534204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ca35f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735560" y="5342040"/>
                  <a:ext cx="277560" cy="29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5e23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753920" y="536148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5733"/>
                    </a:gs>
                    <a:gs pos="50000">
                      <a:srgbClr val="8ca35f"/>
                    </a:gs>
                    <a:gs pos="100000">
                      <a:srgbClr val="4b573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53920" y="5361480"/>
                  <a:ext cx="241200" cy="258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d2d10"/>
                    </a:gs>
                    <a:gs pos="100000">
                      <a:srgbClr val="e35e2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d494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7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ca35f"/>
                </a:solidFill>
                <a:uFillTx/>
                <a:latin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1d494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d494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d49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ca35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d494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9244-3146-43D6-8718-3816F230FB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362320" y="1949400"/>
            <a:ext cx="4130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494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50920" y="3141720"/>
            <a:ext cx="5689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9e86"/>
                    </a:gs>
                    <a:gs pos="100000">
                      <a:srgbClr val="8ca35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1d494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9e86"/>
                  </a:gs>
                  <a:gs pos="100000">
                    <a:srgbClr val="8ca35f"/>
                  </a:gs>
                </a:gsLst>
                <a:lin ang="10800000"/>
              </a:gradFill>
              <a:effectLst>
                <a:outerShdw dist="53966" dir="2700000" blurRad="0" rotWithShape="0">
                  <a:srgbClr val="1d494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2:37:33Z</dcterms:created>
  <dc:creator>www.eeppt.com</dc:creator>
  <dc:description>www.eeppt.com</dc:description>
  <cp:keywords>www.eeppt.com</cp:keywords>
  <dc:language>en-US</dc:language>
  <cp:lastModifiedBy>pc</cp:lastModifiedBy>
  <dcterms:modified xsi:type="dcterms:W3CDTF">2015-08-14T12:52:34Z</dcterms:modified>
  <cp:revision>4</cp:revision>
  <dc:subject>www.ruide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