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4FE-5227-4A29-9A51-8F48F78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449-5A10-4A65-BF92-696A78BF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976-FA7A-43FD-B56F-7D69151A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320-90F7-43E5-B0ED-7819F3D2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586-006D-4C5C-A127-EA501883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A80-CA55-4F51-ACC0-C99DCF11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1A8-9752-45FE-80EB-5865D1E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689-E90B-4376-93AB-581F8989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620-4A69-499D-A2EA-3B21B005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AF1-A043-47ED-954B-AD12062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73D-9519-405F-8E12-EF3DCBB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55D-6322-4F86-9BB3-AE43DE4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3D0-4E27-4B13-8518-380E2E0DAC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19F-E51D-4210-86D4-E79C5A5C286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515280" y="714240"/>
            <a:ext cx="107604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06752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148428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清爽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093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缺角矩形 9"/>
          <p:cNvSpPr/>
          <p:nvPr/>
        </p:nvSpPr>
        <p:spPr>
          <a:xfrm>
            <a:off x="2714760" y="1643040"/>
            <a:ext cx="3929040" cy="71424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240"/>
              <a:gd name="textAreaBottom" fmla="*/ 626760 h 714240"/>
            </a:gdLst>
            <a:ahLst/>
            <a:rect l="textAreaLeft" t="textAreaTop" r="textAreaRight" b="textAreaBottom"/>
            <a:pathLst>
              <a:path w="11877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5028" y="21600"/>
                </a:lnTo>
                <a:arcTo wR="3745" hR="3745" stAng="10800000" swAng="5400000"/>
                <a:lnTo>
                  <a:pt x="11877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缺角矩形 10"/>
          <p:cNvSpPr/>
          <p:nvPr/>
        </p:nvSpPr>
        <p:spPr>
          <a:xfrm>
            <a:off x="2714760" y="2500200"/>
            <a:ext cx="3929040" cy="71460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600"/>
              <a:gd name="textAreaBottom" fmla="*/ 627120 h 714600"/>
            </a:gdLst>
            <a:ahLst/>
            <a:rect l="textAreaLeft" t="textAreaTop" r="textAreaRight" b="textAreaBottom"/>
            <a:pathLst>
              <a:path w="11871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4968" y="21600"/>
                </a:lnTo>
                <a:arcTo wR="3745" hR="3745" stAng="10800000" swAng="5400000"/>
                <a:lnTo>
                  <a:pt x="11871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缺角矩形 11"/>
          <p:cNvSpPr/>
          <p:nvPr/>
        </p:nvSpPr>
        <p:spPr>
          <a:xfrm>
            <a:off x="2714760" y="3357720"/>
            <a:ext cx="3929040" cy="71424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240"/>
              <a:gd name="textAreaBottom" fmla="*/ 626760 h 714240"/>
            </a:gdLst>
            <a:ahLst/>
            <a:rect l="textAreaLeft" t="textAreaTop" r="textAreaRight" b="textAreaBottom"/>
            <a:pathLst>
              <a:path w="11877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5028" y="21600"/>
                </a:lnTo>
                <a:arcTo wR="3745" hR="3745" stAng="10800000" swAng="5400000"/>
                <a:lnTo>
                  <a:pt x="11877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32979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36960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3297960" y="3559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十字箭头标注 10"/>
          <p:cNvSpPr/>
          <p:nvPr/>
        </p:nvSpPr>
        <p:spPr>
          <a:xfrm>
            <a:off x="2332080" y="928800"/>
            <a:ext cx="4597200" cy="4597200"/>
          </a:xfrm>
          <a:custGeom>
            <a:avLst/>
            <a:gdLst>
              <a:gd name="textAreaLeft" fmla="*/ 1192320 w 4597200"/>
              <a:gd name="textAreaRight" fmla="*/ 3404880 w 4597200"/>
              <a:gd name="textAreaTop" fmla="*/ 1192320 h 4597200"/>
              <a:gd name="textAreaBottom" fmla="*/ 3404880 h 4597200"/>
            </a:gdLst>
            <a:ahLst/>
            <a:rect l="textAreaLeft" t="textAreaTop" r="textAreaRight" b="textAreaBottom"/>
            <a:pathLst>
              <a:path w="21600" h="21600">
                <a:moveTo>
                  <a:pt x="5603" y="5603"/>
                </a:moveTo>
                <a:lnTo>
                  <a:pt x="10745" y="5603"/>
                </a:lnTo>
                <a:lnTo>
                  <a:pt x="10745" y="3999"/>
                </a:lnTo>
                <a:lnTo>
                  <a:pt x="6800" y="3999"/>
                </a:lnTo>
                <a:lnTo>
                  <a:pt x="10800" y="0"/>
                </a:lnTo>
                <a:lnTo>
                  <a:pt x="14800" y="3999"/>
                </a:lnTo>
                <a:lnTo>
                  <a:pt x="10855" y="3999"/>
                </a:lnTo>
                <a:lnTo>
                  <a:pt x="10855" y="5603"/>
                </a:lnTo>
                <a:lnTo>
                  <a:pt x="15997" y="5603"/>
                </a:lnTo>
                <a:lnTo>
                  <a:pt x="15997" y="10745"/>
                </a:lnTo>
                <a:lnTo>
                  <a:pt x="17601" y="10745"/>
                </a:lnTo>
                <a:lnTo>
                  <a:pt x="17601" y="6800"/>
                </a:lnTo>
                <a:lnTo>
                  <a:pt x="21600" y="10800"/>
                </a:lnTo>
                <a:lnTo>
                  <a:pt x="17601" y="14800"/>
                </a:lnTo>
                <a:lnTo>
                  <a:pt x="17601" y="10855"/>
                </a:lnTo>
                <a:lnTo>
                  <a:pt x="15997" y="10855"/>
                </a:lnTo>
                <a:lnTo>
                  <a:pt x="15997" y="15997"/>
                </a:lnTo>
                <a:lnTo>
                  <a:pt x="10855" y="15997"/>
                </a:lnTo>
                <a:lnTo>
                  <a:pt x="10855" y="17601"/>
                </a:lnTo>
                <a:lnTo>
                  <a:pt x="14800" y="17601"/>
                </a:lnTo>
                <a:lnTo>
                  <a:pt x="10800" y="21600"/>
                </a:lnTo>
                <a:lnTo>
                  <a:pt x="6800" y="17601"/>
                </a:lnTo>
                <a:lnTo>
                  <a:pt x="10745" y="17601"/>
                </a:lnTo>
                <a:lnTo>
                  <a:pt x="10745" y="15997"/>
                </a:lnTo>
                <a:lnTo>
                  <a:pt x="5603" y="15997"/>
                </a:lnTo>
                <a:lnTo>
                  <a:pt x="5603" y="10855"/>
                </a:lnTo>
                <a:lnTo>
                  <a:pt x="3999" y="10855"/>
                </a:lnTo>
                <a:lnTo>
                  <a:pt x="3999" y="14800"/>
                </a:lnTo>
                <a:lnTo>
                  <a:pt x="0" y="10800"/>
                </a:lnTo>
                <a:lnTo>
                  <a:pt x="3999" y="6800"/>
                </a:lnTo>
                <a:lnTo>
                  <a:pt x="3999" y="10745"/>
                </a:lnTo>
                <a:lnTo>
                  <a:pt x="5603" y="107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1297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32266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322668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52268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16"/>
          <p:cNvGrpSpPr/>
          <p:nvPr/>
        </p:nvGrpSpPr>
        <p:grpSpPr>
          <a:xfrm>
            <a:off x="2671920" y="1171080"/>
            <a:ext cx="4257000" cy="4257720"/>
            <a:chOff x="2671920" y="1171080"/>
            <a:chExt cx="4257000" cy="4257720"/>
          </a:xfrm>
        </p:grpSpPr>
        <p:sp>
          <p:nvSpPr>
            <p:cNvPr id="68" name="饼形 11"/>
            <p:cNvSpPr/>
            <p:nvPr/>
          </p:nvSpPr>
          <p:spPr>
            <a:xfrm>
              <a:off x="2671920" y="3300120"/>
              <a:ext cx="2128680" cy="21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饼形 12"/>
            <p:cNvSpPr/>
            <p:nvPr/>
          </p:nvSpPr>
          <p:spPr>
            <a:xfrm flipV="1">
              <a:off x="2671920" y="1170360"/>
              <a:ext cx="2128680" cy="21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组合 15"/>
            <p:cNvGrpSpPr/>
            <p:nvPr/>
          </p:nvGrpSpPr>
          <p:grpSpPr>
            <a:xfrm>
              <a:off x="4800240" y="1171080"/>
              <a:ext cx="2128680" cy="4257720"/>
              <a:chOff x="4800240" y="1171080"/>
              <a:chExt cx="2128680" cy="4257720"/>
            </a:xfrm>
          </p:grpSpPr>
          <p:sp>
            <p:nvSpPr>
              <p:cNvPr id="71" name="饼形 13"/>
              <p:cNvSpPr/>
              <p:nvPr/>
            </p:nvSpPr>
            <p:spPr>
              <a:xfrm flipH="1">
                <a:off x="4799880" y="3300120"/>
                <a:ext cx="2128680" cy="21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饼形 14"/>
              <p:cNvSpPr/>
              <p:nvPr/>
            </p:nvSpPr>
            <p:spPr>
              <a:xfrm flipH="1" flipV="1">
                <a:off x="4799880" y="1170720"/>
                <a:ext cx="2128680" cy="21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2978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465516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22266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5126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斜纹 10"/>
          <p:cNvSpPr/>
          <p:nvPr/>
        </p:nvSpPr>
        <p:spPr>
          <a:xfrm>
            <a:off x="5000760" y="1428840"/>
            <a:ext cx="2428920" cy="171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斜纹 11"/>
          <p:cNvSpPr/>
          <p:nvPr/>
        </p:nvSpPr>
        <p:spPr>
          <a:xfrm rot="5400000">
            <a:off x="4643280" y="3500280"/>
            <a:ext cx="2428920" cy="171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2571480" y="714240"/>
            <a:ext cx="2428920" cy="4143600"/>
            <a:chOff x="2571480" y="714240"/>
            <a:chExt cx="2428920" cy="4143600"/>
          </a:xfrm>
        </p:grpSpPr>
        <p:sp>
          <p:nvSpPr>
            <p:cNvPr id="86" name="斜纹 12"/>
            <p:cNvSpPr/>
            <p:nvPr/>
          </p:nvSpPr>
          <p:spPr>
            <a:xfrm rot="10800000">
              <a:off x="2571480" y="3143160"/>
              <a:ext cx="2428920" cy="171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斜纹 13"/>
            <p:cNvSpPr/>
            <p:nvPr/>
          </p:nvSpPr>
          <p:spPr>
            <a:xfrm rot="16200000">
              <a:off x="2927520" y="1071360"/>
              <a:ext cx="2428920" cy="171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6550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48697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27266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43696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8"/>
          <p:cNvGrpSpPr/>
          <p:nvPr/>
        </p:nvGrpSpPr>
        <p:grpSpPr>
          <a:xfrm>
            <a:off x="2118240" y="714240"/>
            <a:ext cx="5453640" cy="5500440"/>
            <a:chOff x="2118240" y="714240"/>
            <a:chExt cx="5453640" cy="5500440"/>
          </a:xfrm>
        </p:grpSpPr>
        <p:grpSp>
          <p:nvGrpSpPr>
            <p:cNvPr id="98" name="组合 14"/>
            <p:cNvGrpSpPr/>
            <p:nvPr/>
          </p:nvGrpSpPr>
          <p:grpSpPr>
            <a:xfrm>
              <a:off x="2403360" y="714240"/>
              <a:ext cx="5168520" cy="2786040"/>
              <a:chOff x="2403360" y="714240"/>
              <a:chExt cx="5168520" cy="2786040"/>
            </a:xfrm>
          </p:grpSpPr>
          <p:sp>
            <p:nvSpPr>
              <p:cNvPr id="99" name="圆角右箭头 10"/>
              <p:cNvSpPr/>
              <p:nvPr/>
            </p:nvSpPr>
            <p:spPr>
              <a:xfrm>
                <a:off x="2403360" y="714240"/>
                <a:ext cx="2500200" cy="26686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圆角右箭头 11"/>
              <p:cNvSpPr/>
              <p:nvPr/>
            </p:nvSpPr>
            <p:spPr>
              <a:xfrm rot="5400000">
                <a:off x="4987080" y="915480"/>
                <a:ext cx="2500560" cy="2668680"/>
              </a:xfrm>
              <a:custGeom>
                <a:avLst/>
                <a:gdLst>
                  <a:gd name="textAreaLeft" fmla="*/ 0 w 2500560"/>
                  <a:gd name="textAreaRight" fmla="*/ 2500920 w 250056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15"/>
            <p:cNvGrpSpPr/>
            <p:nvPr/>
          </p:nvGrpSpPr>
          <p:grpSpPr>
            <a:xfrm>
              <a:off x="2118240" y="3428640"/>
              <a:ext cx="5168520" cy="2786040"/>
              <a:chOff x="2118240" y="3428640"/>
              <a:chExt cx="5168520" cy="2786040"/>
            </a:xfrm>
          </p:grpSpPr>
          <p:sp>
            <p:nvSpPr>
              <p:cNvPr id="102" name="圆角右箭头 16"/>
              <p:cNvSpPr/>
              <p:nvPr/>
            </p:nvSpPr>
            <p:spPr>
              <a:xfrm rot="10800000">
                <a:off x="4786560" y="3546000"/>
                <a:ext cx="2500200" cy="26686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圆角右箭头 17"/>
              <p:cNvSpPr/>
              <p:nvPr/>
            </p:nvSpPr>
            <p:spPr>
              <a:xfrm rot="16200000">
                <a:off x="2202120" y="3344400"/>
                <a:ext cx="2500560" cy="2668680"/>
              </a:xfrm>
              <a:custGeom>
                <a:avLst/>
                <a:gdLst>
                  <a:gd name="textAreaLeft" fmla="*/ 0 w 2500560"/>
                  <a:gd name="textAreaRight" fmla="*/ 2500920 w 250056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51208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65516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44096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44080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21B-EB2F-44F4-9F4E-3DCCB20D9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流程图: 库存数据 11"/>
          <p:cNvSpPr/>
          <p:nvPr/>
        </p:nvSpPr>
        <p:spPr>
          <a:xfrm>
            <a:off x="785880" y="1857240"/>
            <a:ext cx="3732120" cy="2928960"/>
          </a:xfrm>
          <a:prstGeom prst="flowChartOnlineStorag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库存数据 12"/>
          <p:cNvSpPr/>
          <p:nvPr/>
        </p:nvSpPr>
        <p:spPr>
          <a:xfrm flipH="1">
            <a:off x="4643280" y="1857240"/>
            <a:ext cx="3732480" cy="2928960"/>
          </a:xfrm>
          <a:prstGeom prst="flowChartOnlineStorag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940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52981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4T12:52:36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