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953-41E2-4BAE-A361-B3E521E1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038-9BE7-402D-BD30-22904470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038-009D-45F9-A570-16C593E2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C6A-5AB2-45A0-83F1-E1A8F74F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2E10-3AC8-486C-8969-256C9AA5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A412-0DA5-45CD-81E1-7B119DC5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CE14-0309-4104-8E9E-72E929C2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457E-FC50-4D6A-BC64-AFB56983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A763-088D-4BB0-87CF-4A9FC7D6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17F0-084D-40DF-9511-BE518A45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E2D2-D846-422E-95FF-7ACD8D4D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946-2882-425D-9649-E52BB521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F89D-91AA-4434-A8DB-3E56E80A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05AD-0B69-4458-B5C3-0A2F510E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862E-C984-4944-9E3D-CE6189D1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5F40-9672-4339-B9D4-1F445C35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190D-882C-40D2-A5EB-1DA01702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803D-4FD9-408F-A016-0ADECBE5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BC18-418B-47E0-B182-2A9A26AA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E16C-EAC6-4005-B053-C4F51210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2BBF-D3C3-43D8-9797-E86860C3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95404-88FA-4181-9429-18CC2009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3BF-0F49-49CE-A37A-E7EE6BD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06CA-9349-4200-96D7-17CD547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0DEA-388F-4C6E-AC9B-A039A932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7D81-D9DF-45F1-BA1F-292B1CE1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5340-BACA-4675-9A4D-326FF09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5AAE-9D73-4028-940C-FE265D72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ADA2-91AC-46ED-9D56-4FEEAFA5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8638-3CEA-4EC1-B3DB-E7664F5C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95D-6A93-4D5B-A3DC-3891F5BA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49A-4071-4B8F-A9B2-1C3340F8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921-8318-4D7C-ACD0-2162683F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EC4-1474-44D2-A83E-2B19D372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AE7-C30A-4DD9-AFA4-6D1D79D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449-561D-4A1C-B4E7-C25E63B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813B-F0E8-418E-AA5C-673DE83D2A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8ECC-0A6C-4862-BC6D-AE40BCCCF7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6D90-1687-4006-B567-DC211103C5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C3F6-5C4E-4FFC-BC61-E286DFBCFC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4"/>
          <p:cNvSpPr/>
          <p:nvPr/>
        </p:nvSpPr>
        <p:spPr>
          <a:xfrm>
            <a:off x="2274840" y="1712880"/>
            <a:ext cx="4665600" cy="24703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rc 5"/>
          <p:cNvSpPr/>
          <p:nvPr/>
        </p:nvSpPr>
        <p:spPr>
          <a:xfrm>
            <a:off x="1201680" y="892080"/>
            <a:ext cx="6405480" cy="4029120"/>
          </a:xfrm>
          <a:prstGeom prst="pie">
            <a:avLst/>
          </a:prstGeom>
          <a:noFill/>
          <a:ln w="38160">
            <a:solidFill>
              <a:srgbClr val="ff66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374840" y="2932200"/>
            <a:ext cx="6537240" cy="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08360" y="1566720"/>
            <a:ext cx="0" cy="269100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735280" y="1774800"/>
            <a:ext cx="3771720" cy="23115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2735280" y="2072880"/>
            <a:ext cx="3897360" cy="17715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541520" y="2073240"/>
            <a:ext cx="5281560" cy="1470240"/>
          </a:xfrm>
          <a:prstGeom prst="line">
            <a:avLst/>
          </a:prstGeom>
          <a:ln w="936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3211560" y="1108080"/>
            <a:ext cx="2712960" cy="3645000"/>
          </a:xfrm>
          <a:prstGeom prst="line">
            <a:avLst/>
          </a:prstGeom>
          <a:ln w="936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3881520" y="1774800"/>
            <a:ext cx="1460520" cy="2311560"/>
          </a:xfrm>
          <a:prstGeom prst="line">
            <a:avLst/>
          </a:prstGeom>
          <a:ln w="936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474840" y="2309760"/>
            <a:ext cx="1711080" cy="1246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明确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6980400" y="2309760"/>
            <a:ext cx="1711080" cy="12463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论文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3745080" y="4192560"/>
            <a:ext cx="1709640" cy="1246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查看文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2235240" y="3392640"/>
            <a:ext cx="906480" cy="966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关键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2514600" y="1320840"/>
            <a:ext cx="906480" cy="966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6224760" y="1627200"/>
            <a:ext cx="906120" cy="966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正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参考文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5867280" y="3581280"/>
            <a:ext cx="908280" cy="966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摘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3733920" y="380880"/>
            <a:ext cx="1711080" cy="1246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论文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3132000" y="2247840"/>
            <a:ext cx="295272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487680" y="2362320"/>
            <a:ext cx="2239920" cy="114588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课程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6" descr="未标题-1.png"/>
          <p:cNvPicPr/>
          <p:nvPr/>
        </p:nvPicPr>
        <p:blipFill>
          <a:blip r:embed="rId6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3" descr="地球2.png"/>
          <p:cNvPicPr/>
          <p:nvPr/>
        </p:nvPicPr>
        <p:blipFill>
          <a:blip r:embed="rId7"/>
          <a:stretch/>
        </p:blipFill>
        <p:spPr>
          <a:xfrm>
            <a:off x="3809880" y="5626080"/>
            <a:ext cx="1447920" cy="1309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26960" y="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论文答辩经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0.01481 L -0.98333 0.01111 E">
                                      <p:cBhvr>
                                        <p:cTn id="1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21Z</dcterms:modified>
  <cp:revision>1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