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9D2-C98A-474A-891B-36BAF3C1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2BB-1577-41B6-AAC5-F837E42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546-4BC9-4709-94D4-AAE8DB2C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131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1636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95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131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1636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664-80AE-4A6E-BE8B-C5FBCB2E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05C-8D62-4FEA-94C7-BABC481F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8984-7473-46E0-B6A1-AF5BEF6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0464-A371-4F78-ABA1-57B6E8C9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233E-4C15-4A90-8864-06AB91EA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0FE5-EBBD-46C7-A48D-AC5B1D32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520" y="2952360"/>
            <a:ext cx="533412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4BF-3B81-4157-9043-70279CF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039F-E83E-418E-9608-709BF58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69D-33B6-4C1F-8E2D-0E381BED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E3AD-14D9-4E20-85A6-2F1610F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D089-B12B-4402-A4F7-628D851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C47E-2520-4AF8-8157-1DC9091A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F07-B9C0-4301-9206-263C8D00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1312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16360" y="419112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95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1312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416360" y="4430160"/>
            <a:ext cx="171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E7B4-F85B-448F-B5A3-1E8201AB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4E3-4D31-48A4-8837-4BFBF19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764-E020-47AF-9E4E-B854AC3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931-64AD-4AA4-B4EF-5C5F1D8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520" y="2952360"/>
            <a:ext cx="5334120" cy="43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5D3-CE36-40FF-8C3F-1B81CC5D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03A-3178-4E7A-AE25-11DC32D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000" y="443016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D27-39D8-473A-A1EE-A5EC6B4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952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000" y="4191120"/>
            <a:ext cx="2602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9520" y="4430160"/>
            <a:ext cx="5334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103-22D8-4766-8FA8-DA3F389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39E6-AF76-4CF9-BE6B-348F9C36C8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9AC8-44BD-47E7-84A7-C276B1896B0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TING  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9520" y="41911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70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年底总结报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62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0E2-09AD-4E0A-8337-6866AD51C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9520" y="2952360"/>
            <a:ext cx="53341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