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81080" y="3037320"/>
            <a:ext cx="2923920" cy="102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81080" y="3037320"/>
            <a:ext cx="2923920" cy="102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81080" y="3037320"/>
            <a:ext cx="2923920" cy="102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81080" y="3037320"/>
            <a:ext cx="2923920" cy="102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461880"/>
            <a:ext cx="4176720" cy="24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ts val="8549"/>
              </a:lnSpc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ffd62d"/>
                </a:solidFill>
                <a:latin typeface="Zerox"/>
              </a:rPr>
              <a:t>Click to edit the title text format</a:t>
            </a:r>
            <a:endParaRPr b="0" lang="en-US" sz="6400" spc="-1" strike="noStrike">
              <a:solidFill>
                <a:srgbClr val="ffd62d"/>
              </a:solidFill>
              <a:latin typeface="Zerox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3314520"/>
            <a:ext cx="4176720" cy="16808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t">
            <a:normAutofit fontScale="47000"/>
          </a:bodyPr>
          <a:p>
            <a:pPr algn="r">
              <a:lnSpc>
                <a:spcPct val="90000"/>
              </a:lnSpc>
              <a:buClr>
                <a:srgbClr val="ffffff"/>
              </a:buClr>
              <a:buSzPct val="25000"/>
              <a:buFont typeface="League Gothic"/>
              <a:buChar char="•"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  <a:p>
            <a:pPr lvl="1" algn="r">
              <a:lnSpc>
                <a:spcPct val="90000"/>
              </a:lnSpc>
              <a:buClr>
                <a:srgbClr val="ffffff"/>
              </a:buClr>
              <a:buSzPct val="25000"/>
              <a:buFont typeface="League Gothic"/>
              <a:buChar char="•"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  <a:p>
            <a:pPr lvl="2" algn="r">
              <a:lnSpc>
                <a:spcPct val="90000"/>
              </a:lnSpc>
              <a:buClr>
                <a:srgbClr val="ffffff"/>
              </a:buClr>
              <a:buSzPct val="25000"/>
              <a:buFont typeface="League Gothic"/>
              <a:buChar char="•"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  <a:p>
            <a:pPr lvl="3" algn="r">
              <a:lnSpc>
                <a:spcPct val="90000"/>
              </a:lnSpc>
              <a:buClr>
                <a:srgbClr val="ffffff"/>
              </a:buClr>
              <a:buSzPct val="25000"/>
              <a:buFont typeface="League Gothic"/>
              <a:buChar char="•"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  <a:p>
            <a:pPr lvl="4" algn="r">
              <a:lnSpc>
                <a:spcPct val="90000"/>
              </a:lnSpc>
              <a:buClr>
                <a:srgbClr val="ffffff"/>
              </a:buClr>
              <a:buSzPct val="25000"/>
              <a:buFont typeface="League Gothic"/>
              <a:buChar char="•"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  <a:p>
            <a:pPr lvl="5" algn="r">
              <a:lnSpc>
                <a:spcPct val="90000"/>
              </a:lnSpc>
              <a:buClr>
                <a:srgbClr val="ffffff"/>
              </a:buClr>
              <a:buSzPct val="25000"/>
              <a:buFont typeface="League Gothic"/>
              <a:buChar char="•"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  <a:p>
            <a:pPr lvl="6" algn="r">
              <a:lnSpc>
                <a:spcPct val="90000"/>
              </a:lnSpc>
              <a:buClr>
                <a:srgbClr val="ffffff"/>
              </a:buClr>
              <a:buSzPct val="25000"/>
              <a:buFont typeface="League Gothic"/>
              <a:buChar char="•"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523800" y="3057480"/>
            <a:ext cx="8139240" cy="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514440"/>
            <a:ext cx="417672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ts val="8549"/>
              </a:lnSpc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ffd62d"/>
                </a:solidFill>
                <a:latin typeface="Zerox"/>
              </a:rPr>
              <a:t>Click to edit the title text format</a:t>
            </a:r>
            <a:endParaRPr b="0" lang="en-US" sz="6400" spc="-1" strike="noStrike">
              <a:solidFill>
                <a:srgbClr val="ffd62d"/>
              </a:solidFill>
              <a:latin typeface="Zerox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95280" y="2571840"/>
            <a:ext cx="4176720" cy="22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t">
            <a:normAutofit fontScale="56000"/>
          </a:bodyPr>
          <a:p>
            <a:pPr algn="r">
              <a:lnSpc>
                <a:spcPct val="90000"/>
              </a:lnSpc>
              <a:buClr>
                <a:srgbClr val="ffffff"/>
              </a:buClr>
              <a:buSzPct val="25000"/>
              <a:buFont typeface="League Gothic"/>
              <a:buChar char="•"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  <a:p>
            <a:pPr lvl="1" algn="r">
              <a:lnSpc>
                <a:spcPct val="90000"/>
              </a:lnSpc>
              <a:buClr>
                <a:srgbClr val="ffffff"/>
              </a:buClr>
              <a:buSzPct val="25000"/>
              <a:buFont typeface="League Gothic"/>
              <a:buChar char="•"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  <a:p>
            <a:pPr lvl="2" algn="r">
              <a:lnSpc>
                <a:spcPct val="90000"/>
              </a:lnSpc>
              <a:buClr>
                <a:srgbClr val="ffffff"/>
              </a:buClr>
              <a:buSzPct val="25000"/>
              <a:buFont typeface="League Gothic"/>
              <a:buChar char="•"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  <a:p>
            <a:pPr lvl="3" algn="r">
              <a:lnSpc>
                <a:spcPct val="90000"/>
              </a:lnSpc>
              <a:buClr>
                <a:srgbClr val="ffffff"/>
              </a:buClr>
              <a:buSzPct val="25000"/>
              <a:buFont typeface="League Gothic"/>
              <a:buChar char="•"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  <a:p>
            <a:pPr lvl="4" algn="r">
              <a:lnSpc>
                <a:spcPct val="90000"/>
              </a:lnSpc>
              <a:buClr>
                <a:srgbClr val="ffffff"/>
              </a:buClr>
              <a:buSzPct val="25000"/>
              <a:buFont typeface="League Gothic"/>
              <a:buChar char="•"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  <a:p>
            <a:pPr lvl="5" algn="r">
              <a:lnSpc>
                <a:spcPct val="90000"/>
              </a:lnSpc>
              <a:buClr>
                <a:srgbClr val="000000"/>
              </a:buClr>
              <a:buSzPct val="25000"/>
              <a:buFont typeface="League Gothic"/>
              <a:buChar char="•"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  <a:p>
            <a:pPr lvl="6" algn="r">
              <a:lnSpc>
                <a:spcPct val="90000"/>
              </a:lnSpc>
              <a:buClr>
                <a:srgbClr val="000000"/>
              </a:buClr>
              <a:buSzPct val="25000"/>
              <a:buFont typeface="League Gothic"/>
              <a:buChar char="•"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1"/>
          </p:nvPr>
        </p:nvSpPr>
        <p:spPr>
          <a:xfrm>
            <a:off x="142560" y="4875120"/>
            <a:ext cx="8885160" cy="26856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League 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League Gothic"/>
              </a:rPr>
              <a:t>YOUR COMPANY NAME  |  LONG AND INTERESTING PRESENTATION TITLE  |  VERSION NO. XX  |  06/06/2012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</a:rPr>
              <a:t>Click to edit the title text format</a:t>
            </a: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3419640" y="990720"/>
            <a:ext cx="80640" cy="3162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 type="ftr" idx="2"/>
          </p:nvPr>
        </p:nvSpPr>
        <p:spPr>
          <a:xfrm>
            <a:off x="142560" y="4875120"/>
            <a:ext cx="8885160" cy="26856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League 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League Gothic"/>
              </a:rPr>
              <a:t>YOUR COMPANY NAME  |  LONG AND INTERESTING PRESENTATION TITLE  |  VERSION NO. XX  |  06/06/2012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>
              <a:spcBef>
                <a:spcPts val="1950"/>
              </a:spcBef>
              <a:buClr>
                <a:srgbClr val="ffffff"/>
              </a:buClr>
              <a:buSzPct val="25000"/>
              <a:buFont typeface="M+ 1m regular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M+ 1m regular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  <a:p>
            <a:pPr lvl="1">
              <a:spcBef>
                <a:spcPts val="1950"/>
              </a:spcBef>
              <a:buClr>
                <a:srgbClr val="ffffff"/>
              </a:buClr>
              <a:buSzPct val="25000"/>
              <a:buFont typeface="M+ 1m regular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M+ 1m regular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  <a:p>
            <a:pPr lvl="2">
              <a:spcBef>
                <a:spcPts val="1950"/>
              </a:spcBef>
              <a:buClr>
                <a:srgbClr val="ffffff"/>
              </a:buClr>
              <a:buSzPct val="25000"/>
              <a:buFont typeface="M+ 1m regular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M+ 1m regular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  <a:p>
            <a:pPr lvl="3">
              <a:spcBef>
                <a:spcPts val="1950"/>
              </a:spcBef>
              <a:buClr>
                <a:srgbClr val="ffffff"/>
              </a:buClr>
              <a:buSzPct val="25000"/>
              <a:buFont typeface="M+ 1m regular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M+ 1m regular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  <a:p>
            <a:pPr lvl="4">
              <a:spcBef>
                <a:spcPts val="1950"/>
              </a:spcBef>
              <a:buClr>
                <a:srgbClr val="ffffff"/>
              </a:buClr>
              <a:buSzPct val="25000"/>
              <a:buFont typeface="M+ 1m regular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M+ 1m regular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  <a:p>
            <a:pPr lvl="5">
              <a:spcBef>
                <a:spcPts val="601"/>
              </a:spcBef>
              <a:buClr>
                <a:srgbClr val="ffffff"/>
              </a:buClr>
              <a:buSzPct val="25000"/>
              <a:buFont typeface="M+ 1m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+ 1m regular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  <a:p>
            <a:pPr lvl="6">
              <a:spcBef>
                <a:spcPts val="601"/>
              </a:spcBef>
              <a:buClr>
                <a:srgbClr val="ffffff"/>
              </a:buClr>
              <a:buSzPct val="25000"/>
              <a:buFont typeface="M+ 1m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+ 1m regular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ftr" idx="3"/>
          </p:nvPr>
        </p:nvSpPr>
        <p:spPr>
          <a:xfrm>
            <a:off x="142560" y="4875120"/>
            <a:ext cx="8885160" cy="26856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League 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League Gothic"/>
              </a:rPr>
              <a:t>YOUR COMPANY NAME  |  LONG AND INTERESTING PRESENTATION TITLE  |  VERSION NO. XX  |  06/06/2012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68640" indent="-263880">
              <a:spcBef>
                <a:spcPts val="1950"/>
              </a:spcBef>
              <a:buClr>
                <a:srgbClr val="000000"/>
              </a:buClr>
              <a:buSzPct val="171000"/>
              <a:buFont typeface="Gill Sans"/>
              <a:buChar char="•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1" marL="515160" indent="-263880">
              <a:spcBef>
                <a:spcPts val="1950"/>
              </a:spcBef>
              <a:buClr>
                <a:srgbClr val="000000"/>
              </a:buClr>
              <a:buSzPct val="171000"/>
              <a:buFont typeface="Gill Sans"/>
              <a:buChar char="•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2" marL="662040" indent="-263880">
              <a:spcBef>
                <a:spcPts val="1950"/>
              </a:spcBef>
              <a:buClr>
                <a:srgbClr val="000000"/>
              </a:buClr>
              <a:buSzPct val="171000"/>
              <a:buFont typeface="Gill Sans"/>
              <a:buChar char="•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808560" indent="-263880">
              <a:spcBef>
                <a:spcPts val="1950"/>
              </a:spcBef>
              <a:buClr>
                <a:srgbClr val="000000"/>
              </a:buClr>
              <a:buSzPct val="171000"/>
              <a:buFont typeface="Gill Sans"/>
              <a:buChar char="•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955440" indent="-263880">
              <a:spcBef>
                <a:spcPts val="1950"/>
              </a:spcBef>
              <a:buClr>
                <a:srgbClr val="000000"/>
              </a:buClr>
              <a:buSzPct val="171000"/>
              <a:buFont typeface="Gill Sans"/>
              <a:buChar char="•"/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5" marL="955440" indent="-263880">
              <a:spcBef>
                <a:spcPts val="524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6" marL="955440" indent="-263880">
              <a:spcBef>
                <a:spcPts val="524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2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461880"/>
            <a:ext cx="4176720" cy="24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ts val="8549"/>
              </a:lnSpc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ffd62d"/>
                </a:solidFill>
                <a:latin typeface="Zerox"/>
              </a:rPr>
              <a:t>RUBICON </a:t>
            </a:r>
            <a:endParaRPr b="0" lang="en-US" sz="6400" spc="-1" strike="noStrike">
              <a:solidFill>
                <a:srgbClr val="ffd62d"/>
              </a:solidFill>
              <a:latin typeface="Zerox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3314520"/>
            <a:ext cx="4176720" cy="16808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t">
            <a:normAutofit/>
          </a:bodyPr>
          <a:p>
            <a:pPr algn="r">
              <a:lnSpc>
                <a:spcPct val="90000"/>
              </a:lnSpc>
              <a:buClr>
                <a:srgbClr val="ffffff"/>
              </a:buClr>
              <a:buSzPct val="25000"/>
              <a:buFont typeface="League Gothic"/>
              <a:buChar char="•"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</a:rPr>
              <a:t>Presenting your ideas 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  <a:p>
            <a:pPr algn="r">
              <a:lnSpc>
                <a:spcPct val="90000"/>
              </a:lnSpc>
              <a:buClr>
                <a:srgbClr val="ffffff"/>
              </a:buClr>
              <a:buSzPct val="25000"/>
              <a:buFont typeface="League Gothic"/>
              <a:buChar char="•"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</a:rPr>
              <a:t>with a bold design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</p:txBody>
      </p:sp>
      <p:sp>
        <p:nvSpPr>
          <p:cNvPr id="159" name=""/>
          <p:cNvSpPr/>
          <p:nvPr/>
        </p:nvSpPr>
        <p:spPr>
          <a:xfrm>
            <a:off x="36360" y="473220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"/>
          <p:cNvSpPr/>
          <p:nvPr/>
        </p:nvSpPr>
        <p:spPr>
          <a:xfrm>
            <a:off x="1166400" y="628560"/>
            <a:ext cx="710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ill Sans"/>
                <a:ea typeface="宋体"/>
              </a:rPr>
              <a:t>黑灰怀旧格子背景欧美风</a:t>
            </a: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Gill Sans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58920" y="3596760"/>
            <a:ext cx="2457360" cy="10810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rmAutofit fontScale="94000"/>
          </a:bodyPr>
          <a:p>
            <a:pPr marL="111960">
              <a:lnSpc>
                <a:spcPct val="100000"/>
              </a:lnSpc>
              <a:spcBef>
                <a:spcPts val="1950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eague Gothic"/>
              </a:rPr>
              <a:t>This is a small amount of text that describes the image above. Keep it short, sweet and to the point. Your audience is not so excited to do a lot of reading and they will appreciate your brevity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76720" y="3596760"/>
            <a:ext cx="2457360" cy="10810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rmAutofit fontScale="94000"/>
          </a:bodyPr>
          <a:p>
            <a:pPr marL="111960">
              <a:lnSpc>
                <a:spcPct val="100000"/>
              </a:lnSpc>
              <a:spcBef>
                <a:spcPts val="1950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eague Gothic"/>
              </a:rPr>
              <a:t>This is a small amount of text that describes the image above. Keep it short, sweet and to the point. Your audience is not so excited to do a lot of reading and they will appreciate your brevity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11960">
              <a:lnSpc>
                <a:spcPct val="100000"/>
              </a:lnSpc>
              <a:spcBef>
                <a:spcPts val="1950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246360" y="3596760"/>
            <a:ext cx="2457720" cy="10810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rmAutofit fontScale="94000"/>
          </a:bodyPr>
          <a:p>
            <a:pPr marL="111960">
              <a:lnSpc>
                <a:spcPct val="100000"/>
              </a:lnSpc>
              <a:spcBef>
                <a:spcPts val="1950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eague Gothic"/>
              </a:rPr>
              <a:t>This is a small amount of text that describes the image above. Keep it short, sweet and to the point. Your audience is not so excited to do a lot of reading and they will appreciate your brevity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11960">
              <a:lnSpc>
                <a:spcPct val="100000"/>
              </a:lnSpc>
              <a:spcBef>
                <a:spcPts val="1950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2" name="Picture Placeholder 7" descr="PlaceholderImage.jpg"/>
          <p:cNvPicPr/>
          <p:nvPr/>
        </p:nvPicPr>
        <p:blipFill>
          <a:blip r:embed="rId2"/>
          <a:srcRect l="2029" t="0" r="52816" b="0"/>
          <a:stretch/>
        </p:blipFill>
        <p:spPr>
          <a:xfrm>
            <a:off x="495360" y="519120"/>
            <a:ext cx="2295360" cy="2862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Placeholder 8" descr="PlaceholderImage.jpg"/>
          <p:cNvPicPr/>
          <p:nvPr/>
        </p:nvPicPr>
        <p:blipFill>
          <a:blip r:embed="rId3"/>
          <a:srcRect l="1784" t="0" r="53062" b="0"/>
          <a:stretch/>
        </p:blipFill>
        <p:spPr>
          <a:xfrm>
            <a:off x="3409920" y="519120"/>
            <a:ext cx="2295720" cy="2862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Placeholder 9" descr="PlaceholderImage.jpg"/>
          <p:cNvPicPr/>
          <p:nvPr/>
        </p:nvPicPr>
        <p:blipFill>
          <a:blip r:embed="rId4"/>
          <a:srcRect l="1535" t="0" r="53307" b="0"/>
          <a:stretch/>
        </p:blipFill>
        <p:spPr>
          <a:xfrm>
            <a:off x="6353280" y="519120"/>
            <a:ext cx="2295360" cy="2862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Zerox"/>
              </a:rPr>
              <a:t>The rubicon tea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6" name="Picture Placeholder 14" descr="PlaceholderImage.jpg"/>
          <p:cNvPicPr/>
          <p:nvPr/>
        </p:nvPicPr>
        <p:blipFill>
          <a:blip r:embed="rId2"/>
          <a:srcRect l="1887" t="6869" r="59403" b="14561"/>
          <a:stretch/>
        </p:blipFill>
        <p:spPr>
          <a:xfrm>
            <a:off x="520560" y="1330200"/>
            <a:ext cx="1486080" cy="1889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Placeholder 15" descr="PlaceholderImage.jpg"/>
          <p:cNvPicPr/>
          <p:nvPr/>
        </p:nvPicPr>
        <p:blipFill>
          <a:blip r:embed="rId3"/>
          <a:srcRect l="3831" t="7068" r="57420" b="10919"/>
          <a:stretch/>
        </p:blipFill>
        <p:spPr>
          <a:xfrm>
            <a:off x="2717640" y="1328760"/>
            <a:ext cx="1486080" cy="1890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387000" y="3354480"/>
            <a:ext cx="1871640" cy="296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rmAutofit/>
          </a:bodyPr>
          <a:p>
            <a:pPr marL="119160">
              <a:lnSpc>
                <a:spcPct val="100000"/>
              </a:lnSpc>
              <a:spcBef>
                <a:spcPts val="1950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eague Gothic"/>
              </a:rPr>
              <a:t>Martin Sanchez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600280" y="3354480"/>
            <a:ext cx="1873440" cy="296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rmAutofit fontScale="88000"/>
          </a:bodyPr>
          <a:p>
            <a:pPr marL="104760">
              <a:lnSpc>
                <a:spcPct val="100000"/>
              </a:lnSpc>
              <a:spcBef>
                <a:spcPts val="1950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eague Gothic"/>
              </a:rPr>
              <a:t>Astrid Niedrigg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787640" y="3354480"/>
            <a:ext cx="1871640" cy="296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rmAutofit fontScale="97000"/>
          </a:bodyPr>
          <a:p>
            <a:pPr marL="115560">
              <a:lnSpc>
                <a:spcPct val="100000"/>
              </a:lnSpc>
              <a:spcBef>
                <a:spcPts val="1950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eague Gothic"/>
              </a:rPr>
              <a:t>Claudia Schust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002000" y="3354480"/>
            <a:ext cx="1871640" cy="296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rmAutofit/>
          </a:bodyPr>
          <a:p>
            <a:pPr marL="119160">
              <a:lnSpc>
                <a:spcPct val="100000"/>
              </a:lnSpc>
              <a:spcBef>
                <a:spcPts val="1950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eague Gothic"/>
              </a:rPr>
              <a:t>Jeff Wallingford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600280" y="3733560"/>
            <a:ext cx="1728720" cy="11142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rmAutofit fontScale="98000"/>
          </a:bodyPr>
          <a:p>
            <a:pPr marL="116640">
              <a:lnSpc>
                <a:spcPct val="100000"/>
              </a:lnSpc>
              <a:spcBef>
                <a:spcPts val="1950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eague Gothic"/>
              </a:rPr>
              <a:t>This is a small text that describes the biography of the person featured above in about four lines, no mor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16640">
              <a:lnSpc>
                <a:spcPct val="100000"/>
              </a:lnSpc>
              <a:spcBef>
                <a:spcPts val="1950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002360" y="3733560"/>
            <a:ext cx="1728720" cy="11142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rmAutofit fontScale="98000"/>
          </a:bodyPr>
          <a:p>
            <a:pPr marL="116640">
              <a:lnSpc>
                <a:spcPct val="100000"/>
              </a:lnSpc>
              <a:spcBef>
                <a:spcPts val="1950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eague Gothic"/>
              </a:rPr>
              <a:t>This is a small text that describes the biography of the person featured above in about four lines, no mor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16640">
              <a:lnSpc>
                <a:spcPct val="100000"/>
              </a:lnSpc>
              <a:spcBef>
                <a:spcPts val="1950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788000" y="3733560"/>
            <a:ext cx="1728720" cy="11142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rmAutofit fontScale="98000"/>
          </a:bodyPr>
          <a:p>
            <a:pPr marL="116640">
              <a:lnSpc>
                <a:spcPct val="100000"/>
              </a:lnSpc>
              <a:spcBef>
                <a:spcPts val="1950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eague Gothic"/>
              </a:rPr>
              <a:t>This is a small text that describes the biography of the person featured above in about four lines, no mor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16640">
              <a:lnSpc>
                <a:spcPct val="100000"/>
              </a:lnSpc>
              <a:spcBef>
                <a:spcPts val="1950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7360" y="3733560"/>
            <a:ext cx="1673280" cy="11142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rmAutofit fontScale="98000"/>
          </a:bodyPr>
          <a:p>
            <a:pPr marL="116640">
              <a:lnSpc>
                <a:spcPct val="100000"/>
              </a:lnSpc>
              <a:spcBef>
                <a:spcPts val="1950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eague Gothic"/>
              </a:rPr>
              <a:t>This is a small text that describes the biography of the person featured above in about four lines, no mor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6" name="Picture Placeholder 15" descr="PlaceholderImage.jpg"/>
          <p:cNvPicPr/>
          <p:nvPr/>
        </p:nvPicPr>
        <p:blipFill>
          <a:blip r:embed="rId4"/>
          <a:srcRect l="2220" t="1641" r="58616" b="15900"/>
          <a:stretch/>
        </p:blipFill>
        <p:spPr>
          <a:xfrm>
            <a:off x="4915080" y="1328760"/>
            <a:ext cx="1484280" cy="1890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Placeholder 15" descr="PlaceholderImage.jpg"/>
          <p:cNvPicPr/>
          <p:nvPr/>
        </p:nvPicPr>
        <p:blipFill>
          <a:blip r:embed="rId5"/>
          <a:srcRect l="3964" t="5745" r="54652" b="12511"/>
          <a:stretch/>
        </p:blipFill>
        <p:spPr>
          <a:xfrm>
            <a:off x="7110360" y="1328760"/>
            <a:ext cx="1484280" cy="1890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</a:rPr>
              <a:t>Embedded Video</a:t>
            </a: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pic>
        <p:nvPicPr>
          <p:cNvPr id="199" name="Picture Placeholder 5" descr="VideoIcon.png"/>
          <p:cNvPicPr/>
          <p:nvPr/>
        </p:nvPicPr>
        <p:blipFill>
          <a:blip r:embed="rId2"/>
          <a:srcRect l="0" t="4385" r="0" b="4385"/>
          <a:stretch/>
        </p:blipFill>
        <p:spPr>
          <a:xfrm>
            <a:off x="3735360" y="1031760"/>
            <a:ext cx="5049720" cy="3079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514440"/>
            <a:ext cx="417672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ts val="8549"/>
              </a:lnSpc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ffd62d"/>
                </a:solidFill>
                <a:latin typeface="Zerox"/>
              </a:rPr>
              <a:t>section 3</a:t>
            </a:r>
            <a:endParaRPr b="0" lang="en-US" sz="6400" spc="-1" strike="noStrike">
              <a:solidFill>
                <a:srgbClr val="ffd62d"/>
              </a:solidFill>
              <a:latin typeface="Zerox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2571840"/>
            <a:ext cx="4176720" cy="22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t">
            <a:normAutofit/>
          </a:bodyPr>
          <a:p>
            <a:pPr algn="r">
              <a:lnSpc>
                <a:spcPct val="90000"/>
              </a:lnSpc>
              <a:buClr>
                <a:srgbClr val="ffffff"/>
              </a:buClr>
              <a:buSzPct val="25000"/>
              <a:buFont typeface="League Gothic"/>
              <a:buChar char="•"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</a:rPr>
              <a:t>Charts and Graphs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  <a:p>
            <a:pPr indent="0" algn="r">
              <a:lnSpc>
                <a:spcPct val="90000"/>
              </a:lnSpc>
              <a:buNone/>
            </a:pP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</a:rPr>
              <a:t>Pie Chart</a:t>
            </a: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pic>
        <p:nvPicPr>
          <p:cNvPr id="203" name="Chart Placeholder 2" descr=""/>
          <p:cNvPicPr/>
          <p:nvPr/>
        </p:nvPicPr>
        <p:blipFill>
          <a:blip r:embed="rId2"/>
          <a:stretch/>
        </p:blipFill>
        <p:spPr>
          <a:xfrm>
            <a:off x="3708360" y="950760"/>
            <a:ext cx="4969080" cy="3241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</a:rPr>
              <a:t>Area chart</a:t>
            </a: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pic>
        <p:nvPicPr>
          <p:cNvPr id="205" name="Chart Placeholder 2" descr=""/>
          <p:cNvPicPr/>
          <p:nvPr/>
        </p:nvPicPr>
        <p:blipFill>
          <a:blip r:embed="rId2"/>
          <a:stretch/>
        </p:blipFill>
        <p:spPr>
          <a:xfrm>
            <a:off x="3708360" y="950760"/>
            <a:ext cx="4969080" cy="3241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</a:rPr>
              <a:t>Bar Chart</a:t>
            </a: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pic>
        <p:nvPicPr>
          <p:cNvPr id="207" name="Chart Placeholder 2" descr=""/>
          <p:cNvPicPr/>
          <p:nvPr/>
        </p:nvPicPr>
        <p:blipFill>
          <a:blip r:embed="rId2"/>
          <a:stretch/>
        </p:blipFill>
        <p:spPr>
          <a:xfrm>
            <a:off x="3708360" y="950760"/>
            <a:ext cx="4969080" cy="3241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</a:rPr>
              <a:t>Column Chart</a:t>
            </a: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pic>
        <p:nvPicPr>
          <p:cNvPr id="209" name="Chart Placeholder 2" descr=""/>
          <p:cNvPicPr/>
          <p:nvPr/>
        </p:nvPicPr>
        <p:blipFill>
          <a:blip r:embed="rId2"/>
          <a:stretch/>
        </p:blipFill>
        <p:spPr>
          <a:xfrm>
            <a:off x="3708360" y="950760"/>
            <a:ext cx="4969080" cy="3241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</a:rPr>
              <a:t>Stacked column chart</a:t>
            </a: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pic>
        <p:nvPicPr>
          <p:cNvPr id="211" name="Chart Placeholder 2" descr=""/>
          <p:cNvPicPr/>
          <p:nvPr/>
        </p:nvPicPr>
        <p:blipFill>
          <a:blip r:embed="rId2"/>
          <a:stretch/>
        </p:blipFill>
        <p:spPr>
          <a:xfrm>
            <a:off x="3708360" y="950760"/>
            <a:ext cx="4969080" cy="3241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</a:rPr>
              <a:t>Line chart</a:t>
            </a: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pic>
        <p:nvPicPr>
          <p:cNvPr id="213" name="Chart Placeholder 2" descr=""/>
          <p:cNvPicPr/>
          <p:nvPr/>
        </p:nvPicPr>
        <p:blipFill>
          <a:blip r:embed="rId2"/>
          <a:stretch/>
        </p:blipFill>
        <p:spPr>
          <a:xfrm>
            <a:off x="3708360" y="950760"/>
            <a:ext cx="5111640" cy="3241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</a:rPr>
              <a:t>ONE KEY THOUGHT</a:t>
            </a: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35360" y="1031400"/>
            <a:ext cx="4951440" cy="30798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rmAutofit/>
          </a:bodyPr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</a:rPr>
              <a:t>Add one page for each idea</a:t>
            </a:r>
            <a:endParaRPr b="0" lang="en-US" sz="36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</a:rPr>
              <a:t>Ring Chart</a:t>
            </a: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pic>
        <p:nvPicPr>
          <p:cNvPr id="215" name="Chart Placeholder 2" descr=""/>
          <p:cNvPicPr/>
          <p:nvPr/>
        </p:nvPicPr>
        <p:blipFill>
          <a:blip r:embed="rId2"/>
          <a:stretch/>
        </p:blipFill>
        <p:spPr>
          <a:xfrm>
            <a:off x="3708360" y="950760"/>
            <a:ext cx="4969080" cy="3241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3"/>
          <p:cNvGrpSpPr/>
          <p:nvPr/>
        </p:nvGrpSpPr>
        <p:grpSpPr>
          <a:xfrm>
            <a:off x="5867280" y="1747800"/>
            <a:ext cx="1623960" cy="314280"/>
            <a:chOff x="5867280" y="1747800"/>
            <a:chExt cx="1623960" cy="314280"/>
          </a:xfrm>
        </p:grpSpPr>
        <p:sp>
          <p:nvSpPr>
            <p:cNvPr id="217" name="Freeform 1"/>
            <p:cNvSpPr/>
            <p:nvPr/>
          </p:nvSpPr>
          <p:spPr>
            <a:xfrm>
              <a:off x="5905080" y="1895400"/>
              <a:ext cx="1542960" cy="8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218" name="Picture 2" descr=""/>
            <p:cNvPicPr/>
            <p:nvPr/>
          </p:nvPicPr>
          <p:blipFill>
            <a:blip r:embed="rId2"/>
            <a:stretch/>
          </p:blipFill>
          <p:spPr>
            <a:xfrm>
              <a:off x="5867280" y="1747800"/>
              <a:ext cx="162396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6"/>
          <p:cNvGrpSpPr/>
          <p:nvPr/>
        </p:nvGrpSpPr>
        <p:grpSpPr>
          <a:xfrm>
            <a:off x="5867280" y="2567160"/>
            <a:ext cx="1623960" cy="323640"/>
            <a:chOff x="5867280" y="2567160"/>
            <a:chExt cx="1623960" cy="323640"/>
          </a:xfrm>
        </p:grpSpPr>
        <p:sp>
          <p:nvSpPr>
            <p:cNvPr id="220" name="Freeform 4"/>
            <p:cNvSpPr/>
            <p:nvPr/>
          </p:nvSpPr>
          <p:spPr>
            <a:xfrm>
              <a:off x="5905080" y="2724120"/>
              <a:ext cx="1542960" cy="8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221" name="Picture 5" descr=""/>
            <p:cNvPicPr/>
            <p:nvPr/>
          </p:nvPicPr>
          <p:blipFill>
            <a:blip r:embed="rId3"/>
            <a:stretch/>
          </p:blipFill>
          <p:spPr>
            <a:xfrm>
              <a:off x="5867280" y="2567160"/>
              <a:ext cx="1623960" cy="3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9"/>
          <p:cNvGrpSpPr/>
          <p:nvPr/>
        </p:nvGrpSpPr>
        <p:grpSpPr>
          <a:xfrm>
            <a:off x="5867280" y="1119240"/>
            <a:ext cx="1623960" cy="314280"/>
            <a:chOff x="5867280" y="1119240"/>
            <a:chExt cx="1623960" cy="314280"/>
          </a:xfrm>
        </p:grpSpPr>
        <p:sp>
          <p:nvSpPr>
            <p:cNvPr id="223" name="Freeform 7"/>
            <p:cNvSpPr/>
            <p:nvPr/>
          </p:nvSpPr>
          <p:spPr>
            <a:xfrm>
              <a:off x="5905080" y="1276200"/>
              <a:ext cx="1542960" cy="8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224" name="Picture 8" descr=""/>
            <p:cNvPicPr/>
            <p:nvPr/>
          </p:nvPicPr>
          <p:blipFill>
            <a:blip r:embed="rId4"/>
            <a:stretch/>
          </p:blipFill>
          <p:spPr>
            <a:xfrm>
              <a:off x="5867280" y="1119240"/>
              <a:ext cx="162396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Group 12"/>
          <p:cNvGrpSpPr/>
          <p:nvPr/>
        </p:nvGrpSpPr>
        <p:grpSpPr>
          <a:xfrm>
            <a:off x="4157640" y="638280"/>
            <a:ext cx="1438200" cy="966600"/>
            <a:chOff x="4157640" y="638280"/>
            <a:chExt cx="1438200" cy="966600"/>
          </a:xfrm>
        </p:grpSpPr>
        <p:sp>
          <p:nvSpPr>
            <p:cNvPr id="226" name="Oval 10"/>
            <p:cNvSpPr/>
            <p:nvPr/>
          </p:nvSpPr>
          <p:spPr>
            <a:xfrm>
              <a:off x="4195440" y="676080"/>
              <a:ext cx="1362240" cy="890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227" name="Picture 11" descr=""/>
            <p:cNvPicPr/>
            <p:nvPr/>
          </p:nvPicPr>
          <p:blipFill>
            <a:blip r:embed="rId5"/>
            <a:stretch/>
          </p:blipFill>
          <p:spPr>
            <a:xfrm>
              <a:off x="4157640" y="638280"/>
              <a:ext cx="1438200" cy="96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Group 15"/>
          <p:cNvGrpSpPr/>
          <p:nvPr/>
        </p:nvGrpSpPr>
        <p:grpSpPr>
          <a:xfrm>
            <a:off x="4143240" y="1871640"/>
            <a:ext cx="1443240" cy="1014480"/>
            <a:chOff x="4143240" y="1871640"/>
            <a:chExt cx="1443240" cy="1014480"/>
          </a:xfrm>
        </p:grpSpPr>
        <p:sp>
          <p:nvSpPr>
            <p:cNvPr id="229" name="Freeform 13"/>
            <p:cNvSpPr/>
            <p:nvPr/>
          </p:nvSpPr>
          <p:spPr>
            <a:xfrm>
              <a:off x="4181040" y="1914480"/>
              <a:ext cx="1367280" cy="928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230" name="Picture 14" descr=""/>
            <p:cNvPicPr/>
            <p:nvPr/>
          </p:nvPicPr>
          <p:blipFill>
            <a:blip r:embed="rId6"/>
            <a:stretch/>
          </p:blipFill>
          <p:spPr>
            <a:xfrm>
              <a:off x="4143240" y="1871640"/>
              <a:ext cx="1443240" cy="101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 18"/>
          <p:cNvGrpSpPr/>
          <p:nvPr/>
        </p:nvGrpSpPr>
        <p:grpSpPr>
          <a:xfrm>
            <a:off x="4157640" y="3152880"/>
            <a:ext cx="1443240" cy="1371600"/>
            <a:chOff x="4157640" y="3152880"/>
            <a:chExt cx="1443240" cy="1371600"/>
          </a:xfrm>
        </p:grpSpPr>
        <p:sp>
          <p:nvSpPr>
            <p:cNvPr id="232" name="Freeform 16"/>
            <p:cNvSpPr/>
            <p:nvPr/>
          </p:nvSpPr>
          <p:spPr>
            <a:xfrm>
              <a:off x="4195440" y="3190680"/>
              <a:ext cx="1367280" cy="1295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233" name="Picture 17" descr=""/>
            <p:cNvPicPr/>
            <p:nvPr/>
          </p:nvPicPr>
          <p:blipFill>
            <a:blip r:embed="rId7"/>
            <a:stretch/>
          </p:blipFill>
          <p:spPr>
            <a:xfrm>
              <a:off x="4157640" y="3152880"/>
              <a:ext cx="1443240" cy="137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Group 21"/>
          <p:cNvGrpSpPr/>
          <p:nvPr/>
        </p:nvGrpSpPr>
        <p:grpSpPr>
          <a:xfrm>
            <a:off x="5815080" y="3357720"/>
            <a:ext cx="1619280" cy="1133280"/>
            <a:chOff x="5815080" y="3357720"/>
            <a:chExt cx="1619280" cy="1133280"/>
          </a:xfrm>
        </p:grpSpPr>
        <p:sp>
          <p:nvSpPr>
            <p:cNvPr id="235" name="AutoShape 19"/>
            <p:cNvSpPr/>
            <p:nvPr/>
          </p:nvSpPr>
          <p:spPr>
            <a:xfrm>
              <a:off x="6338880" y="3395520"/>
              <a:ext cx="1057320" cy="105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236" name="Picture 20" descr=""/>
            <p:cNvPicPr/>
            <p:nvPr/>
          </p:nvPicPr>
          <p:blipFill>
            <a:blip r:embed="rId8"/>
            <a:stretch/>
          </p:blipFill>
          <p:spPr>
            <a:xfrm>
              <a:off x="5815080" y="3357720"/>
              <a:ext cx="1619280" cy="113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</a:rPr>
              <a:t>Extra </a:t>
            </a:r>
            <a:br>
              <a:rPr sz="3800"/>
            </a:br>
            <a:r>
              <a:rPr b="0" lang="en-US" sz="3800" spc="-1" strike="noStrike">
                <a:solidFill>
                  <a:srgbClr val="f6f9f9"/>
                </a:solidFill>
                <a:latin typeface="Zerox"/>
              </a:rPr>
              <a:t>shapes &amp; lines</a:t>
            </a: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grpSp>
        <p:nvGrpSpPr>
          <p:cNvPr id="238" name="Group 25"/>
          <p:cNvGrpSpPr/>
          <p:nvPr/>
        </p:nvGrpSpPr>
        <p:grpSpPr>
          <a:xfrm>
            <a:off x="5867280" y="628560"/>
            <a:ext cx="1623960" cy="85680"/>
            <a:chOff x="5867280" y="628560"/>
            <a:chExt cx="1623960" cy="85680"/>
          </a:xfrm>
        </p:grpSpPr>
        <p:sp>
          <p:nvSpPr>
            <p:cNvPr id="239" name="Freeform 23"/>
            <p:cNvSpPr/>
            <p:nvPr/>
          </p:nvSpPr>
          <p:spPr>
            <a:xfrm>
              <a:off x="5905080" y="666360"/>
              <a:ext cx="1542960" cy="8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240" name="Picture 24" descr=""/>
            <p:cNvPicPr/>
            <p:nvPr/>
          </p:nvPicPr>
          <p:blipFill>
            <a:blip r:embed="rId9"/>
            <a:stretch/>
          </p:blipFill>
          <p:spPr>
            <a:xfrm>
              <a:off x="5867280" y="628560"/>
              <a:ext cx="1623960" cy="85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r>
              <a:rPr b="0" lang="zh-CN" sz="3800" spc="-1" strike="noStrike">
                <a:solidFill>
                  <a:srgbClr val="f6f9f9"/>
                </a:solidFill>
                <a:latin typeface="Zerox"/>
              </a:rPr>
              <a:t>使用规范说明</a:t>
            </a: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+ 1m regular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+ 1m regula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+ 1m regular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+ 1m regular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M+ 1m regular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M+ 1m regula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+ 1m regular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M+ 1m regula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+ 1m regular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M+ 1m regula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+ 1m regular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M+ 1m regula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+ 1m regular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M+ 1m regula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+ 1m regular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M+ 1m regula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+ 1m regular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M+ 1m regular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M+ 1m regular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M+ 1m regular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M+ 1m regular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+ 1m regular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M+ 1m regular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+ 1m regular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+ 1m regular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+ 1m regular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+ 1m regular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+ 1m regular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+ 1m regular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bd2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M+ 1m regular"/>
            </a:endParaRPr>
          </a:p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M+ 1m regular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ill San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708360" y="952560"/>
            <a:ext cx="4967280" cy="3240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rmAutofit/>
          </a:bodyPr>
          <a:p>
            <a:pPr>
              <a:spcBef>
                <a:spcPts val="1950"/>
              </a:spcBef>
              <a:buClr>
                <a:srgbClr val="ffffff"/>
              </a:buClr>
              <a:buSzPct val="25000"/>
              <a:buFont typeface="M+ 1m regular"/>
              <a:buChar char="•"/>
            </a:pPr>
            <a:endParaRPr b="0" lang="en-US" sz="24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</a:rPr>
              <a:t>Expanding on an idea</a:t>
            </a: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735360" y="1031400"/>
            <a:ext cx="4951440" cy="30798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ctr">
            <a:normAutofit fontScale="94000"/>
          </a:bodyPr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eague Gothic"/>
              </a:rPr>
              <a:t>This is the place where you can add a block of text to present a single idea. Remember to keep it brief, as people cannot read and listen at the same time. </a:t>
            </a:r>
            <a:endParaRPr b="0" lang="en-US" sz="32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</a:rPr>
              <a:t>some bullets</a:t>
            </a: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00360" y="842760"/>
            <a:ext cx="5292720" cy="35636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rmAutofit fontScale="95000"/>
          </a:bodyPr>
          <a:p>
            <a:pPr marL="304560" indent="-30456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League Gothic"/>
              </a:rPr>
              <a:t>Caution, using too many bullet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eague Gothic"/>
              </a:rPr>
              <a:t>can kill your presentation</a:t>
            </a:r>
            <a:endParaRPr b="0" lang="en-US" sz="2800" spc="-1" strike="noStrike">
              <a:solidFill>
                <a:srgbClr val="ffffff"/>
              </a:solidFill>
              <a:latin typeface="M+ 1m regular"/>
            </a:endParaRPr>
          </a:p>
          <a:p>
            <a:pPr marL="304560" indent="-304560">
              <a:lnSpc>
                <a:spcPct val="100000"/>
              </a:lnSpc>
              <a:spcBef>
                <a:spcPts val="18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League Gothic"/>
              </a:rPr>
              <a:t>So, be sure to use them sparingly</a:t>
            </a:r>
            <a:endParaRPr b="0" lang="en-US" sz="2800" spc="-1" strike="noStrike">
              <a:solidFill>
                <a:srgbClr val="ffffff"/>
              </a:solidFill>
              <a:latin typeface="M+ 1m regular"/>
            </a:endParaRPr>
          </a:p>
          <a:p>
            <a:pPr marL="304560" indent="-304560">
              <a:lnSpc>
                <a:spcPct val="100000"/>
              </a:lnSpc>
              <a:spcBef>
                <a:spcPts val="18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League Gothic"/>
              </a:rPr>
              <a:t>You want your audience to ge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eague Gothic"/>
              </a:rPr>
              <a:t>your ideas quickly and easily</a:t>
            </a:r>
            <a:endParaRPr b="0" lang="en-US" sz="2800" spc="-1" strike="noStrike">
              <a:solidFill>
                <a:srgbClr val="ffffff"/>
              </a:solidFill>
              <a:latin typeface="M+ 1m regular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514440"/>
            <a:ext cx="417672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ts val="8549"/>
              </a:lnSpc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ffd62d"/>
                </a:solidFill>
                <a:latin typeface="Zerox"/>
              </a:rPr>
              <a:t>Section 2</a:t>
            </a:r>
            <a:endParaRPr b="0" lang="en-US" sz="6400" spc="-1" strike="noStrike">
              <a:solidFill>
                <a:srgbClr val="ffd62d"/>
              </a:solidFill>
              <a:latin typeface="Zerox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2571840"/>
            <a:ext cx="4176720" cy="22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t">
            <a:normAutofit/>
          </a:bodyPr>
          <a:p>
            <a:pPr algn="r">
              <a:lnSpc>
                <a:spcPct val="90000"/>
              </a:lnSpc>
              <a:buClr>
                <a:srgbClr val="ffffff"/>
              </a:buClr>
              <a:buSzPct val="25000"/>
              <a:buFont typeface="League Gothic"/>
              <a:buChar char="•"/>
            </a:pPr>
            <a:r>
              <a:rPr b="0" lang="en-US" sz="3600" spc="-1" strike="noStrike">
                <a:solidFill>
                  <a:srgbClr val="ffffff"/>
                </a:solidFill>
                <a:latin typeface="League Gothic"/>
              </a:rPr>
              <a:t>Images and Photos</a:t>
            </a:r>
            <a:endParaRPr b="0" lang="en-US" sz="3600" spc="-1" strike="noStrike">
              <a:solidFill>
                <a:srgbClr val="ffffff"/>
              </a:solidFill>
              <a:latin typeface="League Gothic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</a:rPr>
              <a:t>Horizontal image &amp; title</a:t>
            </a: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pic>
        <p:nvPicPr>
          <p:cNvPr id="170" name="Picture Placeholder 5" descr="PlaceholderImage.jpg"/>
          <p:cNvPicPr/>
          <p:nvPr/>
        </p:nvPicPr>
        <p:blipFill>
          <a:blip r:embed="rId2"/>
          <a:srcRect l="3813" t="0" r="3813" b="0"/>
          <a:stretch/>
        </p:blipFill>
        <p:spPr>
          <a:xfrm>
            <a:off x="3735360" y="1031760"/>
            <a:ext cx="5049720" cy="3079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1080" y="1028880"/>
            <a:ext cx="2923920" cy="3085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19080" bIns="19080" anchor="ctr">
            <a:noAutofit/>
          </a:bodyPr>
          <a:p>
            <a:pPr indent="0" algn="r">
              <a:lnSpc>
                <a:spcPts val="5360"/>
              </a:lnSpc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f6f9f9"/>
                </a:solidFill>
                <a:latin typeface="Zerox"/>
              </a:rPr>
              <a:t>Vertical Image</a:t>
            </a:r>
            <a:endParaRPr b="0" lang="en-US" sz="3800" spc="-1" strike="noStrike">
              <a:solidFill>
                <a:srgbClr val="f6f9f9"/>
              </a:solidFill>
              <a:latin typeface="Zerox"/>
            </a:endParaRPr>
          </a:p>
        </p:txBody>
      </p:sp>
      <p:pic>
        <p:nvPicPr>
          <p:cNvPr id="172" name="Picture Placeholder 2" descr="PlaceholderImage.jpg"/>
          <p:cNvPicPr/>
          <p:nvPr/>
        </p:nvPicPr>
        <p:blipFill>
          <a:blip r:embed="rId2"/>
          <a:srcRect l="902" t="1501" r="50279" b="1963"/>
          <a:stretch/>
        </p:blipFill>
        <p:spPr>
          <a:xfrm>
            <a:off x="3951360" y="519120"/>
            <a:ext cx="3564000" cy="4024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Placeholder 7" descr="PlaceholderImage.jpg"/>
          <p:cNvPicPr/>
          <p:nvPr/>
        </p:nvPicPr>
        <p:blipFill>
          <a:blip r:embed="rId2"/>
          <a:srcRect l="0" t="4911" r="0" b="4911"/>
          <a:stretch/>
        </p:blipFill>
        <p:spPr>
          <a:xfrm>
            <a:off x="196920" y="195120"/>
            <a:ext cx="8777160" cy="4456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55640" y="48420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Placeholder 5" descr="PlaceholderImage.jpg"/>
          <p:cNvPicPr/>
          <p:nvPr/>
        </p:nvPicPr>
        <p:blipFill>
          <a:blip r:embed="rId2"/>
          <a:srcRect l="3755" t="0" r="52123" b="0"/>
          <a:stretch/>
        </p:blipFill>
        <p:spPr>
          <a:xfrm>
            <a:off x="1359000" y="519120"/>
            <a:ext cx="2835000" cy="361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Placeholder 6" descr="PlaceholderImage.jpg"/>
          <p:cNvPicPr/>
          <p:nvPr/>
        </p:nvPicPr>
        <p:blipFill>
          <a:blip r:embed="rId3"/>
          <a:srcRect l="3365" t="0" r="52514" b="0"/>
          <a:stretch/>
        </p:blipFill>
        <p:spPr>
          <a:xfrm>
            <a:off x="4950000" y="519120"/>
            <a:ext cx="2835000" cy="361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1224000" y="4327560"/>
            <a:ext cx="3078000" cy="270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rmAutofit fontScale="74000"/>
          </a:bodyPr>
          <a:p>
            <a:pPr marL="87840">
              <a:lnSpc>
                <a:spcPct val="100000"/>
              </a:lnSpc>
              <a:spcBef>
                <a:spcPts val="195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eague Gothic"/>
              </a:rPr>
              <a:t>Short descritption text of the image abov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788000" y="4327560"/>
            <a:ext cx="3078000" cy="27000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17280" bIns="17280" anchor="t">
            <a:normAutofit fontScale="74000"/>
          </a:bodyPr>
          <a:p>
            <a:pPr marL="87840">
              <a:lnSpc>
                <a:spcPct val="100000"/>
              </a:lnSpc>
              <a:spcBef>
                <a:spcPts val="195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eague Gothic"/>
              </a:rPr>
              <a:t>Short description Text of the image abov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2:23:18Z</dcterms:created>
  <dc:creator>www.eeppt.com</dc:creator>
  <dc:description>www.eeppt.com</dc:description>
  <dc:language>en-US</dc:language>
  <cp:lastModifiedBy>YANGS</cp:lastModifiedBy>
  <dcterms:modified xsi:type="dcterms:W3CDTF">2015-08-14T12:52:53Z</dcterms:modified>
  <cp:revision>55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