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2EC2F-A3BF-4DAF-AD32-9C5324EDD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5575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3520" y="2873880"/>
            <a:ext cx="5575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BA195-28DA-40C0-879E-03FE4DAE3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3520" y="287388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80480" y="287388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2008-89F7-4167-95B6-7F6D5173F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8480" y="271476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93800" y="271476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3520" y="287388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8480" y="287388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93800" y="287388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F0EB8-1C7C-4786-88AD-C7E48A405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84792-73DD-4E69-8BBB-8EC1CBFC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520" y="2714760"/>
            <a:ext cx="5575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AFB83-CD4D-4024-B743-B8E4023F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55753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6EC9E-BAB9-4BE5-98EA-B30B2402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3E416-0400-42E6-A5C9-6EEC3E9F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61967-C090-4A27-B8A1-50A313A0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86080" y="2219400"/>
            <a:ext cx="71244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B657B-5F39-44CF-91E9-1B70FBD7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3520" y="287388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CF5EC-3947-4728-89B4-FB488DD9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3520" y="2714760"/>
            <a:ext cx="5575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AB3C-9632-45C9-B57C-A2AECA9B3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80480" y="287388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84425-5248-47D5-89D7-C26C9849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520" y="2873880"/>
            <a:ext cx="5575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A53AC-8566-4FD7-A0D4-32DE0837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5575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23520" y="2873880"/>
            <a:ext cx="5575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C2515-27A7-4DCC-8BC8-CA0AD5BC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520" y="287388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80480" y="287388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63BCA-03EF-46BC-93A1-00DF9533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08480" y="271476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93800" y="271476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23520" y="287388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08480" y="287388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93800" y="287388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29097-217D-4E1F-BDEC-41D1ABB7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55753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932B-246B-48DF-83DE-E51AB7D24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F22A-9C1A-4532-9CF4-8A8E58D02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D319-73BF-4C1A-B991-A78A60C26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86080" y="2219400"/>
            <a:ext cx="71244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F386-78EB-4670-B82A-9902A1A1B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3520" y="287388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53D85-FE38-4819-B204-0344C25B9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80480" y="287388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97C61-FFBA-455F-A2A6-A75C6CF2A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3520" y="2873880"/>
            <a:ext cx="5575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86C0-DD2A-4FD8-9CA6-04A52F1B2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58000" y="573120"/>
            <a:ext cx="2076480" cy="58928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28600" y="561960"/>
            <a:ext cx="8686800" cy="5915160"/>
          </a:xfrm>
          <a:prstGeom prst="rect">
            <a:avLst/>
          </a:prstGeom>
          <a:noFill/>
          <a:ln w="28440">
            <a:solidFill>
              <a:srgbClr val="522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243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243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224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243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224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aabe7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243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224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243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224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243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224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5224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243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224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5224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243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B87A-050A-46E7-BA76-673999CE443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5702400" y="237960"/>
            <a:ext cx="622080" cy="76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274320" y="6605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5976720" y="6594120"/>
            <a:ext cx="28954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346500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69BB-085C-4298-BB5F-8A5EFF7A68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1440" y="276120"/>
            <a:ext cx="8621640" cy="6305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522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35244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522438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861840"/>
            <a:ext cx="8534160" cy="5077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22438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abe72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224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224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2438"/>
                </a:solidFill>
                <a:latin typeface="Verdana"/>
              </a:rPr>
              <a:t>企业报告</a:t>
            </a:r>
            <a:r>
              <a:rPr b="1" lang="zh-CN" sz="4000" spc="-1" strike="noStrike">
                <a:solidFill>
                  <a:srgbClr val="522438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522438"/>
                </a:solidFill>
                <a:latin typeface="Verdana"/>
              </a:rPr>
              <a:t>模板</a:t>
            </a:r>
            <a:r>
              <a:rPr b="1" lang="zh-CN" sz="4000" spc="-1" strike="noStrike">
                <a:solidFill>
                  <a:srgbClr val="522438"/>
                </a:solidFill>
                <a:latin typeface="Verdana"/>
                <a:ea typeface="宋体"/>
              </a:rPr>
              <a:t>免费下载</a:t>
            </a:r>
            <a:endParaRPr b="1" lang="en-US" sz="4000" spc="-1" strike="noStrike">
              <a:solidFill>
                <a:srgbClr val="522438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4772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3520" y="2714760"/>
            <a:ext cx="5575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17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2438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22438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224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219320" y="1447920"/>
            <a:ext cx="6781680" cy="4114800"/>
            <a:chOff x="1219320" y="1447920"/>
            <a:chExt cx="6781680" cy="4114800"/>
          </a:xfrm>
        </p:grpSpPr>
        <p:sp>
          <p:nvSpPr>
            <p:cNvPr id="254" name=""/>
            <p:cNvSpPr/>
            <p:nvPr/>
          </p:nvSpPr>
          <p:spPr>
            <a:xfrm>
              <a:off x="3722760" y="327672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9320" y="327672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8520" y="327672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51440" y="207180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49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13480" y="207180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aab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1520" y="14526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abe7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1520" y="14526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abe7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32760" y="15638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b663d"/>
                </a:gs>
                <a:gs pos="50000">
                  <a:srgbClr val="aabe72"/>
                </a:gs>
                <a:gs pos="100000">
                  <a:srgbClr val="5b663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57960" y="15717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aabe72">
                    <a:alpha val="0"/>
                  </a:srgbClr>
                </a:gs>
                <a:gs pos="100000">
                  <a:srgbClr val="6b78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11960" y="163512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5640" y="14479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cc8a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5640" y="14479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bcc8a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06520" y="15573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656b5c"/>
                </a:gs>
                <a:gs pos="50000">
                  <a:srgbClr val="bcc8ac"/>
                </a:gs>
                <a:gs pos="100000">
                  <a:srgbClr val="656b5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8320" y="15606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bcc8ac">
                    <a:alpha val="0"/>
                  </a:srgbClr>
                </a:gs>
                <a:gs pos="100000">
                  <a:srgbClr val="767e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81400" y="163224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1501920" y="1650960"/>
              <a:ext cx="1290600" cy="1278000"/>
              <a:chOff x="1501920" y="1650960"/>
              <a:chExt cx="1290600" cy="1278000"/>
            </a:xfrm>
          </p:grpSpPr>
          <p:sp>
            <p:nvSpPr>
              <p:cNvPr id="270" name=""/>
              <p:cNvSpPr/>
              <p:nvPr/>
            </p:nvSpPr>
            <p:spPr>
              <a:xfrm>
                <a:off x="1501920" y="165096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18480" y="165780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531800" y="167040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601640" y="170280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759480" y="1452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4967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9480" y="1452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74539"/>
                </a:gs>
                <a:gs pos="100000">
                  <a:srgbClr val="34967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70360" y="156384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c5042"/>
                </a:gs>
                <a:gs pos="50000">
                  <a:srgbClr val="34967c"/>
                </a:gs>
                <a:gs pos="100000">
                  <a:srgbClr val="1c504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72160" y="15652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4967c">
                    <a:alpha val="0"/>
                  </a:srgbClr>
                </a:gs>
                <a:gs pos="100000">
                  <a:srgbClr val="205e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43440" y="163512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965760" y="1650960"/>
              <a:ext cx="1290600" cy="1278000"/>
              <a:chOff x="3965760" y="1650960"/>
              <a:chExt cx="1290600" cy="1278000"/>
            </a:xfrm>
          </p:grpSpPr>
          <p:sp>
            <p:nvSpPr>
              <p:cNvPr id="280" name=""/>
              <p:cNvSpPr/>
              <p:nvPr/>
            </p:nvSpPr>
            <p:spPr>
              <a:xfrm>
                <a:off x="3965760" y="165096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82320" y="165780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95640" y="167040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65480" y="170280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435720" y="1650960"/>
              <a:ext cx="1292400" cy="1278000"/>
              <a:chOff x="6435720" y="1650960"/>
              <a:chExt cx="1292400" cy="1278000"/>
            </a:xfrm>
          </p:grpSpPr>
          <p:sp>
            <p:nvSpPr>
              <p:cNvPr id="285" name=""/>
              <p:cNvSpPr/>
              <p:nvPr/>
            </p:nvSpPr>
            <p:spPr>
              <a:xfrm>
                <a:off x="6435720" y="165096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52280" y="165780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65600" y="167040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535800" y="170280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76508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3360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0068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keting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371600" y="1143000"/>
            <a:ext cx="5715000" cy="5330520"/>
            <a:chOff x="1371600" y="1143000"/>
            <a:chExt cx="5715000" cy="5330520"/>
          </a:xfrm>
        </p:grpSpPr>
        <p:sp>
          <p:nvSpPr>
            <p:cNvPr id="294" name=""/>
            <p:cNvSpPr/>
            <p:nvPr/>
          </p:nvSpPr>
          <p:spPr>
            <a:xfrm rot="13770000">
              <a:off x="4704120" y="3727440"/>
              <a:ext cx="1015560" cy="1962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cecec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20856000">
              <a:off x="2679480" y="324828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394200">
              <a:off x="4839120" y="208944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3643560" y="2125080"/>
              <a:ext cx="1652400" cy="1684080"/>
              <a:chOff x="3643560" y="2125080"/>
              <a:chExt cx="1652400" cy="168408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3643560" y="2125080"/>
                <a:ext cx="1652400" cy="1684080"/>
                <a:chOff x="3643560" y="2125080"/>
                <a:chExt cx="1652400" cy="16840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643560" y="212508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cc8ac"/>
                    </a:gs>
                    <a:gs pos="100000">
                      <a:srgbClr val="2d302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832200" y="215280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cc8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3750120" y="2857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089320" y="1143000"/>
              <a:ext cx="925200" cy="912240"/>
              <a:chOff x="5089320" y="1143000"/>
              <a:chExt cx="925200" cy="91224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5089320" y="1143000"/>
                <a:ext cx="894960" cy="912240"/>
                <a:chOff x="5089320" y="1143000"/>
                <a:chExt cx="894960" cy="9122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089320" y="114300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4967c"/>
                    </a:gs>
                    <a:gs pos="100000">
                      <a:srgbClr val="0c241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191560" y="115812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496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510516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1371600" y="2476440"/>
              <a:ext cx="1789920" cy="1894680"/>
              <a:chOff x="1371600" y="2476440"/>
              <a:chExt cx="1789920" cy="189468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1371600" y="2476440"/>
                <a:ext cx="1789920" cy="1894680"/>
                <a:chOff x="1371600" y="2476440"/>
                <a:chExt cx="1789920" cy="18946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371600" y="247644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b944d"/>
                    </a:gs>
                    <a:gs pos="100000">
                      <a:srgbClr val="8a5d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576080" y="2507760"/>
                  <a:ext cx="138060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b94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1487520" y="33184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020920" y="3879720"/>
              <a:ext cx="2065680" cy="2105280"/>
              <a:chOff x="5020920" y="3879720"/>
              <a:chExt cx="2065680" cy="210528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020920" y="3879720"/>
                <a:ext cx="2065680" cy="2105280"/>
                <a:chOff x="5020920" y="3879720"/>
                <a:chExt cx="2065680" cy="21052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020920" y="387972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e72"/>
                    </a:gs>
                    <a:gs pos="100000">
                      <a:srgbClr val="56613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aabe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1577880" y="444132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81440" y="381276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65080" y="598536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27200" y="212508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3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22438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22438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22438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22438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22438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22438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bcbbe"/>
                </a:gs>
                <a:gs pos="100000">
                  <a:srgbClr val="34967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bcbbe"/>
                </a:gs>
                <a:gs pos="100000">
                  <a:srgbClr val="34967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bcbbe"/>
                </a:gs>
                <a:gs pos="100000">
                  <a:srgbClr val="34967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9bcbbe"/>
                </a:gs>
                <a:gs pos="100000">
                  <a:srgbClr val="34967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bcbbe"/>
                </a:gs>
                <a:gs pos="100000">
                  <a:srgbClr val="34967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bcbbe"/>
                </a:gs>
                <a:gs pos="100000">
                  <a:srgbClr val="34967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cc8a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bcc8a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56b5c"/>
                </a:gs>
                <a:gs pos="50000">
                  <a:srgbClr val="bcc8ac"/>
                </a:gs>
                <a:gs pos="100000">
                  <a:srgbClr val="656b5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5760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bcc8ac">
                    <a:alpha val="0"/>
                  </a:srgbClr>
                </a:gs>
                <a:gs pos="100000">
                  <a:srgbClr val="767e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48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82600" y="2168640"/>
            <a:ext cx="2163600" cy="3165480"/>
            <a:chOff x="1182600" y="2168640"/>
            <a:chExt cx="2163600" cy="3165480"/>
          </a:xfrm>
        </p:grpSpPr>
        <p:sp>
          <p:nvSpPr>
            <p:cNvPr id="355" name=""/>
            <p:cNvSpPr/>
            <p:nvPr/>
          </p:nvSpPr>
          <p:spPr>
            <a:xfrm>
              <a:off x="11826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160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333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333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360" name="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414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0671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5892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913360" y="2165400"/>
            <a:ext cx="2163600" cy="3165480"/>
            <a:chOff x="5913360" y="2165400"/>
            <a:chExt cx="2163600" cy="3165480"/>
          </a:xfrm>
        </p:grpSpPr>
        <p:sp>
          <p:nvSpPr>
            <p:cNvPr id="368" name=""/>
            <p:cNvSpPr/>
            <p:nvPr/>
          </p:nvSpPr>
          <p:spPr>
            <a:xfrm>
              <a:off x="5913360" y="2473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6840" y="2481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64120" y="4545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64120" y="2503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373" name="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72240" y="2174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381" name="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784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956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956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894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958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038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099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452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294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2124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28600" y="1828800"/>
            <a:ext cx="8686800" cy="4188960"/>
            <a:chOff x="228600" y="1828800"/>
            <a:chExt cx="8686800" cy="4188960"/>
          </a:xfrm>
        </p:grpSpPr>
        <p:grpSp>
          <p:nvGrpSpPr>
            <p:cNvPr id="394" name=""/>
            <p:cNvGrpSpPr/>
            <p:nvPr/>
          </p:nvGrpSpPr>
          <p:grpSpPr>
            <a:xfrm>
              <a:off x="228600" y="3238560"/>
              <a:ext cx="8686800" cy="113760"/>
              <a:chOff x="228600" y="3238560"/>
              <a:chExt cx="8686800" cy="113760"/>
            </a:xfrm>
          </p:grpSpPr>
          <p:sp>
            <p:nvSpPr>
              <p:cNvPr id="395" name=""/>
              <p:cNvSpPr/>
              <p:nvPr/>
            </p:nvSpPr>
            <p:spPr>
              <a:xfrm>
                <a:off x="228600" y="3238560"/>
                <a:ext cx="8686800" cy="44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28600" y="3282120"/>
                <a:ext cx="8686800" cy="7020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6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22438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22438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8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22438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22438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81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cxnSp>
            <p:nvCxnSpPr>
              <p:cNvPr id="485" name=""/>
              <p:cNvCxnSpPr>
                <a:stCxn id="481" idx="3"/>
                <a:endCxn id="482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6" name=""/>
              <p:cNvCxnSpPr>
                <a:stCxn id="482" idx="3"/>
                <a:endCxn id="483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7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8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abe72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522438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5224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91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93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4967c"/>
                  </a:gs>
                  <a:gs pos="100000">
                    <a:srgbClr val="24685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c4b6"/>
                  </a:gs>
                  <a:gs pos="50000">
                    <a:srgbClr val="34967c">
                      <a:alpha val="0"/>
                    </a:srgbClr>
                  </a:gs>
                  <a:gs pos="100000">
                    <a:srgbClr val="8fc4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498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00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c0cf98"/>
                  </a:gs>
                  <a:gs pos="100000">
                    <a:srgbClr val="aabe7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be72">
                      <a:alpha val="0"/>
                    </a:srgbClr>
                  </a:gs>
                  <a:gs pos="100000">
                    <a:srgbClr val="dae2c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522438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5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07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7ba8d"/>
                  </a:gs>
                  <a:gs pos="100000">
                    <a:srgbClr val="db944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944d">
                      <a:alpha val="0"/>
                    </a:srgbClr>
                  </a:gs>
                  <a:gs pos="100000">
                    <a:srgbClr val="ecca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6151680" y="29764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56080" y="29764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773440" y="29764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066680" y="29764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127520" y="1406160"/>
            <a:ext cx="6215400" cy="1324800"/>
            <a:chOff x="1127520" y="1406160"/>
            <a:chExt cx="6215400" cy="1324800"/>
          </a:xfrm>
        </p:grpSpPr>
        <p:sp>
          <p:nvSpPr>
            <p:cNvPr id="517" name=""/>
            <p:cNvSpPr/>
            <p:nvPr/>
          </p:nvSpPr>
          <p:spPr>
            <a:xfrm rot="3418800">
              <a:off x="1335240" y="161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aabe72"/>
                </a:gs>
                <a:gs pos="100000">
                  <a:srgbClr val="4e5734"/>
                </a:gs>
              </a:gsLst>
              <a:lin ang="1980000"/>
            </a:gradFill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2258280" y="1787400"/>
              <a:ext cx="901080" cy="124200"/>
              <a:chOff x="2258280" y="1787400"/>
              <a:chExt cx="901080" cy="124200"/>
            </a:xfrm>
          </p:grpSpPr>
          <p:sp>
            <p:nvSpPr>
              <p:cNvPr id="519" name=""/>
              <p:cNvSpPr/>
              <p:nvPr/>
            </p:nvSpPr>
            <p:spPr>
              <a:xfrm>
                <a:off x="225828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344680" y="17881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022920" y="17892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096000" y="18280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 rot="3418800">
              <a:off x="2999880" y="1551960"/>
              <a:ext cx="874080" cy="970920"/>
            </a:xfrm>
            <a:prstGeom prst="rect">
              <a:avLst/>
            </a:prstGeom>
            <a:solidFill>
              <a:srgbClr val="34967c"/>
            </a:solidFill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22920" y="1787400"/>
              <a:ext cx="901080" cy="124200"/>
              <a:chOff x="3922920" y="1787400"/>
              <a:chExt cx="901080" cy="124200"/>
            </a:xfrm>
          </p:grpSpPr>
          <p:sp>
            <p:nvSpPr>
              <p:cNvPr id="525" name=""/>
              <p:cNvSpPr/>
              <p:nvPr/>
            </p:nvSpPr>
            <p:spPr>
              <a:xfrm>
                <a:off x="392292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09320" y="17881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687560" y="17892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760640" y="18280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rot="3418800">
              <a:off x="4595760" y="15516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aabe72"/>
                </a:gs>
                <a:gs pos="100000">
                  <a:srgbClr val="4e5734"/>
                </a:gs>
              </a:gsLst>
              <a:lin ang="1980000"/>
            </a:gradFill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5587560" y="1787400"/>
              <a:ext cx="1178640" cy="124200"/>
              <a:chOff x="5587560" y="1787400"/>
              <a:chExt cx="1178640" cy="124200"/>
            </a:xfrm>
          </p:grpSpPr>
          <p:sp>
            <p:nvSpPr>
              <p:cNvPr id="531" name=""/>
              <p:cNvSpPr/>
              <p:nvPr/>
            </p:nvSpPr>
            <p:spPr>
              <a:xfrm>
                <a:off x="5587560" y="17874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00600" y="17881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87640" y="17892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683040" y="18280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 rot="3418800">
              <a:off x="6260400" y="1551600"/>
              <a:ext cx="874080" cy="971280"/>
            </a:xfrm>
            <a:prstGeom prst="rect">
              <a:avLst/>
            </a:prstGeom>
            <a:solidFill>
              <a:srgbClr val="34967c"/>
            </a:solidFill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4425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381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843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37956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4900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243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14280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243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83804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243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53364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243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838080" y="2232000"/>
          <a:ext cx="7467480" cy="3176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967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967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967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967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967c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48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c5d2a0"/>
                </a:gs>
                <a:gs pos="100000">
                  <a:srgbClr val="aabe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f5a4b"/>
                </a:gs>
                <a:gs pos="100000">
                  <a:srgbClr val="34967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765029"/>
                </a:gs>
                <a:gs pos="100000">
                  <a:srgbClr val="db944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60" name="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cc8ac"/>
                  </a:gs>
                  <a:gs pos="100000">
                    <a:srgbClr val="7179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565c4f"/>
                  </a:gs>
                  <a:gs pos="100000">
                    <a:srgbClr val="bcc8ac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5c4f"/>
                  </a:gs>
                  <a:gs pos="100000">
                    <a:srgbClr val="bcc8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522438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69" name=""/>
            <p:cNvSpPr/>
            <p:nvPr/>
          </p:nvSpPr>
          <p:spPr>
            <a:xfrm>
              <a:off x="1752480" y="221004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8600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22438"/>
                </a:gs>
                <a:gs pos="50000">
                  <a:srgbClr val="8f717e"/>
                </a:gs>
                <a:gs pos="100000">
                  <a:srgbClr val="522438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0352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b944d"/>
                      </a:gs>
                      <a:gs pos="100000">
                        <a:srgbClr val="8a5d3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b94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7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581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cc8ac"/>
                      </a:gs>
                      <a:gs pos="100000">
                        <a:srgbClr val="2d302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cc8a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4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678168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e72"/>
                    </a:gs>
                    <a:gs pos="100000">
                      <a:srgbClr val="56613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aabe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4967c"/>
                      </a:gs>
                      <a:gs pos="100000">
                        <a:srgbClr val="1a4c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34967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7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3800" y="237960"/>
            <a:ext cx="4651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b944d"/>
                </a:gs>
                <a:gs pos="50000">
                  <a:srgbClr val="f6e7d8"/>
                </a:gs>
                <a:gs pos="100000">
                  <a:srgbClr val="db944d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b94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4967c"/>
                </a:gs>
                <a:gs pos="50000">
                  <a:srgbClr val="d3e7e2"/>
                </a:gs>
                <a:gs pos="100000">
                  <a:srgbClr val="34967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4967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abe72"/>
                </a:gs>
                <a:gs pos="50000">
                  <a:srgbClr val="ecf0e0"/>
                </a:gs>
                <a:gs pos="100000">
                  <a:srgbClr val="aabe72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aabe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cc8ac"/>
                </a:gs>
                <a:gs pos="50000">
                  <a:srgbClr val="eff2ec"/>
                </a:gs>
                <a:gs pos="100000">
                  <a:srgbClr val="bcc8a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bcc8a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2243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DF063-34D7-4D0B-98CE-08CD54118B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2209680" y="2895480"/>
            <a:ext cx="4953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be72"/>
                    </a:gs>
                    <a:gs pos="100000">
                      <a:srgbClr val="522438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be72"/>
                  </a:gs>
                  <a:gs pos="100000">
                    <a:srgbClr val="522438"/>
                  </a:gs>
                </a:gsLst>
                <a:lin ang="1080000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6858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8520" y="1382400"/>
            <a:ext cx="770076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2243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2438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5224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2243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db944d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db944d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db944d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db944d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56272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22438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52243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5224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2243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522438"/>
                </a:solidFill>
                <a:latin typeface="Arial"/>
              </a:rPr>
              <a:t>Title Image : www.Themegallery.com</a:t>
            </a:r>
            <a:endParaRPr b="0" lang="en-US" sz="1000" spc="-1" strike="noStrike">
              <a:solidFill>
                <a:srgbClr val="52243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5224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2243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522438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52243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22438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522438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5224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9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7ba8d"/>
              </a:gs>
              <a:gs pos="100000">
                <a:srgbClr val="db94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3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c37"/>
                    </a:gs>
                    <a:gs pos="100000">
                      <a:srgbClr val="aabe7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e72"/>
                    </a:gs>
                    <a:gs pos="100000">
                      <a:srgbClr val="d8e1b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4967c"/>
                  </a:gs>
                  <a:gs pos="100000">
                    <a:srgbClr val="17453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7d9d0"/>
                  </a:gs>
                  <a:gs pos="100000">
                    <a:srgbClr val="34967c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34967c">
                      <a:alpha val="48235"/>
                    </a:srgbClr>
                  </a:gs>
                  <a:gs pos="100000">
                    <a:srgbClr val="29766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34967c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3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3e9d1"/>
              </a:gs>
              <a:gs pos="100000">
                <a:srgbClr val="aabe7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8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aabe72"/>
                </a:gs>
                <a:gs pos="100000">
                  <a:srgbClr val="3a412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4967c"/>
                </a:gs>
                <a:gs pos="100000">
                  <a:srgbClr val="102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b944d"/>
                </a:gs>
                <a:gs pos="100000">
                  <a:srgbClr val="4d34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bcc8ac"/>
                </a:gs>
                <a:gs pos="100000">
                  <a:srgbClr val="4044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22438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52243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cxnSp>
          <p:nvCxnSpPr>
            <p:cNvPr id="151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522438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22438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5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65c4f"/>
                </a:gs>
                <a:gs pos="50000">
                  <a:srgbClr val="bcc8ac"/>
                </a:gs>
                <a:gs pos="100000">
                  <a:srgbClr val="565c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65c4f"/>
                </a:gs>
                <a:gs pos="50000">
                  <a:srgbClr val="bcc8ac"/>
                </a:gs>
                <a:gs pos="100000">
                  <a:srgbClr val="565c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65c4f"/>
                </a:gs>
                <a:gs pos="50000">
                  <a:srgbClr val="bcc8ac"/>
                </a:gs>
                <a:gs pos="100000">
                  <a:srgbClr val="565c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4539"/>
                </a:gs>
                <a:gs pos="50000">
                  <a:srgbClr val="34967c"/>
                </a:gs>
                <a:gs pos="100000">
                  <a:srgbClr val="1745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e5734"/>
                </a:gs>
                <a:gs pos="50000">
                  <a:srgbClr val="aabe72"/>
                </a:gs>
                <a:gs pos="100000">
                  <a:srgbClr val="4e57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143000" y="1905120"/>
            <a:ext cx="6705720" cy="3352320"/>
            <a:chOff x="1143000" y="1905120"/>
            <a:chExt cx="6705720" cy="3352320"/>
          </a:xfrm>
        </p:grpSpPr>
        <p:grpSp>
          <p:nvGrpSpPr>
            <p:cNvPr id="175" name=""/>
            <p:cNvGrpSpPr/>
            <p:nvPr/>
          </p:nvGrpSpPr>
          <p:grpSpPr>
            <a:xfrm>
              <a:off x="3009240" y="1905120"/>
              <a:ext cx="2900160" cy="2705400"/>
              <a:chOff x="3009240" y="1905120"/>
              <a:chExt cx="2900160" cy="2705400"/>
            </a:xfrm>
          </p:grpSpPr>
          <p:sp>
            <p:nvSpPr>
              <p:cNvPr id="176" name=""/>
              <p:cNvSpPr/>
              <p:nvPr/>
            </p:nvSpPr>
            <p:spPr>
              <a:xfrm flipH="1" rot="16200000">
                <a:off x="2927880" y="29516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5400000">
                <a:off x="5531400" y="290088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rot="10800000">
                <a:off x="4238640" y="4304880"/>
                <a:ext cx="44424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05880" y="190512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38720" y="204012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60040" y="2166480"/>
                <a:ext cx="18190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aabe72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60040" y="2166480"/>
                <a:ext cx="18190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79560" y="228996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b663d"/>
                  </a:gs>
                  <a:gs pos="50000">
                    <a:srgbClr val="aabe72"/>
                  </a:gs>
                  <a:gs pos="100000">
                    <a:srgbClr val="5b663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679560" y="228996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143000" y="340308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44423"/>
                </a:gs>
                <a:gs pos="50000">
                  <a:srgbClr val="db944d"/>
                </a:gs>
                <a:gs pos="100000">
                  <a:srgbClr val="6444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3000" y="29034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44423"/>
                </a:gs>
                <a:gs pos="50000">
                  <a:srgbClr val="db944d"/>
                </a:gs>
                <a:gs pos="100000">
                  <a:srgbClr val="6444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43000" y="240444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44423"/>
                </a:gs>
                <a:gs pos="50000">
                  <a:srgbClr val="db944d"/>
                </a:gs>
                <a:gs pos="100000">
                  <a:srgbClr val="6444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20360" y="340308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539"/>
                </a:gs>
                <a:gs pos="50000">
                  <a:srgbClr val="34967c"/>
                </a:gs>
                <a:gs pos="100000">
                  <a:srgbClr val="1745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0360" y="29034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539"/>
                </a:gs>
                <a:gs pos="50000">
                  <a:srgbClr val="34967c"/>
                </a:gs>
                <a:gs pos="100000">
                  <a:srgbClr val="1745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20360" y="240444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539"/>
                </a:gs>
                <a:gs pos="50000">
                  <a:srgbClr val="34967c"/>
                </a:gs>
                <a:gs pos="100000">
                  <a:srgbClr val="1745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7532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02520" y="475848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2438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88320" y="2551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832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88320" y="355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85200" y="2551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8520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85200" y="355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1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5224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5224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5224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5224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2438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2438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2438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2438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15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4423"/>
                  </a:gs>
                  <a:gs pos="50000">
                    <a:srgbClr val="db944d"/>
                  </a:gs>
                  <a:gs pos="100000">
                    <a:srgbClr val="6444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db94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e5734"/>
                  </a:gs>
                  <a:gs pos="50000">
                    <a:srgbClr val="aabe72"/>
                  </a:gs>
                  <a:gs pos="100000">
                    <a:srgbClr val="4e573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aab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5c4f"/>
                  </a:gs>
                  <a:gs pos="50000">
                    <a:srgbClr val="bcc8ac"/>
                  </a:gs>
                  <a:gs pos="100000">
                    <a:srgbClr val="565c4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4539"/>
                  </a:gs>
                  <a:gs pos="50000">
                    <a:srgbClr val="34967c"/>
                  </a:gs>
                  <a:gs pos="100000">
                    <a:srgbClr val="17453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349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9e6a37"/>
                  </a:gs>
                  <a:gs pos="50000">
                    <a:srgbClr val="db944d"/>
                  </a:gs>
                  <a:gs pos="100000">
                    <a:srgbClr val="9e6a3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7a8952"/>
                  </a:gs>
                  <a:gs pos="50000">
                    <a:srgbClr val="aabe72"/>
                  </a:gs>
                  <a:gs pos="100000">
                    <a:srgbClr val="7a895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bcc8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87907c"/>
                  </a:gs>
                  <a:gs pos="50000">
                    <a:srgbClr val="bcc8ac"/>
                  </a:gs>
                  <a:gs pos="100000">
                    <a:srgbClr val="87907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256c59"/>
                  </a:gs>
                  <a:gs pos="50000">
                    <a:srgbClr val="34967c"/>
                  </a:gs>
                  <a:gs pos="100000">
                    <a:srgbClr val="256c5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abe72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522438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5224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1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abe72"/>
                </a:gs>
                <a:gs pos="100000">
                  <a:srgbClr val="b0c37e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b94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4423"/>
                </a:gs>
                <a:gs pos="50000">
                  <a:srgbClr val="db944d"/>
                </a:gs>
                <a:gs pos="100000">
                  <a:srgbClr val="6444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aab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5734"/>
                </a:gs>
                <a:gs pos="50000">
                  <a:srgbClr val="aabe72"/>
                </a:gs>
                <a:gs pos="100000">
                  <a:srgbClr val="4e57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cc8ac"/>
                </a:gs>
                <a:gs pos="100000">
                  <a:srgbClr val="d7dece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4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bcc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84d42"/>
                  </a:gs>
                  <a:gs pos="50000">
                    <a:srgbClr val="bcc8ac"/>
                  </a:gs>
                  <a:gs pos="100000">
                    <a:srgbClr val="484d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02:51:5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42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