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86B-FD41-4BF1-9F17-D11F92EF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3F1-8724-4458-AB5E-6C15E38A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39E-AD81-4E98-ACDA-48A15317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9A8-03C1-416D-9E98-7A0EB727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D72-18CA-485C-A6EB-B4F125D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215-FB99-45B6-BD95-149C737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1B1-EA64-4C6B-9A8C-B12F679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A33-459D-4CA5-B90D-E3DFC0DF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C91-77EC-465E-9E9E-1EBF247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7AD-05BA-47E0-BF91-5331659A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5DE-A2A0-4629-B674-63A095D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A7F-8155-4FC4-85DB-676EBA16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B51-BEC6-4166-A2E8-6761ADCF1B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8B8-CA74-42FA-BD63-BF032937DB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041200" y="-632520"/>
            <a:ext cx="12147120" cy="8223120"/>
            <a:chOff x="-2041200" y="-632520"/>
            <a:chExt cx="12147120" cy="8223120"/>
          </a:xfrm>
        </p:grpSpPr>
        <p:grpSp>
          <p:nvGrpSpPr>
            <p:cNvPr id="42" name=""/>
            <p:cNvGrpSpPr/>
            <p:nvPr/>
          </p:nvGrpSpPr>
          <p:grpSpPr>
            <a:xfrm>
              <a:off x="167040" y="3051720"/>
              <a:ext cx="4044960" cy="4538880"/>
              <a:chOff x="167040" y="3051720"/>
              <a:chExt cx="4044960" cy="4538880"/>
            </a:xfrm>
          </p:grpSpPr>
          <p:sp>
            <p:nvSpPr>
              <p:cNvPr id="43" name="直角三角形 120"/>
              <p:cNvSpPr/>
              <p:nvPr/>
            </p:nvSpPr>
            <p:spPr>
              <a:xfrm rot="8990400">
                <a:off x="344880" y="352944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角三角形 121"/>
              <p:cNvSpPr/>
              <p:nvPr/>
            </p:nvSpPr>
            <p:spPr>
              <a:xfrm rot="5358000">
                <a:off x="-260280" y="473472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角三角形 122"/>
              <p:cNvSpPr/>
              <p:nvPr/>
            </p:nvSpPr>
            <p:spPr>
              <a:xfrm rot="1804800">
                <a:off x="465480" y="582300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角三角形 123"/>
              <p:cNvSpPr/>
              <p:nvPr/>
            </p:nvSpPr>
            <p:spPr>
              <a:xfrm rot="19790400">
                <a:off x="1807920" y="580212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角三角形 124"/>
              <p:cNvSpPr/>
              <p:nvPr/>
            </p:nvSpPr>
            <p:spPr>
              <a:xfrm rot="16084200">
                <a:off x="2391120" y="463464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角三角形 125"/>
              <p:cNvSpPr/>
              <p:nvPr/>
            </p:nvSpPr>
            <p:spPr>
              <a:xfrm rot="12590400">
                <a:off x="1646640" y="352944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50080" y="2942640"/>
              <a:ext cx="4044960" cy="4538880"/>
              <a:chOff x="4150080" y="2942640"/>
              <a:chExt cx="4044960" cy="4538880"/>
            </a:xfrm>
          </p:grpSpPr>
          <p:sp>
            <p:nvSpPr>
              <p:cNvPr id="50" name="直角三角形 114"/>
              <p:cNvSpPr/>
              <p:nvPr/>
            </p:nvSpPr>
            <p:spPr>
              <a:xfrm rot="8990400">
                <a:off x="4327920" y="342036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角三角形 115"/>
              <p:cNvSpPr/>
              <p:nvPr/>
            </p:nvSpPr>
            <p:spPr>
              <a:xfrm rot="5358000">
                <a:off x="3722400" y="462564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角三角形 116"/>
              <p:cNvSpPr/>
              <p:nvPr/>
            </p:nvSpPr>
            <p:spPr>
              <a:xfrm rot="1804800">
                <a:off x="4448520" y="571392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角三角形 117"/>
              <p:cNvSpPr/>
              <p:nvPr/>
            </p:nvSpPr>
            <p:spPr>
              <a:xfrm rot="19790400">
                <a:off x="5790960" y="569304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角三角形 118"/>
              <p:cNvSpPr/>
              <p:nvPr/>
            </p:nvSpPr>
            <p:spPr>
              <a:xfrm rot="16084200">
                <a:off x="6374160" y="452556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角三角形 119"/>
              <p:cNvSpPr/>
              <p:nvPr/>
            </p:nvSpPr>
            <p:spPr>
              <a:xfrm rot="12590400">
                <a:off x="5629680" y="342036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981080" y="-532440"/>
              <a:ext cx="4044960" cy="4538520"/>
              <a:chOff x="1981080" y="-532440"/>
              <a:chExt cx="4044960" cy="4538520"/>
            </a:xfrm>
          </p:grpSpPr>
          <p:sp>
            <p:nvSpPr>
              <p:cNvPr id="57" name="直角三角形 108"/>
              <p:cNvSpPr/>
              <p:nvPr/>
            </p:nvSpPr>
            <p:spPr>
              <a:xfrm rot="8990400">
                <a:off x="2158920" y="-5472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角三角形 109"/>
              <p:cNvSpPr/>
              <p:nvPr/>
            </p:nvSpPr>
            <p:spPr>
              <a:xfrm rot="5358000">
                <a:off x="1553400" y="115056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角三角形 110"/>
              <p:cNvSpPr/>
              <p:nvPr/>
            </p:nvSpPr>
            <p:spPr>
              <a:xfrm rot="1804800">
                <a:off x="2279520" y="223848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角三角形 111"/>
              <p:cNvSpPr/>
              <p:nvPr/>
            </p:nvSpPr>
            <p:spPr>
              <a:xfrm rot="19790400">
                <a:off x="3621960" y="221760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角三角形 112"/>
              <p:cNvSpPr/>
              <p:nvPr/>
            </p:nvSpPr>
            <p:spPr>
              <a:xfrm rot="16084200">
                <a:off x="4205160" y="105012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113"/>
              <p:cNvSpPr/>
              <p:nvPr/>
            </p:nvSpPr>
            <p:spPr>
              <a:xfrm rot="12590400">
                <a:off x="3460680" y="-5436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060960" y="-632520"/>
              <a:ext cx="4044960" cy="4538520"/>
              <a:chOff x="6060960" y="-632520"/>
              <a:chExt cx="4044960" cy="4538520"/>
            </a:xfrm>
          </p:grpSpPr>
          <p:sp>
            <p:nvSpPr>
              <p:cNvPr id="64" name="直角三角形 127"/>
              <p:cNvSpPr/>
              <p:nvPr/>
            </p:nvSpPr>
            <p:spPr>
              <a:xfrm rot="8990400">
                <a:off x="6238800" y="-15480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128"/>
              <p:cNvSpPr/>
              <p:nvPr/>
            </p:nvSpPr>
            <p:spPr>
              <a:xfrm rot="5358000">
                <a:off x="5633280" y="105048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角三角形 129"/>
              <p:cNvSpPr/>
              <p:nvPr/>
            </p:nvSpPr>
            <p:spPr>
              <a:xfrm rot="1804800">
                <a:off x="6359400" y="213840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角三角形 130"/>
              <p:cNvSpPr/>
              <p:nvPr/>
            </p:nvSpPr>
            <p:spPr>
              <a:xfrm rot="19790400">
                <a:off x="7701840" y="211752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角三角形 131"/>
              <p:cNvSpPr/>
              <p:nvPr/>
            </p:nvSpPr>
            <p:spPr>
              <a:xfrm rot="16084200">
                <a:off x="8285040" y="95004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角三角形 132"/>
              <p:cNvSpPr/>
              <p:nvPr/>
            </p:nvSpPr>
            <p:spPr>
              <a:xfrm rot="12590400">
                <a:off x="7540560" y="-15444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-2041200" y="-486360"/>
              <a:ext cx="4044240" cy="4537800"/>
              <a:chOff x="-2041200" y="-486360"/>
              <a:chExt cx="4044240" cy="4537800"/>
            </a:xfrm>
          </p:grpSpPr>
          <p:sp>
            <p:nvSpPr>
              <p:cNvPr id="71" name="直角三角形 134"/>
              <p:cNvSpPr/>
              <p:nvPr/>
            </p:nvSpPr>
            <p:spPr>
              <a:xfrm rot="8990400">
                <a:off x="-1863000" y="-936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角三角形 135"/>
              <p:cNvSpPr/>
              <p:nvPr/>
            </p:nvSpPr>
            <p:spPr>
              <a:xfrm rot="5358000">
                <a:off x="-2468880" y="119592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角三角形 136"/>
              <p:cNvSpPr/>
              <p:nvPr/>
            </p:nvSpPr>
            <p:spPr>
              <a:xfrm rot="1804800">
                <a:off x="-1743120" y="228384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角三角形 137"/>
              <p:cNvSpPr/>
              <p:nvPr/>
            </p:nvSpPr>
            <p:spPr>
              <a:xfrm rot="19790400">
                <a:off x="-400680" y="2263320"/>
                <a:ext cx="2225880" cy="13086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角三角形 138"/>
              <p:cNvSpPr/>
              <p:nvPr/>
            </p:nvSpPr>
            <p:spPr>
              <a:xfrm rot="16084200">
                <a:off x="181800" y="109620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角三角形 139"/>
              <p:cNvSpPr/>
              <p:nvPr/>
            </p:nvSpPr>
            <p:spPr>
              <a:xfrm rot="12590400">
                <a:off x="-561960" y="-8280"/>
                <a:ext cx="226404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78" name="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79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86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93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100" name="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101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108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115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标题 1"/>
          <p:cNvSpPr/>
          <p:nvPr/>
        </p:nvSpPr>
        <p:spPr>
          <a:xfrm>
            <a:off x="649440" y="1851120"/>
            <a:ext cx="828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市场调查报告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2843280" y="241308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2"/>
          <p:cNvSpPr/>
          <p:nvPr/>
        </p:nvSpPr>
        <p:spPr>
          <a:xfrm>
            <a:off x="527040" y="46641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6732720" y="4856040"/>
            <a:ext cx="1492200" cy="324000"/>
          </a:xfrm>
          <a:prstGeom prst="rect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十二个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5197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4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-320760" y="-439560"/>
            <a:ext cx="9645840" cy="330804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5"/>
          <p:cNvSpPr/>
          <p:nvPr/>
        </p:nvSpPr>
        <p:spPr>
          <a:xfrm>
            <a:off x="2352600" y="21081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2352600" y="100188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2352600" y="138420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2352600" y="17463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26"/>
          <p:cNvSpPr/>
          <p:nvPr/>
        </p:nvSpPr>
        <p:spPr>
          <a:xfrm>
            <a:off x="2352600" y="247500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1"/>
          <p:cNvSpPr/>
          <p:nvPr/>
        </p:nvSpPr>
        <p:spPr>
          <a:xfrm flipV="1">
            <a:off x="2352600" y="1001520"/>
            <a:ext cx="1800" cy="185580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7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 flipH="1">
            <a:off x="1618560" y="2719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 flipH="1">
            <a:off x="1618560" y="2324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 flipH="1">
            <a:off x="1618560" y="19684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 flipH="1">
            <a:off x="1618560" y="15969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 flipH="1">
            <a:off x="1618560" y="1260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 flipH="1">
            <a:off x="1618560" y="863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82"/>
          <p:cNvSpPr/>
          <p:nvPr/>
        </p:nvSpPr>
        <p:spPr>
          <a:xfrm flipH="1">
            <a:off x="682200" y="2868480"/>
            <a:ext cx="1670040" cy="14288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87" descr=""/>
          <p:cNvPicPr/>
          <p:nvPr/>
        </p:nvPicPr>
        <p:blipFill>
          <a:blip r:embed="rId1"/>
          <a:stretch/>
        </p:blipFill>
        <p:spPr>
          <a:xfrm>
            <a:off x="2768760" y="1536840"/>
            <a:ext cx="3533760" cy="2943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8"/>
          <p:cNvSpPr/>
          <p:nvPr/>
        </p:nvSpPr>
        <p:spPr>
          <a:xfrm>
            <a:off x="4829760" y="9144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49" name="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50" name="直角三角形 105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角三角形 106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角三角形 107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角三角形 108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角三角形 109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角三角形 110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157" name="直角三角形 99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角三角形 100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角三角形 101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角三角形 102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角三角形 103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角三角形 104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164" name="直角三角形 93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角三角形 94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角三角形 95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角三角形 96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角三角形 97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角三角形 98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1603440" y="26748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27"/>
          <p:cNvSpPr/>
          <p:nvPr/>
        </p:nvSpPr>
        <p:spPr>
          <a:xfrm>
            <a:off x="-237960" y="-450720"/>
            <a:ext cx="9644040" cy="33084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533760" y="1633680"/>
            <a:ext cx="2160720" cy="2160360"/>
            <a:chOff x="3533760" y="1633680"/>
            <a:chExt cx="2160720" cy="2160360"/>
          </a:xfrm>
        </p:grpSpPr>
        <p:sp>
          <p:nvSpPr>
            <p:cNvPr id="173" name="十二边形 22"/>
            <p:cNvSpPr/>
            <p:nvPr/>
          </p:nvSpPr>
          <p:spPr>
            <a:xfrm>
              <a:off x="3533760" y="1633680"/>
              <a:ext cx="2160720" cy="2160360"/>
            </a:xfrm>
            <a:prstGeom prst="pi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23"/>
            <p:cNvSpPr/>
            <p:nvPr/>
          </p:nvSpPr>
          <p:spPr>
            <a:xfrm>
              <a:off x="3729960" y="1829880"/>
              <a:ext cx="1767960" cy="1767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24"/>
            <p:cNvSpPr/>
            <p:nvPr/>
          </p:nvSpPr>
          <p:spPr>
            <a:xfrm>
              <a:off x="3975480" y="2075400"/>
              <a:ext cx="1276920" cy="127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饼形 25"/>
            <p:cNvSpPr/>
            <p:nvPr/>
          </p:nvSpPr>
          <p:spPr>
            <a:xfrm>
              <a:off x="3729960" y="1833480"/>
              <a:ext cx="1767960" cy="1767600"/>
            </a:xfrm>
            <a:prstGeom prst="pie">
              <a:avLst/>
            </a:prstGeom>
            <a:solidFill>
              <a:srgbClr val="205867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饼形 26"/>
            <p:cNvSpPr/>
            <p:nvPr/>
          </p:nvSpPr>
          <p:spPr>
            <a:xfrm>
              <a:off x="3729960" y="1833480"/>
              <a:ext cx="1767960" cy="1767600"/>
            </a:xfrm>
            <a:prstGeom prst="pie">
              <a:avLst/>
            </a:prstGeom>
            <a:solidFill>
              <a:srgbClr val="4f6128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8" name="肘形连接符 2"/>
          <p:cNvCxnSpPr/>
          <p:nvPr/>
        </p:nvCxnSpPr>
        <p:spPr>
          <a:xfrm flipV="1" rot="10800000">
            <a:off x="799560" y="3040560"/>
            <a:ext cx="3385080" cy="361080"/>
          </a:xfrm>
          <a:prstGeom prst="bentConnector3">
            <a:avLst>
              <a:gd name="adj1" fmla="val 33950"/>
            </a:avLst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diamond" w="med"/>
          </a:ln>
        </p:spPr>
      </p:cxnSp>
      <p:sp>
        <p:nvSpPr>
          <p:cNvPr id="179" name="TextBox 30"/>
          <p:cNvSpPr/>
          <p:nvPr/>
        </p:nvSpPr>
        <p:spPr>
          <a:xfrm>
            <a:off x="1731240" y="296532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3"/>
          <p:cNvSpPr/>
          <p:nvPr/>
        </p:nvSpPr>
        <p:spPr>
          <a:xfrm>
            <a:off x="804960" y="2641680"/>
            <a:ext cx="622080" cy="63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肘形连接符 35"/>
          <p:cNvCxnSpPr/>
          <p:nvPr/>
        </p:nvCxnSpPr>
        <p:spPr>
          <a:xfrm rot="10800000">
            <a:off x="804240" y="2064600"/>
            <a:ext cx="3226320" cy="450000"/>
          </a:xfrm>
          <a:prstGeom prst="bentConnector3">
            <a:avLst>
              <a:gd name="adj1" fmla="val 38477"/>
            </a:avLst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diamond" w="med"/>
          </a:ln>
        </p:spPr>
      </p:cxnSp>
      <p:sp>
        <p:nvSpPr>
          <p:cNvPr id="182" name="TextBox 37"/>
          <p:cNvSpPr/>
          <p:nvPr/>
        </p:nvSpPr>
        <p:spPr>
          <a:xfrm>
            <a:off x="1762200" y="165888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选中中间的图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比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8"/>
          <p:cNvSpPr/>
          <p:nvPr/>
        </p:nvSpPr>
        <p:spPr>
          <a:xfrm>
            <a:off x="835200" y="1335240"/>
            <a:ext cx="622080" cy="63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肘形连接符 41"/>
          <p:cNvCxnSpPr/>
          <p:nvPr/>
        </p:nvCxnSpPr>
        <p:spPr>
          <a:xfrm flipV="1">
            <a:off x="5219640" y="2074320"/>
            <a:ext cx="3432960" cy="624600"/>
          </a:xfrm>
          <a:prstGeom prst="bentConnector3">
            <a:avLst>
              <a:gd name="adj1" fmla="val 47215"/>
            </a:avLst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diamond" w="med"/>
          </a:ln>
        </p:spPr>
      </p:cxnSp>
      <p:sp>
        <p:nvSpPr>
          <p:cNvPr id="185" name="TextBox 42"/>
          <p:cNvSpPr/>
          <p:nvPr/>
        </p:nvSpPr>
        <p:spPr>
          <a:xfrm>
            <a:off x="7754040" y="163836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占有的比例可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，只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3"/>
          <p:cNvSpPr/>
          <p:nvPr/>
        </p:nvSpPr>
        <p:spPr>
          <a:xfrm>
            <a:off x="6942240" y="1335240"/>
            <a:ext cx="623880" cy="63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6"/>
          <p:cNvSpPr/>
          <p:nvPr/>
        </p:nvSpPr>
        <p:spPr>
          <a:xfrm>
            <a:off x="4047480" y="2344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7"/>
          <p:cNvSpPr/>
          <p:nvPr/>
        </p:nvSpPr>
        <p:spPr>
          <a:xfrm>
            <a:off x="4179240" y="2857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8"/>
          <p:cNvSpPr/>
          <p:nvPr/>
        </p:nvSpPr>
        <p:spPr>
          <a:xfrm>
            <a:off x="4607640" y="25480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53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4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5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56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7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96" name="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97" name="直角三角形 74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角三角形 75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角三角形 76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角三角形 77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角三角形 78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角三角形 79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04" name="直角三角形 68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角三角形 69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70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71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角三角形 72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角三角形 73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11" name="直角三角形 62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角三角形 63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角三角形 64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角三角形 65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角三角形 66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角三角形 67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7"/>
          <p:cNvSpPr/>
          <p:nvPr/>
        </p:nvSpPr>
        <p:spPr>
          <a:xfrm>
            <a:off x="-237960" y="-450720"/>
            <a:ext cx="9644040" cy="33084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43280" y="696960"/>
            <a:ext cx="2707920" cy="1757160"/>
            <a:chOff x="1943280" y="696960"/>
            <a:chExt cx="2707920" cy="1757160"/>
          </a:xfrm>
        </p:grpSpPr>
        <p:sp>
          <p:nvSpPr>
            <p:cNvPr id="219" name="矩形 88"/>
            <p:cNvSpPr/>
            <p:nvPr/>
          </p:nvSpPr>
          <p:spPr>
            <a:xfrm>
              <a:off x="1943280" y="1552680"/>
              <a:ext cx="1754640" cy="901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89"/>
            <p:cNvSpPr/>
            <p:nvPr/>
          </p:nvSpPr>
          <p:spPr>
            <a:xfrm>
              <a:off x="2645280" y="1498680"/>
              <a:ext cx="2005920" cy="925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90"/>
            <p:cNvSpPr/>
            <p:nvPr/>
          </p:nvSpPr>
          <p:spPr>
            <a:xfrm>
              <a:off x="2668680" y="696960"/>
              <a:ext cx="1201320" cy="1192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127160" y="2108160"/>
            <a:ext cx="1941480" cy="1258920"/>
            <a:chOff x="1127160" y="2108160"/>
            <a:chExt cx="1941480" cy="1258920"/>
          </a:xfrm>
        </p:grpSpPr>
        <p:sp>
          <p:nvSpPr>
            <p:cNvPr id="223" name="矩形 84"/>
            <p:cNvSpPr/>
            <p:nvPr/>
          </p:nvSpPr>
          <p:spPr>
            <a:xfrm>
              <a:off x="1127160" y="2721240"/>
              <a:ext cx="1258200" cy="6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85"/>
            <p:cNvSpPr/>
            <p:nvPr/>
          </p:nvSpPr>
          <p:spPr>
            <a:xfrm>
              <a:off x="1630440" y="2682720"/>
              <a:ext cx="1438200" cy="66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86"/>
            <p:cNvSpPr/>
            <p:nvPr/>
          </p:nvSpPr>
          <p:spPr>
            <a:xfrm>
              <a:off x="1647360" y="2108160"/>
              <a:ext cx="861480" cy="85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66560" y="3110040"/>
            <a:ext cx="1405080" cy="911160"/>
            <a:chOff x="466560" y="3110040"/>
            <a:chExt cx="1405080" cy="911160"/>
          </a:xfrm>
        </p:grpSpPr>
        <p:sp>
          <p:nvSpPr>
            <p:cNvPr id="227" name="矩形 80"/>
            <p:cNvSpPr/>
            <p:nvPr/>
          </p:nvSpPr>
          <p:spPr>
            <a:xfrm>
              <a:off x="466560" y="3553560"/>
              <a:ext cx="910440" cy="46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81"/>
            <p:cNvSpPr/>
            <p:nvPr/>
          </p:nvSpPr>
          <p:spPr>
            <a:xfrm>
              <a:off x="830880" y="3525840"/>
              <a:ext cx="1040760" cy="47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2"/>
            <p:cNvSpPr/>
            <p:nvPr/>
          </p:nvSpPr>
          <p:spPr>
            <a:xfrm>
              <a:off x="843120" y="3110040"/>
              <a:ext cx="623520" cy="618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3400" y="2970360"/>
            <a:ext cx="598680" cy="471240"/>
            <a:chOff x="833400" y="2970360"/>
            <a:chExt cx="598680" cy="471240"/>
          </a:xfrm>
        </p:grpSpPr>
        <p:pic>
          <p:nvPicPr>
            <p:cNvPr id="231" name="Picture 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006560" y="2970360"/>
              <a:ext cx="2520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180080" y="3028320"/>
              <a:ext cx="2520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33400" y="3034080"/>
              <a:ext cx="252000" cy="40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" descr=""/>
          <p:cNvPicPr/>
          <p:nvPr/>
        </p:nvPicPr>
        <p:blipFill>
          <a:blip r:embed="rId4"/>
          <a:stretch/>
        </p:blipFill>
        <p:spPr>
          <a:xfrm>
            <a:off x="1790640" y="2039760"/>
            <a:ext cx="612720" cy="58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16360" y="909720"/>
            <a:ext cx="706320" cy="574560"/>
          </a:xfrm>
          <a:prstGeom prst="rect">
            <a:avLst/>
          </a:prstGeom>
          <a:ln w="0">
            <a:noFill/>
          </a:ln>
        </p:spPr>
      </p:pic>
      <p:sp>
        <p:nvSpPr>
          <p:cNvPr id="236" name="直接连接符 102"/>
          <p:cNvSpPr/>
          <p:nvPr/>
        </p:nvSpPr>
        <p:spPr>
          <a:xfrm>
            <a:off x="2077920" y="2746440"/>
            <a:ext cx="6239160" cy="0"/>
          </a:xfrm>
          <a:prstGeom prst="line">
            <a:avLst/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03"/>
          <p:cNvSpPr/>
          <p:nvPr/>
        </p:nvSpPr>
        <p:spPr>
          <a:xfrm flipV="1">
            <a:off x="1154160" y="3493800"/>
            <a:ext cx="7162920" cy="12600"/>
          </a:xfrm>
          <a:prstGeom prst="line">
            <a:avLst/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肘形连接符 104"/>
          <p:cNvCxnSpPr/>
          <p:nvPr/>
        </p:nvCxnSpPr>
        <p:spPr>
          <a:xfrm rot="10800000">
            <a:off x="3264840" y="1599480"/>
            <a:ext cx="5052240" cy="440280"/>
          </a:xfrm>
          <a:prstGeom prst="bentConnector3">
            <a:avLst>
              <a:gd name="adj1" fmla="val 79220"/>
            </a:avLst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diamond" w="med"/>
          </a:ln>
        </p:spPr>
      </p:cxnSp>
      <p:sp>
        <p:nvSpPr>
          <p:cNvPr id="239" name="TextBox 114"/>
          <p:cNvSpPr/>
          <p:nvPr/>
        </p:nvSpPr>
        <p:spPr>
          <a:xfrm>
            <a:off x="5821560" y="163188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15"/>
          <p:cNvSpPr/>
          <p:nvPr/>
        </p:nvSpPr>
        <p:spPr>
          <a:xfrm>
            <a:off x="4708440" y="1327320"/>
            <a:ext cx="622440" cy="63792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6"/>
          <p:cNvSpPr/>
          <p:nvPr/>
        </p:nvSpPr>
        <p:spPr>
          <a:xfrm>
            <a:off x="5821560" y="235260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7"/>
          <p:cNvSpPr/>
          <p:nvPr/>
        </p:nvSpPr>
        <p:spPr>
          <a:xfrm>
            <a:off x="4708440" y="2065320"/>
            <a:ext cx="622440" cy="6382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8"/>
          <p:cNvSpPr/>
          <p:nvPr/>
        </p:nvSpPr>
        <p:spPr>
          <a:xfrm>
            <a:off x="5821560" y="313056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19"/>
          <p:cNvSpPr/>
          <p:nvPr/>
        </p:nvSpPr>
        <p:spPr>
          <a:xfrm>
            <a:off x="4708440" y="2825640"/>
            <a:ext cx="622440" cy="63828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120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1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2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23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4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51" name="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52" name="直角三角形 1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角三角形 1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角三角形 1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角三角形 1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角三角形 1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角三角形 1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59" name="直角三角形 1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直角三角形 1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角三角形 1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角三角形 1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角三角形 1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角三角形 1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66" name="直角三角形 1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角三角形 1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角三角形 1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角三角形 1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角三角形 1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角三角形 1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7"/>
          <p:cNvSpPr/>
          <p:nvPr/>
        </p:nvSpPr>
        <p:spPr>
          <a:xfrm>
            <a:off x="-237960" y="-450720"/>
            <a:ext cx="9644040" cy="33084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140360" y="768240"/>
            <a:ext cx="4321080" cy="1944720"/>
            <a:chOff x="4140360" y="768240"/>
            <a:chExt cx="4321080" cy="1944720"/>
          </a:xfrm>
        </p:grpSpPr>
        <p:sp>
          <p:nvSpPr>
            <p:cNvPr id="275" name="矩形 49"/>
            <p:cNvSpPr/>
            <p:nvPr/>
          </p:nvSpPr>
          <p:spPr>
            <a:xfrm>
              <a:off x="4140360" y="768240"/>
              <a:ext cx="2160360" cy="19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50"/>
            <p:cNvSpPr/>
            <p:nvPr/>
          </p:nvSpPr>
          <p:spPr>
            <a:xfrm>
              <a:off x="6300720" y="76824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27040" y="2496960"/>
            <a:ext cx="4321080" cy="1944720"/>
            <a:chOff x="527040" y="2496960"/>
            <a:chExt cx="4321080" cy="1944720"/>
          </a:xfrm>
        </p:grpSpPr>
        <p:sp>
          <p:nvSpPr>
            <p:cNvPr id="278" name="矩形 1"/>
            <p:cNvSpPr/>
            <p:nvPr/>
          </p:nvSpPr>
          <p:spPr>
            <a:xfrm>
              <a:off x="527040" y="2496960"/>
              <a:ext cx="216036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47"/>
            <p:cNvSpPr/>
            <p:nvPr/>
          </p:nvSpPr>
          <p:spPr>
            <a:xfrm>
              <a:off x="2687400" y="249696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12"/>
          <p:cNvSpPr/>
          <p:nvPr/>
        </p:nvSpPr>
        <p:spPr>
          <a:xfrm>
            <a:off x="3107880" y="271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1"/>
          <p:cNvSpPr/>
          <p:nvPr/>
        </p:nvSpPr>
        <p:spPr>
          <a:xfrm>
            <a:off x="3151440" y="32180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2"/>
          <p:cNvSpPr/>
          <p:nvPr/>
        </p:nvSpPr>
        <p:spPr>
          <a:xfrm>
            <a:off x="6712920" y="977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3"/>
          <p:cNvSpPr/>
          <p:nvPr/>
        </p:nvSpPr>
        <p:spPr>
          <a:xfrm>
            <a:off x="6755760" y="14828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539640" y="768240"/>
            <a:ext cx="1776600" cy="116532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6"/>
          <p:cNvSpPr/>
          <p:nvPr/>
        </p:nvSpPr>
        <p:spPr>
          <a:xfrm>
            <a:off x="6694560" y="3276720"/>
            <a:ext cx="1766880" cy="1164960"/>
          </a:xfrm>
          <a:prstGeom prst="rect">
            <a:avLst/>
          </a:prstGeom>
          <a:blipFill rotWithShape="0">
            <a:blip r:embed="rId4">
              <a:alphaModFix amt="56000"/>
            </a:blip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92" name="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93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00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07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27"/>
          <p:cNvSpPr/>
          <p:nvPr/>
        </p:nvSpPr>
        <p:spPr>
          <a:xfrm>
            <a:off x="-237960" y="-450720"/>
            <a:ext cx="9644040" cy="33084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9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2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3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20" name="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21" name="直角三角形 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角三角形 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角三角形 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角三角形 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角三角形 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角三角形 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28" name="直角三角形 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角三角形 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角三角形 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角三角形 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角三角形 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角三角形 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35" name="直角三角形 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角三角形 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角三角形 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角三角形 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角三角形 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角三角形 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立方体 82"/>
          <p:cNvSpPr/>
          <p:nvPr/>
        </p:nvSpPr>
        <p:spPr>
          <a:xfrm>
            <a:off x="1908000" y="2496960"/>
            <a:ext cx="925560" cy="8654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83"/>
          <p:cNvSpPr/>
          <p:nvPr/>
        </p:nvSpPr>
        <p:spPr>
          <a:xfrm>
            <a:off x="1609560" y="280044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84"/>
          <p:cNvSpPr/>
          <p:nvPr/>
        </p:nvSpPr>
        <p:spPr>
          <a:xfrm>
            <a:off x="1727280" y="203976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立方体 96"/>
          <p:cNvSpPr/>
          <p:nvPr/>
        </p:nvSpPr>
        <p:spPr>
          <a:xfrm>
            <a:off x="466560" y="2422440"/>
            <a:ext cx="3384720" cy="636840"/>
          </a:xfrm>
          <a:prstGeom prst="cube">
            <a:avLst>
              <a:gd name="adj" fmla="val 25000"/>
            </a:avLst>
          </a:prstGeom>
          <a:solidFill>
            <a:srgbClr val="e0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立方体 85"/>
          <p:cNvSpPr/>
          <p:nvPr/>
        </p:nvSpPr>
        <p:spPr>
          <a:xfrm>
            <a:off x="1305000" y="3059280"/>
            <a:ext cx="925560" cy="86328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立方体 86"/>
          <p:cNvSpPr/>
          <p:nvPr/>
        </p:nvSpPr>
        <p:spPr>
          <a:xfrm>
            <a:off x="993600" y="33624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立方体 87"/>
          <p:cNvSpPr/>
          <p:nvPr/>
        </p:nvSpPr>
        <p:spPr>
          <a:xfrm>
            <a:off x="981000" y="273852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00000" y="878040"/>
            <a:ext cx="1827360" cy="2185920"/>
            <a:chOff x="900000" y="878040"/>
            <a:chExt cx="1827360" cy="2185920"/>
          </a:xfrm>
        </p:grpSpPr>
        <p:sp>
          <p:nvSpPr>
            <p:cNvPr id="349" name="立方体 90"/>
            <p:cNvSpPr/>
            <p:nvPr/>
          </p:nvSpPr>
          <p:spPr>
            <a:xfrm>
              <a:off x="1801800" y="1335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立方体 91"/>
            <p:cNvSpPr/>
            <p:nvPr/>
          </p:nvSpPr>
          <p:spPr>
            <a:xfrm>
              <a:off x="1503720" y="16387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立方体 92"/>
            <p:cNvSpPr/>
            <p:nvPr/>
          </p:nvSpPr>
          <p:spPr>
            <a:xfrm>
              <a:off x="1621800" y="87804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立方体 93"/>
            <p:cNvSpPr/>
            <p:nvPr/>
          </p:nvSpPr>
          <p:spPr>
            <a:xfrm>
              <a:off x="1198080" y="189720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立方体 95"/>
            <p:cNvSpPr/>
            <p:nvPr/>
          </p:nvSpPr>
          <p:spPr>
            <a:xfrm>
              <a:off x="1017720" y="14389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立方体 94"/>
            <p:cNvSpPr/>
            <p:nvPr/>
          </p:nvSpPr>
          <p:spPr>
            <a:xfrm>
              <a:off x="900000" y="2199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16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717640" y="2422440"/>
            <a:ext cx="984240" cy="174600"/>
          </a:xfrm>
          <a:prstGeom prst="rect">
            <a:avLst/>
          </a:prstGeom>
          <a:ln w="0">
            <a:noFill/>
          </a:ln>
        </p:spPr>
      </p:pic>
      <p:sp>
        <p:nvSpPr>
          <p:cNvPr id="356" name="椭圆 99"/>
          <p:cNvSpPr/>
          <p:nvPr/>
        </p:nvSpPr>
        <p:spPr>
          <a:xfrm rot="10955400">
            <a:off x="2733480" y="1439280"/>
            <a:ext cx="950760" cy="95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744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0"/>
          <p:cNvSpPr/>
          <p:nvPr/>
        </p:nvSpPr>
        <p:spPr>
          <a:xfrm>
            <a:off x="3022200" y="16048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645080" y="696960"/>
            <a:ext cx="2835720" cy="720720"/>
            <a:chOff x="4645080" y="696960"/>
            <a:chExt cx="2835720" cy="720720"/>
          </a:xfrm>
        </p:grpSpPr>
        <p:sp>
          <p:nvSpPr>
            <p:cNvPr id="359" name="矩形 103"/>
            <p:cNvSpPr/>
            <p:nvPr/>
          </p:nvSpPr>
          <p:spPr>
            <a:xfrm>
              <a:off x="4645080" y="696960"/>
              <a:ext cx="720000" cy="720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106"/>
            <p:cNvSpPr/>
            <p:nvPr/>
          </p:nvSpPr>
          <p:spPr>
            <a:xfrm>
              <a:off x="6019920" y="79524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45080" y="1712880"/>
            <a:ext cx="2835720" cy="720720"/>
            <a:chOff x="4645080" y="1712880"/>
            <a:chExt cx="2835720" cy="720720"/>
          </a:xfrm>
        </p:grpSpPr>
        <p:sp>
          <p:nvSpPr>
            <p:cNvPr id="362" name="矩形 111"/>
            <p:cNvSpPr/>
            <p:nvPr/>
          </p:nvSpPr>
          <p:spPr>
            <a:xfrm>
              <a:off x="4645080" y="1712880"/>
              <a:ext cx="720000" cy="72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12"/>
            <p:cNvSpPr/>
            <p:nvPr/>
          </p:nvSpPr>
          <p:spPr>
            <a:xfrm>
              <a:off x="6019920" y="18111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645080" y="2728800"/>
            <a:ext cx="2835720" cy="720720"/>
            <a:chOff x="4645080" y="2728800"/>
            <a:chExt cx="2835720" cy="720720"/>
          </a:xfrm>
        </p:grpSpPr>
        <p:sp>
          <p:nvSpPr>
            <p:cNvPr id="365" name="矩形 114"/>
            <p:cNvSpPr/>
            <p:nvPr/>
          </p:nvSpPr>
          <p:spPr>
            <a:xfrm>
              <a:off x="4645080" y="2728800"/>
              <a:ext cx="720000" cy="72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15"/>
            <p:cNvSpPr/>
            <p:nvPr/>
          </p:nvSpPr>
          <p:spPr>
            <a:xfrm>
              <a:off x="6019920" y="282708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45080" y="3745080"/>
            <a:ext cx="2835720" cy="720720"/>
            <a:chOff x="4645080" y="3745080"/>
            <a:chExt cx="2835720" cy="720720"/>
          </a:xfrm>
        </p:grpSpPr>
        <p:sp>
          <p:nvSpPr>
            <p:cNvPr id="368" name="矩形 117"/>
            <p:cNvSpPr/>
            <p:nvPr/>
          </p:nvSpPr>
          <p:spPr>
            <a:xfrm>
              <a:off x="4645080" y="3745080"/>
              <a:ext cx="720000" cy="720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118"/>
            <p:cNvSpPr/>
            <p:nvPr/>
          </p:nvSpPr>
          <p:spPr>
            <a:xfrm>
              <a:off x="6019920" y="38433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27"/>
          <p:cNvSpPr/>
          <p:nvPr/>
        </p:nvSpPr>
        <p:spPr>
          <a:xfrm>
            <a:off x="-237960" y="-450720"/>
            <a:ext cx="9644040" cy="33084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78" name="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79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86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93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9" name="图片 4" descr=""/>
          <p:cNvPicPr/>
          <p:nvPr/>
        </p:nvPicPr>
        <p:blipFill>
          <a:blip r:embed="rId1"/>
          <a:stretch/>
        </p:blipFill>
        <p:spPr>
          <a:xfrm>
            <a:off x="5508720" y="1446120"/>
            <a:ext cx="2879640" cy="2527560"/>
          </a:xfrm>
          <a:prstGeom prst="rect">
            <a:avLst/>
          </a:prstGeom>
          <a:ln w="0">
            <a:noFill/>
          </a:ln>
        </p:spPr>
      </p:pic>
      <p:sp>
        <p:nvSpPr>
          <p:cNvPr id="400" name="椭圆 5"/>
          <p:cNvSpPr/>
          <p:nvPr/>
        </p:nvSpPr>
        <p:spPr>
          <a:xfrm>
            <a:off x="3763800" y="3203640"/>
            <a:ext cx="1471680" cy="146988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45"/>
          <p:cNvSpPr/>
          <p:nvPr/>
        </p:nvSpPr>
        <p:spPr>
          <a:xfrm flipH="1">
            <a:off x="5235120" y="3203640"/>
            <a:ext cx="1281240" cy="7351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55"/>
          <p:cNvSpPr/>
          <p:nvPr/>
        </p:nvSpPr>
        <p:spPr>
          <a:xfrm>
            <a:off x="3763800" y="668160"/>
            <a:ext cx="1471680" cy="147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84"/>
          <p:cNvSpPr/>
          <p:nvPr/>
        </p:nvSpPr>
        <p:spPr>
          <a:xfrm flipH="1" flipV="1">
            <a:off x="5235480" y="1403280"/>
            <a:ext cx="1209600" cy="8064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86"/>
          <p:cNvSpPr/>
          <p:nvPr/>
        </p:nvSpPr>
        <p:spPr>
          <a:xfrm>
            <a:off x="833400" y="1633680"/>
            <a:ext cx="2246400" cy="2246040"/>
          </a:xfrm>
          <a:prstGeom prst="ellipse">
            <a:avLst/>
          </a:prstGeom>
          <a:solidFill>
            <a:srgbClr val="c5d8f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87"/>
          <p:cNvSpPr/>
          <p:nvPr/>
        </p:nvSpPr>
        <p:spPr>
          <a:xfrm flipH="1">
            <a:off x="3079440" y="2755800"/>
            <a:ext cx="3436920" cy="18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8"/>
          <p:cNvSpPr/>
          <p:nvPr/>
        </p:nvSpPr>
        <p:spPr>
          <a:xfrm>
            <a:off x="3959280" y="92556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9"/>
          <p:cNvSpPr/>
          <p:nvPr/>
        </p:nvSpPr>
        <p:spPr>
          <a:xfrm>
            <a:off x="3959280" y="34606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0"/>
          <p:cNvSpPr/>
          <p:nvPr/>
        </p:nvSpPr>
        <p:spPr>
          <a:xfrm>
            <a:off x="1181160" y="2279520"/>
            <a:ext cx="155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在这里添加标题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6360" y="444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CE9-D355-4A59-BB34-8EB5BC961C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-408600" y="-598320"/>
            <a:ext cx="10020600" cy="6714720"/>
            <a:chOff x="-408600" y="-598320"/>
            <a:chExt cx="10020600" cy="6714720"/>
          </a:xfrm>
        </p:grpSpPr>
        <p:grpSp>
          <p:nvGrpSpPr>
            <p:cNvPr id="414" name=""/>
            <p:cNvGrpSpPr/>
            <p:nvPr/>
          </p:nvGrpSpPr>
          <p:grpSpPr>
            <a:xfrm>
              <a:off x="1418400" y="2396160"/>
              <a:ext cx="3319560" cy="3720240"/>
              <a:chOff x="1418400" y="2396160"/>
              <a:chExt cx="3319560" cy="3720240"/>
            </a:xfrm>
          </p:grpSpPr>
          <p:sp>
            <p:nvSpPr>
              <p:cNvPr id="415" name="直角三角形 120"/>
              <p:cNvSpPr/>
              <p:nvPr/>
            </p:nvSpPr>
            <p:spPr>
              <a:xfrm rot="8990400">
                <a:off x="1560600" y="280008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角三角形 121"/>
              <p:cNvSpPr/>
              <p:nvPr/>
            </p:nvSpPr>
            <p:spPr>
              <a:xfrm rot="5358000">
                <a:off x="1070280" y="377892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角三角形 122"/>
              <p:cNvSpPr/>
              <p:nvPr/>
            </p:nvSpPr>
            <p:spPr>
              <a:xfrm rot="1804800">
                <a:off x="1661400" y="466308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角三角形 123"/>
              <p:cNvSpPr/>
              <p:nvPr/>
            </p:nvSpPr>
            <p:spPr>
              <a:xfrm rot="19790400">
                <a:off x="2751480" y="464616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角三角形 124"/>
              <p:cNvSpPr/>
              <p:nvPr/>
            </p:nvSpPr>
            <p:spPr>
              <a:xfrm rot="16084200">
                <a:off x="3255120" y="368064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角三角形 125"/>
              <p:cNvSpPr/>
              <p:nvPr/>
            </p:nvSpPr>
            <p:spPr>
              <a:xfrm rot="12590400">
                <a:off x="2648880" y="278352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712400" y="2307600"/>
              <a:ext cx="3319560" cy="3720240"/>
              <a:chOff x="4712400" y="2307600"/>
              <a:chExt cx="3319560" cy="3720240"/>
            </a:xfrm>
          </p:grpSpPr>
          <p:sp>
            <p:nvSpPr>
              <p:cNvPr id="422" name="直角三角形 114"/>
              <p:cNvSpPr/>
              <p:nvPr/>
            </p:nvSpPr>
            <p:spPr>
              <a:xfrm rot="8990400">
                <a:off x="4854600" y="271152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角三角形 115"/>
              <p:cNvSpPr/>
              <p:nvPr/>
            </p:nvSpPr>
            <p:spPr>
              <a:xfrm rot="5358000">
                <a:off x="4364280" y="369036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角三角形 116"/>
              <p:cNvSpPr/>
              <p:nvPr/>
            </p:nvSpPr>
            <p:spPr>
              <a:xfrm rot="1804800">
                <a:off x="4955400" y="457452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角三角形 117"/>
              <p:cNvSpPr/>
              <p:nvPr/>
            </p:nvSpPr>
            <p:spPr>
              <a:xfrm rot="19790400">
                <a:off x="6045480" y="455760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角三角形 118"/>
              <p:cNvSpPr/>
              <p:nvPr/>
            </p:nvSpPr>
            <p:spPr>
              <a:xfrm rot="16084200">
                <a:off x="6549120" y="359208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角三角形 119"/>
              <p:cNvSpPr/>
              <p:nvPr/>
            </p:nvSpPr>
            <p:spPr>
              <a:xfrm rot="12590400">
                <a:off x="5942880" y="269496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18520" y="-516960"/>
              <a:ext cx="3319560" cy="3719880"/>
              <a:chOff x="2918520" y="-516960"/>
              <a:chExt cx="3319560" cy="3719880"/>
            </a:xfrm>
          </p:grpSpPr>
          <p:sp>
            <p:nvSpPr>
              <p:cNvPr id="429" name="直角三角形 108"/>
              <p:cNvSpPr/>
              <p:nvPr/>
            </p:nvSpPr>
            <p:spPr>
              <a:xfrm rot="8990400">
                <a:off x="3060720" y="-11304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角三角形 109"/>
              <p:cNvSpPr/>
              <p:nvPr/>
            </p:nvSpPr>
            <p:spPr>
              <a:xfrm rot="5358000">
                <a:off x="2570400" y="86580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角三角形 110"/>
              <p:cNvSpPr/>
              <p:nvPr/>
            </p:nvSpPr>
            <p:spPr>
              <a:xfrm rot="1804800">
                <a:off x="3161520" y="174960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角三角形 111"/>
              <p:cNvSpPr/>
              <p:nvPr/>
            </p:nvSpPr>
            <p:spPr>
              <a:xfrm rot="19790400">
                <a:off x="4251600" y="173268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角三角形 112"/>
              <p:cNvSpPr/>
              <p:nvPr/>
            </p:nvSpPr>
            <p:spPr>
              <a:xfrm rot="16084200">
                <a:off x="4755240" y="76716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角三角形 113"/>
              <p:cNvSpPr/>
              <p:nvPr/>
            </p:nvSpPr>
            <p:spPr>
              <a:xfrm rot="12590400">
                <a:off x="4149000" y="-12924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292440" y="-598320"/>
              <a:ext cx="3319560" cy="3719880"/>
              <a:chOff x="6292440" y="-598320"/>
              <a:chExt cx="3319560" cy="3719880"/>
            </a:xfrm>
          </p:grpSpPr>
          <p:sp>
            <p:nvSpPr>
              <p:cNvPr id="436" name="直角三角形 127"/>
              <p:cNvSpPr/>
              <p:nvPr/>
            </p:nvSpPr>
            <p:spPr>
              <a:xfrm rot="8990400">
                <a:off x="6434640" y="-19440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角三角形 128"/>
              <p:cNvSpPr/>
              <p:nvPr/>
            </p:nvSpPr>
            <p:spPr>
              <a:xfrm rot="5358000">
                <a:off x="5944320" y="78444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角三角形 129"/>
              <p:cNvSpPr/>
              <p:nvPr/>
            </p:nvSpPr>
            <p:spPr>
              <a:xfrm rot="1804800">
                <a:off x="6535440" y="166824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角三角形 130"/>
              <p:cNvSpPr/>
              <p:nvPr/>
            </p:nvSpPr>
            <p:spPr>
              <a:xfrm rot="19790400">
                <a:off x="7625520" y="165132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角三角形 131"/>
              <p:cNvSpPr/>
              <p:nvPr/>
            </p:nvSpPr>
            <p:spPr>
              <a:xfrm rot="16084200">
                <a:off x="8129160" y="68580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直角三角形 132"/>
              <p:cNvSpPr/>
              <p:nvPr/>
            </p:nvSpPr>
            <p:spPr>
              <a:xfrm rot="12590400">
                <a:off x="7522920" y="-21060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-408600" y="-479880"/>
              <a:ext cx="3319560" cy="3719880"/>
              <a:chOff x="-408600" y="-479880"/>
              <a:chExt cx="3319560" cy="3719880"/>
            </a:xfrm>
          </p:grpSpPr>
          <p:sp>
            <p:nvSpPr>
              <p:cNvPr id="443" name="直角三角形 134"/>
              <p:cNvSpPr/>
              <p:nvPr/>
            </p:nvSpPr>
            <p:spPr>
              <a:xfrm rot="8990400">
                <a:off x="-266040" y="-7596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直角三角形 135"/>
              <p:cNvSpPr/>
              <p:nvPr/>
            </p:nvSpPr>
            <p:spPr>
              <a:xfrm rot="5358000">
                <a:off x="-756360" y="90288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直角三角形 136"/>
              <p:cNvSpPr/>
              <p:nvPr/>
            </p:nvSpPr>
            <p:spPr>
              <a:xfrm rot="1804800">
                <a:off x="-164880" y="178668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角三角形 137"/>
              <p:cNvSpPr/>
              <p:nvPr/>
            </p:nvSpPr>
            <p:spPr>
              <a:xfrm rot="19790400">
                <a:off x="924480" y="1769760"/>
                <a:ext cx="184068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角三角形 138"/>
              <p:cNvSpPr/>
              <p:nvPr/>
            </p:nvSpPr>
            <p:spPr>
              <a:xfrm rot="16084200">
                <a:off x="1428120" y="80424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角三角形 139"/>
              <p:cNvSpPr/>
              <p:nvPr/>
            </p:nvSpPr>
            <p:spPr>
              <a:xfrm rot="12590400">
                <a:off x="821880" y="-92160"/>
                <a:ext cx="1840320" cy="106380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450" name="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451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458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465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472" name="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473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480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487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02"/>
          <p:cNvSpPr/>
          <p:nvPr/>
        </p:nvSpPr>
        <p:spPr>
          <a:xfrm>
            <a:off x="527040" y="46641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3"/>
          <p:cNvSpPr/>
          <p:nvPr/>
        </p:nvSpPr>
        <p:spPr>
          <a:xfrm>
            <a:off x="6732720" y="4856040"/>
            <a:ext cx="1492200" cy="324000"/>
          </a:xfrm>
          <a:prstGeom prst="rect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十二个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04"/>
          <p:cNvSpPr/>
          <p:nvPr/>
        </p:nvSpPr>
        <p:spPr>
          <a:xfrm>
            <a:off x="3103560" y="18954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40"/>
          <p:cNvSpPr/>
          <p:nvPr/>
        </p:nvSpPr>
        <p:spPr>
          <a:xfrm>
            <a:off x="3735720" y="240984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2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0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