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DFF-9D7D-4237-9856-1D153D9C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EF2-D039-4900-9912-400F04CC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DC3-7D1C-4CA5-972A-08D1CBE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911-B521-496F-AE88-3A734266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CBA-CDB1-42AE-A84A-899E871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6F1-0318-4F24-AAA7-3FC95E6B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D41-5FEE-41DD-9404-4A2580FF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EB8-742F-4F67-A8F4-1ED109C8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49A-7130-43AA-9FC7-C6AD7E2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3BA-1B67-49B1-989B-B57A8010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FA8-7176-46D7-AEBB-7D8F86A1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11A-1D2B-4372-9420-4CD225B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55680" indent="5310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754560" indent="13212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065600" indent="-1785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330200" indent="-4431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330200" indent="-4431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330200" indent="-4431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3EF2-D3DF-45E6-AA4D-507721A39F0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3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89B-64EB-40DE-B3F0-CA9CD4613BBC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9"/>
          <p:cNvSpPr/>
          <p:nvPr/>
        </p:nvSpPr>
        <p:spPr>
          <a:xfrm rot="20707200">
            <a:off x="-617400" y="-651960"/>
            <a:ext cx="6664320" cy="3943080"/>
          </a:xfrm>
          <a:prstGeom prst="pie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1"/>
          <p:cNvSpPr/>
          <p:nvPr/>
        </p:nvSpPr>
        <p:spPr>
          <a:xfrm rot="20707200">
            <a:off x="6168600" y="-441000"/>
            <a:ext cx="3125880" cy="242568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 rot="20707200">
            <a:off x="7143480" y="2001960"/>
            <a:ext cx="2679480" cy="49449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 rot="20707200">
            <a:off x="-204840" y="3323880"/>
            <a:ext cx="7377120" cy="455760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20700000">
            <a:off x="547200" y="3631680"/>
            <a:ext cx="598500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How to Write a Professional CV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20700000">
            <a:off x="2200320" y="5027040"/>
            <a:ext cx="46562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y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hmed Goud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"/>
          <p:cNvSpPr/>
          <p:nvPr/>
        </p:nvSpPr>
        <p:spPr>
          <a:xfrm>
            <a:off x="1936440" y="3808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如何让你的简历更专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areer History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"/>
          <p:cNvSpPr txBox="1"/>
          <p:nvPr/>
        </p:nvSpPr>
        <p:spPr>
          <a:xfrm rot="900000">
            <a:off x="3463560" y="1073880"/>
            <a:ext cx="554364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mployer nam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ition titl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ime interval (month/Year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ponsibilities (option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Certifications and Training Courses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"/>
          <p:cNvSpPr txBox="1"/>
          <p:nvPr/>
        </p:nvSpPr>
        <p:spPr>
          <a:xfrm rot="900000">
            <a:off x="3225960" y="1422000"/>
            <a:ext cx="57895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raining Cours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raining Center 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ime interval (month/Year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rief description (optional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ertif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ertification 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rned dat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echnical and Interpersonal Skills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"/>
          <p:cNvSpPr txBox="1"/>
          <p:nvPr/>
        </p:nvSpPr>
        <p:spPr>
          <a:xfrm rot="900000">
            <a:off x="3438000" y="602640"/>
            <a:ext cx="465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chnical Skill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gramming languag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cept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D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echnology relat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terpersonal Skill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oal orient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Q sco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mmunication and Present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ork under pressu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anguage Skill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ublication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earch Thesi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te pap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rtic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rite a title and a brief description for each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867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6e8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7100000">
            <a:off x="-807840" y="3055680"/>
            <a:ext cx="534348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wards &amp; Activiti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ward/Activity Titl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ear Gra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uthorit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scription (option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Other Inf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"/>
          <p:cNvSpPr txBox="1"/>
          <p:nvPr/>
        </p:nvSpPr>
        <p:spPr>
          <a:xfrm rot="900000">
            <a:off x="3456720" y="732960"/>
            <a:ext cx="46580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ttended ev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Loc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earch interes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eb Based System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obotic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eneral interest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rawing painting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olving puzzl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ading novel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ast updated date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hings you should avoid in your CV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" name=""/>
          <p:cNvSpPr txBox="1"/>
          <p:nvPr/>
        </p:nvSpPr>
        <p:spPr>
          <a:xfrm rot="900000">
            <a:off x="3312720" y="793440"/>
            <a:ext cx="505476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D number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ersonal photo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rrelevant awards, publications, &amp; membership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ravel history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revious pay rat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Reasons for leaving previous job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yping &amp; grammar error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Lengthy description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words “References available upon request”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hings employers look fo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"/>
          <p:cNvSpPr txBox="1"/>
          <p:nvPr/>
        </p:nvSpPr>
        <p:spPr>
          <a:xfrm rot="900000">
            <a:off x="3470040" y="1025280"/>
            <a:ext cx="51609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gns of achieve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atterns of stability &amp; career direc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rofessional presentation of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Ensure that your CV is ne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"/>
          <p:cNvSpPr txBox="1"/>
          <p:nvPr/>
        </p:nvSpPr>
        <p:spPr>
          <a:xfrm rot="900000">
            <a:off x="3435480" y="993240"/>
            <a:ext cx="49608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commended font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alibri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ahom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imes new Roma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se one or two fonts onl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se bullets, but don’t overuse them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commended font size 12, don’t use smaller than 10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int in high quality, white pape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763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6e8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Recruitment agenci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"/>
          <p:cNvSpPr txBox="1"/>
          <p:nvPr/>
        </p:nvSpPr>
        <p:spPr>
          <a:xfrm rot="900000">
            <a:off x="3260160" y="736560"/>
            <a:ext cx="5175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merican Chamber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gypt IT Job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Jobs in Egyp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ster HR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ea-I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Rename your CV file to be your full nam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nter a job code and\or job title in the email subjec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rite the following in the email body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ear Sir/Madam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Kindly find my resume in the attachmen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Regards,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"/>
          <p:cNvSpPr txBox="1"/>
          <p:nvPr/>
        </p:nvSpPr>
        <p:spPr>
          <a:xfrm rot="900000">
            <a:off x="3124080" y="1525680"/>
            <a:ext cx="5437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a CV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should you organize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ngs you should avoid in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ngs employers look fo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nsure that your CV is ne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cruitment agenci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rite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rite your CV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ime for the workshop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 rot="16200000">
            <a:off x="4284720" y="-3627000"/>
            <a:ext cx="574560" cy="82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Rockwel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824-BEDA-4729-AA02-9C86B84FDB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9"/>
          <p:cNvSpPr/>
          <p:nvPr/>
        </p:nvSpPr>
        <p:spPr>
          <a:xfrm rot="20707200">
            <a:off x="-617400" y="-651960"/>
            <a:ext cx="6664320" cy="3943080"/>
          </a:xfrm>
          <a:prstGeom prst="pie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1"/>
          <p:cNvSpPr/>
          <p:nvPr/>
        </p:nvSpPr>
        <p:spPr>
          <a:xfrm rot="20707200">
            <a:off x="6168600" y="-441000"/>
            <a:ext cx="3125880" cy="242568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 rot="20707200">
            <a:off x="7143480" y="2001960"/>
            <a:ext cx="2679480" cy="49449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8"/>
          <p:cNvSpPr/>
          <p:nvPr/>
        </p:nvSpPr>
        <p:spPr>
          <a:xfrm rot="20707200">
            <a:off x="-204840" y="3323880"/>
            <a:ext cx="7377120" cy="455760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20700000">
            <a:off x="547200" y="3631680"/>
            <a:ext cx="598500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200320" y="5027400"/>
            <a:ext cx="46562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a CV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"/>
          <p:cNvSpPr txBox="1"/>
          <p:nvPr/>
        </p:nvSpPr>
        <p:spPr>
          <a:xfrm rot="900000">
            <a:off x="3469680" y="1022400"/>
            <a:ext cx="51418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s a written profile of your professional qualif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repared by an applicant seeking employm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ultiple vers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t might be called Resum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should you organize your CV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"/>
          <p:cNvSpPr txBox="1"/>
          <p:nvPr/>
        </p:nvSpPr>
        <p:spPr>
          <a:xfrm rot="900000">
            <a:off x="2916360" y="1765080"/>
            <a:ext cx="6083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ame &amp; Contact Inform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areer Objectiv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xperienc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areer Histor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ertifications and Training Cours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echnical and Interpersonal Skill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ublication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wards &amp; Activiti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ther Info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Name &amp; Contact Information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"/>
          <p:cNvSpPr txBox="1"/>
          <p:nvPr/>
        </p:nvSpPr>
        <p:spPr>
          <a:xfrm rot="900000">
            <a:off x="3320280" y="1491480"/>
            <a:ext cx="46594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Your Nam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n the top and in boldf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ddress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Residence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ncludes your nam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hone numbe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referred pattern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+X(XXX) XXX-XXXX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rite only one mobile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Land number is optional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 rot="17100000">
            <a:off x="-749880" y="3010320"/>
            <a:ext cx="524988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ersonal Information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ilitary Service Stat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ate of Birth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arital Stat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riving Licens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areer Objectiv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lear, concise, and targeted to your career goa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f you want to have more than one career option you should develop multiple CV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ould includ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Desired posi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mployment typ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rganization typ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xperience, and Skills offere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Education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"/>
          <p:cNvSpPr txBox="1"/>
          <p:nvPr/>
        </p:nvSpPr>
        <p:spPr>
          <a:xfrm rot="900000">
            <a:off x="3184200" y="755280"/>
            <a:ext cx="5441760" cy="58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 academic degre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r each degre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Degree nam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University name / Departme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Year of gradu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umulative grade or GP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n’t include high schoo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n’t include Graduation project grad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f you are currently working in a degre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n progres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xpected graduation date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6e8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Experienc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"/>
          <p:cNvSpPr txBox="1"/>
          <p:nvPr/>
        </p:nvSpPr>
        <p:spPr>
          <a:xfrm rot="900000">
            <a:off x="3225960" y="1422000"/>
            <a:ext cx="57895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r Projec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ject 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volved technologi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rief descrip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>Ahmed Gouda</cp:lastModifiedBy>
  <dcterms:modified xsi:type="dcterms:W3CDTF">2015-08-12T14:35:22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