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509-4B4E-485B-AE51-1E5B7D66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58E-DE08-4811-87A4-215936D8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C7B8B-306B-4174-A06C-D73C8219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0FFAC-D5B7-4CBC-AB4D-4F3A17D7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06CFA-0FCA-40B4-80F6-DC6943C4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43716-9370-436E-AFD8-900B6E7A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BED84-2765-47CE-B4E7-DA26AFB0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C1BCA-36D2-4B99-9B77-4C36C359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D7EAE-A335-4D04-8036-0A2D4B61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8D972-9E77-4EC6-A1A8-1B6A3CBA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4A7CC-4D98-496F-B219-10A3E8E7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1AC6E-05C5-47A3-A92E-430AB968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DFB-B226-4949-A72D-2F4A0A92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AC20F-3DC5-4590-B269-316CB060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D2C6E-87FD-4B81-81C8-0CE7F1B9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14178-D801-4D4C-B69D-9D51D093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FAB0C-E06B-40CE-932D-3D6B1A56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51002-A028-4CDA-A9AF-A46AFABA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BA01E-C138-4232-9952-62ED74A0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81D9A-EDF3-4201-97D6-4444B3BD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E3B9E-2C21-4655-83D2-D89227F7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9686F-6C2F-4B91-A25A-614AB088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97DD2-888A-4FDF-A960-92D19934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223-C1AD-4A1B-86EB-FD023050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7B97F-2FB0-4CB1-ADBD-DA910D4A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6E67C-0D10-468D-9E6F-82642BE3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26EFA-6535-49E0-929A-3E628397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CEE0A-6A11-4BB7-A06C-FB42F383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3C389-0CFD-43C6-AFFD-04455427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5C24E-7185-4529-8467-6F3AFC41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10FC9-350A-4FCA-A2C6-B4C640AB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9CBBB-A16A-442B-8A0B-F0D2F053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594E0-5632-4674-9B08-2FDA85ED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903A3-61BD-4040-96C3-15122A47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886D-8D18-4223-870E-0599FAF6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263B2-B5E9-4662-A0EE-F930EF4D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ED51D-79E2-4B83-AE1A-E30A97DB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BAFD3-2804-4816-84B7-0099BB6E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13DED-8177-4011-A383-DCE4636D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773E1-7403-48FF-83AC-AA8C9E7D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02BB7-FB56-4D95-80BD-877ECFF8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4F236-BD07-45A9-AB18-0F38DA08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1608D-48CC-4170-846C-79D6ACE0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E8623-7DD4-4382-9E80-4859FE9D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61C43-8DD2-4927-8B6F-A00E1AB2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BBFF-3FE7-420C-86EB-28CD358F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48AF7-294B-49FB-92DD-12CF0FC7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D7E8F-E1E4-4D18-9AEC-DD0EB8EE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68D48-DFCB-47D1-A752-CE718B17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FC4BC-A3A4-41AF-8192-68E48A30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AFAED-FCA5-4C0C-8584-9C124334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A59FE-69AB-4DD5-A6B1-9852855B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2B74D-B1B3-40D6-9652-46F65888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4EC00-4BBE-4C7A-B1E4-3DA6289A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45465-BDA9-4169-AC8B-840880F8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EEF73-2423-409E-8638-9AE96A0E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CB9C-4532-4C79-B997-D0507FBF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1E4DE-5609-4B49-A08A-420BF121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99F81-2208-4A38-BA40-4FCFD740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71CE7-46C6-43A3-AA20-A99B9C23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91257-7CBF-41D5-A7B4-9424EEFB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19F85-FD74-422F-866B-231C844E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2D63D-C99D-4556-A9DB-A7A69586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0D5DC-8A6A-4DC5-B755-3FFB1046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A3C6-226F-4DFA-AE15-AF1794E9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0843-2200-4885-9CDE-677C9436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5D10-5484-4076-8C10-273F38B9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EF40-9ECE-4A41-A3FC-9462E5E2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34C-39AA-48FF-A4D0-736CF78C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2D31-358E-4C90-A38A-09809F2B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BE34-03AD-4C10-8BE4-AA714253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5BC5-B597-4C83-A23B-401997F2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224E-4ACD-427F-9CE1-D5E8DA0D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82EE-45E2-47F0-AA2E-FB86BE16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1EEEB-BD39-46AD-9093-E3754647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7767-37F3-4995-A40A-49F3054C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CF142-A8AA-4174-BF70-D6AB223D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FE56-997D-4572-91E9-15E065E5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5ECCC-EAA5-4ECB-8F29-65274B10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F00-C81E-4F6C-8994-67D07A0A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78F80-8D24-4C83-BA8B-435850F6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AB7FF-4245-4B9D-A19A-8FCD410B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8D717-C69A-4B2A-964B-6493C80E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5DD6C-AF99-4E8E-884E-0C2D607E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26A3D-41D2-46E2-80FA-2B9AEFC3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2FF1E-B2B3-460C-B00B-FC9DACC7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A44A0-EA0F-4780-B662-03D98B10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C6EFD-AD24-4F96-BFAE-E9B1D1D9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D8DA2-742D-458D-8A3F-DA98D598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25FC6-1CAB-4C15-83B0-70622B83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D7D-F808-4836-87CB-830B0A03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81CFC-AB73-4817-ADD6-AA93EB78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CB7DB-83F7-42FC-A8F2-EA493D3E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D4BA1-C25F-481B-952B-BE37712E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18EBF-5D64-4A7B-91DB-23130580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12398-0689-4F23-83C7-98DC7FAA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DF48E-65D8-4DFA-8368-6704EFE2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D5D79-5229-4655-AE5B-C65BE4B9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24C15-4453-444A-9EE8-E0246C0B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E1D2-EEC9-4478-892C-8FB1BD79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616DC-8CA3-49D6-8602-884CAA01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1CB-FF15-41C6-8845-8D33C926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0CB4A-E3F4-4DCB-8B6B-0607A720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3997A-7F8B-48AA-BD78-1C575ABE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56664-0352-4A23-AAD7-11EBDF31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273E2-A1CF-44D0-A559-3691F5BA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024B7-E26F-43E2-B293-2EEA8738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A2A9A-5ACB-44F8-B15B-7A323054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11A92-3FCE-4435-B427-7D9B770E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E4EB5-D11A-43A6-AE05-46F66BFF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57251-7F09-4C31-A408-F72DAEFC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C0744-F736-4A94-85B6-8EB16E70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2719-5AE7-4E59-821C-0CD993CA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8530A-867D-4C37-8F2A-B37CB2A8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6630D-5EBB-4D6B-85E2-D548F9AF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75A78-23D2-4896-B444-14735995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BAF5C-887F-4EA2-ACD2-3BC65DD6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5ABE4-AFBB-489E-A5D0-3D2A4D7D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925F6-634F-4154-A1CB-429F2E3E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DBF9F-5A5F-4A30-AF47-8A2023EE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4F9B1-9DFB-41C9-92C7-D38F5B2F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36212-A3F7-4587-ACCD-8F276A05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8EB0B-968B-4331-9E2F-E3C05B4B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057-A169-4DD7-B4CD-E8F84909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9BEAE-46DB-45C2-AA4E-F7116EB0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0E55C-337C-4382-BCA8-9D94C330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C3442-0465-4F93-B372-494C531D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4A287-456F-4569-B468-63C8222E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ADF2B-86CA-4E11-B141-3271BEEB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8D336-4646-473B-9CC6-2C3F289C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6348A-CBBA-4259-9918-10CD047B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ABBDF-152B-4950-9347-B95524DB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6D565-308F-4D45-B4E9-71F34E4C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25022-8FB3-4284-A271-A271E7F0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F49-2DC1-4F62-9806-73A8C93C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30CE5-D422-49E3-A627-C7BFA467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E0C5B-8EBB-4F6D-934D-369538A6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1995E-7A74-44E7-B369-3B108CF9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8516A-9FEB-4B59-B92F-0CE2E9EF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10CFD-CF33-4A3D-AD2E-2E007AE0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688C5-A88B-4D5D-BFDC-FFD4CF87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E3497-AE40-4271-B98E-1EB2212F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BABA1-1F2D-4CEF-AE03-5CF87B44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54631-6643-4A0F-81D9-3E2F6E50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0BC66-58EC-4ACE-A9CB-6C0E21C8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BC0-2D5B-475F-9A18-D5A3812A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332000" y="260280"/>
            <a:ext cx="76327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158BE-B3E5-4AE4-8EBD-05F24258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1C952-87E8-40C9-AD47-E38DAB3F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5CED4-CB78-4486-A53C-D81D0EA6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8C57A-AB55-4F95-B1C8-01755F81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79280" y="4398840"/>
            <a:ext cx="8785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E2FFE-2AB1-40B6-B135-296D427E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1440" y="191628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7928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1440" y="4398840"/>
            <a:ext cx="4287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6B50E-9767-466C-A001-DB6EBC53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4964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0000" y="191628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7928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4964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0000" y="4398840"/>
            <a:ext cx="2828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69B71-F47E-46F5-8106-AF9716A3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2EBD4-F102-4F7B-B8E4-C82FBA6C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35841-82CD-42FA-BBEE-62AE585D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8167A-B768-4897-9375-2C21B15B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6ECE-22E5-4770-9002-DFF51605766B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6E1B-4AE5-4A88-BBD0-6A5942BECC6E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7685-4656-4201-A423-870521562EF0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55D3-87B2-4F20-9EE4-6970A0C8D703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BC8F-2256-40BD-86B1-77F5B82E21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3C07-1FF2-41C9-9C5B-2362DB7CD260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C69A-223C-484E-A081-6146E82841C9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3253-5A44-4767-A480-286914A53F64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DECF-0BB9-483D-A2E6-4E15B2F5B39A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45A1-5EFF-44FA-B2F3-F9DB0F7C0ADF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2F05-2781-495E-8193-EB247CEC12FE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4C71-4C35-4010-BA7E-F8E91D916DC4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61BD-5E89-4D2C-9722-318BAC9D5090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AF851-5778-4DC5-83E8-16CC386503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2050920" y="5641920"/>
            <a:ext cx="696456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>
            <a:off x="2158560" y="4762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市场调查报告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9:54:4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1:29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011408312052</vt:lpwstr>
  </property>
</Properties>
</file>