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87D5-6C24-4086-AD04-BDF84B91D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C04A-7BF6-47B8-9945-69B5A842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88A2-6C0B-4833-9BCD-9289AB923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3029-5756-4A60-9841-5DA2BAC5B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E0EA-3452-4F65-97B9-29E11802C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27E5-1E4A-4D62-9212-0DA93522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97B6-1FD9-4DB6-AE2B-8449B475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8F62-9E03-4E82-8A9C-6CF61063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B64BB-240C-4C17-8056-9DFF307C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6A21-FD5A-4107-A04C-48724539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3437-7D0F-4A21-96DF-54D850F0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26EA-30D8-4FDB-966C-1732D4F0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83B8-07EC-45E7-9201-C5D00327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CCCB-03EA-48A7-9B2F-C6A95981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9B6F-BB48-4817-B853-1B1D3A5A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B888-34DD-462D-BA61-D2FD4F727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6E0C-FD68-4BF7-A24D-6A17D2BE6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B5DA-8AD5-4847-9CF7-81A4DAA9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D289-0676-41BB-A9E2-A1B69AF4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76B3-ADF3-4651-AB78-3735F4C5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6713-528A-4C27-866C-B0AA9298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B6FD-5CE7-432C-9BCE-AB02C04F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E766-923E-416C-A28F-27FC42D4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30B4-BCBA-44B8-9ED0-CD953085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任意多边形 2"/>
          <p:cNvSpPr/>
          <p:nvPr/>
        </p:nvSpPr>
        <p:spPr>
          <a:xfrm>
            <a:off x="9360" y="765000"/>
            <a:ext cx="9171000" cy="642960"/>
          </a:xfrm>
          <a:prstGeom prst="pie">
            <a:avLst/>
          </a:prstGeom>
          <a:noFill/>
          <a:ln w="12600">
            <a:solidFill>
              <a:srgbClr val="9ebf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3E18-3332-41D0-BC48-34D41C87CD3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F669-3D76-44E5-B0B6-BA1310AABFF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4"/>
          <p:cNvSpPr/>
          <p:nvPr/>
        </p:nvSpPr>
        <p:spPr>
          <a:xfrm>
            <a:off x="0" y="1989000"/>
            <a:ext cx="9144000" cy="1800360"/>
          </a:xfrm>
          <a:prstGeom prst="rect">
            <a:avLst/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任意多边形 5"/>
          <p:cNvSpPr/>
          <p:nvPr/>
        </p:nvSpPr>
        <p:spPr>
          <a:xfrm>
            <a:off x="-17640" y="4076640"/>
            <a:ext cx="9152280" cy="2062080"/>
          </a:xfrm>
          <a:prstGeom prst="pie">
            <a:avLst/>
          </a:prstGeom>
          <a:noFill/>
          <a:ln w="12600">
            <a:solidFill>
              <a:srgbClr val="9ebf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任意多边形 6"/>
          <p:cNvSpPr/>
          <p:nvPr/>
        </p:nvSpPr>
        <p:spPr>
          <a:xfrm>
            <a:off x="-27000" y="4505400"/>
            <a:ext cx="8863200" cy="2343240"/>
          </a:xfrm>
          <a:prstGeom prst="pie">
            <a:avLst/>
          </a:prstGeom>
          <a:noFill/>
          <a:ln w="12600">
            <a:solidFill>
              <a:srgbClr val="9ebf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2444760" y="2421000"/>
            <a:ext cx="488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合用于毕业论文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5738040" y="3789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ebf27"/>
                </a:solidFill>
                <a:latin typeface="微软雅黑"/>
                <a:ea typeface="微软雅黑"/>
              </a:rPr>
              <a:t>姓名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5738040" y="410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ebf27"/>
                </a:solidFill>
                <a:latin typeface="微软雅黑"/>
                <a:ea typeface="微软雅黑"/>
              </a:rPr>
              <a:t>时间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4"/>
          <p:cNvSpPr/>
          <p:nvPr/>
        </p:nvSpPr>
        <p:spPr>
          <a:xfrm>
            <a:off x="835920" y="2667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ebf27"/>
                </a:solidFill>
                <a:latin typeface="微软雅黑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reeform 3"/>
          <p:cNvSpPr/>
          <p:nvPr/>
        </p:nvSpPr>
        <p:spPr>
          <a:xfrm>
            <a:off x="5415120" y="2992320"/>
            <a:ext cx="1628640" cy="7002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4"/>
          <p:cNvSpPr/>
          <p:nvPr/>
        </p:nvSpPr>
        <p:spPr>
          <a:xfrm>
            <a:off x="5319720" y="4299120"/>
            <a:ext cx="1630440" cy="674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5"/>
          <p:cNvSpPr/>
          <p:nvPr/>
        </p:nvSpPr>
        <p:spPr>
          <a:xfrm>
            <a:off x="2517840" y="4246560"/>
            <a:ext cx="1628640" cy="701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6"/>
          <p:cNvSpPr/>
          <p:nvPr/>
        </p:nvSpPr>
        <p:spPr>
          <a:xfrm>
            <a:off x="2521080" y="2981160"/>
            <a:ext cx="1630080" cy="6750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3139920" y="3021120"/>
            <a:ext cx="3189600" cy="1812960"/>
          </a:xfrm>
          <a:prstGeom prst="octagon">
            <a:avLst>
              <a:gd name="adj" fmla="val 2928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1598760" y="1989000"/>
            <a:ext cx="2847960" cy="86544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AutoShape 9"/>
          <p:cNvSpPr/>
          <p:nvPr/>
        </p:nvSpPr>
        <p:spPr>
          <a:xfrm>
            <a:off x="4943520" y="1989000"/>
            <a:ext cx="2847960" cy="86544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AutoShape 10"/>
          <p:cNvSpPr/>
          <p:nvPr/>
        </p:nvSpPr>
        <p:spPr>
          <a:xfrm>
            <a:off x="1598760" y="5083200"/>
            <a:ext cx="2847960" cy="8650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AutoShape 11"/>
          <p:cNvSpPr/>
          <p:nvPr/>
        </p:nvSpPr>
        <p:spPr>
          <a:xfrm>
            <a:off x="4943520" y="5083200"/>
            <a:ext cx="2847960" cy="8650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5"/>
          <p:cNvSpPr/>
          <p:nvPr/>
        </p:nvSpPr>
        <p:spPr>
          <a:xfrm>
            <a:off x="2626560" y="2220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6"/>
          <p:cNvSpPr/>
          <p:nvPr/>
        </p:nvSpPr>
        <p:spPr>
          <a:xfrm>
            <a:off x="5971680" y="2220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5949360" y="5315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8"/>
          <p:cNvSpPr/>
          <p:nvPr/>
        </p:nvSpPr>
        <p:spPr>
          <a:xfrm>
            <a:off x="2626560" y="5315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19"/>
          <p:cNvSpPr/>
          <p:nvPr/>
        </p:nvSpPr>
        <p:spPr>
          <a:xfrm>
            <a:off x="4338720" y="3741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693720" y="9810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FF47-A8AE-4191-8ABD-A8C255ED72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3"/>
          <p:cNvSpPr/>
          <p:nvPr/>
        </p:nvSpPr>
        <p:spPr>
          <a:xfrm>
            <a:off x="1401840" y="2060640"/>
            <a:ext cx="3763800" cy="3984480"/>
          </a:xfrm>
          <a:prstGeom prst="rtTriangl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2684520" y="2119320"/>
            <a:ext cx="2954160" cy="56844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1901880" y="2225520"/>
            <a:ext cx="716040" cy="376560"/>
          </a:xfrm>
          <a:prstGeom prst="rightArrow">
            <a:avLst>
              <a:gd name="adj1" fmla="val 50000"/>
              <a:gd name="adj2" fmla="val 6415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3422520" y="2890800"/>
            <a:ext cx="2954520" cy="5698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4124160" y="3608280"/>
            <a:ext cx="2955960" cy="5698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4815000" y="4349880"/>
            <a:ext cx="2954160" cy="5698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5505480" y="5089680"/>
            <a:ext cx="2954160" cy="5680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AutoShape 10"/>
          <p:cNvSpPr/>
          <p:nvPr/>
        </p:nvSpPr>
        <p:spPr>
          <a:xfrm>
            <a:off x="2612880" y="2987640"/>
            <a:ext cx="723960" cy="380880"/>
          </a:xfrm>
          <a:prstGeom prst="rightArrow">
            <a:avLst>
              <a:gd name="adj1" fmla="val 50000"/>
              <a:gd name="adj2" fmla="val 6452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AutoShape 11"/>
          <p:cNvSpPr/>
          <p:nvPr/>
        </p:nvSpPr>
        <p:spPr>
          <a:xfrm>
            <a:off x="3314880" y="3703680"/>
            <a:ext cx="723600" cy="382680"/>
          </a:xfrm>
          <a:prstGeom prst="rightArrow">
            <a:avLst>
              <a:gd name="adj1" fmla="val 50000"/>
              <a:gd name="adj2" fmla="val 6415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AutoShape 12"/>
          <p:cNvSpPr/>
          <p:nvPr/>
        </p:nvSpPr>
        <p:spPr>
          <a:xfrm>
            <a:off x="4002120" y="4444920"/>
            <a:ext cx="725400" cy="379440"/>
          </a:xfrm>
          <a:prstGeom prst="rightArrow">
            <a:avLst>
              <a:gd name="adj1" fmla="val 50000"/>
              <a:gd name="adj2" fmla="val 64398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AutoShape 13"/>
          <p:cNvSpPr/>
          <p:nvPr/>
        </p:nvSpPr>
        <p:spPr>
          <a:xfrm>
            <a:off x="4702320" y="5184720"/>
            <a:ext cx="712800" cy="376200"/>
          </a:xfrm>
          <a:prstGeom prst="rightArrow">
            <a:avLst>
              <a:gd name="adj1" fmla="val 50000"/>
              <a:gd name="adj2" fmla="val 64184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3522600" y="22194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6"/>
          <p:cNvSpPr/>
          <p:nvPr/>
        </p:nvSpPr>
        <p:spPr>
          <a:xfrm>
            <a:off x="4963320" y="37180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18"/>
          <p:cNvSpPr/>
          <p:nvPr/>
        </p:nvSpPr>
        <p:spPr>
          <a:xfrm>
            <a:off x="4378320" y="29718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19"/>
          <p:cNvSpPr/>
          <p:nvPr/>
        </p:nvSpPr>
        <p:spPr>
          <a:xfrm>
            <a:off x="5653080" y="44467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20"/>
          <p:cNvSpPr/>
          <p:nvPr/>
        </p:nvSpPr>
        <p:spPr>
          <a:xfrm>
            <a:off x="1973880" y="46404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21"/>
          <p:cNvSpPr/>
          <p:nvPr/>
        </p:nvSpPr>
        <p:spPr>
          <a:xfrm>
            <a:off x="835920" y="2667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ebf27"/>
                </a:solidFill>
                <a:latin typeface="微软雅黑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19"/>
          <p:cNvSpPr/>
          <p:nvPr/>
        </p:nvSpPr>
        <p:spPr>
          <a:xfrm>
            <a:off x="5715000" y="521496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30T09:16:50Z</dcterms:created>
  <dc:creator>幻灯片之家：www.eeppt.com</dc:creator>
  <dc:description>幻灯片之家：www.eeppt.com</dc:description>
  <cp:keywords>幻灯片之家：www.eeppt.com</cp:keywords>
  <dc:language>en-US</dc:language>
  <cp:lastModifiedBy>微软用户</cp:lastModifiedBy>
  <dcterms:modified xsi:type="dcterms:W3CDTF">2015-08-12T14:36:25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