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822-5704-4F9C-9A8E-343AE974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F1B-68A8-4F89-8D36-AB353B0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AF9-A4A0-45B5-B9EE-060CFF1C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DB5-6EE1-42B6-A94D-A7213F6F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0D4-C97D-4FCD-84FA-28A0B425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888-3116-49FA-BDFE-10A82378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72F-A725-4F06-B4FC-37E68F6C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A14-B816-4BF2-8C4C-31BAA6D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D7D-3C6F-4AAD-90BC-A5C2AC73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C92-2538-446B-9714-34ADFF18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3AD-E0EB-43C2-94F7-05499FF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2CC-F1D2-4DD7-BB5E-C7B2DE8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9EEF4-8FFC-4AB2-9BBF-48AA33A48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280" y="7164360"/>
            <a:ext cx="5078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000" y="1058760"/>
            <a:ext cx="9793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适合用于美术彩画专业论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539640" y="88884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02083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5"/>
          <p:cNvCxnSpPr>
            <a:stCxn id="53" idx="0"/>
            <a:endCxn id="51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6"/>
          <p:cNvCxnSpPr>
            <a:stCxn id="51" idx="5"/>
            <a:endCxn id="52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1179360" y="3321000"/>
            <a:ext cx="1686240" cy="168588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3827520" y="3586320"/>
            <a:ext cx="1168200" cy="116820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575160" y="5148360"/>
            <a:ext cx="1168200" cy="116820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575160" y="2019240"/>
            <a:ext cx="1168200" cy="116856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180040" y="2021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6"/>
          <p:cNvCxnSpPr>
            <a:stCxn id="64" idx="7"/>
            <a:endCxn id="67" idx="2"/>
          </p:cNvCxnSpPr>
          <p:nvPr/>
        </p:nvCxnSpPr>
        <p:spPr>
          <a:xfrm flipV="1">
            <a:off x="2616120" y="260280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7"/>
          <p:cNvCxnSpPr>
            <a:stCxn id="64" idx="5"/>
            <a:endCxn id="66" idx="2"/>
          </p:cNvCxnSpPr>
          <p:nvPr/>
        </p:nvCxnSpPr>
        <p:spPr>
          <a:xfrm>
            <a:off x="2616120" y="475920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8"/>
          <p:cNvCxnSpPr>
            <a:stCxn id="64" idx="6"/>
            <a:endCxn id="65" idx="2"/>
          </p:cNvCxnSpPr>
          <p:nvPr/>
        </p:nvCxnSpPr>
        <p:spPr>
          <a:xfrm>
            <a:off x="2863440" y="4163760"/>
            <a:ext cx="96444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AutoShape 9"/>
          <p:cNvSpPr/>
          <p:nvPr/>
        </p:nvSpPr>
        <p:spPr>
          <a:xfrm>
            <a:off x="5180040" y="35845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5180040" y="511668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2457360" y="2048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233360" y="2732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33360" y="41353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681360" y="2732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457360" y="34527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457360" y="4856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3679920" y="413532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3f6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6245280" y="366696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9"/>
          <p:cNvCxnSpPr>
            <a:stCxn id="81" idx="0"/>
            <a:endCxn id="82" idx="2"/>
          </p:cNvCxnSpPr>
          <p:nvPr/>
        </p:nvCxnSpPr>
        <p:spPr>
          <a:xfrm flipV="1">
            <a:off x="4427280" y="4772880"/>
            <a:ext cx="181980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 Box 10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"/>
          <p:cNvSpPr/>
          <p:nvPr/>
        </p:nvSpPr>
        <p:spPr>
          <a:xfrm>
            <a:off x="3882960" y="3922560"/>
            <a:ext cx="2400480" cy="2401920"/>
          </a:xfrm>
          <a:prstGeom prst="ellipse">
            <a:avLst/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7369200" y="4205160"/>
            <a:ext cx="1979640" cy="91152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901800" y="2320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79480" y="4606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968560" y="2448000"/>
            <a:ext cx="2401920" cy="2401920"/>
          </a:xfrm>
          <a:prstGeom prst="ellipse">
            <a:avLst/>
          </a:prstGeom>
          <a:solidFill>
            <a:srgbClr val="ecc0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871560" y="455616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4856040" y="2446200"/>
            <a:ext cx="2401920" cy="2401920"/>
          </a:xfrm>
          <a:prstGeom prst="ellipse">
            <a:avLst/>
          </a:prstGeom>
          <a:solidFill>
            <a:srgbClr val="e2422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5738760" y="4433760"/>
            <a:ext cx="3618000" cy="73368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905040" y="226692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 flipV="1">
            <a:off x="1030320" y="529668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1835280"/>
            <a:ext cx="443376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ject 1" descr=""/>
          <p:cNvPicPr/>
          <p:nvPr/>
        </p:nvPicPr>
        <p:blipFill>
          <a:blip r:embed="rId2"/>
          <a:stretch/>
        </p:blipFill>
        <p:spPr>
          <a:xfrm>
            <a:off x="684360" y="2173320"/>
            <a:ext cx="8103960" cy="4678200"/>
          </a:xfrm>
          <a:prstGeom prst="rect">
            <a:avLst/>
          </a:prstGeom>
          <a:ln w="0">
            <a:noFill/>
          </a:ln>
        </p:spPr>
      </p:pic>
      <p:cxnSp>
        <p:nvCxnSpPr>
          <p:cNvPr id="108" name="AutoShape 2"/>
          <p:cNvCxnSpPr>
            <a:endCxn id="109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e24228"/>
            </a:solidFill>
            <a:miter/>
            <a:tailEnd len="med" type="triangle" w="med"/>
          </a:ln>
        </p:spPr>
      </p:cxnSp>
      <p:sp>
        <p:nvSpPr>
          <p:cNvPr id="109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5"/>
          <p:cNvCxnSpPr>
            <a:stCxn id="110" idx="0"/>
            <a:endCxn id="110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AutoShape 6"/>
          <p:cNvCxnSpPr>
            <a:endCxn id="110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Text Box 7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E05-3121-4732-A3AB-5FAD3252A0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8:33Z</dcterms:created>
  <dc:creator>幻灯片之家：www.eeppt.com</dc:creator>
  <dc:description>幻灯片之家：www.eeppt.com</dc:description>
  <cp:keywords>幻灯片之家：www.eeppt.com</cp:keywords>
  <dc:language>en-US</dc:language>
  <cp:lastModifiedBy>User</cp:lastModifiedBy>
  <dcterms:modified xsi:type="dcterms:W3CDTF">2015-08-12T14:36:2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License">
    <vt:lpwstr>&lt;a href="http://templates.services.openoffice.org/bsd-license"&gt;BSD&lt;/a&gt;</vt:lpwstr>
  </property>
</Properties>
</file>