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240B-7D68-4EE5-8065-9F35CCB5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0EB-57CC-4E6C-B9A8-36DAD7B7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750-599A-417E-874B-41C02B12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AC6-B61E-4095-93D0-7E20C3B2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3BF-FF65-4693-8FCA-A66FEC4D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300-CA3E-443A-AB8C-14296009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D87-4885-469C-9600-C66B7A7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BE72-3A18-46FB-85D0-EEA8A426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226-75D4-4E68-9A5A-E97798C0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6D97-535A-4B26-AAC1-FDBBB4F4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A73-65D4-4244-AA80-9A843BBA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A53-0F65-4657-83C0-6D3CEAFE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同侧圆角矩形 2"/>
          <p:cNvSpPr/>
          <p:nvPr/>
        </p:nvSpPr>
        <p:spPr>
          <a:xfrm rot="10800000">
            <a:off x="0" y="0"/>
            <a:ext cx="9144000" cy="404640"/>
          </a:xfrm>
          <a:custGeom>
            <a:avLst/>
            <a:gdLst/>
            <a:ahLst/>
            <a:rect l="l" t="t" r="r" b="b"/>
            <a:pathLst>
              <a:path w="9144000" h="404664">
                <a:moveTo>
                  <a:pt x="67445" y="0"/>
                </a:moveTo>
                <a:lnTo>
                  <a:pt x="9076555" y="0"/>
                </a:lnTo>
                <a:cubicBezTo>
                  <a:pt x="9113804" y="0"/>
                  <a:pt x="9144000" y="30196"/>
                  <a:pt x="9144000" y="67445"/>
                </a:cubicBezTo>
                <a:lnTo>
                  <a:pt x="9144000" y="404664"/>
                </a:lnTo>
                <a:lnTo>
                  <a:pt x="9144000" y="404664"/>
                </a:lnTo>
                <a:lnTo>
                  <a:pt x="0" y="404664"/>
                </a:lnTo>
                <a:lnTo>
                  <a:pt x="0" y="404664"/>
                </a:lnTo>
                <a:lnTo>
                  <a:pt x="0" y="67445"/>
                </a:lnTo>
                <a:cubicBezTo>
                  <a:pt x="0" y="30196"/>
                  <a:pt x="30196" y="0"/>
                  <a:pt x="67445" y="0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直接连接符 3"/>
          <p:cNvSpPr/>
          <p:nvPr/>
        </p:nvSpPr>
        <p:spPr>
          <a:xfrm>
            <a:off x="0" y="333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接连接符 4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b9205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0DB7-1667-4E1B-8231-FD74F186D1F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任意多边形 8"/>
          <p:cNvSpPr/>
          <p:nvPr/>
        </p:nvSpPr>
        <p:spPr>
          <a:xfrm>
            <a:off x="-7920" y="3933720"/>
            <a:ext cx="7041960" cy="1646280"/>
          </a:xfrm>
          <a:custGeom>
            <a:avLst/>
            <a:gdLst/>
            <a:ahLst/>
            <a:rect l="l" t="t" r="r" b="b"/>
            <a:pathLst>
              <a:path w="7043596" h="1647731">
                <a:moveTo>
                  <a:pt x="0" y="1638677"/>
                </a:moveTo>
                <a:cubicBezTo>
                  <a:pt x="636760" y="1240325"/>
                  <a:pt x="3971452" y="1611515"/>
                  <a:pt x="4318503" y="1448554"/>
                </a:cubicBezTo>
                <a:cubicBezTo>
                  <a:pt x="7116024" y="739366"/>
                  <a:pt x="5332491" y="147873"/>
                  <a:pt x="7043596" y="0"/>
                </a:cubicBezTo>
                <a:lnTo>
                  <a:pt x="6762938" y="1647731"/>
                </a:lnTo>
                <a:lnTo>
                  <a:pt x="0" y="16386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流程图: 延期 3"/>
          <p:cNvSpPr/>
          <p:nvPr/>
        </p:nvSpPr>
        <p:spPr>
          <a:xfrm rot="16200000">
            <a:off x="4209840" y="-1377720"/>
            <a:ext cx="684000" cy="5761080"/>
          </a:xfrm>
          <a:custGeom>
            <a:avLst/>
            <a:gdLst/>
            <a:ahLst/>
            <a:rect l="l" t="t" r="r" b="b"/>
            <a:pathLst>
              <a:path w="684076" h="5760640">
                <a:moveTo>
                  <a:pt x="0" y="5760640"/>
                </a:moveTo>
                <a:lnTo>
                  <a:pt x="0" y="0"/>
                </a:lnTo>
                <a:cubicBezTo>
                  <a:pt x="305378" y="334978"/>
                  <a:pt x="684076" y="1289563"/>
                  <a:pt x="684076" y="2880320"/>
                </a:cubicBezTo>
                <a:cubicBezTo>
                  <a:pt x="684076" y="4471077"/>
                  <a:pt x="305378" y="5289860"/>
                  <a:pt x="0" y="576064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5"/>
          <p:cNvSpPr/>
          <p:nvPr/>
        </p:nvSpPr>
        <p:spPr>
          <a:xfrm>
            <a:off x="-15840" y="3500280"/>
            <a:ext cx="9159840" cy="3372120"/>
          </a:xfrm>
          <a:custGeom>
            <a:avLst/>
            <a:gdLst/>
            <a:ahLst/>
            <a:rect l="l" t="t" r="r" b="b"/>
            <a:pathLst>
              <a:path w="9162107" h="4227968">
                <a:moveTo>
                  <a:pt x="1593410" y="0"/>
                </a:moveTo>
                <a:lnTo>
                  <a:pt x="9162107" y="0"/>
                </a:lnTo>
                <a:lnTo>
                  <a:pt x="9162107" y="4227968"/>
                </a:lnTo>
                <a:lnTo>
                  <a:pt x="0" y="4227968"/>
                </a:lnTo>
                <a:lnTo>
                  <a:pt x="0" y="2616451"/>
                </a:lnTo>
                <a:cubicBezTo>
                  <a:pt x="1692998" y="2402186"/>
                  <a:pt x="4173647" y="2613433"/>
                  <a:pt x="5142368" y="2236205"/>
                </a:cubicBezTo>
                <a:cubicBezTo>
                  <a:pt x="6029607" y="1934424"/>
                  <a:pt x="6491335" y="1143755"/>
                  <a:pt x="7061703" y="579422"/>
                </a:cubicBezTo>
                <a:lnTo>
                  <a:pt x="1593410" y="579422"/>
                </a:lnTo>
                <a:lnTo>
                  <a:pt x="1593410" y="0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649008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6658560" y="5116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2658960" y="227664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商务会议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539640" y="2060640"/>
            <a:ext cx="7915320" cy="3822480"/>
            <a:chOff x="539640" y="2060640"/>
            <a:chExt cx="7915320" cy="3822480"/>
          </a:xfrm>
        </p:grpSpPr>
        <p:sp>
          <p:nvSpPr>
            <p:cNvPr id="92" name="Oval 21"/>
            <p:cNvSpPr/>
            <p:nvPr/>
          </p:nvSpPr>
          <p:spPr>
            <a:xfrm>
              <a:off x="2041560" y="3016080"/>
              <a:ext cx="2864880" cy="286704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Oval 22"/>
            <p:cNvSpPr/>
            <p:nvPr/>
          </p:nvSpPr>
          <p:spPr>
            <a:xfrm>
              <a:off x="4088160" y="3016080"/>
              <a:ext cx="2864880" cy="2867040"/>
            </a:xfrm>
            <a:prstGeom prst="ellipse">
              <a:avLst/>
            </a:prstGeom>
            <a:solidFill>
              <a:srgbClr val="eeec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Oval 23"/>
            <p:cNvSpPr/>
            <p:nvPr/>
          </p:nvSpPr>
          <p:spPr>
            <a:xfrm>
              <a:off x="2041560" y="3016080"/>
              <a:ext cx="2864880" cy="28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24"/>
            <p:cNvSpPr/>
            <p:nvPr/>
          </p:nvSpPr>
          <p:spPr>
            <a:xfrm>
              <a:off x="4088160" y="3016080"/>
              <a:ext cx="2864880" cy="2867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AutoShape 25"/>
            <p:cNvSpPr/>
            <p:nvPr/>
          </p:nvSpPr>
          <p:spPr>
            <a:xfrm>
              <a:off x="6543720" y="41090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AutoShape 26"/>
            <p:cNvSpPr/>
            <p:nvPr/>
          </p:nvSpPr>
          <p:spPr>
            <a:xfrm>
              <a:off x="6543720" y="3016080"/>
              <a:ext cx="1911240" cy="683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AutoShape 27"/>
            <p:cNvSpPr/>
            <p:nvPr/>
          </p:nvSpPr>
          <p:spPr>
            <a:xfrm>
              <a:off x="6543720" y="50648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28"/>
            <p:cNvSpPr/>
            <p:nvPr/>
          </p:nvSpPr>
          <p:spPr>
            <a:xfrm>
              <a:off x="539640" y="41090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AutoShape 29"/>
            <p:cNvSpPr/>
            <p:nvPr/>
          </p:nvSpPr>
          <p:spPr>
            <a:xfrm>
              <a:off x="539640" y="3016080"/>
              <a:ext cx="1911240" cy="683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AutoShape 30"/>
            <p:cNvSpPr/>
            <p:nvPr/>
          </p:nvSpPr>
          <p:spPr>
            <a:xfrm>
              <a:off x="539640" y="5064840"/>
              <a:ext cx="1911240" cy="6811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1"/>
            <p:cNvSpPr/>
            <p:nvPr/>
          </p:nvSpPr>
          <p:spPr>
            <a:xfrm>
              <a:off x="2723040" y="2060640"/>
              <a:ext cx="1501920" cy="68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2"/>
            <p:cNvSpPr/>
            <p:nvPr/>
          </p:nvSpPr>
          <p:spPr>
            <a:xfrm>
              <a:off x="4769280" y="2060640"/>
              <a:ext cx="1501920" cy="68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4" name="矩形 16" descr=""/>
          <p:cNvPicPr/>
          <p:nvPr/>
        </p:nvPicPr>
        <p:blipFill>
          <a:blip r:embed="rId1"/>
          <a:stretch/>
        </p:blipFill>
        <p:spPr>
          <a:xfrm>
            <a:off x="493560" y="365040"/>
            <a:ext cx="4681800" cy="103032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17" descr=""/>
          <p:cNvPicPr/>
          <p:nvPr/>
        </p:nvPicPr>
        <p:blipFill>
          <a:blip r:embed="rId2"/>
          <a:stretch/>
        </p:blipFill>
        <p:spPr>
          <a:xfrm>
            <a:off x="2676600" y="2120760"/>
            <a:ext cx="1596960" cy="68904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18" descr=""/>
          <p:cNvPicPr/>
          <p:nvPr/>
        </p:nvPicPr>
        <p:blipFill>
          <a:blip r:embed="rId3"/>
          <a:stretch/>
        </p:blipFill>
        <p:spPr>
          <a:xfrm>
            <a:off x="4718160" y="2120760"/>
            <a:ext cx="1603440" cy="68904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19" descr=""/>
          <p:cNvPicPr/>
          <p:nvPr/>
        </p:nvPicPr>
        <p:blipFill>
          <a:blip r:embed="rId4"/>
          <a:stretch/>
        </p:blipFill>
        <p:spPr>
          <a:xfrm>
            <a:off x="6699240" y="3078000"/>
            <a:ext cx="1596960" cy="689040"/>
          </a:xfrm>
          <a:prstGeom prst="rect">
            <a:avLst/>
          </a:prstGeom>
          <a:ln w="0">
            <a:noFill/>
          </a:ln>
        </p:spPr>
      </p:pic>
      <p:pic>
        <p:nvPicPr>
          <p:cNvPr id="108" name="矩形 20" descr=""/>
          <p:cNvPicPr/>
          <p:nvPr/>
        </p:nvPicPr>
        <p:blipFill>
          <a:blip r:embed="rId5"/>
          <a:stretch/>
        </p:blipFill>
        <p:spPr>
          <a:xfrm>
            <a:off x="6699240" y="4170240"/>
            <a:ext cx="1596960" cy="687600"/>
          </a:xfrm>
          <a:prstGeom prst="rect">
            <a:avLst/>
          </a:prstGeom>
          <a:ln w="0">
            <a:noFill/>
          </a:ln>
        </p:spPr>
      </p:pic>
      <p:pic>
        <p:nvPicPr>
          <p:cNvPr id="109" name="矩形 21" descr=""/>
          <p:cNvPicPr/>
          <p:nvPr/>
        </p:nvPicPr>
        <p:blipFill>
          <a:blip r:embed="rId6"/>
          <a:stretch/>
        </p:blipFill>
        <p:spPr>
          <a:xfrm>
            <a:off x="6699240" y="5126040"/>
            <a:ext cx="1596960" cy="689040"/>
          </a:xfrm>
          <a:prstGeom prst="rect">
            <a:avLst/>
          </a:prstGeom>
          <a:ln w="0">
            <a:noFill/>
          </a:ln>
        </p:spPr>
      </p:pic>
      <p:pic>
        <p:nvPicPr>
          <p:cNvPr id="110" name="矩形 22" descr=""/>
          <p:cNvPicPr/>
          <p:nvPr/>
        </p:nvPicPr>
        <p:blipFill>
          <a:blip r:embed="rId7"/>
          <a:stretch/>
        </p:blipFill>
        <p:spPr>
          <a:xfrm>
            <a:off x="695160" y="5126040"/>
            <a:ext cx="1597320" cy="689040"/>
          </a:xfrm>
          <a:prstGeom prst="rect">
            <a:avLst/>
          </a:prstGeom>
          <a:ln w="0">
            <a:noFill/>
          </a:ln>
        </p:spPr>
      </p:pic>
      <p:pic>
        <p:nvPicPr>
          <p:cNvPr id="111" name="矩形 23" descr=""/>
          <p:cNvPicPr/>
          <p:nvPr/>
        </p:nvPicPr>
        <p:blipFill>
          <a:blip r:embed="rId8"/>
          <a:stretch/>
        </p:blipFill>
        <p:spPr>
          <a:xfrm>
            <a:off x="695160" y="4170240"/>
            <a:ext cx="1597320" cy="68760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37" descr=""/>
          <p:cNvPicPr/>
          <p:nvPr/>
        </p:nvPicPr>
        <p:blipFill>
          <a:blip r:embed="rId9"/>
          <a:stretch/>
        </p:blipFill>
        <p:spPr>
          <a:xfrm>
            <a:off x="695160" y="3078000"/>
            <a:ext cx="1597320" cy="689040"/>
          </a:xfrm>
          <a:prstGeom prst="rect">
            <a:avLst/>
          </a:prstGeom>
          <a:ln w="0">
            <a:noFill/>
          </a:ln>
        </p:spPr>
      </p:pic>
      <p:pic>
        <p:nvPicPr>
          <p:cNvPr id="113" name="矩形 38" descr=""/>
          <p:cNvPicPr/>
          <p:nvPr/>
        </p:nvPicPr>
        <p:blipFill>
          <a:blip r:embed="rId10"/>
          <a:stretch/>
        </p:blipFill>
        <p:spPr>
          <a:xfrm>
            <a:off x="2548080" y="4170240"/>
            <a:ext cx="1603080" cy="687600"/>
          </a:xfrm>
          <a:prstGeom prst="rect">
            <a:avLst/>
          </a:prstGeom>
          <a:ln w="0">
            <a:noFill/>
          </a:ln>
        </p:spPr>
      </p:pic>
      <p:pic>
        <p:nvPicPr>
          <p:cNvPr id="114" name="矩形 39" descr=""/>
          <p:cNvPicPr/>
          <p:nvPr/>
        </p:nvPicPr>
        <p:blipFill>
          <a:blip r:embed="rId11"/>
          <a:stretch/>
        </p:blipFill>
        <p:spPr>
          <a:xfrm>
            <a:off x="4943520" y="4170240"/>
            <a:ext cx="1596960" cy="687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任意多边形 3"/>
          <p:cNvSpPr/>
          <p:nvPr/>
        </p:nvSpPr>
        <p:spPr>
          <a:xfrm>
            <a:off x="-7920" y="3933720"/>
            <a:ext cx="7041960" cy="1646280"/>
          </a:xfrm>
          <a:custGeom>
            <a:avLst/>
            <a:gdLst/>
            <a:ahLst/>
            <a:rect l="l" t="t" r="r" b="b"/>
            <a:pathLst>
              <a:path w="7043596" h="1647731">
                <a:moveTo>
                  <a:pt x="0" y="1638677"/>
                </a:moveTo>
                <a:cubicBezTo>
                  <a:pt x="636760" y="1240325"/>
                  <a:pt x="3971452" y="1611515"/>
                  <a:pt x="4318503" y="1448554"/>
                </a:cubicBezTo>
                <a:cubicBezTo>
                  <a:pt x="7116024" y="739366"/>
                  <a:pt x="5332491" y="147873"/>
                  <a:pt x="7043596" y="0"/>
                </a:cubicBezTo>
                <a:lnTo>
                  <a:pt x="6762938" y="1647731"/>
                </a:lnTo>
                <a:lnTo>
                  <a:pt x="0" y="16386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流程图: 延期 3"/>
          <p:cNvSpPr/>
          <p:nvPr/>
        </p:nvSpPr>
        <p:spPr>
          <a:xfrm rot="16200000">
            <a:off x="4209840" y="-1377720"/>
            <a:ext cx="684000" cy="5761080"/>
          </a:xfrm>
          <a:custGeom>
            <a:avLst/>
            <a:gdLst/>
            <a:ahLst/>
            <a:rect l="l" t="t" r="r" b="b"/>
            <a:pathLst>
              <a:path w="684076" h="5760640">
                <a:moveTo>
                  <a:pt x="0" y="5760640"/>
                </a:moveTo>
                <a:lnTo>
                  <a:pt x="0" y="0"/>
                </a:lnTo>
                <a:cubicBezTo>
                  <a:pt x="305378" y="334978"/>
                  <a:pt x="684076" y="1289563"/>
                  <a:pt x="684076" y="2880320"/>
                </a:cubicBezTo>
                <a:cubicBezTo>
                  <a:pt x="684076" y="4471077"/>
                  <a:pt x="305378" y="5289860"/>
                  <a:pt x="0" y="576064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任意多边形 5"/>
          <p:cNvSpPr/>
          <p:nvPr/>
        </p:nvSpPr>
        <p:spPr>
          <a:xfrm>
            <a:off x="-15840" y="3500280"/>
            <a:ext cx="9159840" cy="3372120"/>
          </a:xfrm>
          <a:custGeom>
            <a:avLst/>
            <a:gdLst/>
            <a:ahLst/>
            <a:rect l="l" t="t" r="r" b="b"/>
            <a:pathLst>
              <a:path w="9162107" h="4227968">
                <a:moveTo>
                  <a:pt x="1593410" y="0"/>
                </a:moveTo>
                <a:lnTo>
                  <a:pt x="9162107" y="0"/>
                </a:lnTo>
                <a:lnTo>
                  <a:pt x="9162107" y="4227968"/>
                </a:lnTo>
                <a:lnTo>
                  <a:pt x="0" y="4227968"/>
                </a:lnTo>
                <a:lnTo>
                  <a:pt x="0" y="2616451"/>
                </a:lnTo>
                <a:cubicBezTo>
                  <a:pt x="1692998" y="2402186"/>
                  <a:pt x="4173647" y="2613433"/>
                  <a:pt x="5142368" y="2236205"/>
                </a:cubicBezTo>
                <a:cubicBezTo>
                  <a:pt x="6029607" y="1934424"/>
                  <a:pt x="6491335" y="1143755"/>
                  <a:pt x="7061703" y="579422"/>
                </a:cubicBezTo>
                <a:lnTo>
                  <a:pt x="1593410" y="579422"/>
                </a:lnTo>
                <a:lnTo>
                  <a:pt x="1593410" y="0"/>
                </a:ln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矩形 6" descr=""/>
          <p:cNvPicPr/>
          <p:nvPr/>
        </p:nvPicPr>
        <p:blipFill>
          <a:blip r:embed="rId1"/>
          <a:stretch/>
        </p:blipFill>
        <p:spPr>
          <a:xfrm>
            <a:off x="4084560" y="1457280"/>
            <a:ext cx="3943440" cy="27543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6490080" y="474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告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658560" y="5116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5:43Z</dcterms:created>
  <dc:creator/>
  <dc:description/>
  <dc:language>en-US</dc:language>
  <cp:lastModifiedBy/>
  <dcterms:modified xsi:type="dcterms:W3CDTF">2015-08-14T12:50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