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BA1-0195-45EB-86C7-A08B1C08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CFF-B71C-4B5E-AD60-7E887F6D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D80E24-7E9B-45CF-A93F-036FF694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AAA9D-010C-4C7E-B6BE-63E132DE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2D209E-C89F-494F-A10A-2A5AC14C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39BAC-BE58-446C-912C-3EB5DDD9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9FA19B-3F58-4A0B-A895-2290F165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29BC28-C79F-42F5-96F5-0E5DBDDF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92E4CC-E449-44D0-BFE1-E6D4DD9F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743D4-7543-47CF-8603-6FDC6116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CCC514-4EAF-48C3-AA2F-3D407E63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331E71-AA25-4173-900D-1B721F5A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609-E89E-477B-B600-01C2FF22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D6EB26-2B5F-4DA6-98E1-39456E6C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8D46D8-A9D5-4283-9191-BD339DF9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54D712-194C-43DE-A5C7-B3A019DB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AE0C24-E152-4B93-8924-06D03E9F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FDD466-5302-423A-B86D-2A871456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688B14-775A-41AF-A152-80E6D9F3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8ABF65-E2AF-4803-88DA-754EA83D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1CE99-F458-43F0-8413-DDF1D220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A22AD7-2F1A-4865-A565-A97C6268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05CF73-728C-4956-AA23-70C3B242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F6C-0EAD-44BD-827D-E8F08F68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C97D74-FF0F-487F-BC4E-AC971EE1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F3C312-1936-46CE-822F-7ACB3CC4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8352A3-4A0F-4AE6-8C61-AE453315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D99E56-E977-45AC-8ED4-8B1B382A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474970-D1B4-4563-9FCE-58C534D6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8E75F4-4DC0-47C4-94C6-99FD350E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3FC486-5DC1-4CC4-A154-3A52FFBA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A4E64C-4104-4E8A-BB46-2DAE3FF3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7E6605-26B0-4EF0-B659-BA89786A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2047E0-CFBE-4FD8-92DC-287F5983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C4B9C-98FF-4A79-9CB6-6E3DF584C5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E0B03C-B60A-43E5-9756-39F06050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9EBCD5-2E04-4788-8139-21BC37DC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A45169-74C8-4453-90FE-7FD15CAD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CB4CE3-2AE1-4823-991E-59463F4E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413CC4-A4CD-4811-8AEE-511E47B3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F1B39A-508A-4BAF-9C39-8C533A1C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48D603-DD22-411F-9FC2-3DAC1C39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A47AB8-358A-4E58-9DBE-33ECD07B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17A86A-5241-478E-A5B5-B5EB8731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89329D-FAEA-4CCE-9C53-6E066D1D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E0780-9CE7-4B16-BFC1-2298ECD5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AB6D23-280C-4D86-81A2-F1E56B01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D0C636-46F8-47A9-8BDB-3638B229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DB7467-FD17-4ED7-8BDC-2DA0E8D7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BDB361-5615-4638-BA24-46CAF2CE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D76FF3-A12D-4814-A7BB-6F1EF5BF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C6BEF9-1B8F-4E3D-B4C9-BFBE60F1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F41E1E-672C-48F8-B660-7493054D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08DEB4-CF33-4B86-907D-82545DFF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A82DF4-A65E-4C84-B04A-CAEECB69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3D872B-FDAD-441C-920B-0A220A18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8888F-16C4-4CE8-A7E0-EC00AD25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F888C5-F569-4D64-86B0-C7C807A4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4ADE07-CBCF-44E7-AC92-821DFDD0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EFB88E-554D-4091-BB0D-64BC35D6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7661CB-9643-44A0-9801-2DAED251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DF532B-F0DD-4B6F-84AF-42795EB3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C5D7F6-8AC9-4DA0-B475-33DDB8B0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CF15FC-6992-42AC-9CD1-2687ED2B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52149-DA4E-4BB7-BE52-D05B6EEF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4D0C1-C732-4A10-A3E0-2664451C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167F8-990C-454D-82AB-18D6A655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D92D3-93C2-48E6-9F5B-A715376F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BB9-787D-4624-BE99-D87C18BF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B0608-F4ED-4DA0-BB48-669D38B7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781B0-6404-488F-BB18-7861B411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43431-263F-45BD-BD56-00104E79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D6A09-7875-4A84-94B3-E9D34F9E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CE47F-69BD-49C6-ABA8-7A2AB72A7D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E8BAA-F67C-4D54-94C2-6B1FFA16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D86D9-2F97-48E7-B2FD-35CCB36B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38A5C-5F6B-4593-9312-C80AF999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9B374-65C3-4D19-B633-A18905E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A1C88-6105-44D6-AF15-0E362670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E90-965A-4BD0-ABB0-BE16561F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7F2AA-9069-4846-844E-5437025D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F5BE0-599D-4F38-A786-020A004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3C42C-D8D9-4E9D-A0EF-EBAC3339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4BA7F-E94F-4E18-B59A-AB712E0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819F0-FA16-4AEE-A450-30D1C776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E81DA-A4D5-4A85-A0BB-D971819B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2F9C1-86F0-42F2-B5E7-C12B8A52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8B9F2-8046-4851-8701-FB1A7CB7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7D436-A419-4FA1-BC46-6318C306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894C5-C3B8-4EA3-8B35-8069BF9A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5AB-4459-4D3A-BACC-E0EFBD5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D74FD-3C8D-45FF-AA0B-5A179F52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FA055-7BAD-4D18-AA5A-917673F0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0A873-926E-4145-9FDC-7559DDB4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E720B-5134-4E26-8D04-FDF6D297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AC338-2A85-473A-8BEF-111D3892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91CB6-AA78-4B80-9FF1-67DE4003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48FAA-80EF-44D9-BE5F-F6790D1F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00DC51-CD92-47C7-8870-8E05009C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1EE35-7489-4C9E-A71C-D490A731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563AC-8A9E-4CA3-8151-067AF867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DE4-B818-438B-A21A-54B2C31A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FA828B-6BAD-4173-B948-A704F945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60EBC-F1C5-4B0B-B2F9-664848EA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9F262-1E55-4C29-B4D2-7096D57B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62124-A9B2-4092-96D0-AA8C3ED9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5AAFE3-27A6-4106-9E54-943C25FF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6C6E4-4E8F-489E-93F1-2C741870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8288C-1BFB-4327-BE6C-02833CD3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B4F97-F0AE-48AB-9497-F24EC703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77BFC5-66ED-4B21-B97D-B900220A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465D7-BF2E-4BE2-BD00-F0F31256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A97-3996-464D-B12B-1EB729CE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49A68-553D-4153-AA31-C50CF96C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FD4E6-98BF-479B-A4FB-6EE5D0B0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6E62A8-0CE3-4705-B5A3-FA07878D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8D6D6-7F53-4EA0-8148-0AC6AB48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CBCF5C-ECC0-4D98-9C4D-F887D9CF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9DC8B-BA1B-46DF-997C-BA88CC00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CE364-04AF-44AF-8943-DDE428C7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343C5-E212-4B1C-A72B-A318629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78D7EC-BC99-4072-996F-2C28C8A1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D15DE5-A0F3-4A4F-8A28-BB863B54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BA5-E9E9-491F-973E-39CAF938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CDA00-BF3C-47D1-A8DC-5B22660C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62B61-8422-496F-A5C7-5796B706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518F69-6F26-4818-BDB5-AC6216E1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CA953E-2CFC-4046-8D2D-3DB528EE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BC825-01F0-467B-9691-5EB9B0E2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2209D-DFF6-4C76-9511-185C436D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603C2-58B0-4422-9408-A1CDCF96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EAE07-8938-458D-8884-4624F9C7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4127D7-60D7-42B6-B51A-830BC67D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CB9CF5-28BD-42EB-8F2E-DFC36150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3DC-E75F-4469-A4A4-63F27C64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0B151-2BC6-45B1-A5DB-025F0806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0F674A-D370-4998-8AC8-CB7A41A1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F9901-49EE-4714-ACD8-59456114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F90BA9-A1BE-41DC-84A2-F4610D8B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ED0A88-1CA5-4E9F-8CA6-85EEA8DE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2E8E7A-166E-4BB1-BE38-93DB807E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15CFA2-8324-402C-BA5E-2528E47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599E1-C5CD-4752-B01E-7456B6F8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8648F4-1FE5-46C1-B029-BDD09893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B02070-AA83-4877-9C77-67F55C9C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FF4-26D4-4AF3-8E6E-F6354DE0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2904F8-3EA2-4399-9354-3DB0D7C5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8D03B6-FB70-49D3-9C67-1999BB35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C483B7-5DDB-4B92-ABED-D165287A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662A9B-8049-4C8D-8A82-24166F01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2FF350-0682-4619-B0C2-8D08212A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7E2CF9-CD10-42DA-BC8D-C55EB80E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F94CE6-C5ED-4D46-B8CA-276B55DF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18B577-28B5-48CB-AC5E-DE2049D7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DFD8E1-1328-4393-9EA1-C0F1FF3C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137883-C138-47BA-9816-91C21AD9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9ACA-4EAA-4381-B862-475BB9DA9D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459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7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8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9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88C8-66C4-47E9-A943-09B19E84E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511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0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1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2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3DB3-6128-4FA9-B2B5-31C56CA24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563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3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4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5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0BC1-7FF5-4444-B27C-98CA1880B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15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36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37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38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D043-B56B-45D5-8381-A2769E52190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B208-3460-44C8-8ADC-072EBF54E844}" type="slidenum">
              <a: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95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6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7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8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2993-2EE5-4CA1-9887-2A23D3F0C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147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9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0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1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0153-55B8-4651-8C5D-70F583C82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199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2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3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4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3A5A-5482-49F3-BE33-D4B56DE38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251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5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6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7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FE82-62DB-4BD6-9BD7-FBEE41991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303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8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9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0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0EB4-280B-4136-BAE9-2219D2588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355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60EE-FBDC-449C-8CD5-C19992691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407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5"/>
            <p:cNvSpPr/>
            <p:nvPr/>
          </p:nvSpPr>
          <p:spPr>
            <a:xfrm>
              <a:off x="1143000" y="457200"/>
              <a:ext cx="130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41"/>
            <p:cNvSpPr/>
            <p:nvPr/>
          </p:nvSpPr>
          <p:spPr>
            <a:xfrm flipH="1">
              <a:off x="5311800" y="457200"/>
              <a:ext cx="76320" cy="457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4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5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6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CB3F-FB16-4BB9-8691-13FD9F66C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187164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商务箭头分析报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066680" y="257508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68" name="Line 6"/>
          <p:cNvSpPr/>
          <p:nvPr/>
        </p:nvSpPr>
        <p:spPr>
          <a:xfrm flipV="1">
            <a:off x="0" y="2625480"/>
            <a:ext cx="57373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AutoShape 8"/>
          <p:cNvSpPr/>
          <p:nvPr/>
        </p:nvSpPr>
        <p:spPr>
          <a:xfrm rot="5400000">
            <a:off x="255240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 rot="5400000">
            <a:off x="2738160" y="2711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6320" y="64771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Group 3"/>
          <p:cNvGrpSpPr/>
          <p:nvPr/>
        </p:nvGrpSpPr>
        <p:grpSpPr>
          <a:xfrm>
            <a:off x="2894760" y="2133720"/>
            <a:ext cx="3197520" cy="2890800"/>
            <a:chOff x="2894760" y="2133720"/>
            <a:chExt cx="3197520" cy="2890800"/>
          </a:xfrm>
        </p:grpSpPr>
        <p:sp>
          <p:nvSpPr>
            <p:cNvPr id="818" name="AutoShape 4"/>
            <p:cNvSpPr/>
            <p:nvPr/>
          </p:nvSpPr>
          <p:spPr>
            <a:xfrm flipH="1" rot="16200000">
              <a:off x="2812680" y="3245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5eaf6"/>
                </a:gs>
                <a:gs pos="100000">
                  <a:srgbClr val="94ca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AutoShape 5"/>
            <p:cNvSpPr/>
            <p:nvPr/>
          </p:nvSpPr>
          <p:spPr>
            <a:xfrm flipH="1" rot="5400000">
              <a:off x="5682960" y="31914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5eaf6"/>
                </a:gs>
                <a:gs pos="100000">
                  <a:srgbClr val="94cae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AutoShape 6"/>
            <p:cNvSpPr/>
            <p:nvPr/>
          </p:nvSpPr>
          <p:spPr>
            <a:xfrm flipH="1" rot="10800000">
              <a:off x="4249080" y="4697640"/>
              <a:ext cx="48960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5eaf6"/>
                </a:gs>
                <a:gs pos="100000">
                  <a:srgbClr val="94ca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Oval 7"/>
            <p:cNvSpPr/>
            <p:nvPr/>
          </p:nvSpPr>
          <p:spPr>
            <a:xfrm>
              <a:off x="3220920" y="2133720"/>
              <a:ext cx="256644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3367440" y="2278080"/>
              <a:ext cx="227232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3501000" y="2413080"/>
              <a:ext cx="2005200" cy="200664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50000">
                  <a:srgbClr val="ffffff"/>
                </a:gs>
                <a:gs pos="100000">
                  <a:srgbClr val="8a52c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3501000" y="2413080"/>
              <a:ext cx="20052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633120" y="2544840"/>
              <a:ext cx="1741320" cy="174312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50000">
                  <a:srgbClr val="4b2c6c"/>
                </a:gs>
                <a:gs pos="100000">
                  <a:srgbClr val="8a52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633120" y="2544840"/>
              <a:ext cx="174132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7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7adf"/>
              </a:gs>
              <a:gs pos="50000">
                <a:srgbClr val="163867"/>
              </a:gs>
              <a:gs pos="100000">
                <a:srgbClr val="2f7a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7adf"/>
              </a:gs>
              <a:gs pos="50000">
                <a:srgbClr val="163867"/>
              </a:gs>
              <a:gs pos="100000">
                <a:srgbClr val="2f7a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f7adf"/>
              </a:gs>
              <a:gs pos="50000">
                <a:srgbClr val="163867"/>
              </a:gs>
              <a:gs pos="100000">
                <a:srgbClr val="2f7a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50000">
                <a:srgbClr val="163867"/>
              </a:gs>
              <a:gs pos="100000">
                <a:srgbClr val="2f7ad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页脚占位符 26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Freeform 3"/>
          <p:cNvSpPr/>
          <p:nvPr/>
        </p:nvSpPr>
        <p:spPr>
          <a:xfrm>
            <a:off x="7761240" y="1752480"/>
            <a:ext cx="614520" cy="981360"/>
          </a:xfrm>
          <a:prstGeom prst="pie">
            <a:avLst/>
          </a:prstGeom>
          <a:gradFill rotWithShape="0">
            <a:gsLst>
              <a:gs pos="0">
                <a:srgbClr val="00563f"/>
              </a:gs>
              <a:gs pos="50000">
                <a:srgbClr val="00281d"/>
              </a:gs>
              <a:gs pos="100000">
                <a:srgbClr val="00563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Freeform 4"/>
          <p:cNvSpPr/>
          <p:nvPr/>
        </p:nvSpPr>
        <p:spPr>
          <a:xfrm>
            <a:off x="4821120" y="1752480"/>
            <a:ext cx="3560760" cy="627120"/>
          </a:xfrm>
          <a:prstGeom prst="pi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Freeform 5"/>
          <p:cNvSpPr/>
          <p:nvPr/>
        </p:nvSpPr>
        <p:spPr>
          <a:xfrm>
            <a:off x="7143840" y="2727360"/>
            <a:ext cx="612720" cy="974520"/>
          </a:xfrm>
          <a:prstGeom prst="pie">
            <a:avLst/>
          </a:prstGeom>
          <a:gradFill rotWithShape="0">
            <a:gsLst>
              <a:gs pos="0">
                <a:srgbClr val="4b1092"/>
              </a:gs>
              <a:gs pos="50000">
                <a:srgbClr val="230744"/>
              </a:gs>
              <a:gs pos="100000">
                <a:srgbClr val="4b10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Freeform 6"/>
          <p:cNvSpPr/>
          <p:nvPr/>
        </p:nvSpPr>
        <p:spPr>
          <a:xfrm>
            <a:off x="3936960" y="2727360"/>
            <a:ext cx="3827520" cy="625320"/>
          </a:xfrm>
          <a:prstGeom prst="pie">
            <a:avLst/>
          </a:pr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Freeform 7"/>
          <p:cNvSpPr/>
          <p:nvPr/>
        </p:nvSpPr>
        <p:spPr>
          <a:xfrm>
            <a:off x="6524640" y="3691080"/>
            <a:ext cx="611280" cy="981000"/>
          </a:xfrm>
          <a:prstGeom prst="pie">
            <a:avLst/>
          </a:prstGeom>
          <a:gradFill rotWithShape="0">
            <a:gsLst>
              <a:gs pos="0">
                <a:srgbClr val="90330a"/>
              </a:gs>
              <a:gs pos="50000">
                <a:srgbClr val="431805"/>
              </a:gs>
              <a:gs pos="100000">
                <a:srgbClr val="9033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Freeform 8"/>
          <p:cNvSpPr/>
          <p:nvPr/>
        </p:nvSpPr>
        <p:spPr>
          <a:xfrm>
            <a:off x="5910120" y="4657680"/>
            <a:ext cx="614520" cy="981000"/>
          </a:xfrm>
          <a:prstGeom prst="pie">
            <a:avLst/>
          </a:prstGeom>
          <a:gradFill rotWithShape="0">
            <a:gsLst>
              <a:gs pos="0">
                <a:srgbClr val="906b0e"/>
              </a:gs>
              <a:gs pos="50000">
                <a:srgbClr val="433206"/>
              </a:gs>
              <a:gs pos="100000">
                <a:srgbClr val="906b0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Freeform 9"/>
          <p:cNvSpPr/>
          <p:nvPr/>
        </p:nvSpPr>
        <p:spPr>
          <a:xfrm>
            <a:off x="2178000" y="4662360"/>
            <a:ext cx="4346640" cy="627120"/>
          </a:xfrm>
          <a:prstGeom prst="pie">
            <a:avLst/>
          </a:pr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Freeform 19"/>
          <p:cNvSpPr/>
          <p:nvPr/>
        </p:nvSpPr>
        <p:spPr>
          <a:xfrm>
            <a:off x="2808360" y="1941480"/>
            <a:ext cx="1957320" cy="3157560"/>
          </a:xfrm>
          <a:prstGeom prst="pie">
            <a:avLst/>
          </a:pr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906a"/>
              </a:gs>
              <a:gs pos="50000">
                <a:srgbClr val="00684d"/>
              </a:gs>
              <a:gs pos="100000">
                <a:srgbClr val="00906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8041ff"/>
              </a:gs>
              <a:gs pos="50000">
                <a:srgbClr val="5d2fb9"/>
              </a:gs>
              <a:gs pos="100000">
                <a:srgbClr val="8041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Freeform 22"/>
          <p:cNvSpPr/>
          <p:nvPr/>
        </p:nvSpPr>
        <p:spPr>
          <a:xfrm>
            <a:off x="3059280" y="3691080"/>
            <a:ext cx="4082760" cy="631800"/>
          </a:xfrm>
          <a:prstGeom prst="pi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dc7150"/>
              </a:gs>
              <a:gs pos="50000">
                <a:srgbClr val="a0523a"/>
              </a:gs>
              <a:gs pos="100000">
                <a:srgbClr val="dc71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d0a11c"/>
              </a:gs>
              <a:gs pos="50000">
                <a:srgbClr val="977514"/>
              </a:gs>
              <a:gs pos="100000">
                <a:srgbClr val="d0a11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页脚占位符 28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762120" y="1828800"/>
          <a:ext cx="7543800" cy="396252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72" name="页脚占位符 3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50000">
                <a:srgbClr val="ffffff"/>
              </a:gs>
              <a:gs pos="100000">
                <a:srgbClr val="8a52c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a52c8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50000">
                <a:srgbClr val="4b2c6c"/>
              </a:gs>
              <a:gs pos="100000">
                <a:srgbClr val="8a52c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834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/>
              </a:gs>
              <a:gs pos="50000">
                <a:srgbClr val="ffffff"/>
              </a:gs>
              <a:gs pos="100000">
                <a:srgbClr val="c483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c48352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c48352"/>
              </a:gs>
              <a:gs pos="50000">
                <a:srgbClr val="6a472c"/>
              </a:gs>
              <a:gs pos="100000">
                <a:srgbClr val="c4835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c48352">
                  <a:alpha val="0"/>
                </a:srgbClr>
              </a:gs>
              <a:gs pos="100000">
                <a:srgbClr val="7d53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887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103860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1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50000">
                <a:srgbClr val="ffffff"/>
              </a:gs>
              <a:gs pos="100000">
                <a:srgbClr val="5ab14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a5223"/>
              </a:gs>
              <a:gs pos="100000">
                <a:srgbClr val="5ab14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50000">
                <a:srgbClr val="316029"/>
              </a:gs>
              <a:gs pos="100000">
                <a:srgbClr val="5ab14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ab14b">
                  <a:alpha val="0"/>
                </a:srgbClr>
              </a:gs>
              <a:gs pos="100000">
                <a:srgbClr val="3970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897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377532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902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32"/>
            <p:cNvSpPr/>
            <p:nvPr/>
          </p:nvSpPr>
          <p:spPr>
            <a:xfrm>
              <a:off x="652176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页脚占位符 40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3"/>
          <p:cNvSpPr/>
          <p:nvPr/>
        </p:nvSpPr>
        <p:spPr>
          <a:xfrm>
            <a:off x="990720" y="1974960"/>
            <a:ext cx="5943600" cy="4038480"/>
          </a:xfrm>
          <a:prstGeom prst="pie">
            <a:avLst/>
          </a:prstGeom>
          <a:gradFill rotWithShape="0">
            <a:gsLst>
              <a:gs pos="0">
                <a:srgbClr val="2f7adf"/>
              </a:gs>
              <a:gs pos="100000">
                <a:srgbClr val="94ca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2"/>
          <p:cNvSpPr/>
          <p:nvPr/>
        </p:nvSpPr>
        <p:spPr>
          <a:xfrm>
            <a:off x="5562720" y="349884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925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43"/>
            <p:cNvSpPr/>
            <p:nvPr/>
          </p:nvSpPr>
          <p:spPr>
            <a:xfrm>
              <a:off x="1237320" y="33609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Oval 44"/>
            <p:cNvSpPr/>
            <p:nvPr/>
          </p:nvSpPr>
          <p:spPr>
            <a:xfrm>
              <a:off x="1250280" y="33742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Oval 45"/>
            <p:cNvSpPr/>
            <p:nvPr/>
          </p:nvSpPr>
          <p:spPr>
            <a:xfrm>
              <a:off x="1321920" y="34110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页脚占位符 29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94cae8"/>
              </a:gs>
              <a:gs pos="100000">
                <a:srgbClr val="84b4c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1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952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4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955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7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958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961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964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967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Oval 27"/>
            <p:cNvSpPr/>
            <p:nvPr/>
          </p:nvSpPr>
          <p:spPr>
            <a:xfrm>
              <a:off x="5349960" y="5315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50000">
                <a:srgbClr val="ffffff"/>
              </a:gs>
              <a:gs pos="100000">
                <a:srgbClr val="8a52c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0265d"/>
              </a:gs>
              <a:gs pos="100000">
                <a:srgbClr val="8a52c8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50000">
                <a:srgbClr val="4b2c6c"/>
              </a:gs>
              <a:gs pos="100000">
                <a:srgbClr val="8a52c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834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974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33"/>
            <p:cNvSpPr/>
            <p:nvPr/>
          </p:nvSpPr>
          <p:spPr>
            <a:xfrm>
              <a:off x="3857760" y="31528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页脚占位符 44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2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993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Oval 54"/>
            <p:cNvSpPr/>
            <p:nvPr/>
          </p:nvSpPr>
          <p:spPr>
            <a:xfrm>
              <a:off x="185112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1005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Oval 66"/>
            <p:cNvSpPr/>
            <p:nvPr/>
          </p:nvSpPr>
          <p:spPr>
            <a:xfrm>
              <a:off x="657540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0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sc115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页脚占位符 37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7" name="Group 5"/>
          <p:cNvGrpSpPr/>
          <p:nvPr/>
        </p:nvGrpSpPr>
        <p:grpSpPr>
          <a:xfrm>
            <a:off x="4906080" y="3355560"/>
            <a:ext cx="1703880" cy="2679120"/>
            <a:chOff x="4906080" y="3355560"/>
            <a:chExt cx="1703880" cy="2679120"/>
          </a:xfrm>
        </p:grpSpPr>
        <p:grpSp>
          <p:nvGrpSpPr>
            <p:cNvPr id="1028" name="Group 6"/>
            <p:cNvGrpSpPr/>
            <p:nvPr/>
          </p:nvGrpSpPr>
          <p:grpSpPr>
            <a:xfrm>
              <a:off x="4906080" y="3534120"/>
              <a:ext cx="1577160" cy="2500560"/>
              <a:chOff x="4906080" y="3534120"/>
              <a:chExt cx="1577160" cy="2500560"/>
            </a:xfrm>
          </p:grpSpPr>
          <p:sp>
            <p:nvSpPr>
              <p:cNvPr id="1029" name="Freeform 7"/>
              <p:cNvSpPr/>
              <p:nvPr/>
            </p:nvSpPr>
            <p:spPr>
              <a:xfrm rot="3876600">
                <a:off x="4442760" y="4505400"/>
                <a:ext cx="2503440" cy="5576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Freeform 8"/>
              <p:cNvSpPr/>
              <p:nvPr/>
            </p:nvSpPr>
            <p:spPr>
              <a:xfrm rot="3876600">
                <a:off x="5947560" y="547380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1032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4" name="Group 12"/>
          <p:cNvGrpSpPr/>
          <p:nvPr/>
        </p:nvGrpSpPr>
        <p:grpSpPr>
          <a:xfrm>
            <a:off x="4427640" y="2433600"/>
            <a:ext cx="1439640" cy="1440000"/>
            <a:chOff x="4427640" y="2433600"/>
            <a:chExt cx="1439640" cy="1440000"/>
          </a:xfrm>
        </p:grpSpPr>
        <p:sp>
          <p:nvSpPr>
            <p:cNvPr id="1035" name="Oval 13"/>
            <p:cNvSpPr/>
            <p:nvPr/>
          </p:nvSpPr>
          <p:spPr>
            <a:xfrm>
              <a:off x="4427640" y="24336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4"/>
            <p:cNvSpPr/>
            <p:nvPr/>
          </p:nvSpPr>
          <p:spPr>
            <a:xfrm>
              <a:off x="4427640" y="24336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Oval 15"/>
            <p:cNvSpPr/>
            <p:nvPr/>
          </p:nvSpPr>
          <p:spPr>
            <a:xfrm>
              <a:off x="4522680" y="252720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Oval 16"/>
            <p:cNvSpPr/>
            <p:nvPr/>
          </p:nvSpPr>
          <p:spPr>
            <a:xfrm>
              <a:off x="4522680" y="253044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Oval 17"/>
            <p:cNvSpPr/>
            <p:nvPr/>
          </p:nvSpPr>
          <p:spPr>
            <a:xfrm>
              <a:off x="4584600" y="2590920"/>
              <a:ext cx="112500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0" name="Group 18"/>
            <p:cNvGrpSpPr/>
            <p:nvPr/>
          </p:nvGrpSpPr>
          <p:grpSpPr>
            <a:xfrm>
              <a:off x="4601880" y="2608200"/>
              <a:ext cx="1090440" cy="1092240"/>
              <a:chOff x="4601880" y="2608200"/>
              <a:chExt cx="1090440" cy="1092240"/>
            </a:xfrm>
          </p:grpSpPr>
          <p:sp>
            <p:nvSpPr>
              <p:cNvPr id="1041" name="Oval 19"/>
              <p:cNvSpPr/>
              <p:nvPr/>
            </p:nvSpPr>
            <p:spPr>
              <a:xfrm>
                <a:off x="460188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Oval 20"/>
              <p:cNvSpPr/>
              <p:nvPr/>
            </p:nvSpPr>
            <p:spPr>
              <a:xfrm>
                <a:off x="4615560" y="2614320"/>
                <a:ext cx="106416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Oval 21"/>
              <p:cNvSpPr/>
              <p:nvPr/>
            </p:nvSpPr>
            <p:spPr>
              <a:xfrm>
                <a:off x="462708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Oval 22"/>
              <p:cNvSpPr/>
              <p:nvPr/>
            </p:nvSpPr>
            <p:spPr>
              <a:xfrm>
                <a:off x="468612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45" name="Group 23"/>
          <p:cNvGrpSpPr/>
          <p:nvPr/>
        </p:nvGrpSpPr>
        <p:grpSpPr>
          <a:xfrm>
            <a:off x="7138080" y="3428640"/>
            <a:ext cx="1703880" cy="2679120"/>
            <a:chOff x="7138080" y="3428640"/>
            <a:chExt cx="1703880" cy="2679120"/>
          </a:xfrm>
        </p:grpSpPr>
        <p:grpSp>
          <p:nvGrpSpPr>
            <p:cNvPr id="1046" name="Group 24"/>
            <p:cNvGrpSpPr/>
            <p:nvPr/>
          </p:nvGrpSpPr>
          <p:grpSpPr>
            <a:xfrm>
              <a:off x="7138080" y="3607200"/>
              <a:ext cx="1577160" cy="2500560"/>
              <a:chOff x="7138080" y="3607200"/>
              <a:chExt cx="1577160" cy="2500560"/>
            </a:xfrm>
          </p:grpSpPr>
          <p:sp>
            <p:nvSpPr>
              <p:cNvPr id="1047" name="Freeform 25"/>
              <p:cNvSpPr/>
              <p:nvPr/>
            </p:nvSpPr>
            <p:spPr>
              <a:xfrm rot="3876600">
                <a:off x="6674760" y="4578480"/>
                <a:ext cx="2503440" cy="55764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26"/>
              <p:cNvSpPr/>
              <p:nvPr/>
            </p:nvSpPr>
            <p:spPr>
              <a:xfrm rot="3876600">
                <a:off x="8179560" y="554688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1050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prstGeom prst="pi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2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1058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7"/>
            <p:cNvSpPr/>
            <p:nvPr/>
          </p:nvSpPr>
          <p:spPr>
            <a:xfrm>
              <a:off x="6669720" y="249156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2" name="Group 40"/>
          <p:cNvGrpSpPr/>
          <p:nvPr/>
        </p:nvGrpSpPr>
        <p:grpSpPr>
          <a:xfrm>
            <a:off x="2858760" y="3355200"/>
            <a:ext cx="1703880" cy="2679480"/>
            <a:chOff x="2858760" y="3355200"/>
            <a:chExt cx="1703880" cy="2679480"/>
          </a:xfrm>
        </p:grpSpPr>
        <p:grpSp>
          <p:nvGrpSpPr>
            <p:cNvPr id="1063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1064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43"/>
              <p:cNvSpPr/>
              <p:nvPr/>
            </p:nvSpPr>
            <p:spPr>
              <a:xfrm rot="3876600">
                <a:off x="3900240" y="547380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6" name="Group 44"/>
            <p:cNvGrpSpPr/>
            <p:nvPr/>
          </p:nvGrpSpPr>
          <p:grpSpPr>
            <a:xfrm>
              <a:off x="3352680" y="3355200"/>
              <a:ext cx="1209960" cy="1918800"/>
              <a:chOff x="3352680" y="3355200"/>
              <a:chExt cx="1209960" cy="1918800"/>
            </a:xfrm>
          </p:grpSpPr>
          <p:sp>
            <p:nvSpPr>
              <p:cNvPr id="1067" name="Freeform 45"/>
              <p:cNvSpPr/>
              <p:nvPr/>
            </p:nvSpPr>
            <p:spPr>
              <a:xfrm flipV="1" rot="3876600">
                <a:off x="2997000" y="4100760"/>
                <a:ext cx="1920960" cy="42768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46"/>
              <p:cNvSpPr/>
              <p:nvPr/>
            </p:nvSpPr>
            <p:spPr>
              <a:xfrm flipV="1" rot="3876600">
                <a:off x="4134240" y="485172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69" name="Group 47"/>
          <p:cNvGrpSpPr/>
          <p:nvPr/>
        </p:nvGrpSpPr>
        <p:grpSpPr>
          <a:xfrm>
            <a:off x="2379600" y="2433600"/>
            <a:ext cx="1440000" cy="1440000"/>
            <a:chOff x="2379600" y="2433600"/>
            <a:chExt cx="1440000" cy="1440000"/>
          </a:xfrm>
        </p:grpSpPr>
        <p:sp>
          <p:nvSpPr>
            <p:cNvPr id="1070" name="Oval 48"/>
            <p:cNvSpPr/>
            <p:nvPr/>
          </p:nvSpPr>
          <p:spPr>
            <a:xfrm>
              <a:off x="237960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49"/>
            <p:cNvSpPr/>
            <p:nvPr/>
          </p:nvSpPr>
          <p:spPr>
            <a:xfrm>
              <a:off x="237960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Oval 50"/>
            <p:cNvSpPr/>
            <p:nvPr/>
          </p:nvSpPr>
          <p:spPr>
            <a:xfrm>
              <a:off x="2475000" y="25272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Oval 51"/>
            <p:cNvSpPr/>
            <p:nvPr/>
          </p:nvSpPr>
          <p:spPr>
            <a:xfrm>
              <a:off x="2475000" y="253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Oval 52"/>
            <p:cNvSpPr/>
            <p:nvPr/>
          </p:nvSpPr>
          <p:spPr>
            <a:xfrm>
              <a:off x="2536920" y="25909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5" name="Group 53"/>
            <p:cNvGrpSpPr/>
            <p:nvPr/>
          </p:nvGrpSpPr>
          <p:grpSpPr>
            <a:xfrm>
              <a:off x="2554200" y="2608200"/>
              <a:ext cx="1090800" cy="1092240"/>
              <a:chOff x="2554200" y="2608200"/>
              <a:chExt cx="1090800" cy="1092240"/>
            </a:xfrm>
          </p:grpSpPr>
          <p:sp>
            <p:nvSpPr>
              <p:cNvPr id="1076" name="Oval 54"/>
              <p:cNvSpPr/>
              <p:nvPr/>
            </p:nvSpPr>
            <p:spPr>
              <a:xfrm>
                <a:off x="2554200" y="26082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56"/>
              <p:cNvSpPr/>
              <p:nvPr/>
            </p:nvSpPr>
            <p:spPr>
              <a:xfrm>
                <a:off x="2579400" y="26247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57"/>
              <p:cNvSpPr/>
              <p:nvPr/>
            </p:nvSpPr>
            <p:spPr>
              <a:xfrm>
                <a:off x="2638440" y="26524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80" name="Group 58"/>
          <p:cNvGrpSpPr/>
          <p:nvPr/>
        </p:nvGrpSpPr>
        <p:grpSpPr>
          <a:xfrm>
            <a:off x="875880" y="3355200"/>
            <a:ext cx="1703880" cy="2679480"/>
            <a:chOff x="875880" y="3355200"/>
            <a:chExt cx="1703880" cy="2679480"/>
          </a:xfrm>
        </p:grpSpPr>
        <p:grpSp>
          <p:nvGrpSpPr>
            <p:cNvPr id="1081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1082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61"/>
              <p:cNvSpPr/>
              <p:nvPr/>
            </p:nvSpPr>
            <p:spPr>
              <a:xfrm rot="3876600">
                <a:off x="1917360" y="5473800"/>
                <a:ext cx="393480" cy="45648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4" name="Group 62"/>
            <p:cNvGrpSpPr/>
            <p:nvPr/>
          </p:nvGrpSpPr>
          <p:grpSpPr>
            <a:xfrm>
              <a:off x="1369800" y="3355200"/>
              <a:ext cx="1209960" cy="1918800"/>
              <a:chOff x="1369800" y="3355200"/>
              <a:chExt cx="1209960" cy="1918800"/>
            </a:xfrm>
          </p:grpSpPr>
          <p:sp>
            <p:nvSpPr>
              <p:cNvPr id="1085" name="Freeform 63"/>
              <p:cNvSpPr/>
              <p:nvPr/>
            </p:nvSpPr>
            <p:spPr>
              <a:xfrm flipV="1" rot="3876600">
                <a:off x="1014120" y="4100760"/>
                <a:ext cx="1920960" cy="42768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64"/>
              <p:cNvSpPr/>
              <p:nvPr/>
            </p:nvSpPr>
            <p:spPr>
              <a:xfrm flipV="1" rot="3876600">
                <a:off x="2151360" y="4851720"/>
                <a:ext cx="301680" cy="3499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87" name="Group 65"/>
          <p:cNvGrpSpPr/>
          <p:nvPr/>
        </p:nvGrpSpPr>
        <p:grpSpPr>
          <a:xfrm>
            <a:off x="396720" y="2433600"/>
            <a:ext cx="1440000" cy="1440000"/>
            <a:chOff x="396720" y="2433600"/>
            <a:chExt cx="1440000" cy="1440000"/>
          </a:xfrm>
        </p:grpSpPr>
        <p:sp>
          <p:nvSpPr>
            <p:cNvPr id="1088" name="Oval 66"/>
            <p:cNvSpPr/>
            <p:nvPr/>
          </p:nvSpPr>
          <p:spPr>
            <a:xfrm>
              <a:off x="39672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Oval 67"/>
            <p:cNvSpPr/>
            <p:nvPr/>
          </p:nvSpPr>
          <p:spPr>
            <a:xfrm>
              <a:off x="396720" y="24336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68"/>
            <p:cNvSpPr/>
            <p:nvPr/>
          </p:nvSpPr>
          <p:spPr>
            <a:xfrm>
              <a:off x="492120" y="25272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69"/>
            <p:cNvSpPr/>
            <p:nvPr/>
          </p:nvSpPr>
          <p:spPr>
            <a:xfrm>
              <a:off x="492120" y="25304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Oval 70"/>
            <p:cNvSpPr/>
            <p:nvPr/>
          </p:nvSpPr>
          <p:spPr>
            <a:xfrm>
              <a:off x="554040" y="25909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3" name="Group 71"/>
            <p:cNvGrpSpPr/>
            <p:nvPr/>
          </p:nvGrpSpPr>
          <p:grpSpPr>
            <a:xfrm>
              <a:off x="571320" y="2608200"/>
              <a:ext cx="1090800" cy="1092240"/>
              <a:chOff x="571320" y="2608200"/>
              <a:chExt cx="1090800" cy="1092240"/>
            </a:xfrm>
          </p:grpSpPr>
          <p:sp>
            <p:nvSpPr>
              <p:cNvPr id="1094" name="Oval 72"/>
              <p:cNvSpPr/>
              <p:nvPr/>
            </p:nvSpPr>
            <p:spPr>
              <a:xfrm>
                <a:off x="571320" y="26082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Oval 74"/>
              <p:cNvSpPr/>
              <p:nvPr/>
            </p:nvSpPr>
            <p:spPr>
              <a:xfrm>
                <a:off x="596520" y="26247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Oval 75"/>
              <p:cNvSpPr/>
              <p:nvPr/>
            </p:nvSpPr>
            <p:spPr>
              <a:xfrm>
                <a:off x="655560" y="26524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8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84"/>
          <p:cNvSpPr/>
          <p:nvPr/>
        </p:nvSpPr>
        <p:spPr>
          <a:xfrm>
            <a:off x="77796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85"/>
          <p:cNvSpPr/>
          <p:nvPr/>
        </p:nvSpPr>
        <p:spPr>
          <a:xfrm>
            <a:off x="27684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86"/>
          <p:cNvSpPr/>
          <p:nvPr/>
        </p:nvSpPr>
        <p:spPr>
          <a:xfrm>
            <a:off x="47498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87"/>
          <p:cNvSpPr/>
          <p:nvPr/>
        </p:nvSpPr>
        <p:spPr>
          <a:xfrm>
            <a:off x="679500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0" name="AutoShape 88"/>
          <p:cNvCxnSpPr>
            <a:stCxn id="1106" idx="3"/>
            <a:endCxn id="1107" idx="1"/>
          </p:cNvCxnSpPr>
          <p:nvPr/>
        </p:nvCxnSpPr>
        <p:spPr>
          <a:xfrm>
            <a:off x="1514160" y="196812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1" name="AutoShape 89"/>
          <p:cNvCxnSpPr>
            <a:stCxn id="1107" idx="3"/>
            <a:endCxn id="1108" idx="1"/>
          </p:cNvCxnSpPr>
          <p:nvPr/>
        </p:nvCxnSpPr>
        <p:spPr>
          <a:xfrm>
            <a:off x="3504960" y="196812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2" name="AutoShape 90"/>
          <p:cNvCxnSpPr>
            <a:stCxn id="1108" idx="3"/>
            <a:endCxn id="1109" idx="1"/>
          </p:cNvCxnSpPr>
          <p:nvPr/>
        </p:nvCxnSpPr>
        <p:spPr>
          <a:xfrm>
            <a:off x="5486040" y="196848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13" name="页脚占位符 90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页脚占位符 8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Arc 6"/>
          <p:cNvSpPr/>
          <p:nvPr/>
        </p:nvSpPr>
        <p:spPr>
          <a:xfrm rot="20601600">
            <a:off x="4036680" y="2252160"/>
            <a:ext cx="2851200" cy="1538280"/>
          </a:xfrm>
          <a:prstGeom prst="pi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Arc 7"/>
          <p:cNvSpPr/>
          <p:nvPr/>
        </p:nvSpPr>
        <p:spPr>
          <a:xfrm flipH="1" rot="20602200">
            <a:off x="1441800" y="3565080"/>
            <a:ext cx="2876760" cy="1630440"/>
          </a:xfrm>
          <a:prstGeom prst="pie">
            <a:avLst/>
          </a:prstGeom>
          <a:gradFill rotWithShape="0">
            <a:gsLst>
              <a:gs pos="0">
                <a:srgbClr val="47abe3"/>
              </a:gs>
              <a:gs pos="100000">
                <a:srgbClr val="abd9f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Arc 8"/>
          <p:cNvSpPr/>
          <p:nvPr/>
        </p:nvSpPr>
        <p:spPr>
          <a:xfrm rot="20601600">
            <a:off x="3281400" y="1980720"/>
            <a:ext cx="2813040" cy="1417680"/>
          </a:xfrm>
          <a:prstGeom prst="pie">
            <a:avLst/>
          </a:prstGeom>
          <a:gradFill rotWithShape="0">
            <a:gsLst>
              <a:gs pos="0">
                <a:srgbClr val="aaa0f8"/>
              </a:gs>
              <a:gs pos="100000">
                <a:srgbClr val="4f4a7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Arc 9"/>
          <p:cNvSpPr/>
          <p:nvPr/>
        </p:nvSpPr>
        <p:spPr>
          <a:xfrm flipH="1" rot="20602200">
            <a:off x="1242720" y="2633400"/>
            <a:ext cx="2762280" cy="1380960"/>
          </a:xfrm>
          <a:prstGeom prst="pie">
            <a:avLst/>
          </a:pr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Freeform 14"/>
          <p:cNvSpPr/>
          <p:nvPr/>
        </p:nvSpPr>
        <p:spPr>
          <a:xfrm>
            <a:off x="6172200" y="3187800"/>
            <a:ext cx="1295280" cy="1711080"/>
          </a:xfrm>
          <a:prstGeom prst="pie">
            <a:avLst/>
          </a:prstGeom>
          <a:gradFill rotWithShape="0">
            <a:gsLst>
              <a:gs pos="0">
                <a:srgbClr val="6600cc"/>
              </a:gs>
              <a:gs pos="100000">
                <a:srgbClr val="b98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Arc 15"/>
          <p:cNvSpPr/>
          <p:nvPr/>
        </p:nvSpPr>
        <p:spPr>
          <a:xfrm rot="20539200">
            <a:off x="4570560" y="3193560"/>
            <a:ext cx="2984400" cy="134640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Freeform 16"/>
          <p:cNvSpPr/>
          <p:nvPr/>
        </p:nvSpPr>
        <p:spPr>
          <a:xfrm>
            <a:off x="4471920" y="3668760"/>
            <a:ext cx="1758960" cy="1236600"/>
          </a:xfrm>
          <a:prstGeom prst="pie">
            <a:avLst/>
          </a:pr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557c96"/>
              </a:gs>
              <a:gs pos="100000">
                <a:srgbClr val="273945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Freeform 21"/>
          <p:cNvSpPr/>
          <p:nvPr/>
        </p:nvSpPr>
        <p:spPr>
          <a:xfrm>
            <a:off x="4648320" y="4064040"/>
            <a:ext cx="1282680" cy="1028520"/>
          </a:xfrm>
          <a:prstGeom prst="pie">
            <a:avLst/>
          </a:pr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页脚占位符 21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675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AutoShape 90"/>
            <p:cNvSpPr/>
            <p:nvPr/>
          </p:nvSpPr>
          <p:spPr>
            <a:xfrm>
              <a:off x="1981080" y="19479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AutoShape 91"/>
            <p:cNvSpPr/>
            <p:nvPr/>
          </p:nvSpPr>
          <p:spPr>
            <a:xfrm>
              <a:off x="2025360" y="198756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2f7adf"/>
                </a:gs>
                <a:gs pos="100000">
                  <a:srgbClr val="163867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8" name="Group 92"/>
          <p:cNvGrpSpPr/>
          <p:nvPr/>
        </p:nvGrpSpPr>
        <p:grpSpPr>
          <a:xfrm>
            <a:off x="1981080" y="2862360"/>
            <a:ext cx="762120" cy="664920"/>
            <a:chOff x="1981080" y="2862360"/>
            <a:chExt cx="762120" cy="664920"/>
          </a:xfrm>
        </p:grpSpPr>
        <p:sp>
          <p:nvSpPr>
            <p:cNvPr id="679" name="AutoShape 93"/>
            <p:cNvSpPr/>
            <p:nvPr/>
          </p:nvSpPr>
          <p:spPr>
            <a:xfrm>
              <a:off x="1987200" y="28735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AutoShape 94"/>
            <p:cNvSpPr/>
            <p:nvPr/>
          </p:nvSpPr>
          <p:spPr>
            <a:xfrm>
              <a:off x="1981080" y="2862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AutoShape 95"/>
            <p:cNvSpPr/>
            <p:nvPr/>
          </p:nvSpPr>
          <p:spPr>
            <a:xfrm>
              <a:off x="2025360" y="2901960"/>
              <a:ext cx="663840" cy="574200"/>
            </a:xfrm>
            <a:prstGeom prst="hexagon">
              <a:avLst>
                <a:gd name="adj" fmla="val 28897"/>
                <a:gd name="vf" fmla="val 115470"/>
              </a:avLst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689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AutoShape 104"/>
            <p:cNvSpPr/>
            <p:nvPr/>
          </p:nvSpPr>
          <p:spPr>
            <a:xfrm>
              <a:off x="1981080" y="37544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AutoShape 105"/>
            <p:cNvSpPr/>
            <p:nvPr/>
          </p:nvSpPr>
          <p:spPr>
            <a:xfrm>
              <a:off x="2025360" y="379404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f7adf"/>
                </a:gs>
                <a:gs pos="100000">
                  <a:srgbClr val="163867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Group 106"/>
          <p:cNvGrpSpPr/>
          <p:nvPr/>
        </p:nvGrpSpPr>
        <p:grpSpPr>
          <a:xfrm>
            <a:off x="1981080" y="4668840"/>
            <a:ext cx="762120" cy="665280"/>
            <a:chOff x="1981080" y="4668840"/>
            <a:chExt cx="762120" cy="665280"/>
          </a:xfrm>
        </p:grpSpPr>
        <p:sp>
          <p:nvSpPr>
            <p:cNvPr id="693" name="AutoShape 107"/>
            <p:cNvSpPr/>
            <p:nvPr/>
          </p:nvSpPr>
          <p:spPr>
            <a:xfrm>
              <a:off x="1987200" y="46800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utoShape 108"/>
            <p:cNvSpPr/>
            <p:nvPr/>
          </p:nvSpPr>
          <p:spPr>
            <a:xfrm>
              <a:off x="1981080" y="4668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AutoShape 109"/>
            <p:cNvSpPr/>
            <p:nvPr/>
          </p:nvSpPr>
          <p:spPr>
            <a:xfrm>
              <a:off x="2025360" y="470844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81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页脚占位符 30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a52c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81D4F-14C3-4EFA-94CB-30BE29CB3C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页脚占位符 3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8"/>
          <p:cNvSpPr/>
          <p:nvPr/>
        </p:nvSpPr>
        <p:spPr>
          <a:xfrm>
            <a:off x="3222720" y="2998800"/>
            <a:ext cx="903240" cy="1241280"/>
          </a:xfrm>
          <a:prstGeom prst="pie">
            <a:avLst/>
          </a:prstGeom>
          <a:gradFill rotWithShape="0">
            <a:gsLst>
              <a:gs pos="0">
                <a:srgbClr val="dac8ee"/>
              </a:gs>
              <a:gs pos="100000">
                <a:srgbClr val="8a52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Freeform 10"/>
          <p:cNvSpPr/>
          <p:nvPr/>
        </p:nvSpPr>
        <p:spPr>
          <a:xfrm flipH="1">
            <a:off x="4874400" y="2998800"/>
            <a:ext cx="903240" cy="1241280"/>
          </a:xfrm>
          <a:prstGeom prst="pie">
            <a:avLst/>
          </a:prstGeom>
          <a:gradFill rotWithShape="0">
            <a:gsLst>
              <a:gs pos="0">
                <a:srgbClr val="cbe6c6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11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715" name="Group 12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716" name="Oval 13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32861"/>
                  </a:gs>
                  <a:gs pos="100000">
                    <a:srgbClr val="8a52c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Oval 14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cbb2e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8" name="Oval 15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16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5e4c0"/>
                </a:gs>
                <a:gs pos="100000">
                  <a:srgbClr val="5ab14b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17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48235"/>
                  </a:srgbClr>
                </a:gs>
                <a:gs pos="100000">
                  <a:srgbClr val="478c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18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20"/>
          <p:cNvSpPr/>
          <p:nvPr/>
        </p:nvSpPr>
        <p:spPr>
          <a:xfrm>
            <a:off x="581040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1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页脚占位符 19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23"/>
          <p:cNvGrpSpPr/>
          <p:nvPr/>
        </p:nvGrpSpPr>
        <p:grpSpPr>
          <a:xfrm>
            <a:off x="456840" y="1555920"/>
            <a:ext cx="7938000" cy="5225400"/>
            <a:chOff x="456840" y="1555920"/>
            <a:chExt cx="7938000" cy="5225400"/>
          </a:xfrm>
        </p:grpSpPr>
        <p:sp>
          <p:nvSpPr>
            <p:cNvPr id="727" name="Freeform 3"/>
            <p:cNvSpPr/>
            <p:nvPr/>
          </p:nvSpPr>
          <p:spPr>
            <a:xfrm rot="20241600">
              <a:off x="1077840" y="2766600"/>
              <a:ext cx="6853320" cy="2803320"/>
            </a:xfrm>
            <a:prstGeom prst="pi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f5fafd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Oval 18"/>
            <p:cNvSpPr/>
            <p:nvPr/>
          </p:nvSpPr>
          <p:spPr>
            <a:xfrm rot="20056200">
              <a:off x="4419360" y="27428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66889f"/>
                </a:gs>
                <a:gs pos="100000">
                  <a:srgbClr val="0a2068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Oval 19"/>
            <p:cNvSpPr/>
            <p:nvPr/>
          </p:nvSpPr>
          <p:spPr>
            <a:xfrm rot="20056200">
              <a:off x="7314840" y="29714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66889f"/>
                </a:gs>
                <a:gs pos="100000">
                  <a:srgbClr val="0a2068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20"/>
            <p:cNvSpPr/>
            <p:nvPr/>
          </p:nvSpPr>
          <p:spPr>
            <a:xfrm rot="20056200">
              <a:off x="2819160" y="59432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557c96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Oval 21"/>
            <p:cNvSpPr/>
            <p:nvPr/>
          </p:nvSpPr>
          <p:spPr>
            <a:xfrm rot="20056200">
              <a:off x="5562360" y="52574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66889f"/>
                </a:gs>
                <a:gs pos="100000">
                  <a:srgbClr val="0a2068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Oval 22"/>
            <p:cNvSpPr/>
            <p:nvPr/>
          </p:nvSpPr>
          <p:spPr>
            <a:xfrm rot="20056200">
              <a:off x="1904760" y="4266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66889f"/>
                </a:gs>
                <a:gs pos="100000">
                  <a:srgbClr val="0a2068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Oval 4"/>
            <p:cNvSpPr/>
            <p:nvPr/>
          </p:nvSpPr>
          <p:spPr>
            <a:xfrm>
              <a:off x="3809880" y="190476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3f56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Oval 8"/>
            <p:cNvSpPr/>
            <p:nvPr/>
          </p:nvSpPr>
          <p:spPr>
            <a:xfrm>
              <a:off x="6781680" y="213336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9"/>
            <p:cNvSpPr/>
            <p:nvPr/>
          </p:nvSpPr>
          <p:spPr>
            <a:xfrm>
              <a:off x="1548000" y="39621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Text Box 10"/>
            <p:cNvSpPr/>
            <p:nvPr/>
          </p:nvSpPr>
          <p:spPr>
            <a:xfrm>
              <a:off x="4139640" y="2361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Line 15"/>
            <p:cNvSpPr/>
            <p:nvPr/>
          </p:nvSpPr>
          <p:spPr>
            <a:xfrm>
              <a:off x="2473200" y="219204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45" name="AutoShape 16"/>
            <p:cNvCxnSpPr/>
            <p:nvPr/>
          </p:nvCxnSpPr>
          <p:spPr>
            <a:xfrm flipH="1">
              <a:off x="456840" y="219168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746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7" name="页脚占位符 23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9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750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Freeform 6"/>
            <p:cNvGrpSpPr/>
            <p:nvPr/>
          </p:nvGrpSpPr>
          <p:grpSpPr>
            <a:xfrm>
              <a:off x="1931760" y="2084400"/>
              <a:ext cx="542880" cy="542880"/>
              <a:chOff x="1931760" y="2084400"/>
              <a:chExt cx="542880" cy="542880"/>
            </a:xfrm>
          </p:grpSpPr>
          <p:pic>
            <p:nvPicPr>
              <p:cNvPr id="753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31760" y="2084400"/>
                <a:ext cx="541440" cy="5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1940760" y="2093400"/>
                <a:ext cx="53388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5" name="Text Box 7"/>
            <p:cNvSpPr/>
            <p:nvPr/>
          </p:nvSpPr>
          <p:spPr>
            <a:xfrm>
              <a:off x="1972080" y="23180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8"/>
            <p:cNvSpPr/>
            <p:nvPr/>
          </p:nvSpPr>
          <p:spPr>
            <a:xfrm>
              <a:off x="3092400" y="210672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7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758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941480" y="353700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3d4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Text Box 14"/>
            <p:cNvSpPr/>
            <p:nvPr/>
          </p:nvSpPr>
          <p:spPr>
            <a:xfrm>
              <a:off x="3092400" y="352584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3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764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1941480" y="499752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6cb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Text Box 20"/>
            <p:cNvSpPr/>
            <p:nvPr/>
          </p:nvSpPr>
          <p:spPr>
            <a:xfrm>
              <a:off x="3092400" y="49863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页脚占位符 20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52c8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2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773" name="Group 4"/>
            <p:cNvGrpSpPr/>
            <p:nvPr/>
          </p:nvGrpSpPr>
          <p:grpSpPr>
            <a:xfrm>
              <a:off x="2361960" y="1600200"/>
              <a:ext cx="4419360" cy="4376520"/>
              <a:chOff x="2361960" y="1600200"/>
              <a:chExt cx="4419360" cy="4376520"/>
            </a:xfrm>
          </p:grpSpPr>
          <p:sp>
            <p:nvSpPr>
              <p:cNvPr id="774" name="Puzzle3"/>
              <p:cNvSpPr/>
              <p:nvPr/>
            </p:nvSpPr>
            <p:spPr>
              <a:xfrm>
                <a:off x="4513680" y="160020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Puzzle2"/>
              <p:cNvSpPr/>
              <p:nvPr/>
            </p:nvSpPr>
            <p:spPr>
              <a:xfrm>
                <a:off x="4008960" y="3294720"/>
                <a:ext cx="2772360" cy="2119680"/>
              </a:xfrm>
              <a:prstGeom prst="pie">
                <a:avLst/>
              </a:pr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Puzzle4"/>
              <p:cNvSpPr/>
              <p:nvPr/>
            </p:nvSpPr>
            <p:spPr>
              <a:xfrm>
                <a:off x="2937240" y="326844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c3a6e3"/>
                  </a:gs>
                  <a:gs pos="100000">
                    <a:srgbClr val="8a52c8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Puzzle1"/>
              <p:cNvSpPr/>
              <p:nvPr/>
            </p:nvSpPr>
            <p:spPr>
              <a:xfrm>
                <a:off x="2361960" y="230364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5b3d26"/>
                  </a:gs>
                  <a:gs pos="100000">
                    <a:srgbClr val="c48352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8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Text Box 11"/>
            <p:cNvSpPr/>
            <p:nvPr/>
          </p:nvSpPr>
          <p:spPr>
            <a:xfrm>
              <a:off x="2590560" y="16765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页脚占位符 12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AutoShape 3"/>
          <p:cNvSpPr/>
          <p:nvPr/>
        </p:nvSpPr>
        <p:spPr>
          <a:xfrm>
            <a:off x="1143000" y="1981080"/>
            <a:ext cx="3833640" cy="3834000"/>
          </a:xfrm>
          <a:prstGeom prst="pie">
            <a:avLst/>
          </a:prstGeom>
          <a:gradFill rotWithShape="0">
            <a:gsLst>
              <a:gs pos="0">
                <a:srgbClr val="94cae8"/>
              </a:gs>
              <a:gs pos="50000">
                <a:srgbClr val="bedff1">
                  <a:alpha val="12156"/>
                </a:srgbClr>
              </a:gs>
              <a:gs pos="100000">
                <a:srgbClr val="94cae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4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cfe"/>
              </a:gs>
              <a:gs pos="100000">
                <a:srgbClr val="94cae8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4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9fcfe"/>
              </a:gs>
              <a:gs pos="100000">
                <a:srgbClr val="94cae8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5faf4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页脚占位符 10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4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795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796" name="AutoShape 5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AutoShape 6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AutoShape 7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8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800" name="AutoShape 9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AutoShape 11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3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5" name="Group 14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806" name="AutoShape 15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AutoShape 16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AutoShape 17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d440e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9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" name="Group 19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811" name="AutoShape 20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AutoShape 22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4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5" name="页脚占位符 23"/>
          <p:cNvSpPr/>
          <p:nvPr/>
        </p:nvSpPr>
        <p:spPr>
          <a:xfrm>
            <a:off x="3124080" y="655308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2:02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58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