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04F-8CFD-47FC-8CFF-33367BDC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AE70-CC50-48A1-A1A5-22886FDA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193-9740-4326-9C1E-8F66D603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BDB7-2AE0-48C0-94AB-541E39CC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8463-71A1-413B-9634-8DDD37A3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AC6B-0ECB-402E-88AF-89AA78B8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240F-5C19-4847-8C94-2293D550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18F3-E6C8-425D-A860-916AFFB2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CAA1-9088-443E-BFB5-D01F9A1A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5190-3BEB-45C2-8D78-CF99493C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F07A-8B04-42CD-8001-B2FD8076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D7E-247D-4DBA-8A55-49EBC0D8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DB8D-24B3-45A0-9CFA-B48BE9C5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6989-319A-470D-885A-4CCD237C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B341-4AEF-467D-B882-6BC10F47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8241-0DA4-4972-B0B6-4DF59450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3640-7AC5-463D-8792-B51DF550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F14-2402-4414-AE0A-13ECD626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19B-E2C5-40A2-8905-593BFD82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074-A256-4AA3-8BA1-0899E713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51D-7185-4869-A4C7-AFAFE0C7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C180-6815-4542-961C-EFC80811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10A-DD66-4FA9-A043-DDF22387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7B05-F327-4A54-A15C-2171BD43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6E43-D33E-4076-81EE-773D94FD0CE8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058D-F31C-45DC-BED2-3D46C9A348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未标题-1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79280" y="4149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25400" y="61596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商务应聘求职简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2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3"/>
          <p:cNvPicPr/>
          <p:nvPr/>
        </p:nvPicPr>
        <p:blipFill>
          <a:blip r:embed="rId1"/>
          <a:stretch/>
        </p:blipFill>
        <p:spPr>
          <a:xfrm>
            <a:off x="-15840" y="-1908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2133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4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4E3-33A4-4DD4-8AE7-F487C2536F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5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57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