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CE1-6FF9-423B-9864-94FC5143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468-76D0-4C7D-9667-9810CD5B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009-1D98-4493-87D2-BC6910EF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F78-4F13-4FE2-8046-693EE033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7A9C4-0776-4AE1-9149-29C69E6619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CD86E-245A-4771-9806-5DBF2113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0B345-B184-4660-8C64-E0C7E1D6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59AC9-67F1-40CE-B045-4A3AEA27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A95B5-2C9C-456A-8992-620AF8C9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75E9F-0732-493A-9ED9-7A72A3E8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6CF49-10C5-4BC9-A212-F4D6365A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58B-7A0E-4F63-86A0-D77083F7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C78A5-3BBD-42FB-B8F5-15D4F07F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A8BB4-A5FD-4F49-A255-A523F23D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104B0-1E43-43A7-8108-32860CB0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41A21-156E-417A-AD02-55D1D8C3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C8078-6861-446C-A72B-9E7F86F9D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7D69C6-2ADC-4CF8-953F-AA0F65400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B11BD-B98B-4B7F-A222-9089EF83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80EC0-F4AE-48AE-9AC4-820EDC7F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E86D8-55AF-47AF-BC06-2B4B1D92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99FF79-5695-4FD6-B5A6-BFE49189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AA6-A16B-4BA2-BCAB-065B0B62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E8C31-C904-482C-9BD7-E72DAF0D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37300-1192-4358-9447-28CFD6AB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E7C3C1-3A4E-4847-B8BC-D24541C7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91E17-E4A8-4B58-B717-102FD9AF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8294F8-FD6F-4234-AFC9-1DAEB727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69360-1FDC-4E32-9ACF-CA3617C9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20FBB-3D3D-4847-A5BB-0C77ECE06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CE8-4549-467E-99E9-A307C2E4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4D4-73D5-4B88-B1D5-A0DF45BE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E3D-BBE7-4C5F-849C-FAFE346D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80B-2FBF-4D57-B6A2-554192A3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EDF-35E3-4B6C-A6F4-EBEAEC12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EB9-58DE-4BC1-92A1-2213B21F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4907-D202-403A-A4A7-C51BCE08F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2866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9F84-F796-428F-93BA-C8D4F7E45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285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1256-C31D-4D45-8C1A-B74173A37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8000" y="980640"/>
            <a:ext cx="856944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武汉大学物流管理论文答辩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36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上凸带形 9"/>
          <p:cNvSpPr/>
          <p:nvPr/>
        </p:nvSpPr>
        <p:spPr>
          <a:xfrm>
            <a:off x="7358040" y="571680"/>
            <a:ext cx="642960" cy="214200"/>
          </a:xfrm>
          <a:custGeom>
            <a:avLst/>
            <a:gdLst>
              <a:gd name="textAreaLeft" fmla="*/ 160560 w 642960"/>
              <a:gd name="textAreaRight" fmla="*/ 482400 w 642960"/>
              <a:gd name="textAreaTop" fmla="*/ 0 h 214200"/>
              <a:gd name="textAreaBottom" fmla="*/ 178560 h 2142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9cde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2781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FD8CD-622B-4129-9A44-146E86990F12}" type="slidenum">
              <a:t>5</a:t>
            </a:fld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上凸带形 4"/>
          <p:cNvSpPr/>
          <p:nvPr/>
        </p:nvSpPr>
        <p:spPr>
          <a:xfrm>
            <a:off x="7429680" y="571680"/>
            <a:ext cx="500040" cy="214200"/>
          </a:xfrm>
          <a:custGeom>
            <a:avLst/>
            <a:gdLst>
              <a:gd name="textAreaLeft" fmla="*/ 124920 w 500040"/>
              <a:gd name="textAreaRight" fmla="*/ 375120 w 500040"/>
              <a:gd name="textAreaTop" fmla="*/ 0 h 214200"/>
              <a:gd name="textAreaBottom" fmla="*/ 178560 h 2142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9cde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34:15Z</dcterms:created>
  <dc:creator>幻灯片之家：www.eeppt.com</dc:creator>
  <dc:description>幻灯片之家：www.eeppt.com</dc:description>
  <cp:keywords>幻灯片之家：www.eeppt.com</cp:keywords>
  <dc:language>en-US</dc:language>
  <cp:lastModifiedBy>雨林木风</cp:lastModifiedBy>
  <dcterms:modified xsi:type="dcterms:W3CDTF">2015-08-12T14:35:46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