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36F-B6DA-4DE6-B702-D5EF0544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D10-1EF9-48CE-B866-61740C63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D8D-609B-4D00-80B3-8942F664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F92-FEB4-4422-9C75-DA8DEE0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D40-EED6-46EF-B6F8-DC946D3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3F0-FA57-40D6-910C-D00C819C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AA6-8708-4B87-B197-5EF869FE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86E-E67B-4A76-BD19-955333B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DEC-B5FC-4024-9388-30C0A8A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2AC-1D76-40F0-9BE7-575A411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48E-197D-46BE-BB66-B996EB5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C64-1C89-47A1-B243-17D354E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3D8F-5550-4550-B2AB-9B3EBD18DA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00A-4F55-4955-A599-0DB89B2607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924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 Unicode MS"/>
                <a:ea typeface="微软雅黑"/>
              </a:rPr>
              <a:t>愚人节快乐！</a:t>
            </a:r>
            <a:endParaRPr b="0" lang="en-US" sz="48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91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8560" y="331920"/>
            <a:ext cx="60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愚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13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CDC-884B-4988-AE0E-A42E5D43D9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 Unicode MS"/>
                <a:ea typeface="Arial Unicode MS"/>
              </a:rPr>
              <a:t>Thank you!</a:t>
            </a:r>
            <a:endParaRPr b="0" lang="en-US" sz="2800" spc="-1" strike="noStrike">
              <a:solidFill>
                <a:srgbClr val="cc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6:00Z</dcterms:created>
  <dc:creator>幻灯片之家：www.eeppt.com</dc:creator>
  <dc:description>幻灯片之家：www.eeppt.com</dc:description>
  <cp:keywords>幻灯片之家：www.eeppt.com</cp:keywords>
  <dc:language>en-US</dc:language>
  <cp:lastModifiedBy>Administrator</cp:lastModifiedBy>
  <dcterms:modified xsi:type="dcterms:W3CDTF">2015-08-12T14:33:46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