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63D-97B5-4BD7-B572-1B998A06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9C8-F730-4EB9-9FF3-167F6E87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806-54A6-4ED7-9691-ECC8ACA6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1DF-6144-469B-977B-F1F05FFE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BED-E97A-41E2-BFAC-B75FC6EE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A9F-6040-4FFC-9D44-01541903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141-BB91-4ADA-8969-AF2E4C22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C84-DF74-4596-B698-CD586499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9D5-9231-4B91-92CD-268F8880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63A-B934-4745-8193-DA147F79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2A5-0838-4433-B40F-99CD604B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C6E-2BCB-4687-ADEE-3864D1F7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单圆角矩形 8"/>
          <p:cNvSpPr/>
          <p:nvPr/>
        </p:nvSpPr>
        <p:spPr>
          <a:xfrm flipV="1">
            <a:off x="8172360" y="4800600"/>
            <a:ext cx="863640" cy="7920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单圆角矩形 9"/>
          <p:cNvSpPr/>
          <p:nvPr/>
        </p:nvSpPr>
        <p:spPr>
          <a:xfrm>
            <a:off x="8172360" y="120600"/>
            <a:ext cx="863640" cy="4680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A4B4-A9CD-4FD7-9799-3030D2F5ADA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6B78-9F60-47DB-9ADC-E890D3158E64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8320" y="735120"/>
            <a:ext cx="76629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新东方述职报告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4756680" y="46576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9"/>
          <p:cNvSpPr/>
          <p:nvPr/>
        </p:nvSpPr>
        <p:spPr>
          <a:xfrm>
            <a:off x="6813720" y="46864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直接连接符 11"/>
          <p:cNvSpPr/>
          <p:nvPr/>
        </p:nvSpPr>
        <p:spPr>
          <a:xfrm>
            <a:off x="7772400" y="46864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4718160" y="3289320"/>
            <a:ext cx="4273560" cy="155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5080" y="5224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单圆角矩形 12"/>
          <p:cNvSpPr/>
          <p:nvPr/>
        </p:nvSpPr>
        <p:spPr>
          <a:xfrm flipH="1" flipV="1">
            <a:off x="249840" y="3001320"/>
            <a:ext cx="7777080" cy="19429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70000" y="880920"/>
            <a:ext cx="7758000" cy="19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C6D-1612-4D74-9D91-6E014891BF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2"/>
          <a:stretch/>
        </p:blipFill>
        <p:spPr>
          <a:xfrm>
            <a:off x="0" y="677880"/>
            <a:ext cx="3419640" cy="1630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2809800" y="1940040"/>
            <a:ext cx="3524400" cy="1833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4"/>
          <a:stretch/>
        </p:blipFill>
        <p:spPr>
          <a:xfrm>
            <a:off x="5275440" y="3311640"/>
            <a:ext cx="3525840" cy="1806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AE9-5078-4C5F-B64B-5560742E29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图表 6"/>
          <p:cNvSpPr/>
          <p:nvPr/>
        </p:nvSpPr>
        <p:spPr>
          <a:xfrm>
            <a:off x="0" y="520560"/>
            <a:ext cx="9144000" cy="435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485-F831-4101-9708-107F54DD38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图表 4"/>
          <p:cNvSpPr/>
          <p:nvPr/>
        </p:nvSpPr>
        <p:spPr>
          <a:xfrm>
            <a:off x="0" y="336600"/>
            <a:ext cx="9136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DA4-D782-4FD5-83C3-9E4D399529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评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图表 3"/>
          <p:cNvSpPr/>
          <p:nvPr/>
        </p:nvSpPr>
        <p:spPr>
          <a:xfrm>
            <a:off x="0" y="336600"/>
            <a:ext cx="91360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C61-8569-4781-84A8-4A7969647D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入司欢迎仪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1"/>
          <p:cNvSpPr/>
          <p:nvPr/>
        </p:nvSpPr>
        <p:spPr>
          <a:xfrm>
            <a:off x="250920" y="91296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滞后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方式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管指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见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进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访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场跟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-33480" y="1057320"/>
            <a:ext cx="9141120" cy="38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06C-96C1-456F-B63C-F09ABA1FFD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晋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1"/>
          <p:cNvSpPr/>
          <p:nvPr/>
        </p:nvSpPr>
        <p:spPr>
          <a:xfrm>
            <a:off x="250920" y="822240"/>
            <a:ext cx="323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嘉宾分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职培训板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 rot="699000">
            <a:off x="4447800" y="547560"/>
            <a:ext cx="3774960" cy="486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693-1C43-4C2D-AFE5-EBE5846061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0560" y="3001680"/>
            <a:ext cx="7777080" cy="1942920"/>
            <a:chOff x="250560" y="3001680"/>
            <a:chExt cx="7777080" cy="1942920"/>
          </a:xfrm>
        </p:grpSpPr>
        <p:sp>
          <p:nvSpPr>
            <p:cNvPr id="133" name="单圆角矩形 12"/>
            <p:cNvSpPr/>
            <p:nvPr/>
          </p:nvSpPr>
          <p:spPr>
            <a:xfrm flipH="1" flipV="1">
              <a:off x="249840" y="3001320"/>
              <a:ext cx="7777080" cy="19429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14"/>
            <p:cNvSpPr/>
            <p:nvPr/>
          </p:nvSpPr>
          <p:spPr>
            <a:xfrm>
              <a:off x="269640" y="3106440"/>
              <a:ext cx="3238560" cy="366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271440" y="865080"/>
            <a:ext cx="7685280" cy="166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ACE-6C71-4652-8F88-08A444C848FC}" type="slidenum">
              <a:t>17</a:t>
            </a:fld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-163080" y="30996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职场</a:t>
            </a: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24000" y="944640"/>
            <a:ext cx="53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介绍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型组织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身优势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|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富生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39840" y="1917720"/>
            <a:ext cx="769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期：春秋两季，每季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长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：教师委员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：详见文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157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C00-484A-41CC-8953-A3E8DCFDA5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50560" y="3001680"/>
            <a:ext cx="7777080" cy="1942920"/>
            <a:chOff x="250560" y="3001680"/>
            <a:chExt cx="7777080" cy="1942920"/>
          </a:xfrm>
        </p:grpSpPr>
        <p:sp>
          <p:nvSpPr>
            <p:cNvPr id="144" name="单圆角矩形 12"/>
            <p:cNvSpPr/>
            <p:nvPr/>
          </p:nvSpPr>
          <p:spPr>
            <a:xfrm flipH="1" flipV="1">
              <a:off x="249840" y="3001320"/>
              <a:ext cx="7777080" cy="19429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4"/>
            <p:cNvSpPr/>
            <p:nvPr/>
          </p:nvSpPr>
          <p:spPr>
            <a:xfrm>
              <a:off x="269640" y="3106440"/>
              <a:ext cx="3238560" cy="366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2"/>
          <a:stretch/>
        </p:blipFill>
        <p:spPr>
          <a:xfrm>
            <a:off x="264960" y="880920"/>
            <a:ext cx="7685280" cy="18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FA1-0DDC-481F-A1CF-C100896E1CEA}" type="slidenum">
              <a:t>19</a:t>
            </a:fld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421600" y="2496960"/>
            <a:ext cx="2558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717960" y="25225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7017840" y="179280"/>
            <a:ext cx="21913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5421600" y="2496960"/>
            <a:ext cx="2558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6717960" y="25225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84B-F0B7-4148-B815-A470CF6F691C}" type="slidenum">
              <a:t>20</a:t>
            </a:fld>
          </a:p>
        </p:txBody>
      </p:sp>
    </p:spTree>
  </p:cSld>
  <p:transition spd="slow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单圆角矩形 12"/>
          <p:cNvSpPr/>
          <p:nvPr/>
        </p:nvSpPr>
        <p:spPr>
          <a:xfrm flipH="1" flipV="1">
            <a:off x="249840" y="3001320"/>
            <a:ext cx="7777080" cy="19429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活动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季旅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2"/>
          <a:stretch/>
        </p:blipFill>
        <p:spPr>
          <a:xfrm>
            <a:off x="268200" y="1057320"/>
            <a:ext cx="7759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7017840" y="179280"/>
            <a:ext cx="21913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421600" y="2496960"/>
            <a:ext cx="2558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6717960" y="25225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26C-BE89-48A5-9A90-E9AD4E4BA26B}" type="slidenum">
              <a:t>22</a:t>
            </a:fld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336600"/>
            <a:ext cx="323856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1FD-A625-4DBF-9A6C-8FDBAC96DA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71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1B3-8688-4D0E-83B8-A2A3750EC4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7017840" y="179280"/>
            <a:ext cx="21913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421600" y="2496960"/>
            <a:ext cx="2558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6717960" y="25225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D77-916E-4B99-BD6E-835EC21E089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单圆角矩形 16"/>
          <p:cNvSpPr/>
          <p:nvPr/>
        </p:nvSpPr>
        <p:spPr>
          <a:xfrm flipH="1" flipV="1">
            <a:off x="3923640" y="3217320"/>
            <a:ext cx="4173480" cy="172692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单圆角矩形 3"/>
          <p:cNvSpPr/>
          <p:nvPr/>
        </p:nvSpPr>
        <p:spPr>
          <a:xfrm flipH="1">
            <a:off x="141120" y="120600"/>
            <a:ext cx="7956720" cy="2664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2484360" y="4176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介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1" descr=""/>
          <p:cNvPicPr/>
          <p:nvPr/>
        </p:nvPicPr>
        <p:blipFill>
          <a:blip r:embed="rId2"/>
          <a:stretch/>
        </p:blipFill>
        <p:spPr>
          <a:xfrm>
            <a:off x="250920" y="264960"/>
            <a:ext cx="1946160" cy="241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64" name=""/>
          <p:cNvGrpSpPr/>
          <p:nvPr/>
        </p:nvGrpSpPr>
        <p:grpSpPr>
          <a:xfrm>
            <a:off x="2227320" y="985680"/>
            <a:ext cx="5657760" cy="2016360"/>
            <a:chOff x="2227320" y="985680"/>
            <a:chExt cx="5657760" cy="2016360"/>
          </a:xfrm>
        </p:grpSpPr>
        <p:sp>
          <p:nvSpPr>
            <p:cNvPr id="65" name="圆角矩形 9"/>
            <p:cNvSpPr/>
            <p:nvPr/>
          </p:nvSpPr>
          <p:spPr>
            <a:xfrm>
              <a:off x="2408040" y="985680"/>
              <a:ext cx="5477040" cy="2016360"/>
            </a:xfrm>
            <a:prstGeom prst="roundRect">
              <a:avLst>
                <a:gd name="adj" fmla="val 7056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6200000">
              <a:off x="2168280" y="1389960"/>
              <a:ext cx="360360" cy="242640"/>
            </a:xfrm>
            <a:prstGeom prst="triangle">
              <a:avLst>
                <a:gd name="adj" fmla="val 50000"/>
              </a:avLst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矩形 10"/>
          <p:cNvSpPr/>
          <p:nvPr/>
        </p:nvSpPr>
        <p:spPr>
          <a:xfrm>
            <a:off x="2484360" y="1128600"/>
            <a:ext cx="5381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刘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岛新东方人力资源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专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-639360" y="314496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179280" y="3578400"/>
            <a:ext cx="3672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-0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1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学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|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学教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3206880" y="3424320"/>
            <a:ext cx="24973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接阶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4106880" y="3936960"/>
            <a:ext cx="3672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-08-16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至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-08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3"/>
          <p:cNvSpPr/>
          <p:nvPr/>
        </p:nvSpPr>
        <p:spPr>
          <a:xfrm>
            <a:off x="204840" y="901800"/>
            <a:ext cx="5437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企业发展情况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订和执行企业、人员培训计划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善和监督执行企业的培训制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内部培训师队伍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实施培训，管理培训人员材料并建立培训档案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跟踪培训计划执行情况，培训后续效果的评估和反馈工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9280" y="431640"/>
            <a:ext cx="5835600" cy="636840"/>
            <a:chOff x="179280" y="431640"/>
            <a:chExt cx="5835600" cy="636840"/>
          </a:xfrm>
        </p:grpSpPr>
        <p:sp>
          <p:nvSpPr>
            <p:cNvPr id="74" name="Rectangle 14"/>
            <p:cNvSpPr/>
            <p:nvPr/>
          </p:nvSpPr>
          <p:spPr>
            <a:xfrm>
              <a:off x="429840" y="556560"/>
              <a:ext cx="558504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14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培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单圆角矩形 13"/>
            <p:cNvSpPr/>
            <p:nvPr/>
          </p:nvSpPr>
          <p:spPr>
            <a:xfrm>
              <a:off x="179280" y="431640"/>
              <a:ext cx="144360" cy="6368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27160" y="2703600"/>
            <a:ext cx="5929200" cy="647640"/>
            <a:chOff x="227160" y="2703600"/>
            <a:chExt cx="5929200" cy="647640"/>
          </a:xfrm>
        </p:grpSpPr>
        <p:sp>
          <p:nvSpPr>
            <p:cNvPr id="77" name="Rectangle 15"/>
            <p:cNvSpPr/>
            <p:nvPr/>
          </p:nvSpPr>
          <p:spPr>
            <a:xfrm>
              <a:off x="468360" y="2703600"/>
              <a:ext cx="56880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14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团队建设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单圆角矩形 14"/>
            <p:cNvSpPr/>
            <p:nvPr/>
          </p:nvSpPr>
          <p:spPr>
            <a:xfrm>
              <a:off x="227160" y="2712960"/>
              <a:ext cx="144360" cy="6382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Rectangle 13"/>
          <p:cNvSpPr/>
          <p:nvPr/>
        </p:nvSpPr>
        <p:spPr>
          <a:xfrm>
            <a:off x="203040" y="3336840"/>
            <a:ext cx="5435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助参与学校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组织的团队活动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正向的企业价值观，宣扬新东方文化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级交办的其他工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46E-3FD3-4DF0-92D9-E258C1688E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7017840" y="179280"/>
            <a:ext cx="21913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421600" y="2496960"/>
            <a:ext cx="2558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6717960" y="25225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167-1DA5-4ACC-8C6D-9328EB017CE7}" type="slidenum">
              <a:t>6</a:t>
            </a:fld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3"/>
          <p:cNvSpPr/>
          <p:nvPr/>
        </p:nvSpPr>
        <p:spPr>
          <a:xfrm>
            <a:off x="395280" y="1371600"/>
            <a:ext cx="557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554040"/>
            <a:ext cx="5940360" cy="690480"/>
            <a:chOff x="179280" y="554040"/>
            <a:chExt cx="5940360" cy="690480"/>
          </a:xfrm>
        </p:grpSpPr>
        <p:sp>
          <p:nvSpPr>
            <p:cNvPr id="88" name="TextBox 8"/>
            <p:cNvSpPr/>
            <p:nvPr/>
          </p:nvSpPr>
          <p:spPr>
            <a:xfrm>
              <a:off x="363240" y="554040"/>
              <a:ext cx="57564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14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试用期考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单圆角矩形 11"/>
            <p:cNvSpPr/>
            <p:nvPr/>
          </p:nvSpPr>
          <p:spPr>
            <a:xfrm>
              <a:off x="179280" y="607680"/>
              <a:ext cx="144360" cy="6368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195640" y="3260880"/>
            <a:ext cx="5317920" cy="637920"/>
            <a:chOff x="2195640" y="3260880"/>
            <a:chExt cx="5317920" cy="637920"/>
          </a:xfrm>
        </p:grpSpPr>
        <p:sp>
          <p:nvSpPr>
            <p:cNvPr id="91" name="Rectangle 10"/>
            <p:cNvSpPr/>
            <p:nvPr/>
          </p:nvSpPr>
          <p:spPr>
            <a:xfrm>
              <a:off x="2411280" y="3402000"/>
              <a:ext cx="510228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14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新员工入职培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单圆角矩形 12"/>
            <p:cNvSpPr/>
            <p:nvPr/>
          </p:nvSpPr>
          <p:spPr>
            <a:xfrm>
              <a:off x="2195640" y="3260880"/>
              <a:ext cx="144360" cy="6379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3"/>
          <p:cNvSpPr/>
          <p:nvPr/>
        </p:nvSpPr>
        <p:spPr>
          <a:xfrm>
            <a:off x="2270160" y="4081320"/>
            <a:ext cx="557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-08-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2"/>
          <a:stretch/>
        </p:blipFill>
        <p:spPr>
          <a:xfrm>
            <a:off x="179280" y="3086280"/>
            <a:ext cx="1898640" cy="151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5508720" y="246240"/>
            <a:ext cx="31208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7017840" y="179280"/>
            <a:ext cx="21913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讯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单圆角矩形 4"/>
          <p:cNvSpPr/>
          <p:nvPr/>
        </p:nvSpPr>
        <p:spPr>
          <a:xfrm flipV="1">
            <a:off x="4610160" y="226080"/>
            <a:ext cx="4357800" cy="53067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单圆角矩形 5"/>
          <p:cNvSpPr/>
          <p:nvPr/>
        </p:nvSpPr>
        <p:spPr>
          <a:xfrm flipH="1">
            <a:off x="3967920" y="961920"/>
            <a:ext cx="3816360" cy="12636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3995640" y="1577880"/>
            <a:ext cx="144720" cy="647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5421600" y="2496960"/>
            <a:ext cx="2558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6717960" y="25225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6B8-9FEA-42B0-B005-B6DB6D6B0CDA}" type="slidenum">
              <a:t>8</a:t>
            </a:fld>
          </a:p>
        </p:txBody>
      </p:sp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单圆角矩形 12"/>
          <p:cNvSpPr/>
          <p:nvPr/>
        </p:nvSpPr>
        <p:spPr>
          <a:xfrm flipH="1" flipV="1">
            <a:off x="249840" y="3001320"/>
            <a:ext cx="7777080" cy="19429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76040" y="480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财年培训计划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5280" y="357840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入职培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场英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70000" y="3106800"/>
            <a:ext cx="323820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介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250920" y="912960"/>
            <a:ext cx="75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70000" y="880920"/>
            <a:ext cx="775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0:45:00Z</dcterms:created>
  <dc:creator>幻灯片之家：www.eeppt.com</dc:creator>
  <dc:description>幻灯片之家：www.eeppt.com</dc:description>
  <cp:keywords>幻灯片之家：www.eeppt.com</cp:keywords>
  <dc:language>en-US</dc:language>
  <cp:lastModifiedBy>刘晓峰</cp:lastModifiedBy>
  <dcterms:modified xsi:type="dcterms:W3CDTF">2015-08-12T14:35:43Z</dcterms:modified>
  <cp:revision>7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