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82FF-0891-4ADC-B424-5166C6CA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5078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39B3-241D-4C48-92DC-27A3D63E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4010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D82-3BC9-4734-B5E1-C019F631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5928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661360" y="8366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05928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5661360" y="3507840"/>
            <a:ext cx="24778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2633-793C-4B8C-B506-FA8777F0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1DEC-1B84-49C0-BE92-70E2967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AF41-0402-4053-AF8B-200CC03C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9BF-D16B-42BF-B570-0BA75803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5BB-68B2-49EE-9E7E-B4C37A6B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117000"/>
            <a:ext cx="6059520" cy="127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203D-D1A9-4385-B51C-3E06E7E6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7F8E-0E31-4231-94EA-0432AA1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401000" y="35078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201-7DEA-4118-AC53-729E529F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480"/>
            <a:ext cx="6059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1000" y="836640"/>
            <a:ext cx="375552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507840"/>
            <a:ext cx="7696080" cy="24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12D2-63FB-48C3-A12E-EDFFA2F9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008760"/>
            <a:ext cx="9144000" cy="8492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005520"/>
            <a:ext cx="9144000" cy="28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111111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1541160" y="6244920"/>
            <a:ext cx="1368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2987640" y="624492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CF1-DFF4-4758-B651-FCF23202642F}" type="slidenum">
              <a:rPr b="0" lang="en-GB" sz="14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body"/>
          </p:nvPr>
        </p:nvSpPr>
        <p:spPr>
          <a:xfrm>
            <a:off x="457200" y="83664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Freeform 214"/>
          <p:cNvSpPr/>
          <p:nvPr/>
        </p:nvSpPr>
        <p:spPr>
          <a:xfrm rot="16200000">
            <a:off x="7265160" y="92880"/>
            <a:ext cx="552240" cy="550800"/>
          </a:xfrm>
          <a:custGeom>
            <a:avLst/>
            <a:gdLst/>
            <a:ahLst/>
            <a:rect l="l" t="t" r="r" b="b"/>
            <a:pathLst>
              <a:path w="258" h="258">
                <a:moveTo>
                  <a:pt x="170" y="7"/>
                </a:moveTo>
                <a:cubicBezTo>
                  <a:pt x="157" y="3"/>
                  <a:pt x="143" y="0"/>
                  <a:pt x="129" y="0"/>
                </a:cubicBezTo>
                <a:cubicBezTo>
                  <a:pt x="57" y="0"/>
                  <a:pt x="0" y="58"/>
                  <a:pt x="0" y="129"/>
                </a:cubicBezTo>
                <a:cubicBezTo>
                  <a:pt x="0" y="164"/>
                  <a:pt x="13" y="195"/>
                  <a:pt x="35" y="218"/>
                </a:cubicBezTo>
                <a:cubicBezTo>
                  <a:pt x="37" y="220"/>
                  <a:pt x="40" y="223"/>
                  <a:pt x="42" y="225"/>
                </a:cubicBezTo>
                <a:cubicBezTo>
                  <a:pt x="45" y="228"/>
                  <a:pt x="49" y="230"/>
                  <a:pt x="52" y="233"/>
                </a:cubicBezTo>
                <a:cubicBezTo>
                  <a:pt x="74" y="249"/>
                  <a:pt x="100" y="258"/>
                  <a:pt x="129" y="258"/>
                </a:cubicBezTo>
                <a:cubicBezTo>
                  <a:pt x="200" y="258"/>
                  <a:pt x="258" y="200"/>
                  <a:pt x="258" y="129"/>
                </a:cubicBezTo>
                <a:cubicBezTo>
                  <a:pt x="258" y="80"/>
                  <a:pt x="231" y="38"/>
                  <a:pt x="191" y="16"/>
                </a:cubicBezTo>
                <a:cubicBezTo>
                  <a:pt x="187" y="14"/>
                  <a:pt x="184" y="12"/>
                  <a:pt x="180" y="11"/>
                </a:cubicBezTo>
                <a:cubicBezTo>
                  <a:pt x="177" y="9"/>
                  <a:pt x="174" y="8"/>
                  <a:pt x="170" y="7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7e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215"/>
          <p:cNvSpPr/>
          <p:nvPr/>
        </p:nvSpPr>
        <p:spPr>
          <a:xfrm>
            <a:off x="7348680" y="201600"/>
            <a:ext cx="385560" cy="333360"/>
          </a:xfrm>
          <a:custGeom>
            <a:avLst/>
            <a:gdLst/>
            <a:ahLst/>
            <a:rect l="l" t="t" r="r" b="b"/>
            <a:pathLst>
              <a:path w="1448" h="1262">
                <a:moveTo>
                  <a:pt x="1386" y="1156"/>
                </a:moveTo>
                <a:lnTo>
                  <a:pt x="106" y="1156"/>
                </a:lnTo>
                <a:lnTo>
                  <a:pt x="106" y="52"/>
                </a:lnTo>
                <a:lnTo>
                  <a:pt x="106" y="52"/>
                </a:lnTo>
                <a:lnTo>
                  <a:pt x="104" y="42"/>
                </a:lnTo>
                <a:lnTo>
                  <a:pt x="102" y="32"/>
                </a:lnTo>
                <a:lnTo>
                  <a:pt x="96" y="24"/>
                </a:lnTo>
                <a:lnTo>
                  <a:pt x="90" y="16"/>
                </a:lnTo>
                <a:lnTo>
                  <a:pt x="82" y="8"/>
                </a:lnTo>
                <a:lnTo>
                  <a:pt x="74" y="4"/>
                </a:lnTo>
                <a:lnTo>
                  <a:pt x="64" y="0"/>
                </a:lnTo>
                <a:lnTo>
                  <a:pt x="52" y="0"/>
                </a:lnTo>
                <a:lnTo>
                  <a:pt x="52" y="0"/>
                </a:lnTo>
                <a:lnTo>
                  <a:pt x="42" y="0"/>
                </a:lnTo>
                <a:lnTo>
                  <a:pt x="32" y="4"/>
                </a:lnTo>
                <a:lnTo>
                  <a:pt x="22" y="8"/>
                </a:lnTo>
                <a:lnTo>
                  <a:pt x="14" y="16"/>
                </a:lnTo>
                <a:lnTo>
                  <a:pt x="8" y="24"/>
                </a:lnTo>
                <a:lnTo>
                  <a:pt x="4" y="32"/>
                </a:lnTo>
                <a:lnTo>
                  <a:pt x="0" y="42"/>
                </a:lnTo>
                <a:lnTo>
                  <a:pt x="0" y="52"/>
                </a:lnTo>
                <a:lnTo>
                  <a:pt x="0" y="1208"/>
                </a:lnTo>
                <a:lnTo>
                  <a:pt x="0" y="1208"/>
                </a:lnTo>
                <a:lnTo>
                  <a:pt x="0" y="1220"/>
                </a:lnTo>
                <a:lnTo>
                  <a:pt x="4" y="1230"/>
                </a:lnTo>
                <a:lnTo>
                  <a:pt x="8" y="1238"/>
                </a:lnTo>
                <a:lnTo>
                  <a:pt x="14" y="1246"/>
                </a:lnTo>
                <a:lnTo>
                  <a:pt x="22" y="1252"/>
                </a:lnTo>
                <a:lnTo>
                  <a:pt x="32" y="1258"/>
                </a:lnTo>
                <a:lnTo>
                  <a:pt x="42" y="1260"/>
                </a:lnTo>
                <a:lnTo>
                  <a:pt x="52" y="1262"/>
                </a:lnTo>
                <a:lnTo>
                  <a:pt x="52" y="1262"/>
                </a:lnTo>
                <a:lnTo>
                  <a:pt x="56" y="1262"/>
                </a:lnTo>
                <a:lnTo>
                  <a:pt x="56" y="1262"/>
                </a:lnTo>
                <a:lnTo>
                  <a:pt x="60" y="1262"/>
                </a:lnTo>
                <a:lnTo>
                  <a:pt x="1386" y="1262"/>
                </a:lnTo>
                <a:lnTo>
                  <a:pt x="1386" y="1262"/>
                </a:lnTo>
                <a:lnTo>
                  <a:pt x="1398" y="1260"/>
                </a:lnTo>
                <a:lnTo>
                  <a:pt x="1410" y="1258"/>
                </a:lnTo>
                <a:lnTo>
                  <a:pt x="1420" y="1252"/>
                </a:lnTo>
                <a:lnTo>
                  <a:pt x="1430" y="1246"/>
                </a:lnTo>
                <a:lnTo>
                  <a:pt x="1438" y="1238"/>
                </a:lnTo>
                <a:lnTo>
                  <a:pt x="1442" y="1230"/>
                </a:lnTo>
                <a:lnTo>
                  <a:pt x="1446" y="1220"/>
                </a:lnTo>
                <a:lnTo>
                  <a:pt x="1448" y="1208"/>
                </a:lnTo>
                <a:lnTo>
                  <a:pt x="1448" y="1208"/>
                </a:lnTo>
                <a:lnTo>
                  <a:pt x="1446" y="1198"/>
                </a:lnTo>
                <a:lnTo>
                  <a:pt x="1442" y="1188"/>
                </a:lnTo>
                <a:lnTo>
                  <a:pt x="1438" y="1178"/>
                </a:lnTo>
                <a:lnTo>
                  <a:pt x="1430" y="1170"/>
                </a:lnTo>
                <a:lnTo>
                  <a:pt x="1420" y="1164"/>
                </a:lnTo>
                <a:lnTo>
                  <a:pt x="1410" y="1160"/>
                </a:lnTo>
                <a:lnTo>
                  <a:pt x="1398" y="1156"/>
                </a:lnTo>
                <a:lnTo>
                  <a:pt x="1386" y="1156"/>
                </a:lnTo>
                <a:lnTo>
                  <a:pt x="1386" y="11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7385040" y="258120"/>
            <a:ext cx="335880" cy="238680"/>
            <a:chOff x="7385040" y="258120"/>
            <a:chExt cx="335880" cy="238680"/>
          </a:xfrm>
        </p:grpSpPr>
        <p:sp>
          <p:nvSpPr>
            <p:cNvPr id="12" name="Freeform 217"/>
            <p:cNvSpPr/>
            <p:nvPr/>
          </p:nvSpPr>
          <p:spPr>
            <a:xfrm rot="705000">
              <a:off x="7638840" y="264600"/>
              <a:ext cx="74520" cy="77760"/>
            </a:xfrm>
            <a:custGeom>
              <a:avLst/>
              <a:gdLst/>
              <a:ahLst/>
              <a:rect l="l" t="t" r="r" b="b"/>
              <a:pathLst>
                <a:path w="280" h="292">
                  <a:moveTo>
                    <a:pt x="278" y="6"/>
                  </a:moveTo>
                  <a:lnTo>
                    <a:pt x="278" y="6"/>
                  </a:lnTo>
                  <a:lnTo>
                    <a:pt x="274" y="2"/>
                  </a:lnTo>
                  <a:lnTo>
                    <a:pt x="268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0" y="2"/>
                  </a:lnTo>
                  <a:lnTo>
                    <a:pt x="136" y="4"/>
                  </a:lnTo>
                  <a:lnTo>
                    <a:pt x="134" y="8"/>
                  </a:lnTo>
                  <a:lnTo>
                    <a:pt x="132" y="14"/>
                  </a:lnTo>
                  <a:lnTo>
                    <a:pt x="132" y="14"/>
                  </a:lnTo>
                  <a:lnTo>
                    <a:pt x="134" y="18"/>
                  </a:lnTo>
                  <a:lnTo>
                    <a:pt x="136" y="22"/>
                  </a:lnTo>
                  <a:lnTo>
                    <a:pt x="136" y="22"/>
                  </a:lnTo>
                  <a:lnTo>
                    <a:pt x="140" y="28"/>
                  </a:lnTo>
                  <a:lnTo>
                    <a:pt x="186" y="74"/>
                  </a:lnTo>
                  <a:lnTo>
                    <a:pt x="186" y="74"/>
                  </a:lnTo>
                  <a:lnTo>
                    <a:pt x="186" y="74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4"/>
                  </a:lnTo>
                  <a:lnTo>
                    <a:pt x="2" y="276"/>
                  </a:lnTo>
                  <a:lnTo>
                    <a:pt x="8" y="284"/>
                  </a:lnTo>
                  <a:lnTo>
                    <a:pt x="8" y="284"/>
                  </a:lnTo>
                  <a:lnTo>
                    <a:pt x="16" y="290"/>
                  </a:lnTo>
                  <a:lnTo>
                    <a:pt x="20" y="292"/>
                  </a:lnTo>
                  <a:lnTo>
                    <a:pt x="22" y="290"/>
                  </a:lnTo>
                  <a:lnTo>
                    <a:pt x="206" y="94"/>
                  </a:lnTo>
                  <a:lnTo>
                    <a:pt x="252" y="140"/>
                  </a:lnTo>
                  <a:lnTo>
                    <a:pt x="252" y="140"/>
                  </a:lnTo>
                  <a:lnTo>
                    <a:pt x="258" y="144"/>
                  </a:lnTo>
                  <a:lnTo>
                    <a:pt x="258" y="144"/>
                  </a:lnTo>
                  <a:lnTo>
                    <a:pt x="262" y="148"/>
                  </a:lnTo>
                  <a:lnTo>
                    <a:pt x="268" y="148"/>
                  </a:lnTo>
                  <a:lnTo>
                    <a:pt x="268" y="148"/>
                  </a:lnTo>
                  <a:lnTo>
                    <a:pt x="272" y="148"/>
                  </a:lnTo>
                  <a:lnTo>
                    <a:pt x="276" y="144"/>
                  </a:lnTo>
                  <a:lnTo>
                    <a:pt x="280" y="140"/>
                  </a:lnTo>
                  <a:lnTo>
                    <a:pt x="280" y="134"/>
                  </a:lnTo>
                  <a:lnTo>
                    <a:pt x="280" y="14"/>
                  </a:lnTo>
                  <a:lnTo>
                    <a:pt x="280" y="14"/>
                  </a:lnTo>
                  <a:lnTo>
                    <a:pt x="280" y="10"/>
                  </a:lnTo>
                  <a:lnTo>
                    <a:pt x="278" y="6"/>
                  </a:lnTo>
                  <a:lnTo>
                    <a:pt x="2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Line 218"/>
            <p:cNvSpPr/>
            <p:nvPr/>
          </p:nvSpPr>
          <p:spPr>
            <a:xfrm flipV="1">
              <a:off x="7385040" y="280800"/>
              <a:ext cx="328680" cy="216000"/>
            </a:xfrm>
            <a:prstGeom prst="line">
              <a:avLst/>
            </a:prstGeom>
            <a:ln w="1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Freeform 69"/>
          <p:cNvSpPr/>
          <p:nvPr/>
        </p:nvSpPr>
        <p:spPr>
          <a:xfrm rot="16200000">
            <a:off x="6698160" y="24480"/>
            <a:ext cx="2470320" cy="2421000"/>
          </a:xfrm>
          <a:custGeom>
            <a:avLst/>
            <a:gdLst/>
            <a:ahLst/>
            <a:rect l="l" t="t" r="r" b="b"/>
            <a:pathLst>
              <a:path w="989" h="971">
                <a:moveTo>
                  <a:pt x="969" y="325"/>
                </a:moveTo>
                <a:cubicBezTo>
                  <a:pt x="969" y="396"/>
                  <a:pt x="911" y="454"/>
                  <a:pt x="840" y="454"/>
                </a:cubicBezTo>
                <a:cubicBezTo>
                  <a:pt x="811" y="454"/>
                  <a:pt x="785" y="445"/>
                  <a:pt x="763" y="429"/>
                </a:cubicBezTo>
                <a:cubicBezTo>
                  <a:pt x="742" y="456"/>
                  <a:pt x="720" y="482"/>
                  <a:pt x="698" y="507"/>
                </a:cubicBezTo>
                <a:cubicBezTo>
                  <a:pt x="725" y="531"/>
                  <a:pt x="741" y="565"/>
                  <a:pt x="741" y="604"/>
                </a:cubicBezTo>
                <a:cubicBezTo>
                  <a:pt x="741" y="675"/>
                  <a:pt x="683" y="733"/>
                  <a:pt x="612" y="733"/>
                </a:cubicBezTo>
                <a:cubicBezTo>
                  <a:pt x="571" y="733"/>
                  <a:pt x="534" y="713"/>
                  <a:pt x="510" y="683"/>
                </a:cubicBezTo>
                <a:cubicBezTo>
                  <a:pt x="484" y="705"/>
                  <a:pt x="457" y="725"/>
                  <a:pt x="430" y="744"/>
                </a:cubicBezTo>
                <a:cubicBezTo>
                  <a:pt x="447" y="765"/>
                  <a:pt x="456" y="792"/>
                  <a:pt x="456" y="821"/>
                </a:cubicBezTo>
                <a:cubicBezTo>
                  <a:pt x="456" y="892"/>
                  <a:pt x="399" y="950"/>
                  <a:pt x="327" y="950"/>
                </a:cubicBezTo>
                <a:cubicBezTo>
                  <a:pt x="276" y="950"/>
                  <a:pt x="232" y="921"/>
                  <a:pt x="211" y="878"/>
                </a:cubicBezTo>
                <a:cubicBezTo>
                  <a:pt x="124" y="923"/>
                  <a:pt x="50" y="953"/>
                  <a:pt x="0" y="971"/>
                </a:cubicBezTo>
                <a:cubicBezTo>
                  <a:pt x="989" y="971"/>
                  <a:pt x="989" y="971"/>
                  <a:pt x="989" y="971"/>
                </a:cubicBezTo>
                <a:cubicBezTo>
                  <a:pt x="989" y="0"/>
                  <a:pt x="989" y="0"/>
                  <a:pt x="989" y="0"/>
                </a:cubicBezTo>
                <a:cubicBezTo>
                  <a:pt x="965" y="76"/>
                  <a:pt x="936" y="146"/>
                  <a:pt x="902" y="212"/>
                </a:cubicBezTo>
                <a:cubicBezTo>
                  <a:pt x="942" y="234"/>
                  <a:pt x="969" y="276"/>
                  <a:pt x="969" y="325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70"/>
          <p:cNvSpPr/>
          <p:nvPr/>
        </p:nvSpPr>
        <p:spPr>
          <a:xfrm rot="16200000">
            <a:off x="6748200" y="-222120"/>
            <a:ext cx="268560" cy="716040"/>
          </a:xfrm>
          <a:custGeom>
            <a:avLst/>
            <a:gdLst/>
            <a:ahLst/>
            <a:rect l="l" t="t" r="r" b="b"/>
            <a:pathLst>
              <a:path w="108" h="287">
                <a:moveTo>
                  <a:pt x="108" y="38"/>
                </a:moveTo>
                <a:cubicBezTo>
                  <a:pt x="108" y="0"/>
                  <a:pt x="108" y="0"/>
                  <a:pt x="108" y="0"/>
                </a:cubicBezTo>
                <a:cubicBezTo>
                  <a:pt x="82" y="104"/>
                  <a:pt x="45" y="198"/>
                  <a:pt x="0" y="283"/>
                </a:cubicBezTo>
                <a:cubicBezTo>
                  <a:pt x="4" y="284"/>
                  <a:pt x="7" y="285"/>
                  <a:pt x="10" y="287"/>
                </a:cubicBezTo>
                <a:cubicBezTo>
                  <a:pt x="49" y="211"/>
                  <a:pt x="83" y="128"/>
                  <a:pt x="108" y="38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71"/>
          <p:cNvSpPr/>
          <p:nvPr/>
        </p:nvSpPr>
        <p:spPr>
          <a:xfrm rot="16200000">
            <a:off x="8659080" y="2156400"/>
            <a:ext cx="685800" cy="284040"/>
          </a:xfrm>
          <a:custGeom>
            <a:avLst/>
            <a:gdLst/>
            <a:ahLst/>
            <a:rect l="l" t="t" r="r" b="b"/>
            <a:pathLst>
              <a:path w="275" h="114">
                <a:moveTo>
                  <a:pt x="0" y="114"/>
                </a:moveTo>
                <a:cubicBezTo>
                  <a:pt x="33" y="114"/>
                  <a:pt x="33" y="114"/>
                  <a:pt x="33" y="114"/>
                </a:cubicBezTo>
                <a:cubicBezTo>
                  <a:pt x="78" y="99"/>
                  <a:pt x="167" y="66"/>
                  <a:pt x="275" y="10"/>
                </a:cubicBezTo>
                <a:cubicBezTo>
                  <a:pt x="274" y="7"/>
                  <a:pt x="273" y="3"/>
                  <a:pt x="272" y="0"/>
                </a:cubicBezTo>
                <a:cubicBezTo>
                  <a:pt x="128" y="75"/>
                  <a:pt x="18" y="109"/>
                  <a:pt x="0" y="114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958160" y="657000"/>
            <a:ext cx="549360" cy="554040"/>
            <a:chOff x="7958160" y="657000"/>
            <a:chExt cx="549360" cy="554040"/>
          </a:xfrm>
        </p:grpSpPr>
        <p:sp>
          <p:nvSpPr>
            <p:cNvPr id="18" name="Freeform 73"/>
            <p:cNvSpPr/>
            <p:nvPr/>
          </p:nvSpPr>
          <p:spPr>
            <a:xfrm rot="16200000">
              <a:off x="7955640" y="659160"/>
              <a:ext cx="554040" cy="549360"/>
            </a:xfrm>
            <a:custGeom>
              <a:avLst/>
              <a:gdLst/>
              <a:ahLst/>
              <a:rect l="l" t="t" r="r" b="b"/>
              <a:pathLst>
                <a:path w="258" h="258">
                  <a:moveTo>
                    <a:pt x="170" y="7"/>
                  </a:moveTo>
                  <a:cubicBezTo>
                    <a:pt x="157" y="3"/>
                    <a:pt x="143" y="0"/>
                    <a:pt x="129" y="0"/>
                  </a:cubicBezTo>
                  <a:cubicBezTo>
                    <a:pt x="57" y="0"/>
                    <a:pt x="0" y="58"/>
                    <a:pt x="0" y="129"/>
                  </a:cubicBezTo>
                  <a:cubicBezTo>
                    <a:pt x="0" y="164"/>
                    <a:pt x="13" y="195"/>
                    <a:pt x="35" y="218"/>
                  </a:cubicBezTo>
                  <a:cubicBezTo>
                    <a:pt x="37" y="220"/>
                    <a:pt x="40" y="223"/>
                    <a:pt x="42" y="225"/>
                  </a:cubicBezTo>
                  <a:cubicBezTo>
                    <a:pt x="45" y="228"/>
                    <a:pt x="49" y="230"/>
                    <a:pt x="52" y="233"/>
                  </a:cubicBezTo>
                  <a:cubicBezTo>
                    <a:pt x="74" y="249"/>
                    <a:pt x="100" y="258"/>
                    <a:pt x="129" y="258"/>
                  </a:cubicBezTo>
                  <a:cubicBezTo>
                    <a:pt x="200" y="258"/>
                    <a:pt x="258" y="200"/>
                    <a:pt x="258" y="129"/>
                  </a:cubicBezTo>
                  <a:cubicBezTo>
                    <a:pt x="258" y="80"/>
                    <a:pt x="231" y="38"/>
                    <a:pt x="191" y="16"/>
                  </a:cubicBezTo>
                  <a:cubicBezTo>
                    <a:pt x="187" y="14"/>
                    <a:pt x="184" y="12"/>
                    <a:pt x="180" y="11"/>
                  </a:cubicBezTo>
                  <a:cubicBezTo>
                    <a:pt x="177" y="9"/>
                    <a:pt x="174" y="8"/>
                    <a:pt x="17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7ed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" name=""/>
            <p:cNvGrpSpPr/>
            <p:nvPr/>
          </p:nvGrpSpPr>
          <p:grpSpPr>
            <a:xfrm>
              <a:off x="7972920" y="768600"/>
              <a:ext cx="519120" cy="441360"/>
              <a:chOff x="7972920" y="768600"/>
              <a:chExt cx="519120" cy="441360"/>
            </a:xfrm>
          </p:grpSpPr>
          <p:sp>
            <p:nvSpPr>
              <p:cNvPr id="20" name="Freeform 75"/>
              <p:cNvSpPr/>
              <p:nvPr/>
            </p:nvSpPr>
            <p:spPr>
              <a:xfrm>
                <a:off x="8215560" y="1098000"/>
                <a:ext cx="1080" cy="7920"/>
              </a:xfrm>
              <a:custGeom>
                <a:avLst/>
                <a:gdLst/>
                <a:ahLst/>
                <a:rect l="l" t="t" r="r" b="b"/>
                <a:pathLst>
                  <a:path w="4" h="29">
                    <a:moveTo>
                      <a:pt x="1" y="3"/>
                    </a:moveTo>
                    <a:lnTo>
                      <a:pt x="1" y="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3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12121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76"/>
              <p:cNvSpPr/>
              <p:nvPr/>
            </p:nvSpPr>
            <p:spPr>
              <a:xfrm>
                <a:off x="8119440" y="768600"/>
                <a:ext cx="197640" cy="441360"/>
              </a:xfrm>
              <a:custGeom>
                <a:avLst/>
                <a:gdLst/>
                <a:ahLst/>
                <a:rect l="l" t="t" r="r" b="b"/>
                <a:pathLst>
                  <a:path w="685" h="1512">
                    <a:moveTo>
                      <a:pt x="681" y="674"/>
                    </a:moveTo>
                    <a:lnTo>
                      <a:pt x="681" y="674"/>
                    </a:lnTo>
                    <a:lnTo>
                      <a:pt x="672" y="658"/>
                    </a:lnTo>
                    <a:lnTo>
                      <a:pt x="672" y="658"/>
                    </a:lnTo>
                    <a:lnTo>
                      <a:pt x="662" y="645"/>
                    </a:lnTo>
                    <a:lnTo>
                      <a:pt x="662" y="645"/>
                    </a:lnTo>
                    <a:lnTo>
                      <a:pt x="650" y="632"/>
                    </a:lnTo>
                    <a:lnTo>
                      <a:pt x="650" y="632"/>
                    </a:lnTo>
                    <a:lnTo>
                      <a:pt x="635" y="621"/>
                    </a:lnTo>
                    <a:lnTo>
                      <a:pt x="635" y="621"/>
                    </a:lnTo>
                    <a:lnTo>
                      <a:pt x="622" y="612"/>
                    </a:lnTo>
                    <a:lnTo>
                      <a:pt x="622" y="612"/>
                    </a:lnTo>
                    <a:lnTo>
                      <a:pt x="609" y="603"/>
                    </a:lnTo>
                    <a:lnTo>
                      <a:pt x="609" y="603"/>
                    </a:lnTo>
                    <a:lnTo>
                      <a:pt x="598" y="595"/>
                    </a:lnTo>
                    <a:lnTo>
                      <a:pt x="598" y="595"/>
                    </a:lnTo>
                    <a:lnTo>
                      <a:pt x="584" y="588"/>
                    </a:lnTo>
                    <a:lnTo>
                      <a:pt x="584" y="588"/>
                    </a:lnTo>
                    <a:lnTo>
                      <a:pt x="570" y="581"/>
                    </a:lnTo>
                    <a:lnTo>
                      <a:pt x="570" y="581"/>
                    </a:lnTo>
                    <a:lnTo>
                      <a:pt x="558" y="577"/>
                    </a:lnTo>
                    <a:lnTo>
                      <a:pt x="558" y="577"/>
                    </a:lnTo>
                    <a:lnTo>
                      <a:pt x="548" y="573"/>
                    </a:lnTo>
                    <a:lnTo>
                      <a:pt x="548" y="573"/>
                    </a:lnTo>
                    <a:lnTo>
                      <a:pt x="534" y="567"/>
                    </a:lnTo>
                    <a:lnTo>
                      <a:pt x="534" y="567"/>
                    </a:lnTo>
                    <a:lnTo>
                      <a:pt x="524" y="564"/>
                    </a:lnTo>
                    <a:lnTo>
                      <a:pt x="524" y="564"/>
                    </a:lnTo>
                    <a:lnTo>
                      <a:pt x="514" y="559"/>
                    </a:lnTo>
                    <a:lnTo>
                      <a:pt x="514" y="559"/>
                    </a:lnTo>
                    <a:lnTo>
                      <a:pt x="504" y="553"/>
                    </a:lnTo>
                    <a:lnTo>
                      <a:pt x="504" y="553"/>
                    </a:lnTo>
                    <a:lnTo>
                      <a:pt x="492" y="546"/>
                    </a:lnTo>
                    <a:lnTo>
                      <a:pt x="492" y="546"/>
                    </a:lnTo>
                    <a:lnTo>
                      <a:pt x="482" y="540"/>
                    </a:lnTo>
                    <a:lnTo>
                      <a:pt x="482" y="540"/>
                    </a:lnTo>
                    <a:lnTo>
                      <a:pt x="472" y="535"/>
                    </a:lnTo>
                    <a:lnTo>
                      <a:pt x="472" y="535"/>
                    </a:lnTo>
                    <a:lnTo>
                      <a:pt x="463" y="530"/>
                    </a:lnTo>
                    <a:lnTo>
                      <a:pt x="463" y="530"/>
                    </a:lnTo>
                    <a:lnTo>
                      <a:pt x="455" y="526"/>
                    </a:lnTo>
                    <a:lnTo>
                      <a:pt x="455" y="526"/>
                    </a:lnTo>
                    <a:lnTo>
                      <a:pt x="448" y="522"/>
                    </a:lnTo>
                    <a:lnTo>
                      <a:pt x="448" y="522"/>
                    </a:lnTo>
                    <a:lnTo>
                      <a:pt x="441" y="516"/>
                    </a:lnTo>
                    <a:lnTo>
                      <a:pt x="441" y="516"/>
                    </a:lnTo>
                    <a:lnTo>
                      <a:pt x="434" y="511"/>
                    </a:lnTo>
                    <a:lnTo>
                      <a:pt x="434" y="511"/>
                    </a:lnTo>
                    <a:lnTo>
                      <a:pt x="429" y="504"/>
                    </a:lnTo>
                    <a:lnTo>
                      <a:pt x="429" y="504"/>
                    </a:lnTo>
                    <a:lnTo>
                      <a:pt x="426" y="495"/>
                    </a:lnTo>
                    <a:lnTo>
                      <a:pt x="426" y="495"/>
                    </a:lnTo>
                    <a:lnTo>
                      <a:pt x="424" y="487"/>
                    </a:lnTo>
                    <a:lnTo>
                      <a:pt x="424" y="487"/>
                    </a:lnTo>
                    <a:lnTo>
                      <a:pt x="424" y="479"/>
                    </a:lnTo>
                    <a:lnTo>
                      <a:pt x="424" y="479"/>
                    </a:lnTo>
                    <a:lnTo>
                      <a:pt x="424" y="472"/>
                    </a:lnTo>
                    <a:lnTo>
                      <a:pt x="424" y="472"/>
                    </a:lnTo>
                    <a:lnTo>
                      <a:pt x="424" y="464"/>
                    </a:lnTo>
                    <a:lnTo>
                      <a:pt x="424" y="464"/>
                    </a:lnTo>
                    <a:lnTo>
                      <a:pt x="424" y="458"/>
                    </a:lnTo>
                    <a:lnTo>
                      <a:pt x="424" y="458"/>
                    </a:lnTo>
                    <a:lnTo>
                      <a:pt x="424" y="449"/>
                    </a:lnTo>
                    <a:lnTo>
                      <a:pt x="424" y="449"/>
                    </a:lnTo>
                    <a:lnTo>
                      <a:pt x="424" y="441"/>
                    </a:lnTo>
                    <a:lnTo>
                      <a:pt x="424" y="441"/>
                    </a:lnTo>
                    <a:lnTo>
                      <a:pt x="425" y="433"/>
                    </a:lnTo>
                    <a:lnTo>
                      <a:pt x="425" y="433"/>
                    </a:lnTo>
                    <a:lnTo>
                      <a:pt x="425" y="425"/>
                    </a:lnTo>
                    <a:lnTo>
                      <a:pt x="425" y="425"/>
                    </a:lnTo>
                    <a:lnTo>
                      <a:pt x="425" y="418"/>
                    </a:lnTo>
                    <a:lnTo>
                      <a:pt x="425" y="418"/>
                    </a:lnTo>
                    <a:lnTo>
                      <a:pt x="426" y="410"/>
                    </a:lnTo>
                    <a:lnTo>
                      <a:pt x="426" y="410"/>
                    </a:lnTo>
                    <a:lnTo>
                      <a:pt x="429" y="405"/>
                    </a:lnTo>
                    <a:lnTo>
                      <a:pt x="429" y="405"/>
                    </a:lnTo>
                    <a:lnTo>
                      <a:pt x="432" y="400"/>
                    </a:lnTo>
                    <a:lnTo>
                      <a:pt x="432" y="400"/>
                    </a:lnTo>
                    <a:lnTo>
                      <a:pt x="437" y="395"/>
                    </a:lnTo>
                    <a:lnTo>
                      <a:pt x="437" y="395"/>
                    </a:lnTo>
                    <a:lnTo>
                      <a:pt x="442" y="388"/>
                    </a:lnTo>
                    <a:lnTo>
                      <a:pt x="442" y="388"/>
                    </a:lnTo>
                    <a:lnTo>
                      <a:pt x="448" y="382"/>
                    </a:lnTo>
                    <a:lnTo>
                      <a:pt x="448" y="382"/>
                    </a:lnTo>
                    <a:lnTo>
                      <a:pt x="453" y="374"/>
                    </a:lnTo>
                    <a:lnTo>
                      <a:pt x="453" y="374"/>
                    </a:lnTo>
                    <a:lnTo>
                      <a:pt x="456" y="367"/>
                    </a:lnTo>
                    <a:lnTo>
                      <a:pt x="456" y="367"/>
                    </a:lnTo>
                    <a:lnTo>
                      <a:pt x="460" y="360"/>
                    </a:lnTo>
                    <a:lnTo>
                      <a:pt x="460" y="360"/>
                    </a:lnTo>
                    <a:lnTo>
                      <a:pt x="462" y="351"/>
                    </a:lnTo>
                    <a:lnTo>
                      <a:pt x="462" y="351"/>
                    </a:lnTo>
                    <a:lnTo>
                      <a:pt x="465" y="342"/>
                    </a:lnTo>
                    <a:lnTo>
                      <a:pt x="465" y="342"/>
                    </a:lnTo>
                    <a:lnTo>
                      <a:pt x="466" y="336"/>
                    </a:lnTo>
                    <a:lnTo>
                      <a:pt x="466" y="336"/>
                    </a:lnTo>
                    <a:lnTo>
                      <a:pt x="467" y="329"/>
                    </a:lnTo>
                    <a:lnTo>
                      <a:pt x="467" y="329"/>
                    </a:lnTo>
                    <a:lnTo>
                      <a:pt x="468" y="320"/>
                    </a:lnTo>
                    <a:lnTo>
                      <a:pt x="468" y="320"/>
                    </a:lnTo>
                    <a:lnTo>
                      <a:pt x="468" y="312"/>
                    </a:lnTo>
                    <a:lnTo>
                      <a:pt x="468" y="312"/>
                    </a:lnTo>
                    <a:lnTo>
                      <a:pt x="468" y="303"/>
                    </a:lnTo>
                    <a:lnTo>
                      <a:pt x="468" y="303"/>
                    </a:lnTo>
                    <a:lnTo>
                      <a:pt x="468" y="297"/>
                    </a:lnTo>
                    <a:lnTo>
                      <a:pt x="468" y="297"/>
                    </a:lnTo>
                    <a:lnTo>
                      <a:pt x="468" y="291"/>
                    </a:lnTo>
                    <a:lnTo>
                      <a:pt x="468" y="291"/>
                    </a:lnTo>
                    <a:lnTo>
                      <a:pt x="468" y="282"/>
                    </a:lnTo>
                    <a:lnTo>
                      <a:pt x="468" y="282"/>
                    </a:lnTo>
                    <a:lnTo>
                      <a:pt x="469" y="271"/>
                    </a:lnTo>
                    <a:lnTo>
                      <a:pt x="469" y="271"/>
                    </a:lnTo>
                    <a:lnTo>
                      <a:pt x="468" y="263"/>
                    </a:lnTo>
                    <a:lnTo>
                      <a:pt x="468" y="263"/>
                    </a:lnTo>
                    <a:lnTo>
                      <a:pt x="468" y="255"/>
                    </a:lnTo>
                    <a:lnTo>
                      <a:pt x="468" y="255"/>
                    </a:lnTo>
                    <a:lnTo>
                      <a:pt x="467" y="247"/>
                    </a:lnTo>
                    <a:lnTo>
                      <a:pt x="467" y="247"/>
                    </a:lnTo>
                    <a:lnTo>
                      <a:pt x="466" y="240"/>
                    </a:lnTo>
                    <a:lnTo>
                      <a:pt x="466" y="240"/>
                    </a:lnTo>
                    <a:lnTo>
                      <a:pt x="467" y="231"/>
                    </a:lnTo>
                    <a:lnTo>
                      <a:pt x="467" y="231"/>
                    </a:lnTo>
                    <a:lnTo>
                      <a:pt x="467" y="222"/>
                    </a:lnTo>
                    <a:lnTo>
                      <a:pt x="467" y="222"/>
                    </a:lnTo>
                    <a:lnTo>
                      <a:pt x="466" y="212"/>
                    </a:lnTo>
                    <a:lnTo>
                      <a:pt x="466" y="212"/>
                    </a:lnTo>
                    <a:lnTo>
                      <a:pt x="468" y="203"/>
                    </a:lnTo>
                    <a:lnTo>
                      <a:pt x="468" y="203"/>
                    </a:lnTo>
                    <a:lnTo>
                      <a:pt x="467" y="194"/>
                    </a:lnTo>
                    <a:lnTo>
                      <a:pt x="467" y="194"/>
                    </a:lnTo>
                    <a:lnTo>
                      <a:pt x="467" y="187"/>
                    </a:lnTo>
                    <a:lnTo>
                      <a:pt x="467" y="187"/>
                    </a:lnTo>
                    <a:lnTo>
                      <a:pt x="466" y="178"/>
                    </a:lnTo>
                    <a:lnTo>
                      <a:pt x="466" y="178"/>
                    </a:lnTo>
                    <a:lnTo>
                      <a:pt x="466" y="171"/>
                    </a:lnTo>
                    <a:lnTo>
                      <a:pt x="466" y="171"/>
                    </a:lnTo>
                    <a:lnTo>
                      <a:pt x="465" y="161"/>
                    </a:lnTo>
                    <a:lnTo>
                      <a:pt x="465" y="161"/>
                    </a:lnTo>
                    <a:lnTo>
                      <a:pt x="464" y="153"/>
                    </a:lnTo>
                    <a:lnTo>
                      <a:pt x="464" y="153"/>
                    </a:lnTo>
                    <a:lnTo>
                      <a:pt x="463" y="143"/>
                    </a:lnTo>
                    <a:lnTo>
                      <a:pt x="463" y="143"/>
                    </a:lnTo>
                    <a:lnTo>
                      <a:pt x="463" y="134"/>
                    </a:lnTo>
                    <a:lnTo>
                      <a:pt x="463" y="134"/>
                    </a:lnTo>
                    <a:lnTo>
                      <a:pt x="462" y="128"/>
                    </a:lnTo>
                    <a:lnTo>
                      <a:pt x="462" y="128"/>
                    </a:lnTo>
                    <a:lnTo>
                      <a:pt x="459" y="120"/>
                    </a:lnTo>
                    <a:lnTo>
                      <a:pt x="459" y="120"/>
                    </a:lnTo>
                    <a:lnTo>
                      <a:pt x="459" y="114"/>
                    </a:lnTo>
                    <a:lnTo>
                      <a:pt x="459" y="114"/>
                    </a:lnTo>
                    <a:lnTo>
                      <a:pt x="456" y="109"/>
                    </a:lnTo>
                    <a:lnTo>
                      <a:pt x="456" y="109"/>
                    </a:lnTo>
                    <a:lnTo>
                      <a:pt x="453" y="103"/>
                    </a:lnTo>
                    <a:lnTo>
                      <a:pt x="453" y="103"/>
                    </a:lnTo>
                    <a:lnTo>
                      <a:pt x="451" y="96"/>
                    </a:lnTo>
                    <a:lnTo>
                      <a:pt x="451" y="96"/>
                    </a:lnTo>
                    <a:lnTo>
                      <a:pt x="451" y="90"/>
                    </a:lnTo>
                    <a:lnTo>
                      <a:pt x="451" y="90"/>
                    </a:lnTo>
                    <a:lnTo>
                      <a:pt x="449" y="83"/>
                    </a:lnTo>
                    <a:lnTo>
                      <a:pt x="449" y="83"/>
                    </a:lnTo>
                    <a:lnTo>
                      <a:pt x="448" y="76"/>
                    </a:lnTo>
                    <a:lnTo>
                      <a:pt x="448" y="76"/>
                    </a:lnTo>
                    <a:lnTo>
                      <a:pt x="445" y="68"/>
                    </a:lnTo>
                    <a:lnTo>
                      <a:pt x="445" y="68"/>
                    </a:lnTo>
                    <a:lnTo>
                      <a:pt x="441" y="62"/>
                    </a:lnTo>
                    <a:lnTo>
                      <a:pt x="441" y="62"/>
                    </a:lnTo>
                    <a:lnTo>
                      <a:pt x="438" y="57"/>
                    </a:lnTo>
                    <a:lnTo>
                      <a:pt x="438" y="57"/>
                    </a:lnTo>
                    <a:lnTo>
                      <a:pt x="430" y="45"/>
                    </a:lnTo>
                    <a:lnTo>
                      <a:pt x="430" y="45"/>
                    </a:lnTo>
                    <a:lnTo>
                      <a:pt x="425" y="40"/>
                    </a:lnTo>
                    <a:lnTo>
                      <a:pt x="425" y="40"/>
                    </a:lnTo>
                    <a:lnTo>
                      <a:pt x="419" y="37"/>
                    </a:lnTo>
                    <a:lnTo>
                      <a:pt x="419" y="37"/>
                    </a:lnTo>
                    <a:lnTo>
                      <a:pt x="415" y="32"/>
                    </a:lnTo>
                    <a:lnTo>
                      <a:pt x="415" y="32"/>
                    </a:lnTo>
                    <a:lnTo>
                      <a:pt x="408" y="28"/>
                    </a:lnTo>
                    <a:lnTo>
                      <a:pt x="408" y="28"/>
                    </a:lnTo>
                    <a:lnTo>
                      <a:pt x="403" y="23"/>
                    </a:lnTo>
                    <a:lnTo>
                      <a:pt x="403" y="23"/>
                    </a:lnTo>
                    <a:lnTo>
                      <a:pt x="398" y="18"/>
                    </a:lnTo>
                    <a:lnTo>
                      <a:pt x="398" y="18"/>
                    </a:lnTo>
                    <a:lnTo>
                      <a:pt x="394" y="12"/>
                    </a:lnTo>
                    <a:lnTo>
                      <a:pt x="394" y="12"/>
                    </a:lnTo>
                    <a:lnTo>
                      <a:pt x="395" y="18"/>
                    </a:lnTo>
                    <a:lnTo>
                      <a:pt x="395" y="18"/>
                    </a:lnTo>
                    <a:lnTo>
                      <a:pt x="395" y="22"/>
                    </a:lnTo>
                    <a:lnTo>
                      <a:pt x="395" y="22"/>
                    </a:lnTo>
                    <a:lnTo>
                      <a:pt x="394" y="22"/>
                    </a:lnTo>
                    <a:lnTo>
                      <a:pt x="388" y="18"/>
                    </a:lnTo>
                    <a:lnTo>
                      <a:pt x="388" y="18"/>
                    </a:lnTo>
                    <a:lnTo>
                      <a:pt x="383" y="14"/>
                    </a:lnTo>
                    <a:lnTo>
                      <a:pt x="382" y="13"/>
                    </a:lnTo>
                    <a:lnTo>
                      <a:pt x="382" y="13"/>
                    </a:lnTo>
                    <a:lnTo>
                      <a:pt x="370" y="10"/>
                    </a:lnTo>
                    <a:lnTo>
                      <a:pt x="370" y="10"/>
                    </a:lnTo>
                    <a:lnTo>
                      <a:pt x="363" y="6"/>
                    </a:lnTo>
                    <a:lnTo>
                      <a:pt x="363" y="6"/>
                    </a:lnTo>
                    <a:lnTo>
                      <a:pt x="358" y="1"/>
                    </a:lnTo>
                    <a:lnTo>
                      <a:pt x="358" y="1"/>
                    </a:lnTo>
                    <a:lnTo>
                      <a:pt x="352" y="0"/>
                    </a:lnTo>
                    <a:lnTo>
                      <a:pt x="352" y="0"/>
                    </a:lnTo>
                    <a:lnTo>
                      <a:pt x="342" y="2"/>
                    </a:lnTo>
                    <a:lnTo>
                      <a:pt x="342" y="2"/>
                    </a:lnTo>
                    <a:lnTo>
                      <a:pt x="335" y="7"/>
                    </a:lnTo>
                    <a:lnTo>
                      <a:pt x="335" y="7"/>
                    </a:lnTo>
                    <a:lnTo>
                      <a:pt x="330" y="12"/>
                    </a:lnTo>
                    <a:lnTo>
                      <a:pt x="330" y="12"/>
                    </a:lnTo>
                    <a:lnTo>
                      <a:pt x="326" y="19"/>
                    </a:lnTo>
                    <a:lnTo>
                      <a:pt x="326" y="19"/>
                    </a:lnTo>
                    <a:lnTo>
                      <a:pt x="320" y="24"/>
                    </a:lnTo>
                    <a:lnTo>
                      <a:pt x="320" y="24"/>
                    </a:lnTo>
                    <a:lnTo>
                      <a:pt x="310" y="28"/>
                    </a:lnTo>
                    <a:lnTo>
                      <a:pt x="310" y="28"/>
                    </a:lnTo>
                    <a:lnTo>
                      <a:pt x="305" y="29"/>
                    </a:lnTo>
                    <a:lnTo>
                      <a:pt x="305" y="29"/>
                    </a:lnTo>
                    <a:lnTo>
                      <a:pt x="300" y="28"/>
                    </a:lnTo>
                    <a:lnTo>
                      <a:pt x="300" y="28"/>
                    </a:lnTo>
                    <a:lnTo>
                      <a:pt x="297" y="28"/>
                    </a:lnTo>
                    <a:lnTo>
                      <a:pt x="297" y="28"/>
                    </a:lnTo>
                    <a:lnTo>
                      <a:pt x="290" y="33"/>
                    </a:lnTo>
                    <a:lnTo>
                      <a:pt x="290" y="33"/>
                    </a:lnTo>
                    <a:lnTo>
                      <a:pt x="285" y="39"/>
                    </a:lnTo>
                    <a:lnTo>
                      <a:pt x="285" y="39"/>
                    </a:lnTo>
                    <a:lnTo>
                      <a:pt x="279" y="44"/>
                    </a:lnTo>
                    <a:lnTo>
                      <a:pt x="279" y="44"/>
                    </a:lnTo>
                    <a:lnTo>
                      <a:pt x="268" y="50"/>
                    </a:lnTo>
                    <a:lnTo>
                      <a:pt x="268" y="50"/>
                    </a:lnTo>
                    <a:lnTo>
                      <a:pt x="257" y="52"/>
                    </a:lnTo>
                    <a:lnTo>
                      <a:pt x="257" y="52"/>
                    </a:lnTo>
                    <a:lnTo>
                      <a:pt x="249" y="57"/>
                    </a:lnTo>
                    <a:lnTo>
                      <a:pt x="249" y="57"/>
                    </a:lnTo>
                    <a:lnTo>
                      <a:pt x="239" y="63"/>
                    </a:lnTo>
                    <a:lnTo>
                      <a:pt x="239" y="63"/>
                    </a:lnTo>
                    <a:lnTo>
                      <a:pt x="232" y="70"/>
                    </a:lnTo>
                    <a:lnTo>
                      <a:pt x="232" y="70"/>
                    </a:lnTo>
                    <a:lnTo>
                      <a:pt x="224" y="76"/>
                    </a:lnTo>
                    <a:lnTo>
                      <a:pt x="224" y="76"/>
                    </a:lnTo>
                    <a:lnTo>
                      <a:pt x="217" y="85"/>
                    </a:lnTo>
                    <a:lnTo>
                      <a:pt x="217" y="85"/>
                    </a:lnTo>
                    <a:lnTo>
                      <a:pt x="210" y="95"/>
                    </a:lnTo>
                    <a:lnTo>
                      <a:pt x="210" y="95"/>
                    </a:lnTo>
                    <a:lnTo>
                      <a:pt x="203" y="102"/>
                    </a:lnTo>
                    <a:lnTo>
                      <a:pt x="203" y="102"/>
                    </a:lnTo>
                    <a:lnTo>
                      <a:pt x="196" y="110"/>
                    </a:lnTo>
                    <a:lnTo>
                      <a:pt x="196" y="110"/>
                    </a:lnTo>
                    <a:lnTo>
                      <a:pt x="192" y="118"/>
                    </a:lnTo>
                    <a:lnTo>
                      <a:pt x="192" y="118"/>
                    </a:lnTo>
                    <a:lnTo>
                      <a:pt x="188" y="129"/>
                    </a:lnTo>
                    <a:lnTo>
                      <a:pt x="188" y="129"/>
                    </a:lnTo>
                    <a:lnTo>
                      <a:pt x="184" y="140"/>
                    </a:lnTo>
                    <a:lnTo>
                      <a:pt x="184" y="140"/>
                    </a:lnTo>
                    <a:lnTo>
                      <a:pt x="182" y="153"/>
                    </a:lnTo>
                    <a:lnTo>
                      <a:pt x="182" y="153"/>
                    </a:lnTo>
                    <a:lnTo>
                      <a:pt x="180" y="165"/>
                    </a:lnTo>
                    <a:lnTo>
                      <a:pt x="180" y="165"/>
                    </a:lnTo>
                    <a:lnTo>
                      <a:pt x="181" y="178"/>
                    </a:lnTo>
                    <a:lnTo>
                      <a:pt x="181" y="178"/>
                    </a:lnTo>
                    <a:lnTo>
                      <a:pt x="181" y="191"/>
                    </a:lnTo>
                    <a:lnTo>
                      <a:pt x="181" y="191"/>
                    </a:lnTo>
                    <a:lnTo>
                      <a:pt x="182" y="202"/>
                    </a:lnTo>
                    <a:lnTo>
                      <a:pt x="182" y="202"/>
                    </a:lnTo>
                    <a:lnTo>
                      <a:pt x="183" y="212"/>
                    </a:lnTo>
                    <a:lnTo>
                      <a:pt x="183" y="212"/>
                    </a:lnTo>
                    <a:lnTo>
                      <a:pt x="184" y="224"/>
                    </a:lnTo>
                    <a:lnTo>
                      <a:pt x="184" y="224"/>
                    </a:lnTo>
                    <a:lnTo>
                      <a:pt x="185" y="235"/>
                    </a:lnTo>
                    <a:lnTo>
                      <a:pt x="185" y="235"/>
                    </a:lnTo>
                    <a:lnTo>
                      <a:pt x="182" y="234"/>
                    </a:lnTo>
                    <a:lnTo>
                      <a:pt x="182" y="234"/>
                    </a:lnTo>
                    <a:lnTo>
                      <a:pt x="178" y="236"/>
                    </a:lnTo>
                    <a:lnTo>
                      <a:pt x="175" y="239"/>
                    </a:lnTo>
                    <a:lnTo>
                      <a:pt x="173" y="242"/>
                    </a:lnTo>
                    <a:lnTo>
                      <a:pt x="172" y="245"/>
                    </a:lnTo>
                    <a:lnTo>
                      <a:pt x="172" y="251"/>
                    </a:lnTo>
                    <a:lnTo>
                      <a:pt x="172" y="253"/>
                    </a:lnTo>
                    <a:lnTo>
                      <a:pt x="172" y="253"/>
                    </a:lnTo>
                    <a:lnTo>
                      <a:pt x="174" y="264"/>
                    </a:lnTo>
                    <a:lnTo>
                      <a:pt x="174" y="264"/>
                    </a:lnTo>
                    <a:lnTo>
                      <a:pt x="177" y="274"/>
                    </a:lnTo>
                    <a:lnTo>
                      <a:pt x="177" y="274"/>
                    </a:lnTo>
                    <a:lnTo>
                      <a:pt x="179" y="285"/>
                    </a:lnTo>
                    <a:lnTo>
                      <a:pt x="179" y="285"/>
                    </a:lnTo>
                    <a:lnTo>
                      <a:pt x="181" y="295"/>
                    </a:lnTo>
                    <a:lnTo>
                      <a:pt x="181" y="295"/>
                    </a:lnTo>
                    <a:lnTo>
                      <a:pt x="184" y="305"/>
                    </a:lnTo>
                    <a:lnTo>
                      <a:pt x="184" y="305"/>
                    </a:lnTo>
                    <a:lnTo>
                      <a:pt x="188" y="312"/>
                    </a:lnTo>
                    <a:lnTo>
                      <a:pt x="188" y="312"/>
                    </a:lnTo>
                    <a:lnTo>
                      <a:pt x="192" y="318"/>
                    </a:lnTo>
                    <a:lnTo>
                      <a:pt x="192" y="318"/>
                    </a:lnTo>
                    <a:lnTo>
                      <a:pt x="198" y="324"/>
                    </a:lnTo>
                    <a:lnTo>
                      <a:pt x="198" y="324"/>
                    </a:lnTo>
                    <a:lnTo>
                      <a:pt x="203" y="329"/>
                    </a:lnTo>
                    <a:lnTo>
                      <a:pt x="203" y="329"/>
                    </a:lnTo>
                    <a:lnTo>
                      <a:pt x="209" y="334"/>
                    </a:lnTo>
                    <a:lnTo>
                      <a:pt x="209" y="334"/>
                    </a:lnTo>
                    <a:lnTo>
                      <a:pt x="213" y="341"/>
                    </a:lnTo>
                    <a:lnTo>
                      <a:pt x="213" y="341"/>
                    </a:lnTo>
                    <a:lnTo>
                      <a:pt x="218" y="352"/>
                    </a:lnTo>
                    <a:lnTo>
                      <a:pt x="218" y="352"/>
                    </a:lnTo>
                    <a:lnTo>
                      <a:pt x="223" y="362"/>
                    </a:lnTo>
                    <a:lnTo>
                      <a:pt x="223" y="362"/>
                    </a:lnTo>
                    <a:lnTo>
                      <a:pt x="226" y="373"/>
                    </a:lnTo>
                    <a:lnTo>
                      <a:pt x="226" y="373"/>
                    </a:lnTo>
                    <a:lnTo>
                      <a:pt x="227" y="384"/>
                    </a:lnTo>
                    <a:lnTo>
                      <a:pt x="227" y="384"/>
                    </a:lnTo>
                    <a:lnTo>
                      <a:pt x="228" y="395"/>
                    </a:lnTo>
                    <a:lnTo>
                      <a:pt x="228" y="395"/>
                    </a:lnTo>
                    <a:lnTo>
                      <a:pt x="228" y="406"/>
                    </a:lnTo>
                    <a:lnTo>
                      <a:pt x="228" y="406"/>
                    </a:lnTo>
                    <a:lnTo>
                      <a:pt x="228" y="418"/>
                    </a:lnTo>
                    <a:lnTo>
                      <a:pt x="228" y="418"/>
                    </a:lnTo>
                    <a:lnTo>
                      <a:pt x="228" y="426"/>
                    </a:lnTo>
                    <a:lnTo>
                      <a:pt x="228" y="426"/>
                    </a:lnTo>
                    <a:lnTo>
                      <a:pt x="228" y="434"/>
                    </a:lnTo>
                    <a:lnTo>
                      <a:pt x="228" y="434"/>
                    </a:lnTo>
                    <a:lnTo>
                      <a:pt x="228" y="447"/>
                    </a:lnTo>
                    <a:lnTo>
                      <a:pt x="228" y="447"/>
                    </a:lnTo>
                    <a:lnTo>
                      <a:pt x="226" y="457"/>
                    </a:lnTo>
                    <a:lnTo>
                      <a:pt x="226" y="457"/>
                    </a:lnTo>
                    <a:lnTo>
                      <a:pt x="223" y="468"/>
                    </a:lnTo>
                    <a:lnTo>
                      <a:pt x="223" y="468"/>
                    </a:lnTo>
                    <a:lnTo>
                      <a:pt x="219" y="480"/>
                    </a:lnTo>
                    <a:lnTo>
                      <a:pt x="219" y="480"/>
                    </a:lnTo>
                    <a:lnTo>
                      <a:pt x="212" y="490"/>
                    </a:lnTo>
                    <a:lnTo>
                      <a:pt x="212" y="490"/>
                    </a:lnTo>
                    <a:lnTo>
                      <a:pt x="205" y="499"/>
                    </a:lnTo>
                    <a:lnTo>
                      <a:pt x="205" y="499"/>
                    </a:lnTo>
                    <a:lnTo>
                      <a:pt x="195" y="507"/>
                    </a:lnTo>
                    <a:lnTo>
                      <a:pt x="195" y="507"/>
                    </a:lnTo>
                    <a:lnTo>
                      <a:pt x="178" y="516"/>
                    </a:lnTo>
                    <a:lnTo>
                      <a:pt x="178" y="516"/>
                    </a:lnTo>
                    <a:lnTo>
                      <a:pt x="166" y="521"/>
                    </a:lnTo>
                    <a:lnTo>
                      <a:pt x="166" y="521"/>
                    </a:lnTo>
                    <a:lnTo>
                      <a:pt x="149" y="526"/>
                    </a:lnTo>
                    <a:lnTo>
                      <a:pt x="149" y="526"/>
                    </a:lnTo>
                    <a:lnTo>
                      <a:pt x="133" y="532"/>
                    </a:lnTo>
                    <a:lnTo>
                      <a:pt x="133" y="532"/>
                    </a:lnTo>
                    <a:lnTo>
                      <a:pt x="118" y="537"/>
                    </a:lnTo>
                    <a:lnTo>
                      <a:pt x="118" y="537"/>
                    </a:lnTo>
                    <a:lnTo>
                      <a:pt x="103" y="541"/>
                    </a:lnTo>
                    <a:lnTo>
                      <a:pt x="103" y="541"/>
                    </a:lnTo>
                    <a:lnTo>
                      <a:pt x="92" y="547"/>
                    </a:lnTo>
                    <a:lnTo>
                      <a:pt x="92" y="547"/>
                    </a:lnTo>
                    <a:lnTo>
                      <a:pt x="79" y="551"/>
                    </a:lnTo>
                    <a:lnTo>
                      <a:pt x="79" y="551"/>
                    </a:lnTo>
                    <a:lnTo>
                      <a:pt x="69" y="554"/>
                    </a:lnTo>
                    <a:lnTo>
                      <a:pt x="69" y="554"/>
                    </a:lnTo>
                    <a:lnTo>
                      <a:pt x="58" y="558"/>
                    </a:lnTo>
                    <a:lnTo>
                      <a:pt x="58" y="558"/>
                    </a:lnTo>
                    <a:lnTo>
                      <a:pt x="51" y="561"/>
                    </a:lnTo>
                    <a:lnTo>
                      <a:pt x="51" y="561"/>
                    </a:lnTo>
                    <a:lnTo>
                      <a:pt x="42" y="562"/>
                    </a:lnTo>
                    <a:lnTo>
                      <a:pt x="42" y="562"/>
                    </a:lnTo>
                    <a:lnTo>
                      <a:pt x="36" y="564"/>
                    </a:lnTo>
                    <a:lnTo>
                      <a:pt x="36" y="564"/>
                    </a:lnTo>
                    <a:lnTo>
                      <a:pt x="29" y="569"/>
                    </a:lnTo>
                    <a:lnTo>
                      <a:pt x="29" y="569"/>
                    </a:lnTo>
                    <a:lnTo>
                      <a:pt x="24" y="576"/>
                    </a:lnTo>
                    <a:lnTo>
                      <a:pt x="24" y="576"/>
                    </a:lnTo>
                    <a:lnTo>
                      <a:pt x="19" y="581"/>
                    </a:lnTo>
                    <a:lnTo>
                      <a:pt x="19" y="581"/>
                    </a:lnTo>
                    <a:lnTo>
                      <a:pt x="10" y="587"/>
                    </a:lnTo>
                    <a:lnTo>
                      <a:pt x="10" y="587"/>
                    </a:lnTo>
                    <a:lnTo>
                      <a:pt x="0" y="590"/>
                    </a:lnTo>
                    <a:lnTo>
                      <a:pt x="0" y="590"/>
                    </a:lnTo>
                    <a:lnTo>
                      <a:pt x="3" y="597"/>
                    </a:lnTo>
                    <a:lnTo>
                      <a:pt x="3" y="597"/>
                    </a:lnTo>
                    <a:lnTo>
                      <a:pt x="8" y="604"/>
                    </a:lnTo>
                    <a:lnTo>
                      <a:pt x="8" y="604"/>
                    </a:lnTo>
                    <a:lnTo>
                      <a:pt x="15" y="610"/>
                    </a:lnTo>
                    <a:lnTo>
                      <a:pt x="15" y="610"/>
                    </a:lnTo>
                    <a:lnTo>
                      <a:pt x="22" y="616"/>
                    </a:lnTo>
                    <a:lnTo>
                      <a:pt x="22" y="616"/>
                    </a:lnTo>
                    <a:lnTo>
                      <a:pt x="29" y="620"/>
                    </a:lnTo>
                    <a:lnTo>
                      <a:pt x="29" y="620"/>
                    </a:lnTo>
                    <a:lnTo>
                      <a:pt x="36" y="624"/>
                    </a:lnTo>
                    <a:lnTo>
                      <a:pt x="36" y="624"/>
                    </a:lnTo>
                    <a:lnTo>
                      <a:pt x="45" y="629"/>
                    </a:lnTo>
                    <a:lnTo>
                      <a:pt x="45" y="629"/>
                    </a:lnTo>
                    <a:lnTo>
                      <a:pt x="55" y="634"/>
                    </a:lnTo>
                    <a:lnTo>
                      <a:pt x="55" y="634"/>
                    </a:lnTo>
                    <a:lnTo>
                      <a:pt x="65" y="639"/>
                    </a:lnTo>
                    <a:lnTo>
                      <a:pt x="65" y="639"/>
                    </a:lnTo>
                    <a:lnTo>
                      <a:pt x="78" y="646"/>
                    </a:lnTo>
                    <a:lnTo>
                      <a:pt x="78" y="646"/>
                    </a:lnTo>
                    <a:lnTo>
                      <a:pt x="88" y="652"/>
                    </a:lnTo>
                    <a:lnTo>
                      <a:pt x="88" y="652"/>
                    </a:lnTo>
                    <a:lnTo>
                      <a:pt x="97" y="657"/>
                    </a:lnTo>
                    <a:lnTo>
                      <a:pt x="97" y="657"/>
                    </a:lnTo>
                    <a:lnTo>
                      <a:pt x="107" y="660"/>
                    </a:lnTo>
                    <a:lnTo>
                      <a:pt x="107" y="660"/>
                    </a:lnTo>
                    <a:lnTo>
                      <a:pt x="121" y="666"/>
                    </a:lnTo>
                    <a:lnTo>
                      <a:pt x="121" y="666"/>
                    </a:lnTo>
                    <a:lnTo>
                      <a:pt x="131" y="670"/>
                    </a:lnTo>
                    <a:lnTo>
                      <a:pt x="131" y="670"/>
                    </a:lnTo>
                    <a:lnTo>
                      <a:pt x="144" y="674"/>
                    </a:lnTo>
                    <a:lnTo>
                      <a:pt x="144" y="674"/>
                    </a:lnTo>
                    <a:lnTo>
                      <a:pt x="158" y="682"/>
                    </a:lnTo>
                    <a:lnTo>
                      <a:pt x="158" y="682"/>
                    </a:lnTo>
                    <a:lnTo>
                      <a:pt x="171" y="689"/>
                    </a:lnTo>
                    <a:lnTo>
                      <a:pt x="171" y="689"/>
                    </a:lnTo>
                    <a:lnTo>
                      <a:pt x="182" y="697"/>
                    </a:lnTo>
                    <a:lnTo>
                      <a:pt x="182" y="697"/>
                    </a:lnTo>
                    <a:lnTo>
                      <a:pt x="195" y="705"/>
                    </a:lnTo>
                    <a:lnTo>
                      <a:pt x="195" y="705"/>
                    </a:lnTo>
                    <a:lnTo>
                      <a:pt x="209" y="714"/>
                    </a:lnTo>
                    <a:lnTo>
                      <a:pt x="209" y="714"/>
                    </a:lnTo>
                    <a:lnTo>
                      <a:pt x="224" y="725"/>
                    </a:lnTo>
                    <a:lnTo>
                      <a:pt x="224" y="725"/>
                    </a:lnTo>
                    <a:lnTo>
                      <a:pt x="235" y="738"/>
                    </a:lnTo>
                    <a:lnTo>
                      <a:pt x="235" y="738"/>
                    </a:lnTo>
                    <a:lnTo>
                      <a:pt x="245" y="752"/>
                    </a:lnTo>
                    <a:lnTo>
                      <a:pt x="245" y="752"/>
                    </a:lnTo>
                    <a:lnTo>
                      <a:pt x="254" y="768"/>
                    </a:lnTo>
                    <a:lnTo>
                      <a:pt x="254" y="768"/>
                    </a:lnTo>
                    <a:lnTo>
                      <a:pt x="262" y="785"/>
                    </a:lnTo>
                    <a:lnTo>
                      <a:pt x="262" y="785"/>
                    </a:lnTo>
                    <a:lnTo>
                      <a:pt x="271" y="802"/>
                    </a:lnTo>
                    <a:lnTo>
                      <a:pt x="271" y="802"/>
                    </a:lnTo>
                    <a:lnTo>
                      <a:pt x="279" y="822"/>
                    </a:lnTo>
                    <a:lnTo>
                      <a:pt x="279" y="822"/>
                    </a:lnTo>
                    <a:lnTo>
                      <a:pt x="286" y="847"/>
                    </a:lnTo>
                    <a:lnTo>
                      <a:pt x="286" y="847"/>
                    </a:lnTo>
                    <a:lnTo>
                      <a:pt x="293" y="878"/>
                    </a:lnTo>
                    <a:lnTo>
                      <a:pt x="293" y="878"/>
                    </a:lnTo>
                    <a:lnTo>
                      <a:pt x="298" y="906"/>
                    </a:lnTo>
                    <a:lnTo>
                      <a:pt x="298" y="906"/>
                    </a:lnTo>
                    <a:lnTo>
                      <a:pt x="303" y="928"/>
                    </a:lnTo>
                    <a:lnTo>
                      <a:pt x="303" y="928"/>
                    </a:lnTo>
                    <a:lnTo>
                      <a:pt x="307" y="949"/>
                    </a:lnTo>
                    <a:lnTo>
                      <a:pt x="307" y="949"/>
                    </a:lnTo>
                    <a:lnTo>
                      <a:pt x="311" y="971"/>
                    </a:lnTo>
                    <a:lnTo>
                      <a:pt x="311" y="971"/>
                    </a:lnTo>
                    <a:lnTo>
                      <a:pt x="316" y="993"/>
                    </a:lnTo>
                    <a:lnTo>
                      <a:pt x="316" y="993"/>
                    </a:lnTo>
                    <a:lnTo>
                      <a:pt x="321" y="1022"/>
                    </a:lnTo>
                    <a:lnTo>
                      <a:pt x="321" y="1022"/>
                    </a:lnTo>
                    <a:lnTo>
                      <a:pt x="324" y="1039"/>
                    </a:lnTo>
                    <a:lnTo>
                      <a:pt x="324" y="1039"/>
                    </a:lnTo>
                    <a:lnTo>
                      <a:pt x="327" y="1050"/>
                    </a:lnTo>
                    <a:lnTo>
                      <a:pt x="327" y="1050"/>
                    </a:lnTo>
                    <a:lnTo>
                      <a:pt x="330" y="1061"/>
                    </a:lnTo>
                    <a:lnTo>
                      <a:pt x="330" y="1061"/>
                    </a:lnTo>
                    <a:lnTo>
                      <a:pt x="334" y="1076"/>
                    </a:lnTo>
                    <a:lnTo>
                      <a:pt x="334" y="1076"/>
                    </a:lnTo>
                    <a:lnTo>
                      <a:pt x="335" y="1081"/>
                    </a:lnTo>
                    <a:lnTo>
                      <a:pt x="335" y="1081"/>
                    </a:lnTo>
                    <a:lnTo>
                      <a:pt x="326" y="811"/>
                    </a:lnTo>
                    <a:lnTo>
                      <a:pt x="321" y="644"/>
                    </a:lnTo>
                    <a:lnTo>
                      <a:pt x="321" y="644"/>
                    </a:lnTo>
                    <a:lnTo>
                      <a:pt x="322" y="621"/>
                    </a:lnTo>
                    <a:lnTo>
                      <a:pt x="322" y="602"/>
                    </a:lnTo>
                    <a:lnTo>
                      <a:pt x="324" y="586"/>
                    </a:lnTo>
                    <a:lnTo>
                      <a:pt x="324" y="586"/>
                    </a:lnTo>
                    <a:lnTo>
                      <a:pt x="325" y="584"/>
                    </a:lnTo>
                    <a:lnTo>
                      <a:pt x="327" y="583"/>
                    </a:lnTo>
                    <a:lnTo>
                      <a:pt x="332" y="582"/>
                    </a:lnTo>
                    <a:lnTo>
                      <a:pt x="332" y="582"/>
                    </a:lnTo>
                    <a:lnTo>
                      <a:pt x="354" y="583"/>
                    </a:lnTo>
                    <a:lnTo>
                      <a:pt x="354" y="583"/>
                    </a:lnTo>
                    <a:lnTo>
                      <a:pt x="356" y="583"/>
                    </a:lnTo>
                    <a:lnTo>
                      <a:pt x="358" y="585"/>
                    </a:lnTo>
                    <a:lnTo>
                      <a:pt x="360" y="588"/>
                    </a:lnTo>
                    <a:lnTo>
                      <a:pt x="360" y="588"/>
                    </a:lnTo>
                    <a:lnTo>
                      <a:pt x="363" y="598"/>
                    </a:lnTo>
                    <a:lnTo>
                      <a:pt x="367" y="621"/>
                    </a:lnTo>
                    <a:lnTo>
                      <a:pt x="379" y="686"/>
                    </a:lnTo>
                    <a:lnTo>
                      <a:pt x="392" y="760"/>
                    </a:lnTo>
                    <a:lnTo>
                      <a:pt x="402" y="819"/>
                    </a:lnTo>
                    <a:lnTo>
                      <a:pt x="402" y="819"/>
                    </a:lnTo>
                    <a:lnTo>
                      <a:pt x="406" y="855"/>
                    </a:lnTo>
                    <a:lnTo>
                      <a:pt x="411" y="905"/>
                    </a:lnTo>
                    <a:lnTo>
                      <a:pt x="419" y="1023"/>
                    </a:lnTo>
                    <a:lnTo>
                      <a:pt x="425" y="1131"/>
                    </a:lnTo>
                    <a:lnTo>
                      <a:pt x="428" y="1190"/>
                    </a:lnTo>
                    <a:lnTo>
                      <a:pt x="385" y="1247"/>
                    </a:lnTo>
                    <a:lnTo>
                      <a:pt x="385" y="1247"/>
                    </a:lnTo>
                    <a:lnTo>
                      <a:pt x="376" y="1235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6" y="1209"/>
                    </a:lnTo>
                    <a:lnTo>
                      <a:pt x="354" y="1220"/>
                    </a:lnTo>
                    <a:lnTo>
                      <a:pt x="354" y="1220"/>
                    </a:lnTo>
                    <a:lnTo>
                      <a:pt x="352" y="1230"/>
                    </a:lnTo>
                    <a:lnTo>
                      <a:pt x="352" y="1230"/>
                    </a:lnTo>
                    <a:lnTo>
                      <a:pt x="353" y="1239"/>
                    </a:lnTo>
                    <a:lnTo>
                      <a:pt x="353" y="1239"/>
                    </a:lnTo>
                    <a:lnTo>
                      <a:pt x="354" y="1246"/>
                    </a:lnTo>
                    <a:lnTo>
                      <a:pt x="354" y="1246"/>
                    </a:lnTo>
                    <a:lnTo>
                      <a:pt x="355" y="1255"/>
                    </a:lnTo>
                    <a:lnTo>
                      <a:pt x="355" y="1255"/>
                    </a:lnTo>
                    <a:lnTo>
                      <a:pt x="358" y="1267"/>
                    </a:lnTo>
                    <a:lnTo>
                      <a:pt x="358" y="1267"/>
                    </a:lnTo>
                    <a:lnTo>
                      <a:pt x="360" y="1279"/>
                    </a:lnTo>
                    <a:lnTo>
                      <a:pt x="360" y="1279"/>
                    </a:lnTo>
                    <a:lnTo>
                      <a:pt x="361" y="1291"/>
                    </a:lnTo>
                    <a:lnTo>
                      <a:pt x="361" y="1291"/>
                    </a:lnTo>
                    <a:lnTo>
                      <a:pt x="361" y="1300"/>
                    </a:lnTo>
                    <a:lnTo>
                      <a:pt x="361" y="1300"/>
                    </a:lnTo>
                    <a:lnTo>
                      <a:pt x="362" y="1309"/>
                    </a:lnTo>
                    <a:lnTo>
                      <a:pt x="362" y="1309"/>
                    </a:lnTo>
                    <a:lnTo>
                      <a:pt x="362" y="1318"/>
                    </a:lnTo>
                    <a:lnTo>
                      <a:pt x="362" y="1318"/>
                    </a:lnTo>
                    <a:lnTo>
                      <a:pt x="362" y="1328"/>
                    </a:lnTo>
                    <a:lnTo>
                      <a:pt x="362" y="1328"/>
                    </a:lnTo>
                    <a:lnTo>
                      <a:pt x="362" y="1339"/>
                    </a:lnTo>
                    <a:lnTo>
                      <a:pt x="362" y="1339"/>
                    </a:lnTo>
                    <a:lnTo>
                      <a:pt x="362" y="1350"/>
                    </a:lnTo>
                    <a:lnTo>
                      <a:pt x="362" y="1350"/>
                    </a:lnTo>
                    <a:lnTo>
                      <a:pt x="362" y="1363"/>
                    </a:lnTo>
                    <a:lnTo>
                      <a:pt x="362" y="1363"/>
                    </a:lnTo>
                    <a:lnTo>
                      <a:pt x="361" y="1377"/>
                    </a:lnTo>
                    <a:lnTo>
                      <a:pt x="361" y="1377"/>
                    </a:lnTo>
                    <a:lnTo>
                      <a:pt x="361" y="1390"/>
                    </a:lnTo>
                    <a:lnTo>
                      <a:pt x="361" y="1404"/>
                    </a:lnTo>
                    <a:lnTo>
                      <a:pt x="361" y="1404"/>
                    </a:lnTo>
                    <a:lnTo>
                      <a:pt x="361" y="1413"/>
                    </a:lnTo>
                    <a:lnTo>
                      <a:pt x="351" y="1511"/>
                    </a:lnTo>
                    <a:lnTo>
                      <a:pt x="351" y="1511"/>
                    </a:lnTo>
                    <a:lnTo>
                      <a:pt x="394" y="1512"/>
                    </a:lnTo>
                    <a:lnTo>
                      <a:pt x="394" y="1512"/>
                    </a:lnTo>
                    <a:lnTo>
                      <a:pt x="440" y="1511"/>
                    </a:lnTo>
                    <a:lnTo>
                      <a:pt x="433" y="1434"/>
                    </a:lnTo>
                    <a:lnTo>
                      <a:pt x="433" y="1434"/>
                    </a:lnTo>
                    <a:lnTo>
                      <a:pt x="432" y="1425"/>
                    </a:lnTo>
                    <a:lnTo>
                      <a:pt x="432" y="1412"/>
                    </a:lnTo>
                    <a:lnTo>
                      <a:pt x="432" y="1412"/>
                    </a:lnTo>
                    <a:lnTo>
                      <a:pt x="432" y="1398"/>
                    </a:lnTo>
                    <a:lnTo>
                      <a:pt x="432" y="1398"/>
                    </a:lnTo>
                    <a:lnTo>
                      <a:pt x="431" y="1385"/>
                    </a:lnTo>
                    <a:lnTo>
                      <a:pt x="431" y="1385"/>
                    </a:lnTo>
                    <a:lnTo>
                      <a:pt x="431" y="1371"/>
                    </a:lnTo>
                    <a:lnTo>
                      <a:pt x="431" y="1371"/>
                    </a:lnTo>
                    <a:lnTo>
                      <a:pt x="431" y="1360"/>
                    </a:lnTo>
                    <a:lnTo>
                      <a:pt x="431" y="1360"/>
                    </a:lnTo>
                    <a:lnTo>
                      <a:pt x="431" y="1350"/>
                    </a:lnTo>
                    <a:lnTo>
                      <a:pt x="431" y="1350"/>
                    </a:lnTo>
                    <a:lnTo>
                      <a:pt x="431" y="1341"/>
                    </a:lnTo>
                    <a:lnTo>
                      <a:pt x="431" y="1341"/>
                    </a:lnTo>
                    <a:lnTo>
                      <a:pt x="431" y="1330"/>
                    </a:lnTo>
                    <a:lnTo>
                      <a:pt x="431" y="1330"/>
                    </a:lnTo>
                    <a:lnTo>
                      <a:pt x="432" y="1321"/>
                    </a:lnTo>
                    <a:lnTo>
                      <a:pt x="432" y="1321"/>
                    </a:lnTo>
                    <a:lnTo>
                      <a:pt x="433" y="1313"/>
                    </a:lnTo>
                    <a:lnTo>
                      <a:pt x="433" y="1313"/>
                    </a:lnTo>
                    <a:lnTo>
                      <a:pt x="434" y="1300"/>
                    </a:lnTo>
                    <a:lnTo>
                      <a:pt x="434" y="1300"/>
                    </a:lnTo>
                    <a:lnTo>
                      <a:pt x="435" y="1289"/>
                    </a:lnTo>
                    <a:lnTo>
                      <a:pt x="435" y="1289"/>
                    </a:lnTo>
                    <a:lnTo>
                      <a:pt x="438" y="1277"/>
                    </a:lnTo>
                    <a:lnTo>
                      <a:pt x="438" y="1277"/>
                    </a:lnTo>
                    <a:lnTo>
                      <a:pt x="439" y="1267"/>
                    </a:lnTo>
                    <a:lnTo>
                      <a:pt x="439" y="1267"/>
                    </a:lnTo>
                    <a:lnTo>
                      <a:pt x="440" y="1260"/>
                    </a:lnTo>
                    <a:lnTo>
                      <a:pt x="440" y="1260"/>
                    </a:lnTo>
                    <a:lnTo>
                      <a:pt x="441" y="1251"/>
                    </a:lnTo>
                    <a:lnTo>
                      <a:pt x="441" y="1251"/>
                    </a:lnTo>
                    <a:lnTo>
                      <a:pt x="439" y="1241"/>
                    </a:lnTo>
                    <a:lnTo>
                      <a:pt x="439" y="1241"/>
                    </a:lnTo>
                    <a:lnTo>
                      <a:pt x="437" y="1231"/>
                    </a:lnTo>
                    <a:lnTo>
                      <a:pt x="437" y="1231"/>
                    </a:lnTo>
                    <a:lnTo>
                      <a:pt x="437" y="1221"/>
                    </a:lnTo>
                    <a:lnTo>
                      <a:pt x="437" y="1221"/>
                    </a:lnTo>
                    <a:lnTo>
                      <a:pt x="439" y="1213"/>
                    </a:lnTo>
                    <a:lnTo>
                      <a:pt x="439" y="1213"/>
                    </a:lnTo>
                    <a:lnTo>
                      <a:pt x="442" y="1206"/>
                    </a:lnTo>
                    <a:lnTo>
                      <a:pt x="442" y="1206"/>
                    </a:lnTo>
                    <a:lnTo>
                      <a:pt x="446" y="1199"/>
                    </a:lnTo>
                    <a:lnTo>
                      <a:pt x="446" y="1199"/>
                    </a:lnTo>
                    <a:lnTo>
                      <a:pt x="450" y="1189"/>
                    </a:lnTo>
                    <a:lnTo>
                      <a:pt x="450" y="1189"/>
                    </a:lnTo>
                    <a:lnTo>
                      <a:pt x="454" y="1182"/>
                    </a:lnTo>
                    <a:lnTo>
                      <a:pt x="454" y="1182"/>
                    </a:lnTo>
                    <a:lnTo>
                      <a:pt x="457" y="1176"/>
                    </a:lnTo>
                    <a:lnTo>
                      <a:pt x="457" y="1176"/>
                    </a:lnTo>
                    <a:lnTo>
                      <a:pt x="460" y="1168"/>
                    </a:lnTo>
                    <a:lnTo>
                      <a:pt x="460" y="1168"/>
                    </a:lnTo>
                    <a:lnTo>
                      <a:pt x="461" y="1161"/>
                    </a:lnTo>
                    <a:lnTo>
                      <a:pt x="461" y="1161"/>
                    </a:lnTo>
                    <a:lnTo>
                      <a:pt x="459" y="1155"/>
                    </a:lnTo>
                    <a:lnTo>
                      <a:pt x="459" y="1155"/>
                    </a:lnTo>
                    <a:lnTo>
                      <a:pt x="455" y="1147"/>
                    </a:lnTo>
                    <a:lnTo>
                      <a:pt x="455" y="1147"/>
                    </a:lnTo>
                    <a:lnTo>
                      <a:pt x="453" y="1139"/>
                    </a:lnTo>
                    <a:lnTo>
                      <a:pt x="453" y="1139"/>
                    </a:lnTo>
                    <a:lnTo>
                      <a:pt x="452" y="1127"/>
                    </a:lnTo>
                    <a:lnTo>
                      <a:pt x="452" y="1127"/>
                    </a:lnTo>
                    <a:lnTo>
                      <a:pt x="454" y="1117"/>
                    </a:lnTo>
                    <a:lnTo>
                      <a:pt x="454" y="1117"/>
                    </a:lnTo>
                    <a:lnTo>
                      <a:pt x="457" y="1107"/>
                    </a:lnTo>
                    <a:lnTo>
                      <a:pt x="457" y="1107"/>
                    </a:lnTo>
                    <a:lnTo>
                      <a:pt x="460" y="1097"/>
                    </a:lnTo>
                    <a:lnTo>
                      <a:pt x="460" y="1097"/>
                    </a:lnTo>
                    <a:lnTo>
                      <a:pt x="464" y="1084"/>
                    </a:lnTo>
                    <a:lnTo>
                      <a:pt x="464" y="1084"/>
                    </a:lnTo>
                    <a:lnTo>
                      <a:pt x="467" y="1072"/>
                    </a:lnTo>
                    <a:lnTo>
                      <a:pt x="467" y="1072"/>
                    </a:lnTo>
                    <a:lnTo>
                      <a:pt x="469" y="1061"/>
                    </a:lnTo>
                    <a:lnTo>
                      <a:pt x="469" y="1061"/>
                    </a:lnTo>
                    <a:lnTo>
                      <a:pt x="473" y="1043"/>
                    </a:lnTo>
                    <a:lnTo>
                      <a:pt x="473" y="1043"/>
                    </a:lnTo>
                    <a:lnTo>
                      <a:pt x="478" y="1015"/>
                    </a:lnTo>
                    <a:lnTo>
                      <a:pt x="478" y="1015"/>
                    </a:lnTo>
                    <a:lnTo>
                      <a:pt x="483" y="992"/>
                    </a:lnTo>
                    <a:lnTo>
                      <a:pt x="483" y="992"/>
                    </a:lnTo>
                    <a:lnTo>
                      <a:pt x="486" y="970"/>
                    </a:lnTo>
                    <a:lnTo>
                      <a:pt x="486" y="970"/>
                    </a:lnTo>
                    <a:lnTo>
                      <a:pt x="490" y="950"/>
                    </a:lnTo>
                    <a:lnTo>
                      <a:pt x="490" y="950"/>
                    </a:lnTo>
                    <a:lnTo>
                      <a:pt x="495" y="927"/>
                    </a:lnTo>
                    <a:lnTo>
                      <a:pt x="495" y="927"/>
                    </a:lnTo>
                    <a:lnTo>
                      <a:pt x="500" y="899"/>
                    </a:lnTo>
                    <a:lnTo>
                      <a:pt x="500" y="899"/>
                    </a:lnTo>
                    <a:lnTo>
                      <a:pt x="507" y="869"/>
                    </a:lnTo>
                    <a:lnTo>
                      <a:pt x="507" y="869"/>
                    </a:lnTo>
                    <a:lnTo>
                      <a:pt x="515" y="843"/>
                    </a:lnTo>
                    <a:lnTo>
                      <a:pt x="515" y="843"/>
                    </a:lnTo>
                    <a:lnTo>
                      <a:pt x="522" y="825"/>
                    </a:lnTo>
                    <a:lnTo>
                      <a:pt x="522" y="825"/>
                    </a:lnTo>
                    <a:lnTo>
                      <a:pt x="531" y="806"/>
                    </a:lnTo>
                    <a:lnTo>
                      <a:pt x="531" y="806"/>
                    </a:lnTo>
                    <a:lnTo>
                      <a:pt x="539" y="789"/>
                    </a:lnTo>
                    <a:lnTo>
                      <a:pt x="539" y="789"/>
                    </a:lnTo>
                    <a:lnTo>
                      <a:pt x="548" y="773"/>
                    </a:lnTo>
                    <a:lnTo>
                      <a:pt x="548" y="773"/>
                    </a:lnTo>
                    <a:lnTo>
                      <a:pt x="558" y="760"/>
                    </a:lnTo>
                    <a:lnTo>
                      <a:pt x="558" y="760"/>
                    </a:lnTo>
                    <a:lnTo>
                      <a:pt x="569" y="748"/>
                    </a:lnTo>
                    <a:lnTo>
                      <a:pt x="569" y="748"/>
                    </a:lnTo>
                    <a:lnTo>
                      <a:pt x="584" y="735"/>
                    </a:lnTo>
                    <a:lnTo>
                      <a:pt x="584" y="735"/>
                    </a:lnTo>
                    <a:lnTo>
                      <a:pt x="599" y="726"/>
                    </a:lnTo>
                    <a:lnTo>
                      <a:pt x="599" y="726"/>
                    </a:lnTo>
                    <a:lnTo>
                      <a:pt x="611" y="718"/>
                    </a:lnTo>
                    <a:lnTo>
                      <a:pt x="611" y="718"/>
                    </a:lnTo>
                    <a:lnTo>
                      <a:pt x="622" y="710"/>
                    </a:lnTo>
                    <a:lnTo>
                      <a:pt x="622" y="710"/>
                    </a:lnTo>
                    <a:lnTo>
                      <a:pt x="635" y="703"/>
                    </a:lnTo>
                    <a:lnTo>
                      <a:pt x="635" y="703"/>
                    </a:lnTo>
                    <a:lnTo>
                      <a:pt x="649" y="696"/>
                    </a:lnTo>
                    <a:lnTo>
                      <a:pt x="649" y="696"/>
                    </a:lnTo>
                    <a:lnTo>
                      <a:pt x="662" y="692"/>
                    </a:lnTo>
                    <a:lnTo>
                      <a:pt x="662" y="692"/>
                    </a:lnTo>
                    <a:lnTo>
                      <a:pt x="672" y="689"/>
                    </a:lnTo>
                    <a:lnTo>
                      <a:pt x="672" y="689"/>
                    </a:lnTo>
                    <a:lnTo>
                      <a:pt x="685" y="683"/>
                    </a:lnTo>
                    <a:lnTo>
                      <a:pt x="685" y="683"/>
                    </a:lnTo>
                    <a:lnTo>
                      <a:pt x="681" y="674"/>
                    </a:lnTo>
                    <a:lnTo>
                      <a:pt x="681" y="674"/>
                    </a:lnTo>
                    <a:close/>
                    <a:moveTo>
                      <a:pt x="367" y="546"/>
                    </a:moveTo>
                    <a:lnTo>
                      <a:pt x="367" y="546"/>
                    </a:lnTo>
                    <a:lnTo>
                      <a:pt x="359" y="574"/>
                    </a:lnTo>
                    <a:lnTo>
                      <a:pt x="359" y="574"/>
                    </a:lnTo>
                    <a:lnTo>
                      <a:pt x="359" y="575"/>
                    </a:lnTo>
                    <a:lnTo>
                      <a:pt x="358" y="577"/>
                    </a:lnTo>
                    <a:lnTo>
                      <a:pt x="355" y="579"/>
                    </a:lnTo>
                    <a:lnTo>
                      <a:pt x="350" y="580"/>
                    </a:lnTo>
                    <a:lnTo>
                      <a:pt x="350" y="580"/>
                    </a:lnTo>
                    <a:lnTo>
                      <a:pt x="334" y="579"/>
                    </a:lnTo>
                    <a:lnTo>
                      <a:pt x="334" y="579"/>
                    </a:lnTo>
                    <a:lnTo>
                      <a:pt x="332" y="579"/>
                    </a:lnTo>
                    <a:lnTo>
                      <a:pt x="330" y="578"/>
                    </a:lnTo>
                    <a:lnTo>
                      <a:pt x="327" y="575"/>
                    </a:lnTo>
                    <a:lnTo>
                      <a:pt x="327" y="575"/>
                    </a:lnTo>
                    <a:lnTo>
                      <a:pt x="324" y="571"/>
                    </a:lnTo>
                    <a:lnTo>
                      <a:pt x="319" y="562"/>
                    </a:lnTo>
                    <a:lnTo>
                      <a:pt x="318" y="556"/>
                    </a:lnTo>
                    <a:lnTo>
                      <a:pt x="317" y="550"/>
                    </a:lnTo>
                    <a:lnTo>
                      <a:pt x="318" y="545"/>
                    </a:lnTo>
                    <a:lnTo>
                      <a:pt x="319" y="542"/>
                    </a:lnTo>
                    <a:lnTo>
                      <a:pt x="321" y="540"/>
                    </a:lnTo>
                    <a:lnTo>
                      <a:pt x="321" y="540"/>
                    </a:lnTo>
                    <a:lnTo>
                      <a:pt x="337" y="525"/>
                    </a:lnTo>
                    <a:lnTo>
                      <a:pt x="337" y="525"/>
                    </a:lnTo>
                    <a:lnTo>
                      <a:pt x="339" y="523"/>
                    </a:lnTo>
                    <a:lnTo>
                      <a:pt x="341" y="522"/>
                    </a:lnTo>
                    <a:lnTo>
                      <a:pt x="344" y="522"/>
                    </a:lnTo>
                    <a:lnTo>
                      <a:pt x="348" y="522"/>
                    </a:lnTo>
                    <a:lnTo>
                      <a:pt x="352" y="523"/>
                    </a:lnTo>
                    <a:lnTo>
                      <a:pt x="356" y="526"/>
                    </a:lnTo>
                    <a:lnTo>
                      <a:pt x="361" y="531"/>
                    </a:lnTo>
                    <a:lnTo>
                      <a:pt x="361" y="531"/>
                    </a:lnTo>
                    <a:lnTo>
                      <a:pt x="365" y="536"/>
                    </a:lnTo>
                    <a:lnTo>
                      <a:pt x="367" y="540"/>
                    </a:lnTo>
                    <a:lnTo>
                      <a:pt x="368" y="544"/>
                    </a:lnTo>
                    <a:lnTo>
                      <a:pt x="367" y="546"/>
                    </a:lnTo>
                    <a:lnTo>
                      <a:pt x="367" y="5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77"/>
              <p:cNvSpPr/>
              <p:nvPr/>
            </p:nvSpPr>
            <p:spPr>
              <a:xfrm>
                <a:off x="7972920" y="797400"/>
                <a:ext cx="248400" cy="411480"/>
              </a:xfrm>
              <a:custGeom>
                <a:avLst/>
                <a:gdLst/>
                <a:ahLst/>
                <a:rect l="l" t="t" r="r" b="b"/>
                <a:pathLst>
                  <a:path w="860" h="1409">
                    <a:moveTo>
                      <a:pt x="859" y="1206"/>
                    </a:moveTo>
                    <a:lnTo>
                      <a:pt x="859" y="1206"/>
                    </a:lnTo>
                    <a:lnTo>
                      <a:pt x="859" y="1197"/>
                    </a:lnTo>
                    <a:lnTo>
                      <a:pt x="859" y="1197"/>
                    </a:lnTo>
                    <a:lnTo>
                      <a:pt x="858" y="1185"/>
                    </a:lnTo>
                    <a:lnTo>
                      <a:pt x="858" y="1185"/>
                    </a:lnTo>
                    <a:lnTo>
                      <a:pt x="856" y="1174"/>
                    </a:lnTo>
                    <a:lnTo>
                      <a:pt x="856" y="1174"/>
                    </a:lnTo>
                    <a:lnTo>
                      <a:pt x="853" y="1161"/>
                    </a:lnTo>
                    <a:lnTo>
                      <a:pt x="853" y="1161"/>
                    </a:lnTo>
                    <a:lnTo>
                      <a:pt x="852" y="1152"/>
                    </a:lnTo>
                    <a:lnTo>
                      <a:pt x="852" y="1152"/>
                    </a:lnTo>
                    <a:lnTo>
                      <a:pt x="851" y="1145"/>
                    </a:lnTo>
                    <a:lnTo>
                      <a:pt x="851" y="1145"/>
                    </a:lnTo>
                    <a:lnTo>
                      <a:pt x="850" y="1136"/>
                    </a:lnTo>
                    <a:lnTo>
                      <a:pt x="850" y="1136"/>
                    </a:lnTo>
                    <a:lnTo>
                      <a:pt x="852" y="1126"/>
                    </a:lnTo>
                    <a:lnTo>
                      <a:pt x="852" y="1126"/>
                    </a:lnTo>
                    <a:lnTo>
                      <a:pt x="854" y="1115"/>
                    </a:lnTo>
                    <a:lnTo>
                      <a:pt x="854" y="1115"/>
                    </a:lnTo>
                    <a:lnTo>
                      <a:pt x="854" y="1106"/>
                    </a:lnTo>
                    <a:lnTo>
                      <a:pt x="854" y="1106"/>
                    </a:lnTo>
                    <a:lnTo>
                      <a:pt x="852" y="1097"/>
                    </a:lnTo>
                    <a:lnTo>
                      <a:pt x="852" y="1097"/>
                    </a:lnTo>
                    <a:lnTo>
                      <a:pt x="849" y="1090"/>
                    </a:lnTo>
                    <a:lnTo>
                      <a:pt x="849" y="1090"/>
                    </a:lnTo>
                    <a:lnTo>
                      <a:pt x="845" y="1084"/>
                    </a:lnTo>
                    <a:lnTo>
                      <a:pt x="845" y="1084"/>
                    </a:lnTo>
                    <a:lnTo>
                      <a:pt x="841" y="1074"/>
                    </a:lnTo>
                    <a:lnTo>
                      <a:pt x="841" y="1074"/>
                    </a:lnTo>
                    <a:lnTo>
                      <a:pt x="837" y="1067"/>
                    </a:lnTo>
                    <a:lnTo>
                      <a:pt x="837" y="1067"/>
                    </a:lnTo>
                    <a:lnTo>
                      <a:pt x="833" y="1060"/>
                    </a:lnTo>
                    <a:lnTo>
                      <a:pt x="833" y="1060"/>
                    </a:lnTo>
                    <a:lnTo>
                      <a:pt x="831" y="1053"/>
                    </a:lnTo>
                    <a:lnTo>
                      <a:pt x="831" y="1053"/>
                    </a:lnTo>
                    <a:lnTo>
                      <a:pt x="831" y="1046"/>
                    </a:lnTo>
                    <a:lnTo>
                      <a:pt x="831" y="1046"/>
                    </a:lnTo>
                    <a:lnTo>
                      <a:pt x="832" y="1039"/>
                    </a:lnTo>
                    <a:lnTo>
                      <a:pt x="832" y="1039"/>
                    </a:lnTo>
                    <a:lnTo>
                      <a:pt x="836" y="1031"/>
                    </a:lnTo>
                    <a:lnTo>
                      <a:pt x="836" y="1031"/>
                    </a:lnTo>
                    <a:lnTo>
                      <a:pt x="838" y="1023"/>
                    </a:lnTo>
                    <a:lnTo>
                      <a:pt x="838" y="1023"/>
                    </a:lnTo>
                    <a:lnTo>
                      <a:pt x="839" y="1012"/>
                    </a:lnTo>
                    <a:lnTo>
                      <a:pt x="839" y="1012"/>
                    </a:lnTo>
                    <a:lnTo>
                      <a:pt x="837" y="1002"/>
                    </a:lnTo>
                    <a:lnTo>
                      <a:pt x="837" y="1002"/>
                    </a:lnTo>
                    <a:lnTo>
                      <a:pt x="833" y="992"/>
                    </a:lnTo>
                    <a:lnTo>
                      <a:pt x="833" y="992"/>
                    </a:lnTo>
                    <a:lnTo>
                      <a:pt x="831" y="982"/>
                    </a:lnTo>
                    <a:lnTo>
                      <a:pt x="831" y="982"/>
                    </a:lnTo>
                    <a:lnTo>
                      <a:pt x="827" y="967"/>
                    </a:lnTo>
                    <a:lnTo>
                      <a:pt x="827" y="967"/>
                    </a:lnTo>
                    <a:lnTo>
                      <a:pt x="825" y="956"/>
                    </a:lnTo>
                    <a:lnTo>
                      <a:pt x="825" y="956"/>
                    </a:lnTo>
                    <a:lnTo>
                      <a:pt x="822" y="945"/>
                    </a:lnTo>
                    <a:lnTo>
                      <a:pt x="822" y="945"/>
                    </a:lnTo>
                    <a:lnTo>
                      <a:pt x="819" y="928"/>
                    </a:lnTo>
                    <a:lnTo>
                      <a:pt x="819" y="928"/>
                    </a:lnTo>
                    <a:lnTo>
                      <a:pt x="814" y="899"/>
                    </a:lnTo>
                    <a:lnTo>
                      <a:pt x="814" y="899"/>
                    </a:lnTo>
                    <a:lnTo>
                      <a:pt x="809" y="877"/>
                    </a:lnTo>
                    <a:lnTo>
                      <a:pt x="809" y="877"/>
                    </a:lnTo>
                    <a:lnTo>
                      <a:pt x="805" y="855"/>
                    </a:lnTo>
                    <a:lnTo>
                      <a:pt x="805" y="855"/>
                    </a:lnTo>
                    <a:lnTo>
                      <a:pt x="801" y="834"/>
                    </a:lnTo>
                    <a:lnTo>
                      <a:pt x="801" y="834"/>
                    </a:lnTo>
                    <a:lnTo>
                      <a:pt x="796" y="812"/>
                    </a:lnTo>
                    <a:lnTo>
                      <a:pt x="796" y="812"/>
                    </a:lnTo>
                    <a:lnTo>
                      <a:pt x="791" y="784"/>
                    </a:lnTo>
                    <a:lnTo>
                      <a:pt x="791" y="784"/>
                    </a:lnTo>
                    <a:lnTo>
                      <a:pt x="784" y="753"/>
                    </a:lnTo>
                    <a:lnTo>
                      <a:pt x="784" y="753"/>
                    </a:lnTo>
                    <a:lnTo>
                      <a:pt x="777" y="728"/>
                    </a:lnTo>
                    <a:lnTo>
                      <a:pt x="777" y="728"/>
                    </a:lnTo>
                    <a:lnTo>
                      <a:pt x="768" y="709"/>
                    </a:lnTo>
                    <a:lnTo>
                      <a:pt x="768" y="709"/>
                    </a:lnTo>
                    <a:lnTo>
                      <a:pt x="760" y="691"/>
                    </a:lnTo>
                    <a:lnTo>
                      <a:pt x="760" y="691"/>
                    </a:lnTo>
                    <a:lnTo>
                      <a:pt x="752" y="674"/>
                    </a:lnTo>
                    <a:lnTo>
                      <a:pt x="752" y="674"/>
                    </a:lnTo>
                    <a:lnTo>
                      <a:pt x="743" y="658"/>
                    </a:lnTo>
                    <a:lnTo>
                      <a:pt x="743" y="658"/>
                    </a:lnTo>
                    <a:lnTo>
                      <a:pt x="733" y="645"/>
                    </a:lnTo>
                    <a:lnTo>
                      <a:pt x="733" y="645"/>
                    </a:lnTo>
                    <a:lnTo>
                      <a:pt x="722" y="631"/>
                    </a:lnTo>
                    <a:lnTo>
                      <a:pt x="722" y="631"/>
                    </a:lnTo>
                    <a:lnTo>
                      <a:pt x="707" y="620"/>
                    </a:lnTo>
                    <a:lnTo>
                      <a:pt x="707" y="620"/>
                    </a:lnTo>
                    <a:lnTo>
                      <a:pt x="693" y="611"/>
                    </a:lnTo>
                    <a:lnTo>
                      <a:pt x="693" y="611"/>
                    </a:lnTo>
                    <a:lnTo>
                      <a:pt x="680" y="603"/>
                    </a:lnTo>
                    <a:lnTo>
                      <a:pt x="680" y="603"/>
                    </a:lnTo>
                    <a:lnTo>
                      <a:pt x="669" y="595"/>
                    </a:lnTo>
                    <a:lnTo>
                      <a:pt x="669" y="595"/>
                    </a:lnTo>
                    <a:lnTo>
                      <a:pt x="656" y="588"/>
                    </a:lnTo>
                    <a:lnTo>
                      <a:pt x="656" y="588"/>
                    </a:lnTo>
                    <a:lnTo>
                      <a:pt x="642" y="581"/>
                    </a:lnTo>
                    <a:lnTo>
                      <a:pt x="642" y="581"/>
                    </a:lnTo>
                    <a:lnTo>
                      <a:pt x="629" y="577"/>
                    </a:lnTo>
                    <a:lnTo>
                      <a:pt x="629" y="577"/>
                    </a:lnTo>
                    <a:lnTo>
                      <a:pt x="619" y="572"/>
                    </a:lnTo>
                    <a:lnTo>
                      <a:pt x="619" y="572"/>
                    </a:lnTo>
                    <a:lnTo>
                      <a:pt x="605" y="566"/>
                    </a:lnTo>
                    <a:lnTo>
                      <a:pt x="605" y="566"/>
                    </a:lnTo>
                    <a:lnTo>
                      <a:pt x="595" y="563"/>
                    </a:lnTo>
                    <a:lnTo>
                      <a:pt x="595" y="563"/>
                    </a:lnTo>
                    <a:lnTo>
                      <a:pt x="586" y="558"/>
                    </a:lnTo>
                    <a:lnTo>
                      <a:pt x="586" y="558"/>
                    </a:lnTo>
                    <a:lnTo>
                      <a:pt x="576" y="552"/>
                    </a:lnTo>
                    <a:lnTo>
                      <a:pt x="576" y="552"/>
                    </a:lnTo>
                    <a:lnTo>
                      <a:pt x="563" y="545"/>
                    </a:lnTo>
                    <a:lnTo>
                      <a:pt x="563" y="545"/>
                    </a:lnTo>
                    <a:lnTo>
                      <a:pt x="553" y="540"/>
                    </a:lnTo>
                    <a:lnTo>
                      <a:pt x="553" y="540"/>
                    </a:lnTo>
                    <a:lnTo>
                      <a:pt x="543" y="535"/>
                    </a:lnTo>
                    <a:lnTo>
                      <a:pt x="543" y="535"/>
                    </a:lnTo>
                    <a:lnTo>
                      <a:pt x="534" y="530"/>
                    </a:lnTo>
                    <a:lnTo>
                      <a:pt x="534" y="530"/>
                    </a:lnTo>
                    <a:lnTo>
                      <a:pt x="527" y="526"/>
                    </a:lnTo>
                    <a:lnTo>
                      <a:pt x="527" y="526"/>
                    </a:lnTo>
                    <a:lnTo>
                      <a:pt x="520" y="522"/>
                    </a:lnTo>
                    <a:lnTo>
                      <a:pt x="520" y="522"/>
                    </a:lnTo>
                    <a:lnTo>
                      <a:pt x="513" y="516"/>
                    </a:lnTo>
                    <a:lnTo>
                      <a:pt x="513" y="516"/>
                    </a:lnTo>
                    <a:lnTo>
                      <a:pt x="505" y="511"/>
                    </a:lnTo>
                    <a:lnTo>
                      <a:pt x="505" y="511"/>
                    </a:lnTo>
                    <a:lnTo>
                      <a:pt x="500" y="503"/>
                    </a:lnTo>
                    <a:lnTo>
                      <a:pt x="500" y="503"/>
                    </a:lnTo>
                    <a:lnTo>
                      <a:pt x="497" y="494"/>
                    </a:lnTo>
                    <a:lnTo>
                      <a:pt x="497" y="494"/>
                    </a:lnTo>
                    <a:lnTo>
                      <a:pt x="495" y="486"/>
                    </a:lnTo>
                    <a:lnTo>
                      <a:pt x="495" y="486"/>
                    </a:lnTo>
                    <a:lnTo>
                      <a:pt x="495" y="478"/>
                    </a:lnTo>
                    <a:lnTo>
                      <a:pt x="495" y="478"/>
                    </a:lnTo>
                    <a:lnTo>
                      <a:pt x="495" y="472"/>
                    </a:lnTo>
                    <a:lnTo>
                      <a:pt x="495" y="472"/>
                    </a:lnTo>
                    <a:lnTo>
                      <a:pt x="495" y="464"/>
                    </a:lnTo>
                    <a:lnTo>
                      <a:pt x="495" y="464"/>
                    </a:lnTo>
                    <a:lnTo>
                      <a:pt x="495" y="458"/>
                    </a:lnTo>
                    <a:lnTo>
                      <a:pt x="495" y="458"/>
                    </a:lnTo>
                    <a:lnTo>
                      <a:pt x="495" y="449"/>
                    </a:lnTo>
                    <a:lnTo>
                      <a:pt x="495" y="449"/>
                    </a:lnTo>
                    <a:lnTo>
                      <a:pt x="495" y="440"/>
                    </a:lnTo>
                    <a:lnTo>
                      <a:pt x="495" y="440"/>
                    </a:lnTo>
                    <a:lnTo>
                      <a:pt x="496" y="432"/>
                    </a:lnTo>
                    <a:lnTo>
                      <a:pt x="496" y="432"/>
                    </a:lnTo>
                    <a:lnTo>
                      <a:pt x="496" y="424"/>
                    </a:lnTo>
                    <a:lnTo>
                      <a:pt x="496" y="424"/>
                    </a:lnTo>
                    <a:lnTo>
                      <a:pt x="496" y="417"/>
                    </a:lnTo>
                    <a:lnTo>
                      <a:pt x="496" y="417"/>
                    </a:lnTo>
                    <a:lnTo>
                      <a:pt x="497" y="410"/>
                    </a:lnTo>
                    <a:lnTo>
                      <a:pt x="497" y="410"/>
                    </a:lnTo>
                    <a:lnTo>
                      <a:pt x="500" y="405"/>
                    </a:lnTo>
                    <a:lnTo>
                      <a:pt x="500" y="405"/>
                    </a:lnTo>
                    <a:lnTo>
                      <a:pt x="503" y="400"/>
                    </a:lnTo>
                    <a:lnTo>
                      <a:pt x="503" y="400"/>
                    </a:lnTo>
                    <a:lnTo>
                      <a:pt x="509" y="395"/>
                    </a:lnTo>
                    <a:lnTo>
                      <a:pt x="509" y="395"/>
                    </a:lnTo>
                    <a:lnTo>
                      <a:pt x="514" y="388"/>
                    </a:lnTo>
                    <a:lnTo>
                      <a:pt x="514" y="388"/>
                    </a:lnTo>
                    <a:lnTo>
                      <a:pt x="520" y="382"/>
                    </a:lnTo>
                    <a:lnTo>
                      <a:pt x="520" y="382"/>
                    </a:lnTo>
                    <a:lnTo>
                      <a:pt x="525" y="373"/>
                    </a:lnTo>
                    <a:lnTo>
                      <a:pt x="525" y="373"/>
                    </a:lnTo>
                    <a:lnTo>
                      <a:pt x="528" y="366"/>
                    </a:lnTo>
                    <a:lnTo>
                      <a:pt x="528" y="366"/>
                    </a:lnTo>
                    <a:lnTo>
                      <a:pt x="531" y="359"/>
                    </a:lnTo>
                    <a:lnTo>
                      <a:pt x="531" y="359"/>
                    </a:lnTo>
                    <a:lnTo>
                      <a:pt x="533" y="350"/>
                    </a:lnTo>
                    <a:lnTo>
                      <a:pt x="533" y="350"/>
                    </a:lnTo>
                    <a:lnTo>
                      <a:pt x="536" y="342"/>
                    </a:lnTo>
                    <a:lnTo>
                      <a:pt x="536" y="342"/>
                    </a:lnTo>
                    <a:lnTo>
                      <a:pt x="537" y="336"/>
                    </a:lnTo>
                    <a:lnTo>
                      <a:pt x="537" y="336"/>
                    </a:lnTo>
                    <a:lnTo>
                      <a:pt x="538" y="329"/>
                    </a:lnTo>
                    <a:lnTo>
                      <a:pt x="538" y="329"/>
                    </a:lnTo>
                    <a:lnTo>
                      <a:pt x="539" y="320"/>
                    </a:lnTo>
                    <a:lnTo>
                      <a:pt x="539" y="320"/>
                    </a:lnTo>
                    <a:lnTo>
                      <a:pt x="539" y="312"/>
                    </a:lnTo>
                    <a:lnTo>
                      <a:pt x="539" y="312"/>
                    </a:lnTo>
                    <a:lnTo>
                      <a:pt x="539" y="302"/>
                    </a:lnTo>
                    <a:lnTo>
                      <a:pt x="539" y="302"/>
                    </a:lnTo>
                    <a:lnTo>
                      <a:pt x="539" y="296"/>
                    </a:lnTo>
                    <a:lnTo>
                      <a:pt x="539" y="296"/>
                    </a:lnTo>
                    <a:lnTo>
                      <a:pt x="539" y="290"/>
                    </a:lnTo>
                    <a:lnTo>
                      <a:pt x="539" y="290"/>
                    </a:lnTo>
                    <a:lnTo>
                      <a:pt x="539" y="281"/>
                    </a:lnTo>
                    <a:lnTo>
                      <a:pt x="539" y="281"/>
                    </a:lnTo>
                    <a:lnTo>
                      <a:pt x="540" y="271"/>
                    </a:lnTo>
                    <a:lnTo>
                      <a:pt x="540" y="271"/>
                    </a:lnTo>
                    <a:lnTo>
                      <a:pt x="539" y="263"/>
                    </a:lnTo>
                    <a:lnTo>
                      <a:pt x="539" y="263"/>
                    </a:lnTo>
                    <a:lnTo>
                      <a:pt x="539" y="255"/>
                    </a:lnTo>
                    <a:lnTo>
                      <a:pt x="539" y="255"/>
                    </a:lnTo>
                    <a:lnTo>
                      <a:pt x="538" y="247"/>
                    </a:lnTo>
                    <a:lnTo>
                      <a:pt x="538" y="247"/>
                    </a:lnTo>
                    <a:lnTo>
                      <a:pt x="537" y="239"/>
                    </a:lnTo>
                    <a:lnTo>
                      <a:pt x="537" y="239"/>
                    </a:lnTo>
                    <a:lnTo>
                      <a:pt x="538" y="230"/>
                    </a:lnTo>
                    <a:lnTo>
                      <a:pt x="538" y="230"/>
                    </a:lnTo>
                    <a:lnTo>
                      <a:pt x="538" y="221"/>
                    </a:lnTo>
                    <a:lnTo>
                      <a:pt x="538" y="221"/>
                    </a:lnTo>
                    <a:lnTo>
                      <a:pt x="537" y="212"/>
                    </a:lnTo>
                    <a:lnTo>
                      <a:pt x="537" y="212"/>
                    </a:lnTo>
                    <a:lnTo>
                      <a:pt x="539" y="203"/>
                    </a:lnTo>
                    <a:lnTo>
                      <a:pt x="539" y="203"/>
                    </a:lnTo>
                    <a:lnTo>
                      <a:pt x="538" y="194"/>
                    </a:lnTo>
                    <a:lnTo>
                      <a:pt x="538" y="194"/>
                    </a:lnTo>
                    <a:lnTo>
                      <a:pt x="538" y="187"/>
                    </a:lnTo>
                    <a:lnTo>
                      <a:pt x="538" y="187"/>
                    </a:lnTo>
                    <a:lnTo>
                      <a:pt x="537" y="178"/>
                    </a:lnTo>
                    <a:lnTo>
                      <a:pt x="537" y="178"/>
                    </a:lnTo>
                    <a:lnTo>
                      <a:pt x="537" y="170"/>
                    </a:lnTo>
                    <a:lnTo>
                      <a:pt x="537" y="170"/>
                    </a:lnTo>
                    <a:lnTo>
                      <a:pt x="536" y="160"/>
                    </a:lnTo>
                    <a:lnTo>
                      <a:pt x="536" y="160"/>
                    </a:lnTo>
                    <a:lnTo>
                      <a:pt x="535" y="152"/>
                    </a:lnTo>
                    <a:lnTo>
                      <a:pt x="535" y="152"/>
                    </a:lnTo>
                    <a:lnTo>
                      <a:pt x="534" y="143"/>
                    </a:lnTo>
                    <a:lnTo>
                      <a:pt x="534" y="143"/>
                    </a:lnTo>
                    <a:lnTo>
                      <a:pt x="534" y="134"/>
                    </a:lnTo>
                    <a:lnTo>
                      <a:pt x="534" y="134"/>
                    </a:lnTo>
                    <a:lnTo>
                      <a:pt x="533" y="128"/>
                    </a:lnTo>
                    <a:lnTo>
                      <a:pt x="533" y="128"/>
                    </a:lnTo>
                    <a:lnTo>
                      <a:pt x="530" y="120"/>
                    </a:lnTo>
                    <a:lnTo>
                      <a:pt x="530" y="120"/>
                    </a:lnTo>
                    <a:lnTo>
                      <a:pt x="530" y="114"/>
                    </a:lnTo>
                    <a:lnTo>
                      <a:pt x="530" y="114"/>
                    </a:lnTo>
                    <a:lnTo>
                      <a:pt x="528" y="108"/>
                    </a:lnTo>
                    <a:lnTo>
                      <a:pt x="528" y="108"/>
                    </a:lnTo>
                    <a:lnTo>
                      <a:pt x="525" y="102"/>
                    </a:lnTo>
                    <a:lnTo>
                      <a:pt x="525" y="102"/>
                    </a:lnTo>
                    <a:lnTo>
                      <a:pt x="523" y="95"/>
                    </a:lnTo>
                    <a:lnTo>
                      <a:pt x="523" y="95"/>
                    </a:lnTo>
                    <a:lnTo>
                      <a:pt x="523" y="89"/>
                    </a:lnTo>
                    <a:lnTo>
                      <a:pt x="523" y="89"/>
                    </a:lnTo>
                    <a:lnTo>
                      <a:pt x="521" y="82"/>
                    </a:lnTo>
                    <a:lnTo>
                      <a:pt x="521" y="82"/>
                    </a:lnTo>
                    <a:lnTo>
                      <a:pt x="520" y="76"/>
                    </a:lnTo>
                    <a:lnTo>
                      <a:pt x="520" y="76"/>
                    </a:lnTo>
                    <a:lnTo>
                      <a:pt x="517" y="68"/>
                    </a:lnTo>
                    <a:lnTo>
                      <a:pt x="517" y="68"/>
                    </a:lnTo>
                    <a:lnTo>
                      <a:pt x="513" y="62"/>
                    </a:lnTo>
                    <a:lnTo>
                      <a:pt x="513" y="62"/>
                    </a:lnTo>
                    <a:lnTo>
                      <a:pt x="510" y="57"/>
                    </a:lnTo>
                    <a:lnTo>
                      <a:pt x="510" y="57"/>
                    </a:lnTo>
                    <a:lnTo>
                      <a:pt x="501" y="44"/>
                    </a:lnTo>
                    <a:lnTo>
                      <a:pt x="501" y="44"/>
                    </a:lnTo>
                    <a:lnTo>
                      <a:pt x="496" y="39"/>
                    </a:lnTo>
                    <a:lnTo>
                      <a:pt x="496" y="39"/>
                    </a:lnTo>
                    <a:lnTo>
                      <a:pt x="490" y="36"/>
                    </a:lnTo>
                    <a:lnTo>
                      <a:pt x="490" y="36"/>
                    </a:lnTo>
                    <a:lnTo>
                      <a:pt x="486" y="31"/>
                    </a:lnTo>
                    <a:lnTo>
                      <a:pt x="486" y="31"/>
                    </a:lnTo>
                    <a:lnTo>
                      <a:pt x="479" y="27"/>
                    </a:lnTo>
                    <a:lnTo>
                      <a:pt x="479" y="27"/>
                    </a:lnTo>
                    <a:lnTo>
                      <a:pt x="474" y="22"/>
                    </a:lnTo>
                    <a:lnTo>
                      <a:pt x="474" y="22"/>
                    </a:lnTo>
                    <a:lnTo>
                      <a:pt x="469" y="17"/>
                    </a:lnTo>
                    <a:lnTo>
                      <a:pt x="469" y="17"/>
                    </a:lnTo>
                    <a:lnTo>
                      <a:pt x="465" y="12"/>
                    </a:lnTo>
                    <a:lnTo>
                      <a:pt x="465" y="12"/>
                    </a:lnTo>
                    <a:lnTo>
                      <a:pt x="466" y="17"/>
                    </a:lnTo>
                    <a:lnTo>
                      <a:pt x="466" y="17"/>
                    </a:lnTo>
                    <a:lnTo>
                      <a:pt x="466" y="21"/>
                    </a:lnTo>
                    <a:lnTo>
                      <a:pt x="466" y="21"/>
                    </a:lnTo>
                    <a:lnTo>
                      <a:pt x="465" y="21"/>
                    </a:lnTo>
                    <a:lnTo>
                      <a:pt x="460" y="17"/>
                    </a:lnTo>
                    <a:lnTo>
                      <a:pt x="460" y="17"/>
                    </a:lnTo>
                    <a:lnTo>
                      <a:pt x="455" y="14"/>
                    </a:lnTo>
                    <a:lnTo>
                      <a:pt x="454" y="13"/>
                    </a:lnTo>
                    <a:lnTo>
                      <a:pt x="454" y="13"/>
                    </a:lnTo>
                    <a:lnTo>
                      <a:pt x="441" y="10"/>
                    </a:lnTo>
                    <a:lnTo>
                      <a:pt x="441" y="10"/>
                    </a:lnTo>
                    <a:lnTo>
                      <a:pt x="434" y="6"/>
                    </a:lnTo>
                    <a:lnTo>
                      <a:pt x="434" y="6"/>
                    </a:lnTo>
                    <a:lnTo>
                      <a:pt x="429" y="1"/>
                    </a:lnTo>
                    <a:lnTo>
                      <a:pt x="429" y="1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413" y="2"/>
                    </a:lnTo>
                    <a:lnTo>
                      <a:pt x="413" y="2"/>
                    </a:lnTo>
                    <a:lnTo>
                      <a:pt x="406" y="7"/>
                    </a:lnTo>
                    <a:lnTo>
                      <a:pt x="406" y="7"/>
                    </a:lnTo>
                    <a:lnTo>
                      <a:pt x="401" y="12"/>
                    </a:lnTo>
                    <a:lnTo>
                      <a:pt x="401" y="12"/>
                    </a:lnTo>
                    <a:lnTo>
                      <a:pt x="398" y="18"/>
                    </a:lnTo>
                    <a:lnTo>
                      <a:pt x="398" y="18"/>
                    </a:lnTo>
                    <a:lnTo>
                      <a:pt x="392" y="23"/>
                    </a:lnTo>
                    <a:lnTo>
                      <a:pt x="392" y="23"/>
                    </a:lnTo>
                    <a:lnTo>
                      <a:pt x="382" y="27"/>
                    </a:lnTo>
                    <a:lnTo>
                      <a:pt x="382" y="27"/>
                    </a:lnTo>
                    <a:lnTo>
                      <a:pt x="376" y="28"/>
                    </a:lnTo>
                    <a:lnTo>
                      <a:pt x="376" y="28"/>
                    </a:lnTo>
                    <a:lnTo>
                      <a:pt x="371" y="27"/>
                    </a:lnTo>
                    <a:lnTo>
                      <a:pt x="371" y="27"/>
                    </a:lnTo>
                    <a:lnTo>
                      <a:pt x="368" y="27"/>
                    </a:lnTo>
                    <a:lnTo>
                      <a:pt x="368" y="27"/>
                    </a:lnTo>
                    <a:lnTo>
                      <a:pt x="361" y="32"/>
                    </a:lnTo>
                    <a:lnTo>
                      <a:pt x="361" y="32"/>
                    </a:lnTo>
                    <a:lnTo>
                      <a:pt x="356" y="38"/>
                    </a:lnTo>
                    <a:lnTo>
                      <a:pt x="356" y="38"/>
                    </a:lnTo>
                    <a:lnTo>
                      <a:pt x="350" y="43"/>
                    </a:lnTo>
                    <a:lnTo>
                      <a:pt x="350" y="43"/>
                    </a:lnTo>
                    <a:lnTo>
                      <a:pt x="339" y="50"/>
                    </a:lnTo>
                    <a:lnTo>
                      <a:pt x="339" y="50"/>
                    </a:lnTo>
                    <a:lnTo>
                      <a:pt x="329" y="52"/>
                    </a:lnTo>
                    <a:lnTo>
                      <a:pt x="329" y="52"/>
                    </a:lnTo>
                    <a:lnTo>
                      <a:pt x="321" y="57"/>
                    </a:lnTo>
                    <a:lnTo>
                      <a:pt x="321" y="57"/>
                    </a:lnTo>
                    <a:lnTo>
                      <a:pt x="310" y="63"/>
                    </a:lnTo>
                    <a:lnTo>
                      <a:pt x="310" y="63"/>
                    </a:lnTo>
                    <a:lnTo>
                      <a:pt x="303" y="70"/>
                    </a:lnTo>
                    <a:lnTo>
                      <a:pt x="303" y="70"/>
                    </a:lnTo>
                    <a:lnTo>
                      <a:pt x="295" y="76"/>
                    </a:lnTo>
                    <a:lnTo>
                      <a:pt x="295" y="76"/>
                    </a:lnTo>
                    <a:lnTo>
                      <a:pt x="288" y="84"/>
                    </a:lnTo>
                    <a:lnTo>
                      <a:pt x="288" y="84"/>
                    </a:lnTo>
                    <a:lnTo>
                      <a:pt x="281" y="94"/>
                    </a:lnTo>
                    <a:lnTo>
                      <a:pt x="281" y="94"/>
                    </a:lnTo>
                    <a:lnTo>
                      <a:pt x="274" y="101"/>
                    </a:lnTo>
                    <a:lnTo>
                      <a:pt x="274" y="101"/>
                    </a:lnTo>
                    <a:lnTo>
                      <a:pt x="268" y="109"/>
                    </a:lnTo>
                    <a:lnTo>
                      <a:pt x="268" y="109"/>
                    </a:lnTo>
                    <a:lnTo>
                      <a:pt x="264" y="118"/>
                    </a:lnTo>
                    <a:lnTo>
                      <a:pt x="264" y="118"/>
                    </a:lnTo>
                    <a:lnTo>
                      <a:pt x="260" y="129"/>
                    </a:lnTo>
                    <a:lnTo>
                      <a:pt x="260" y="129"/>
                    </a:lnTo>
                    <a:lnTo>
                      <a:pt x="256" y="140"/>
                    </a:lnTo>
                    <a:lnTo>
                      <a:pt x="256" y="140"/>
                    </a:lnTo>
                    <a:lnTo>
                      <a:pt x="254" y="152"/>
                    </a:lnTo>
                    <a:lnTo>
                      <a:pt x="254" y="152"/>
                    </a:lnTo>
                    <a:lnTo>
                      <a:pt x="252" y="164"/>
                    </a:lnTo>
                    <a:lnTo>
                      <a:pt x="252" y="164"/>
                    </a:lnTo>
                    <a:lnTo>
                      <a:pt x="253" y="178"/>
                    </a:lnTo>
                    <a:lnTo>
                      <a:pt x="253" y="178"/>
                    </a:lnTo>
                    <a:lnTo>
                      <a:pt x="253" y="191"/>
                    </a:lnTo>
                    <a:lnTo>
                      <a:pt x="253" y="191"/>
                    </a:lnTo>
                    <a:lnTo>
                      <a:pt x="254" y="202"/>
                    </a:lnTo>
                    <a:lnTo>
                      <a:pt x="254" y="202"/>
                    </a:lnTo>
                    <a:lnTo>
                      <a:pt x="255" y="212"/>
                    </a:lnTo>
                    <a:lnTo>
                      <a:pt x="255" y="212"/>
                    </a:lnTo>
                    <a:lnTo>
                      <a:pt x="256" y="223"/>
                    </a:lnTo>
                    <a:lnTo>
                      <a:pt x="256" y="223"/>
                    </a:lnTo>
                    <a:lnTo>
                      <a:pt x="257" y="234"/>
                    </a:lnTo>
                    <a:lnTo>
                      <a:pt x="257" y="234"/>
                    </a:lnTo>
                    <a:lnTo>
                      <a:pt x="254" y="233"/>
                    </a:lnTo>
                    <a:lnTo>
                      <a:pt x="254" y="233"/>
                    </a:lnTo>
                    <a:lnTo>
                      <a:pt x="250" y="235"/>
                    </a:lnTo>
                    <a:lnTo>
                      <a:pt x="246" y="238"/>
                    </a:lnTo>
                    <a:lnTo>
                      <a:pt x="244" y="241"/>
                    </a:lnTo>
                    <a:lnTo>
                      <a:pt x="243" y="245"/>
                    </a:lnTo>
                    <a:lnTo>
                      <a:pt x="243" y="251"/>
                    </a:lnTo>
                    <a:lnTo>
                      <a:pt x="243" y="253"/>
                    </a:lnTo>
                    <a:lnTo>
                      <a:pt x="243" y="253"/>
                    </a:lnTo>
                    <a:lnTo>
                      <a:pt x="245" y="264"/>
                    </a:lnTo>
                    <a:lnTo>
                      <a:pt x="245" y="264"/>
                    </a:lnTo>
                    <a:lnTo>
                      <a:pt x="249" y="274"/>
                    </a:lnTo>
                    <a:lnTo>
                      <a:pt x="249" y="274"/>
                    </a:lnTo>
                    <a:lnTo>
                      <a:pt x="251" y="284"/>
                    </a:lnTo>
                    <a:lnTo>
                      <a:pt x="251" y="284"/>
                    </a:lnTo>
                    <a:lnTo>
                      <a:pt x="253" y="294"/>
                    </a:lnTo>
                    <a:lnTo>
                      <a:pt x="253" y="294"/>
                    </a:lnTo>
                    <a:lnTo>
                      <a:pt x="256" y="304"/>
                    </a:lnTo>
                    <a:lnTo>
                      <a:pt x="256" y="304"/>
                    </a:lnTo>
                    <a:lnTo>
                      <a:pt x="260" y="312"/>
                    </a:lnTo>
                    <a:lnTo>
                      <a:pt x="260" y="312"/>
                    </a:lnTo>
                    <a:lnTo>
                      <a:pt x="264" y="318"/>
                    </a:lnTo>
                    <a:lnTo>
                      <a:pt x="264" y="318"/>
                    </a:lnTo>
                    <a:lnTo>
                      <a:pt x="269" y="324"/>
                    </a:lnTo>
                    <a:lnTo>
                      <a:pt x="269" y="324"/>
                    </a:lnTo>
                    <a:lnTo>
                      <a:pt x="274" y="329"/>
                    </a:lnTo>
                    <a:lnTo>
                      <a:pt x="274" y="329"/>
                    </a:lnTo>
                    <a:lnTo>
                      <a:pt x="280" y="334"/>
                    </a:lnTo>
                    <a:lnTo>
                      <a:pt x="280" y="334"/>
                    </a:lnTo>
                    <a:lnTo>
                      <a:pt x="284" y="341"/>
                    </a:lnTo>
                    <a:lnTo>
                      <a:pt x="284" y="341"/>
                    </a:lnTo>
                    <a:lnTo>
                      <a:pt x="289" y="351"/>
                    </a:lnTo>
                    <a:lnTo>
                      <a:pt x="289" y="351"/>
                    </a:lnTo>
                    <a:lnTo>
                      <a:pt x="294" y="361"/>
                    </a:lnTo>
                    <a:lnTo>
                      <a:pt x="294" y="361"/>
                    </a:lnTo>
                    <a:lnTo>
                      <a:pt x="297" y="372"/>
                    </a:lnTo>
                    <a:lnTo>
                      <a:pt x="297" y="372"/>
                    </a:lnTo>
                    <a:lnTo>
                      <a:pt x="298" y="384"/>
                    </a:lnTo>
                    <a:lnTo>
                      <a:pt x="298" y="384"/>
                    </a:lnTo>
                    <a:lnTo>
                      <a:pt x="299" y="395"/>
                    </a:lnTo>
                    <a:lnTo>
                      <a:pt x="299" y="395"/>
                    </a:lnTo>
                    <a:lnTo>
                      <a:pt x="299" y="406"/>
                    </a:lnTo>
                    <a:lnTo>
                      <a:pt x="299" y="406"/>
                    </a:lnTo>
                    <a:lnTo>
                      <a:pt x="299" y="417"/>
                    </a:lnTo>
                    <a:lnTo>
                      <a:pt x="299" y="417"/>
                    </a:lnTo>
                    <a:lnTo>
                      <a:pt x="299" y="425"/>
                    </a:lnTo>
                    <a:lnTo>
                      <a:pt x="299" y="425"/>
                    </a:lnTo>
                    <a:lnTo>
                      <a:pt x="299" y="433"/>
                    </a:lnTo>
                    <a:lnTo>
                      <a:pt x="299" y="433"/>
                    </a:lnTo>
                    <a:lnTo>
                      <a:pt x="299" y="447"/>
                    </a:lnTo>
                    <a:lnTo>
                      <a:pt x="299" y="447"/>
                    </a:lnTo>
                    <a:lnTo>
                      <a:pt x="297" y="457"/>
                    </a:lnTo>
                    <a:lnTo>
                      <a:pt x="297" y="457"/>
                    </a:lnTo>
                    <a:lnTo>
                      <a:pt x="294" y="468"/>
                    </a:lnTo>
                    <a:lnTo>
                      <a:pt x="294" y="468"/>
                    </a:lnTo>
                    <a:lnTo>
                      <a:pt x="290" y="479"/>
                    </a:lnTo>
                    <a:lnTo>
                      <a:pt x="290" y="479"/>
                    </a:lnTo>
                    <a:lnTo>
                      <a:pt x="283" y="489"/>
                    </a:lnTo>
                    <a:lnTo>
                      <a:pt x="283" y="489"/>
                    </a:lnTo>
                    <a:lnTo>
                      <a:pt x="276" y="498"/>
                    </a:lnTo>
                    <a:lnTo>
                      <a:pt x="276" y="498"/>
                    </a:lnTo>
                    <a:lnTo>
                      <a:pt x="267" y="506"/>
                    </a:lnTo>
                    <a:lnTo>
                      <a:pt x="267" y="506"/>
                    </a:lnTo>
                    <a:lnTo>
                      <a:pt x="250" y="516"/>
                    </a:lnTo>
                    <a:lnTo>
                      <a:pt x="250" y="516"/>
                    </a:lnTo>
                    <a:lnTo>
                      <a:pt x="237" y="521"/>
                    </a:lnTo>
                    <a:lnTo>
                      <a:pt x="237" y="521"/>
                    </a:lnTo>
                    <a:lnTo>
                      <a:pt x="220" y="526"/>
                    </a:lnTo>
                    <a:lnTo>
                      <a:pt x="220" y="526"/>
                    </a:lnTo>
                    <a:lnTo>
                      <a:pt x="204" y="532"/>
                    </a:lnTo>
                    <a:lnTo>
                      <a:pt x="204" y="532"/>
                    </a:lnTo>
                    <a:lnTo>
                      <a:pt x="190" y="537"/>
                    </a:lnTo>
                    <a:lnTo>
                      <a:pt x="190" y="537"/>
                    </a:lnTo>
                    <a:lnTo>
                      <a:pt x="174" y="541"/>
                    </a:lnTo>
                    <a:lnTo>
                      <a:pt x="174" y="541"/>
                    </a:lnTo>
                    <a:lnTo>
                      <a:pt x="163" y="546"/>
                    </a:lnTo>
                    <a:lnTo>
                      <a:pt x="163" y="546"/>
                    </a:lnTo>
                    <a:lnTo>
                      <a:pt x="150" y="550"/>
                    </a:lnTo>
                    <a:lnTo>
                      <a:pt x="150" y="550"/>
                    </a:lnTo>
                    <a:lnTo>
                      <a:pt x="140" y="553"/>
                    </a:lnTo>
                    <a:lnTo>
                      <a:pt x="140" y="553"/>
                    </a:lnTo>
                    <a:lnTo>
                      <a:pt x="130" y="557"/>
                    </a:lnTo>
                    <a:lnTo>
                      <a:pt x="130" y="557"/>
                    </a:lnTo>
                    <a:lnTo>
                      <a:pt x="123" y="560"/>
                    </a:lnTo>
                    <a:lnTo>
                      <a:pt x="123" y="560"/>
                    </a:lnTo>
                    <a:lnTo>
                      <a:pt x="113" y="561"/>
                    </a:lnTo>
                    <a:lnTo>
                      <a:pt x="113" y="561"/>
                    </a:lnTo>
                    <a:lnTo>
                      <a:pt x="107" y="563"/>
                    </a:lnTo>
                    <a:lnTo>
                      <a:pt x="107" y="563"/>
                    </a:lnTo>
                    <a:lnTo>
                      <a:pt x="100" y="568"/>
                    </a:lnTo>
                    <a:lnTo>
                      <a:pt x="100" y="568"/>
                    </a:lnTo>
                    <a:lnTo>
                      <a:pt x="95" y="576"/>
                    </a:lnTo>
                    <a:lnTo>
                      <a:pt x="95" y="576"/>
                    </a:lnTo>
                    <a:lnTo>
                      <a:pt x="90" y="581"/>
                    </a:lnTo>
                    <a:lnTo>
                      <a:pt x="90" y="581"/>
                    </a:lnTo>
                    <a:lnTo>
                      <a:pt x="81" y="587"/>
                    </a:lnTo>
                    <a:lnTo>
                      <a:pt x="81" y="587"/>
                    </a:lnTo>
                    <a:lnTo>
                      <a:pt x="71" y="591"/>
                    </a:lnTo>
                    <a:lnTo>
                      <a:pt x="71" y="591"/>
                    </a:lnTo>
                    <a:lnTo>
                      <a:pt x="62" y="596"/>
                    </a:lnTo>
                    <a:lnTo>
                      <a:pt x="62" y="596"/>
                    </a:lnTo>
                    <a:lnTo>
                      <a:pt x="46" y="606"/>
                    </a:lnTo>
                    <a:lnTo>
                      <a:pt x="46" y="606"/>
                    </a:lnTo>
                    <a:lnTo>
                      <a:pt x="31" y="621"/>
                    </a:lnTo>
                    <a:lnTo>
                      <a:pt x="31" y="621"/>
                    </a:lnTo>
                    <a:lnTo>
                      <a:pt x="17" y="636"/>
                    </a:lnTo>
                    <a:lnTo>
                      <a:pt x="17" y="636"/>
                    </a:lnTo>
                    <a:lnTo>
                      <a:pt x="3" y="657"/>
                    </a:lnTo>
                    <a:lnTo>
                      <a:pt x="3" y="657"/>
                    </a:lnTo>
                    <a:lnTo>
                      <a:pt x="0" y="660"/>
                    </a:lnTo>
                    <a:lnTo>
                      <a:pt x="0" y="660"/>
                    </a:lnTo>
                    <a:lnTo>
                      <a:pt x="7" y="692"/>
                    </a:lnTo>
                    <a:lnTo>
                      <a:pt x="14" y="725"/>
                    </a:lnTo>
                    <a:lnTo>
                      <a:pt x="23" y="757"/>
                    </a:lnTo>
                    <a:lnTo>
                      <a:pt x="33" y="789"/>
                    </a:lnTo>
                    <a:lnTo>
                      <a:pt x="44" y="819"/>
                    </a:lnTo>
                    <a:lnTo>
                      <a:pt x="57" y="850"/>
                    </a:lnTo>
                    <a:lnTo>
                      <a:pt x="70" y="880"/>
                    </a:lnTo>
                    <a:lnTo>
                      <a:pt x="84" y="909"/>
                    </a:lnTo>
                    <a:lnTo>
                      <a:pt x="99" y="938"/>
                    </a:lnTo>
                    <a:lnTo>
                      <a:pt x="115" y="965"/>
                    </a:lnTo>
                    <a:lnTo>
                      <a:pt x="133" y="993"/>
                    </a:lnTo>
                    <a:lnTo>
                      <a:pt x="151" y="1020"/>
                    </a:lnTo>
                    <a:lnTo>
                      <a:pt x="169" y="1047"/>
                    </a:lnTo>
                    <a:lnTo>
                      <a:pt x="190" y="1072"/>
                    </a:lnTo>
                    <a:lnTo>
                      <a:pt x="210" y="1096"/>
                    </a:lnTo>
                    <a:lnTo>
                      <a:pt x="232" y="1121"/>
                    </a:lnTo>
                    <a:lnTo>
                      <a:pt x="255" y="1143"/>
                    </a:lnTo>
                    <a:lnTo>
                      <a:pt x="278" y="1165"/>
                    </a:lnTo>
                    <a:lnTo>
                      <a:pt x="301" y="1188"/>
                    </a:lnTo>
                    <a:lnTo>
                      <a:pt x="327" y="1208"/>
                    </a:lnTo>
                    <a:lnTo>
                      <a:pt x="352" y="1228"/>
                    </a:lnTo>
                    <a:lnTo>
                      <a:pt x="379" y="1247"/>
                    </a:lnTo>
                    <a:lnTo>
                      <a:pt x="405" y="1265"/>
                    </a:lnTo>
                    <a:lnTo>
                      <a:pt x="432" y="1282"/>
                    </a:lnTo>
                    <a:lnTo>
                      <a:pt x="461" y="1299"/>
                    </a:lnTo>
                    <a:lnTo>
                      <a:pt x="489" y="1314"/>
                    </a:lnTo>
                    <a:lnTo>
                      <a:pt x="519" y="1328"/>
                    </a:lnTo>
                    <a:lnTo>
                      <a:pt x="549" y="1341"/>
                    </a:lnTo>
                    <a:lnTo>
                      <a:pt x="580" y="1352"/>
                    </a:lnTo>
                    <a:lnTo>
                      <a:pt x="610" y="1363"/>
                    </a:lnTo>
                    <a:lnTo>
                      <a:pt x="642" y="1374"/>
                    </a:lnTo>
                    <a:lnTo>
                      <a:pt x="674" y="1383"/>
                    </a:lnTo>
                    <a:lnTo>
                      <a:pt x="672" y="1381"/>
                    </a:lnTo>
                    <a:lnTo>
                      <a:pt x="671" y="1381"/>
                    </a:lnTo>
                    <a:lnTo>
                      <a:pt x="671" y="1381"/>
                    </a:lnTo>
                    <a:lnTo>
                      <a:pt x="663" y="1372"/>
                    </a:lnTo>
                    <a:lnTo>
                      <a:pt x="663" y="1372"/>
                    </a:lnTo>
                    <a:lnTo>
                      <a:pt x="662" y="1372"/>
                    </a:lnTo>
                    <a:lnTo>
                      <a:pt x="662" y="1372"/>
                    </a:lnTo>
                    <a:lnTo>
                      <a:pt x="657" y="1363"/>
                    </a:lnTo>
                    <a:lnTo>
                      <a:pt x="650" y="1354"/>
                    </a:lnTo>
                    <a:lnTo>
                      <a:pt x="650" y="1353"/>
                    </a:lnTo>
                    <a:lnTo>
                      <a:pt x="650" y="1353"/>
                    </a:lnTo>
                    <a:lnTo>
                      <a:pt x="647" y="1345"/>
                    </a:lnTo>
                    <a:lnTo>
                      <a:pt x="646" y="1344"/>
                    </a:lnTo>
                    <a:lnTo>
                      <a:pt x="646" y="1344"/>
                    </a:lnTo>
                    <a:lnTo>
                      <a:pt x="645" y="1333"/>
                    </a:lnTo>
                    <a:lnTo>
                      <a:pt x="645" y="1333"/>
                    </a:lnTo>
                    <a:lnTo>
                      <a:pt x="645" y="1333"/>
                    </a:lnTo>
                    <a:lnTo>
                      <a:pt x="645" y="1318"/>
                    </a:lnTo>
                    <a:lnTo>
                      <a:pt x="645" y="1318"/>
                    </a:lnTo>
                    <a:lnTo>
                      <a:pt x="645" y="1317"/>
                    </a:lnTo>
                    <a:lnTo>
                      <a:pt x="647" y="1309"/>
                    </a:lnTo>
                    <a:lnTo>
                      <a:pt x="647" y="1309"/>
                    </a:lnTo>
                    <a:lnTo>
                      <a:pt x="647" y="1308"/>
                    </a:lnTo>
                    <a:lnTo>
                      <a:pt x="652" y="1301"/>
                    </a:lnTo>
                    <a:lnTo>
                      <a:pt x="652" y="1300"/>
                    </a:lnTo>
                    <a:lnTo>
                      <a:pt x="653" y="1300"/>
                    </a:lnTo>
                    <a:lnTo>
                      <a:pt x="660" y="1294"/>
                    </a:lnTo>
                    <a:lnTo>
                      <a:pt x="661" y="1293"/>
                    </a:lnTo>
                    <a:lnTo>
                      <a:pt x="661" y="1293"/>
                    </a:lnTo>
                    <a:lnTo>
                      <a:pt x="668" y="1292"/>
                    </a:lnTo>
                    <a:lnTo>
                      <a:pt x="669" y="1291"/>
                    </a:lnTo>
                    <a:lnTo>
                      <a:pt x="670" y="1292"/>
                    </a:lnTo>
                    <a:lnTo>
                      <a:pt x="675" y="1293"/>
                    </a:lnTo>
                    <a:lnTo>
                      <a:pt x="681" y="1293"/>
                    </a:lnTo>
                    <a:lnTo>
                      <a:pt x="684" y="1290"/>
                    </a:lnTo>
                    <a:lnTo>
                      <a:pt x="688" y="1286"/>
                    </a:lnTo>
                    <a:lnTo>
                      <a:pt x="690" y="1281"/>
                    </a:lnTo>
                    <a:lnTo>
                      <a:pt x="691" y="1275"/>
                    </a:lnTo>
                    <a:lnTo>
                      <a:pt x="688" y="1269"/>
                    </a:lnTo>
                    <a:lnTo>
                      <a:pt x="684" y="1264"/>
                    </a:lnTo>
                    <a:lnTo>
                      <a:pt x="678" y="1258"/>
                    </a:lnTo>
                    <a:lnTo>
                      <a:pt x="678" y="1258"/>
                    </a:lnTo>
                    <a:lnTo>
                      <a:pt x="678" y="1257"/>
                    </a:lnTo>
                    <a:lnTo>
                      <a:pt x="678" y="1257"/>
                    </a:lnTo>
                    <a:lnTo>
                      <a:pt x="671" y="1248"/>
                    </a:lnTo>
                    <a:lnTo>
                      <a:pt x="664" y="1235"/>
                    </a:lnTo>
                    <a:lnTo>
                      <a:pt x="660" y="1229"/>
                    </a:lnTo>
                    <a:lnTo>
                      <a:pt x="659" y="1229"/>
                    </a:lnTo>
                    <a:lnTo>
                      <a:pt x="659" y="1228"/>
                    </a:lnTo>
                    <a:lnTo>
                      <a:pt x="659" y="1228"/>
                    </a:lnTo>
                    <a:lnTo>
                      <a:pt x="656" y="1219"/>
                    </a:lnTo>
                    <a:lnTo>
                      <a:pt x="656" y="1219"/>
                    </a:lnTo>
                    <a:lnTo>
                      <a:pt x="651" y="1211"/>
                    </a:lnTo>
                    <a:lnTo>
                      <a:pt x="647" y="1203"/>
                    </a:lnTo>
                    <a:lnTo>
                      <a:pt x="647" y="1203"/>
                    </a:lnTo>
                    <a:lnTo>
                      <a:pt x="647" y="1203"/>
                    </a:lnTo>
                    <a:lnTo>
                      <a:pt x="644" y="1194"/>
                    </a:lnTo>
                    <a:lnTo>
                      <a:pt x="644" y="1193"/>
                    </a:lnTo>
                    <a:lnTo>
                      <a:pt x="644" y="1193"/>
                    </a:lnTo>
                    <a:lnTo>
                      <a:pt x="644" y="1193"/>
                    </a:lnTo>
                    <a:lnTo>
                      <a:pt x="645" y="1187"/>
                    </a:lnTo>
                    <a:lnTo>
                      <a:pt x="646" y="1177"/>
                    </a:lnTo>
                    <a:lnTo>
                      <a:pt x="646" y="1163"/>
                    </a:lnTo>
                    <a:lnTo>
                      <a:pt x="646" y="1163"/>
                    </a:lnTo>
                    <a:lnTo>
                      <a:pt x="646" y="1148"/>
                    </a:lnTo>
                    <a:lnTo>
                      <a:pt x="646" y="1134"/>
                    </a:lnTo>
                    <a:lnTo>
                      <a:pt x="646" y="1134"/>
                    </a:lnTo>
                    <a:lnTo>
                      <a:pt x="644" y="1123"/>
                    </a:lnTo>
                    <a:lnTo>
                      <a:pt x="644" y="1123"/>
                    </a:lnTo>
                    <a:lnTo>
                      <a:pt x="642" y="1111"/>
                    </a:lnTo>
                    <a:lnTo>
                      <a:pt x="642" y="1111"/>
                    </a:lnTo>
                    <a:lnTo>
                      <a:pt x="640" y="1102"/>
                    </a:lnTo>
                    <a:lnTo>
                      <a:pt x="637" y="1094"/>
                    </a:lnTo>
                    <a:lnTo>
                      <a:pt x="636" y="1090"/>
                    </a:lnTo>
                    <a:lnTo>
                      <a:pt x="636" y="1090"/>
                    </a:lnTo>
                    <a:lnTo>
                      <a:pt x="635" y="1090"/>
                    </a:lnTo>
                    <a:lnTo>
                      <a:pt x="634" y="1084"/>
                    </a:lnTo>
                    <a:lnTo>
                      <a:pt x="634" y="1084"/>
                    </a:lnTo>
                    <a:lnTo>
                      <a:pt x="634" y="1084"/>
                    </a:lnTo>
                    <a:lnTo>
                      <a:pt x="633" y="1077"/>
                    </a:lnTo>
                    <a:lnTo>
                      <a:pt x="633" y="1077"/>
                    </a:lnTo>
                    <a:lnTo>
                      <a:pt x="633" y="1076"/>
                    </a:lnTo>
                    <a:lnTo>
                      <a:pt x="633" y="1070"/>
                    </a:lnTo>
                    <a:lnTo>
                      <a:pt x="633" y="1070"/>
                    </a:lnTo>
                    <a:lnTo>
                      <a:pt x="633" y="1064"/>
                    </a:lnTo>
                    <a:lnTo>
                      <a:pt x="633" y="1063"/>
                    </a:lnTo>
                    <a:lnTo>
                      <a:pt x="633" y="1063"/>
                    </a:lnTo>
                    <a:lnTo>
                      <a:pt x="633" y="1063"/>
                    </a:lnTo>
                    <a:lnTo>
                      <a:pt x="636" y="1056"/>
                    </a:lnTo>
                    <a:lnTo>
                      <a:pt x="640" y="1052"/>
                    </a:lnTo>
                    <a:lnTo>
                      <a:pt x="640" y="1041"/>
                    </a:lnTo>
                    <a:lnTo>
                      <a:pt x="640" y="1041"/>
                    </a:lnTo>
                    <a:lnTo>
                      <a:pt x="640" y="1032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39" y="1024"/>
                    </a:lnTo>
                    <a:lnTo>
                      <a:pt x="640" y="1016"/>
                    </a:lnTo>
                    <a:lnTo>
                      <a:pt x="640" y="1009"/>
                    </a:lnTo>
                    <a:lnTo>
                      <a:pt x="640" y="1002"/>
                    </a:lnTo>
                    <a:lnTo>
                      <a:pt x="640" y="1002"/>
                    </a:lnTo>
                    <a:lnTo>
                      <a:pt x="640" y="1001"/>
                    </a:lnTo>
                    <a:lnTo>
                      <a:pt x="641" y="996"/>
                    </a:lnTo>
                    <a:lnTo>
                      <a:pt x="641" y="995"/>
                    </a:lnTo>
                    <a:lnTo>
                      <a:pt x="642" y="994"/>
                    </a:lnTo>
                    <a:lnTo>
                      <a:pt x="646" y="991"/>
                    </a:lnTo>
                    <a:lnTo>
                      <a:pt x="647" y="990"/>
                    </a:lnTo>
                    <a:lnTo>
                      <a:pt x="649" y="990"/>
                    </a:lnTo>
                    <a:lnTo>
                      <a:pt x="653" y="990"/>
                    </a:lnTo>
                    <a:lnTo>
                      <a:pt x="654" y="991"/>
                    </a:lnTo>
                    <a:lnTo>
                      <a:pt x="655" y="992"/>
                    </a:lnTo>
                    <a:lnTo>
                      <a:pt x="659" y="995"/>
                    </a:lnTo>
                    <a:lnTo>
                      <a:pt x="660" y="996"/>
                    </a:lnTo>
                    <a:lnTo>
                      <a:pt x="660" y="996"/>
                    </a:lnTo>
                    <a:lnTo>
                      <a:pt x="660" y="996"/>
                    </a:lnTo>
                    <a:lnTo>
                      <a:pt x="665" y="1007"/>
                    </a:lnTo>
                    <a:lnTo>
                      <a:pt x="665" y="1007"/>
                    </a:lnTo>
                    <a:lnTo>
                      <a:pt x="669" y="1017"/>
                    </a:lnTo>
                    <a:lnTo>
                      <a:pt x="669" y="1017"/>
                    </a:lnTo>
                    <a:lnTo>
                      <a:pt x="675" y="1031"/>
                    </a:lnTo>
                    <a:lnTo>
                      <a:pt x="675" y="1031"/>
                    </a:lnTo>
                    <a:lnTo>
                      <a:pt x="680" y="1044"/>
                    </a:lnTo>
                    <a:lnTo>
                      <a:pt x="680" y="1044"/>
                    </a:lnTo>
                    <a:lnTo>
                      <a:pt x="685" y="1058"/>
                    </a:lnTo>
                    <a:lnTo>
                      <a:pt x="685" y="1058"/>
                    </a:lnTo>
                    <a:lnTo>
                      <a:pt x="689" y="1073"/>
                    </a:lnTo>
                    <a:lnTo>
                      <a:pt x="692" y="1084"/>
                    </a:lnTo>
                    <a:lnTo>
                      <a:pt x="692" y="1085"/>
                    </a:lnTo>
                    <a:lnTo>
                      <a:pt x="692" y="1085"/>
                    </a:lnTo>
                    <a:lnTo>
                      <a:pt x="692" y="1092"/>
                    </a:lnTo>
                    <a:lnTo>
                      <a:pt x="692" y="1093"/>
                    </a:lnTo>
                    <a:lnTo>
                      <a:pt x="692" y="1093"/>
                    </a:lnTo>
                    <a:lnTo>
                      <a:pt x="691" y="1103"/>
                    </a:lnTo>
                    <a:lnTo>
                      <a:pt x="690" y="1104"/>
                    </a:lnTo>
                    <a:lnTo>
                      <a:pt x="690" y="1105"/>
                    </a:lnTo>
                    <a:lnTo>
                      <a:pt x="683" y="1113"/>
                    </a:lnTo>
                    <a:lnTo>
                      <a:pt x="681" y="1118"/>
                    </a:lnTo>
                    <a:lnTo>
                      <a:pt x="681" y="1128"/>
                    </a:lnTo>
                    <a:lnTo>
                      <a:pt x="683" y="1137"/>
                    </a:lnTo>
                    <a:lnTo>
                      <a:pt x="683" y="1137"/>
                    </a:lnTo>
                    <a:lnTo>
                      <a:pt x="689" y="1143"/>
                    </a:lnTo>
                    <a:lnTo>
                      <a:pt x="689" y="1143"/>
                    </a:lnTo>
                    <a:lnTo>
                      <a:pt x="697" y="1149"/>
                    </a:lnTo>
                    <a:lnTo>
                      <a:pt x="701" y="1153"/>
                    </a:lnTo>
                    <a:lnTo>
                      <a:pt x="702" y="1153"/>
                    </a:lnTo>
                    <a:lnTo>
                      <a:pt x="702" y="1154"/>
                    </a:lnTo>
                    <a:lnTo>
                      <a:pt x="706" y="1162"/>
                    </a:lnTo>
                    <a:lnTo>
                      <a:pt x="707" y="1163"/>
                    </a:lnTo>
                    <a:lnTo>
                      <a:pt x="706" y="1164"/>
                    </a:lnTo>
                    <a:lnTo>
                      <a:pt x="706" y="1170"/>
                    </a:lnTo>
                    <a:lnTo>
                      <a:pt x="706" y="1172"/>
                    </a:lnTo>
                    <a:lnTo>
                      <a:pt x="705" y="1173"/>
                    </a:lnTo>
                    <a:lnTo>
                      <a:pt x="701" y="1176"/>
                    </a:lnTo>
                    <a:lnTo>
                      <a:pt x="699" y="1179"/>
                    </a:lnTo>
                    <a:lnTo>
                      <a:pt x="700" y="1182"/>
                    </a:lnTo>
                    <a:lnTo>
                      <a:pt x="705" y="1185"/>
                    </a:lnTo>
                    <a:lnTo>
                      <a:pt x="706" y="1186"/>
                    </a:lnTo>
                    <a:lnTo>
                      <a:pt x="706" y="1187"/>
                    </a:lnTo>
                    <a:lnTo>
                      <a:pt x="709" y="1194"/>
                    </a:lnTo>
                    <a:lnTo>
                      <a:pt x="709" y="1195"/>
                    </a:lnTo>
                    <a:lnTo>
                      <a:pt x="709" y="1195"/>
                    </a:lnTo>
                    <a:lnTo>
                      <a:pt x="709" y="1195"/>
                    </a:lnTo>
                    <a:lnTo>
                      <a:pt x="710" y="1208"/>
                    </a:lnTo>
                    <a:lnTo>
                      <a:pt x="710" y="1221"/>
                    </a:lnTo>
                    <a:lnTo>
                      <a:pt x="710" y="1221"/>
                    </a:lnTo>
                    <a:lnTo>
                      <a:pt x="710" y="1235"/>
                    </a:lnTo>
                    <a:lnTo>
                      <a:pt x="710" y="1235"/>
                    </a:lnTo>
                    <a:lnTo>
                      <a:pt x="711" y="1247"/>
                    </a:lnTo>
                    <a:lnTo>
                      <a:pt x="711" y="1247"/>
                    </a:lnTo>
                    <a:lnTo>
                      <a:pt x="711" y="1259"/>
                    </a:lnTo>
                    <a:lnTo>
                      <a:pt x="712" y="1267"/>
                    </a:lnTo>
                    <a:lnTo>
                      <a:pt x="716" y="1273"/>
                    </a:lnTo>
                    <a:lnTo>
                      <a:pt x="717" y="1273"/>
                    </a:lnTo>
                    <a:lnTo>
                      <a:pt x="717" y="1274"/>
                    </a:lnTo>
                    <a:lnTo>
                      <a:pt x="719" y="1282"/>
                    </a:lnTo>
                    <a:lnTo>
                      <a:pt x="719" y="1283"/>
                    </a:lnTo>
                    <a:lnTo>
                      <a:pt x="719" y="1284"/>
                    </a:lnTo>
                    <a:lnTo>
                      <a:pt x="717" y="1290"/>
                    </a:lnTo>
                    <a:lnTo>
                      <a:pt x="717" y="1291"/>
                    </a:lnTo>
                    <a:lnTo>
                      <a:pt x="717" y="1292"/>
                    </a:lnTo>
                    <a:lnTo>
                      <a:pt x="713" y="1296"/>
                    </a:lnTo>
                    <a:lnTo>
                      <a:pt x="712" y="1304"/>
                    </a:lnTo>
                    <a:lnTo>
                      <a:pt x="712" y="1313"/>
                    </a:lnTo>
                    <a:lnTo>
                      <a:pt x="714" y="1320"/>
                    </a:lnTo>
                    <a:lnTo>
                      <a:pt x="715" y="1321"/>
                    </a:lnTo>
                    <a:lnTo>
                      <a:pt x="715" y="1321"/>
                    </a:lnTo>
                    <a:lnTo>
                      <a:pt x="715" y="1321"/>
                    </a:lnTo>
                    <a:lnTo>
                      <a:pt x="716" y="1330"/>
                    </a:lnTo>
                    <a:lnTo>
                      <a:pt x="718" y="1343"/>
                    </a:lnTo>
                    <a:lnTo>
                      <a:pt x="718" y="1343"/>
                    </a:lnTo>
                    <a:lnTo>
                      <a:pt x="720" y="1354"/>
                    </a:lnTo>
                    <a:lnTo>
                      <a:pt x="722" y="1365"/>
                    </a:lnTo>
                    <a:lnTo>
                      <a:pt x="722" y="1366"/>
                    </a:lnTo>
                    <a:lnTo>
                      <a:pt x="722" y="1367"/>
                    </a:lnTo>
                    <a:lnTo>
                      <a:pt x="721" y="1378"/>
                    </a:lnTo>
                    <a:lnTo>
                      <a:pt x="721" y="1379"/>
                    </a:lnTo>
                    <a:lnTo>
                      <a:pt x="721" y="1379"/>
                    </a:lnTo>
                    <a:lnTo>
                      <a:pt x="717" y="1389"/>
                    </a:lnTo>
                    <a:lnTo>
                      <a:pt x="717" y="1392"/>
                    </a:lnTo>
                    <a:lnTo>
                      <a:pt x="717" y="1392"/>
                    </a:lnTo>
                    <a:lnTo>
                      <a:pt x="749" y="1398"/>
                    </a:lnTo>
                    <a:lnTo>
                      <a:pt x="783" y="1403"/>
                    </a:lnTo>
                    <a:lnTo>
                      <a:pt x="816" y="1407"/>
                    </a:lnTo>
                    <a:lnTo>
                      <a:pt x="850" y="1409"/>
                    </a:lnTo>
                    <a:lnTo>
                      <a:pt x="859" y="1319"/>
                    </a:lnTo>
                    <a:lnTo>
                      <a:pt x="859" y="1319"/>
                    </a:lnTo>
                    <a:lnTo>
                      <a:pt x="859" y="1310"/>
                    </a:lnTo>
                    <a:lnTo>
                      <a:pt x="859" y="1296"/>
                    </a:lnTo>
                    <a:lnTo>
                      <a:pt x="859" y="1296"/>
                    </a:lnTo>
                    <a:lnTo>
                      <a:pt x="859" y="1283"/>
                    </a:lnTo>
                    <a:lnTo>
                      <a:pt x="859" y="1283"/>
                    </a:lnTo>
                    <a:lnTo>
                      <a:pt x="860" y="1269"/>
                    </a:lnTo>
                    <a:lnTo>
                      <a:pt x="860" y="1269"/>
                    </a:lnTo>
                    <a:lnTo>
                      <a:pt x="860" y="1256"/>
                    </a:lnTo>
                    <a:lnTo>
                      <a:pt x="860" y="1256"/>
                    </a:lnTo>
                    <a:lnTo>
                      <a:pt x="860" y="1245"/>
                    </a:lnTo>
                    <a:lnTo>
                      <a:pt x="860" y="1245"/>
                    </a:lnTo>
                    <a:lnTo>
                      <a:pt x="860" y="1235"/>
                    </a:lnTo>
                    <a:lnTo>
                      <a:pt x="860" y="1235"/>
                    </a:lnTo>
                    <a:lnTo>
                      <a:pt x="860" y="1224"/>
                    </a:lnTo>
                    <a:lnTo>
                      <a:pt x="860" y="1224"/>
                    </a:lnTo>
                    <a:lnTo>
                      <a:pt x="860" y="1215"/>
                    </a:lnTo>
                    <a:lnTo>
                      <a:pt x="860" y="1215"/>
                    </a:lnTo>
                    <a:lnTo>
                      <a:pt x="859" y="1206"/>
                    </a:lnTo>
                    <a:lnTo>
                      <a:pt x="859" y="1206"/>
                    </a:lnTo>
                    <a:close/>
                    <a:moveTo>
                      <a:pt x="393" y="540"/>
                    </a:moveTo>
                    <a:lnTo>
                      <a:pt x="393" y="540"/>
                    </a:lnTo>
                    <a:lnTo>
                      <a:pt x="408" y="525"/>
                    </a:lnTo>
                    <a:lnTo>
                      <a:pt x="408" y="525"/>
                    </a:lnTo>
                    <a:lnTo>
                      <a:pt x="410" y="523"/>
                    </a:lnTo>
                    <a:lnTo>
                      <a:pt x="412" y="522"/>
                    </a:lnTo>
                    <a:lnTo>
                      <a:pt x="415" y="522"/>
                    </a:lnTo>
                    <a:lnTo>
                      <a:pt x="419" y="522"/>
                    </a:lnTo>
                    <a:lnTo>
                      <a:pt x="423" y="523"/>
                    </a:lnTo>
                    <a:lnTo>
                      <a:pt x="427" y="526"/>
                    </a:lnTo>
                    <a:lnTo>
                      <a:pt x="432" y="531"/>
                    </a:lnTo>
                    <a:lnTo>
                      <a:pt x="432" y="531"/>
                    </a:lnTo>
                    <a:lnTo>
                      <a:pt x="436" y="536"/>
                    </a:lnTo>
                    <a:lnTo>
                      <a:pt x="438" y="540"/>
                    </a:lnTo>
                    <a:lnTo>
                      <a:pt x="439" y="543"/>
                    </a:lnTo>
                    <a:lnTo>
                      <a:pt x="438" y="545"/>
                    </a:lnTo>
                    <a:lnTo>
                      <a:pt x="438" y="545"/>
                    </a:lnTo>
                    <a:lnTo>
                      <a:pt x="430" y="574"/>
                    </a:lnTo>
                    <a:lnTo>
                      <a:pt x="430" y="574"/>
                    </a:lnTo>
                    <a:lnTo>
                      <a:pt x="430" y="575"/>
                    </a:lnTo>
                    <a:lnTo>
                      <a:pt x="429" y="577"/>
                    </a:lnTo>
                    <a:lnTo>
                      <a:pt x="426" y="579"/>
                    </a:lnTo>
                    <a:lnTo>
                      <a:pt x="421" y="580"/>
                    </a:lnTo>
                    <a:lnTo>
                      <a:pt x="421" y="580"/>
                    </a:lnTo>
                    <a:lnTo>
                      <a:pt x="405" y="579"/>
                    </a:lnTo>
                    <a:lnTo>
                      <a:pt x="405" y="579"/>
                    </a:lnTo>
                    <a:lnTo>
                      <a:pt x="403" y="579"/>
                    </a:lnTo>
                    <a:lnTo>
                      <a:pt x="401" y="578"/>
                    </a:lnTo>
                    <a:lnTo>
                      <a:pt x="399" y="575"/>
                    </a:lnTo>
                    <a:lnTo>
                      <a:pt x="399" y="575"/>
                    </a:lnTo>
                    <a:lnTo>
                      <a:pt x="396" y="570"/>
                    </a:lnTo>
                    <a:lnTo>
                      <a:pt x="391" y="561"/>
                    </a:lnTo>
                    <a:lnTo>
                      <a:pt x="390" y="555"/>
                    </a:lnTo>
                    <a:lnTo>
                      <a:pt x="389" y="549"/>
                    </a:lnTo>
                    <a:lnTo>
                      <a:pt x="390" y="544"/>
                    </a:lnTo>
                    <a:lnTo>
                      <a:pt x="391" y="542"/>
                    </a:lnTo>
                    <a:lnTo>
                      <a:pt x="393" y="540"/>
                    </a:lnTo>
                    <a:lnTo>
                      <a:pt x="393" y="540"/>
                    </a:lnTo>
                    <a:close/>
                    <a:moveTo>
                      <a:pt x="457" y="1247"/>
                    </a:moveTo>
                    <a:lnTo>
                      <a:pt x="457" y="1247"/>
                    </a:lnTo>
                    <a:lnTo>
                      <a:pt x="437" y="1221"/>
                    </a:lnTo>
                    <a:lnTo>
                      <a:pt x="422" y="1201"/>
                    </a:lnTo>
                    <a:lnTo>
                      <a:pt x="415" y="1194"/>
                    </a:lnTo>
                    <a:lnTo>
                      <a:pt x="410" y="1190"/>
                    </a:lnTo>
                    <a:lnTo>
                      <a:pt x="410" y="1190"/>
                    </a:lnTo>
                    <a:lnTo>
                      <a:pt x="402" y="925"/>
                    </a:lnTo>
                    <a:lnTo>
                      <a:pt x="393" y="644"/>
                    </a:lnTo>
                    <a:lnTo>
                      <a:pt x="393" y="644"/>
                    </a:lnTo>
                    <a:lnTo>
                      <a:pt x="394" y="620"/>
                    </a:lnTo>
                    <a:lnTo>
                      <a:pt x="394" y="602"/>
                    </a:lnTo>
                    <a:lnTo>
                      <a:pt x="396" y="586"/>
                    </a:lnTo>
                    <a:lnTo>
                      <a:pt x="396" y="586"/>
                    </a:lnTo>
                    <a:lnTo>
                      <a:pt x="397" y="584"/>
                    </a:lnTo>
                    <a:lnTo>
                      <a:pt x="399" y="583"/>
                    </a:lnTo>
                    <a:lnTo>
                      <a:pt x="403" y="582"/>
                    </a:lnTo>
                    <a:lnTo>
                      <a:pt x="403" y="582"/>
                    </a:lnTo>
                    <a:lnTo>
                      <a:pt x="425" y="583"/>
                    </a:lnTo>
                    <a:lnTo>
                      <a:pt x="425" y="583"/>
                    </a:lnTo>
                    <a:lnTo>
                      <a:pt x="427" y="583"/>
                    </a:lnTo>
                    <a:lnTo>
                      <a:pt x="429" y="585"/>
                    </a:lnTo>
                    <a:lnTo>
                      <a:pt x="431" y="588"/>
                    </a:lnTo>
                    <a:lnTo>
                      <a:pt x="431" y="588"/>
                    </a:lnTo>
                    <a:lnTo>
                      <a:pt x="434" y="598"/>
                    </a:lnTo>
                    <a:lnTo>
                      <a:pt x="438" y="620"/>
                    </a:lnTo>
                    <a:lnTo>
                      <a:pt x="451" y="685"/>
                    </a:lnTo>
                    <a:lnTo>
                      <a:pt x="464" y="759"/>
                    </a:lnTo>
                    <a:lnTo>
                      <a:pt x="473" y="818"/>
                    </a:lnTo>
                    <a:lnTo>
                      <a:pt x="473" y="818"/>
                    </a:lnTo>
                    <a:lnTo>
                      <a:pt x="477" y="855"/>
                    </a:lnTo>
                    <a:lnTo>
                      <a:pt x="482" y="905"/>
                    </a:lnTo>
                    <a:lnTo>
                      <a:pt x="490" y="1022"/>
                    </a:lnTo>
                    <a:lnTo>
                      <a:pt x="496" y="1131"/>
                    </a:lnTo>
                    <a:lnTo>
                      <a:pt x="499" y="1190"/>
                    </a:lnTo>
                    <a:lnTo>
                      <a:pt x="457" y="12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78"/>
              <p:cNvSpPr/>
              <p:nvPr/>
            </p:nvSpPr>
            <p:spPr>
              <a:xfrm>
                <a:off x="8246160" y="803880"/>
                <a:ext cx="245880" cy="405000"/>
              </a:xfrm>
              <a:custGeom>
                <a:avLst/>
                <a:gdLst/>
                <a:ahLst/>
                <a:rect l="l" t="t" r="r" b="b"/>
                <a:pathLst>
                  <a:path w="851" h="1388">
                    <a:moveTo>
                      <a:pt x="851" y="648"/>
                    </a:moveTo>
                    <a:lnTo>
                      <a:pt x="851" y="648"/>
                    </a:lnTo>
                    <a:lnTo>
                      <a:pt x="843" y="637"/>
                    </a:lnTo>
                    <a:lnTo>
                      <a:pt x="843" y="637"/>
                    </a:lnTo>
                    <a:lnTo>
                      <a:pt x="829" y="623"/>
                    </a:lnTo>
                    <a:lnTo>
                      <a:pt x="829" y="623"/>
                    </a:lnTo>
                    <a:lnTo>
                      <a:pt x="814" y="606"/>
                    </a:lnTo>
                    <a:lnTo>
                      <a:pt x="814" y="606"/>
                    </a:lnTo>
                    <a:lnTo>
                      <a:pt x="799" y="596"/>
                    </a:lnTo>
                    <a:lnTo>
                      <a:pt x="799" y="596"/>
                    </a:lnTo>
                    <a:lnTo>
                      <a:pt x="789" y="591"/>
                    </a:lnTo>
                    <a:lnTo>
                      <a:pt x="789" y="591"/>
                    </a:lnTo>
                    <a:lnTo>
                      <a:pt x="779" y="587"/>
                    </a:lnTo>
                    <a:lnTo>
                      <a:pt x="779" y="587"/>
                    </a:lnTo>
                    <a:lnTo>
                      <a:pt x="770" y="581"/>
                    </a:lnTo>
                    <a:lnTo>
                      <a:pt x="770" y="581"/>
                    </a:lnTo>
                    <a:lnTo>
                      <a:pt x="765" y="576"/>
                    </a:lnTo>
                    <a:lnTo>
                      <a:pt x="765" y="576"/>
                    </a:lnTo>
                    <a:lnTo>
                      <a:pt x="760" y="569"/>
                    </a:lnTo>
                    <a:lnTo>
                      <a:pt x="760" y="569"/>
                    </a:lnTo>
                    <a:lnTo>
                      <a:pt x="754" y="564"/>
                    </a:lnTo>
                    <a:lnTo>
                      <a:pt x="754" y="564"/>
                    </a:lnTo>
                    <a:lnTo>
                      <a:pt x="747" y="562"/>
                    </a:lnTo>
                    <a:lnTo>
                      <a:pt x="747" y="562"/>
                    </a:lnTo>
                    <a:lnTo>
                      <a:pt x="739" y="561"/>
                    </a:lnTo>
                    <a:lnTo>
                      <a:pt x="739" y="561"/>
                    </a:lnTo>
                    <a:lnTo>
                      <a:pt x="730" y="558"/>
                    </a:lnTo>
                    <a:lnTo>
                      <a:pt x="730" y="558"/>
                    </a:lnTo>
                    <a:lnTo>
                      <a:pt x="720" y="554"/>
                    </a:lnTo>
                    <a:lnTo>
                      <a:pt x="720" y="554"/>
                    </a:lnTo>
                    <a:lnTo>
                      <a:pt x="711" y="550"/>
                    </a:lnTo>
                    <a:lnTo>
                      <a:pt x="711" y="550"/>
                    </a:lnTo>
                    <a:lnTo>
                      <a:pt x="697" y="546"/>
                    </a:lnTo>
                    <a:lnTo>
                      <a:pt x="697" y="546"/>
                    </a:lnTo>
                    <a:lnTo>
                      <a:pt x="686" y="541"/>
                    </a:lnTo>
                    <a:lnTo>
                      <a:pt x="686" y="541"/>
                    </a:lnTo>
                    <a:lnTo>
                      <a:pt x="671" y="537"/>
                    </a:lnTo>
                    <a:lnTo>
                      <a:pt x="671" y="537"/>
                    </a:lnTo>
                    <a:lnTo>
                      <a:pt x="657" y="532"/>
                    </a:lnTo>
                    <a:lnTo>
                      <a:pt x="657" y="532"/>
                    </a:lnTo>
                    <a:lnTo>
                      <a:pt x="640" y="526"/>
                    </a:lnTo>
                    <a:lnTo>
                      <a:pt x="640" y="526"/>
                    </a:lnTo>
                    <a:lnTo>
                      <a:pt x="624" y="521"/>
                    </a:lnTo>
                    <a:lnTo>
                      <a:pt x="624" y="521"/>
                    </a:lnTo>
                    <a:lnTo>
                      <a:pt x="611" y="516"/>
                    </a:lnTo>
                    <a:lnTo>
                      <a:pt x="611" y="516"/>
                    </a:lnTo>
                    <a:lnTo>
                      <a:pt x="593" y="507"/>
                    </a:lnTo>
                    <a:lnTo>
                      <a:pt x="593" y="507"/>
                    </a:lnTo>
                    <a:lnTo>
                      <a:pt x="584" y="499"/>
                    </a:lnTo>
                    <a:lnTo>
                      <a:pt x="584" y="499"/>
                    </a:lnTo>
                    <a:lnTo>
                      <a:pt x="577" y="490"/>
                    </a:lnTo>
                    <a:lnTo>
                      <a:pt x="577" y="490"/>
                    </a:lnTo>
                    <a:lnTo>
                      <a:pt x="570" y="479"/>
                    </a:lnTo>
                    <a:lnTo>
                      <a:pt x="570" y="479"/>
                    </a:lnTo>
                    <a:lnTo>
                      <a:pt x="566" y="469"/>
                    </a:lnTo>
                    <a:lnTo>
                      <a:pt x="566" y="469"/>
                    </a:lnTo>
                    <a:lnTo>
                      <a:pt x="564" y="457"/>
                    </a:lnTo>
                    <a:lnTo>
                      <a:pt x="564" y="457"/>
                    </a:lnTo>
                    <a:lnTo>
                      <a:pt x="562" y="447"/>
                    </a:lnTo>
                    <a:lnTo>
                      <a:pt x="562" y="447"/>
                    </a:lnTo>
                    <a:lnTo>
                      <a:pt x="561" y="434"/>
                    </a:lnTo>
                    <a:lnTo>
                      <a:pt x="561" y="434"/>
                    </a:lnTo>
                    <a:lnTo>
                      <a:pt x="561" y="426"/>
                    </a:lnTo>
                    <a:lnTo>
                      <a:pt x="561" y="426"/>
                    </a:lnTo>
                    <a:lnTo>
                      <a:pt x="561" y="417"/>
                    </a:lnTo>
                    <a:lnTo>
                      <a:pt x="561" y="417"/>
                    </a:lnTo>
                    <a:lnTo>
                      <a:pt x="561" y="406"/>
                    </a:lnTo>
                    <a:lnTo>
                      <a:pt x="561" y="406"/>
                    </a:lnTo>
                    <a:lnTo>
                      <a:pt x="562" y="395"/>
                    </a:lnTo>
                    <a:lnTo>
                      <a:pt x="562" y="395"/>
                    </a:lnTo>
                    <a:lnTo>
                      <a:pt x="562" y="384"/>
                    </a:lnTo>
                    <a:lnTo>
                      <a:pt x="562" y="384"/>
                    </a:lnTo>
                    <a:lnTo>
                      <a:pt x="564" y="373"/>
                    </a:lnTo>
                    <a:lnTo>
                      <a:pt x="564" y="373"/>
                    </a:lnTo>
                    <a:lnTo>
                      <a:pt x="566" y="362"/>
                    </a:lnTo>
                    <a:lnTo>
                      <a:pt x="566" y="362"/>
                    </a:lnTo>
                    <a:lnTo>
                      <a:pt x="571" y="351"/>
                    </a:lnTo>
                    <a:lnTo>
                      <a:pt x="571" y="351"/>
                    </a:lnTo>
                    <a:lnTo>
                      <a:pt x="576" y="341"/>
                    </a:lnTo>
                    <a:lnTo>
                      <a:pt x="576" y="341"/>
                    </a:lnTo>
                    <a:lnTo>
                      <a:pt x="580" y="334"/>
                    </a:lnTo>
                    <a:lnTo>
                      <a:pt x="580" y="334"/>
                    </a:lnTo>
                    <a:lnTo>
                      <a:pt x="586" y="329"/>
                    </a:lnTo>
                    <a:lnTo>
                      <a:pt x="586" y="329"/>
                    </a:lnTo>
                    <a:lnTo>
                      <a:pt x="591" y="324"/>
                    </a:lnTo>
                    <a:lnTo>
                      <a:pt x="591" y="324"/>
                    </a:lnTo>
                    <a:lnTo>
                      <a:pt x="596" y="318"/>
                    </a:lnTo>
                    <a:lnTo>
                      <a:pt x="596" y="318"/>
                    </a:lnTo>
                    <a:lnTo>
                      <a:pt x="601" y="312"/>
                    </a:lnTo>
                    <a:lnTo>
                      <a:pt x="601" y="312"/>
                    </a:lnTo>
                    <a:lnTo>
                      <a:pt x="604" y="305"/>
                    </a:lnTo>
                    <a:lnTo>
                      <a:pt x="604" y="305"/>
                    </a:lnTo>
                    <a:lnTo>
                      <a:pt x="608" y="295"/>
                    </a:lnTo>
                    <a:lnTo>
                      <a:pt x="608" y="295"/>
                    </a:lnTo>
                    <a:lnTo>
                      <a:pt x="610" y="284"/>
                    </a:lnTo>
                    <a:lnTo>
                      <a:pt x="610" y="284"/>
                    </a:lnTo>
                    <a:lnTo>
                      <a:pt x="613" y="274"/>
                    </a:lnTo>
                    <a:lnTo>
                      <a:pt x="613" y="274"/>
                    </a:lnTo>
                    <a:lnTo>
                      <a:pt x="615" y="264"/>
                    </a:lnTo>
                    <a:lnTo>
                      <a:pt x="615" y="264"/>
                    </a:lnTo>
                    <a:lnTo>
                      <a:pt x="617" y="253"/>
                    </a:lnTo>
                    <a:lnTo>
                      <a:pt x="617" y="253"/>
                    </a:lnTo>
                    <a:lnTo>
                      <a:pt x="617" y="251"/>
                    </a:lnTo>
                    <a:lnTo>
                      <a:pt x="617" y="246"/>
                    </a:lnTo>
                    <a:lnTo>
                      <a:pt x="616" y="243"/>
                    </a:lnTo>
                    <a:lnTo>
                      <a:pt x="615" y="239"/>
                    </a:lnTo>
                    <a:lnTo>
                      <a:pt x="612" y="237"/>
                    </a:lnTo>
                    <a:lnTo>
                      <a:pt x="608" y="234"/>
                    </a:lnTo>
                    <a:lnTo>
                      <a:pt x="608" y="234"/>
                    </a:lnTo>
                    <a:lnTo>
                      <a:pt x="603" y="235"/>
                    </a:lnTo>
                    <a:lnTo>
                      <a:pt x="603" y="235"/>
                    </a:lnTo>
                    <a:lnTo>
                      <a:pt x="604" y="224"/>
                    </a:lnTo>
                    <a:lnTo>
                      <a:pt x="604" y="224"/>
                    </a:lnTo>
                    <a:lnTo>
                      <a:pt x="607" y="212"/>
                    </a:lnTo>
                    <a:lnTo>
                      <a:pt x="607" y="212"/>
                    </a:lnTo>
                    <a:lnTo>
                      <a:pt x="608" y="202"/>
                    </a:lnTo>
                    <a:lnTo>
                      <a:pt x="608" y="202"/>
                    </a:lnTo>
                    <a:lnTo>
                      <a:pt x="608" y="191"/>
                    </a:lnTo>
                    <a:lnTo>
                      <a:pt x="608" y="191"/>
                    </a:lnTo>
                    <a:lnTo>
                      <a:pt x="608" y="179"/>
                    </a:lnTo>
                    <a:lnTo>
                      <a:pt x="608" y="179"/>
                    </a:lnTo>
                    <a:lnTo>
                      <a:pt x="609" y="165"/>
                    </a:lnTo>
                    <a:lnTo>
                      <a:pt x="609" y="165"/>
                    </a:lnTo>
                    <a:lnTo>
                      <a:pt x="608" y="152"/>
                    </a:lnTo>
                    <a:lnTo>
                      <a:pt x="608" y="152"/>
                    </a:lnTo>
                    <a:lnTo>
                      <a:pt x="604" y="140"/>
                    </a:lnTo>
                    <a:lnTo>
                      <a:pt x="604" y="140"/>
                    </a:lnTo>
                    <a:lnTo>
                      <a:pt x="601" y="129"/>
                    </a:lnTo>
                    <a:lnTo>
                      <a:pt x="601" y="129"/>
                    </a:lnTo>
                    <a:lnTo>
                      <a:pt x="596" y="118"/>
                    </a:lnTo>
                    <a:lnTo>
                      <a:pt x="596" y="118"/>
                    </a:lnTo>
                    <a:lnTo>
                      <a:pt x="592" y="110"/>
                    </a:lnTo>
                    <a:lnTo>
                      <a:pt x="592" y="110"/>
                    </a:lnTo>
                    <a:lnTo>
                      <a:pt x="586" y="102"/>
                    </a:lnTo>
                    <a:lnTo>
                      <a:pt x="586" y="102"/>
                    </a:lnTo>
                    <a:lnTo>
                      <a:pt x="579" y="95"/>
                    </a:lnTo>
                    <a:lnTo>
                      <a:pt x="579" y="95"/>
                    </a:lnTo>
                    <a:lnTo>
                      <a:pt x="573" y="85"/>
                    </a:lnTo>
                    <a:lnTo>
                      <a:pt x="573" y="85"/>
                    </a:lnTo>
                    <a:lnTo>
                      <a:pt x="565" y="76"/>
                    </a:lnTo>
                    <a:lnTo>
                      <a:pt x="565" y="76"/>
                    </a:lnTo>
                    <a:lnTo>
                      <a:pt x="558" y="70"/>
                    </a:lnTo>
                    <a:lnTo>
                      <a:pt x="558" y="70"/>
                    </a:lnTo>
                    <a:lnTo>
                      <a:pt x="550" y="63"/>
                    </a:lnTo>
                    <a:lnTo>
                      <a:pt x="550" y="63"/>
                    </a:lnTo>
                    <a:lnTo>
                      <a:pt x="540" y="57"/>
                    </a:lnTo>
                    <a:lnTo>
                      <a:pt x="540" y="57"/>
                    </a:lnTo>
                    <a:lnTo>
                      <a:pt x="531" y="52"/>
                    </a:lnTo>
                    <a:lnTo>
                      <a:pt x="531" y="52"/>
                    </a:lnTo>
                    <a:lnTo>
                      <a:pt x="521" y="50"/>
                    </a:lnTo>
                    <a:lnTo>
                      <a:pt x="521" y="50"/>
                    </a:lnTo>
                    <a:lnTo>
                      <a:pt x="510" y="44"/>
                    </a:lnTo>
                    <a:lnTo>
                      <a:pt x="510" y="44"/>
                    </a:lnTo>
                    <a:lnTo>
                      <a:pt x="504" y="39"/>
                    </a:lnTo>
                    <a:lnTo>
                      <a:pt x="504" y="39"/>
                    </a:lnTo>
                    <a:lnTo>
                      <a:pt x="499" y="33"/>
                    </a:lnTo>
                    <a:lnTo>
                      <a:pt x="499" y="33"/>
                    </a:lnTo>
                    <a:lnTo>
                      <a:pt x="493" y="28"/>
                    </a:lnTo>
                    <a:lnTo>
                      <a:pt x="493" y="28"/>
                    </a:lnTo>
                    <a:lnTo>
                      <a:pt x="489" y="28"/>
                    </a:lnTo>
                    <a:lnTo>
                      <a:pt x="489" y="28"/>
                    </a:lnTo>
                    <a:lnTo>
                      <a:pt x="484" y="29"/>
                    </a:lnTo>
                    <a:lnTo>
                      <a:pt x="484" y="29"/>
                    </a:lnTo>
                    <a:lnTo>
                      <a:pt x="479" y="28"/>
                    </a:lnTo>
                    <a:lnTo>
                      <a:pt x="479" y="28"/>
                    </a:lnTo>
                    <a:lnTo>
                      <a:pt x="469" y="25"/>
                    </a:lnTo>
                    <a:lnTo>
                      <a:pt x="469" y="25"/>
                    </a:lnTo>
                    <a:lnTo>
                      <a:pt x="462" y="18"/>
                    </a:lnTo>
                    <a:lnTo>
                      <a:pt x="462" y="18"/>
                    </a:lnTo>
                    <a:lnTo>
                      <a:pt x="459" y="12"/>
                    </a:lnTo>
                    <a:lnTo>
                      <a:pt x="459" y="12"/>
                    </a:lnTo>
                    <a:lnTo>
                      <a:pt x="454" y="7"/>
                    </a:lnTo>
                    <a:lnTo>
                      <a:pt x="454" y="7"/>
                    </a:lnTo>
                    <a:lnTo>
                      <a:pt x="448" y="3"/>
                    </a:lnTo>
                    <a:lnTo>
                      <a:pt x="448" y="3"/>
                    </a:lnTo>
                    <a:lnTo>
                      <a:pt x="437" y="0"/>
                    </a:lnTo>
                    <a:lnTo>
                      <a:pt x="437" y="0"/>
                    </a:lnTo>
                    <a:lnTo>
                      <a:pt x="431" y="1"/>
                    </a:lnTo>
                    <a:lnTo>
                      <a:pt x="431" y="1"/>
                    </a:lnTo>
                    <a:lnTo>
                      <a:pt x="426" y="6"/>
                    </a:lnTo>
                    <a:lnTo>
                      <a:pt x="426" y="6"/>
                    </a:lnTo>
                    <a:lnTo>
                      <a:pt x="420" y="10"/>
                    </a:lnTo>
                    <a:lnTo>
                      <a:pt x="420" y="10"/>
                    </a:lnTo>
                    <a:lnTo>
                      <a:pt x="406" y="14"/>
                    </a:lnTo>
                    <a:lnTo>
                      <a:pt x="406" y="14"/>
                    </a:lnTo>
                    <a:lnTo>
                      <a:pt x="405" y="14"/>
                    </a:lnTo>
                    <a:lnTo>
                      <a:pt x="400" y="18"/>
                    </a:lnTo>
                    <a:lnTo>
                      <a:pt x="400" y="18"/>
                    </a:lnTo>
                    <a:lnTo>
                      <a:pt x="396" y="21"/>
                    </a:lnTo>
                    <a:lnTo>
                      <a:pt x="394" y="21"/>
                    </a:lnTo>
                    <a:lnTo>
                      <a:pt x="394" y="21"/>
                    </a:lnTo>
                    <a:lnTo>
                      <a:pt x="394" y="17"/>
                    </a:lnTo>
                    <a:lnTo>
                      <a:pt x="394" y="17"/>
                    </a:lnTo>
                    <a:lnTo>
                      <a:pt x="395" y="13"/>
                    </a:lnTo>
                    <a:lnTo>
                      <a:pt x="395" y="13"/>
                    </a:lnTo>
                    <a:lnTo>
                      <a:pt x="392" y="17"/>
                    </a:lnTo>
                    <a:lnTo>
                      <a:pt x="392" y="17"/>
                    </a:lnTo>
                    <a:lnTo>
                      <a:pt x="387" y="22"/>
                    </a:lnTo>
                    <a:lnTo>
                      <a:pt x="387" y="22"/>
                    </a:lnTo>
                    <a:lnTo>
                      <a:pt x="381" y="28"/>
                    </a:lnTo>
                    <a:lnTo>
                      <a:pt x="381" y="28"/>
                    </a:lnTo>
                    <a:lnTo>
                      <a:pt x="374" y="32"/>
                    </a:lnTo>
                    <a:lnTo>
                      <a:pt x="374" y="32"/>
                    </a:lnTo>
                    <a:lnTo>
                      <a:pt x="370" y="37"/>
                    </a:lnTo>
                    <a:lnTo>
                      <a:pt x="370" y="37"/>
                    </a:lnTo>
                    <a:lnTo>
                      <a:pt x="365" y="41"/>
                    </a:lnTo>
                    <a:lnTo>
                      <a:pt x="365" y="41"/>
                    </a:lnTo>
                    <a:lnTo>
                      <a:pt x="360" y="46"/>
                    </a:lnTo>
                    <a:lnTo>
                      <a:pt x="360" y="46"/>
                    </a:lnTo>
                    <a:lnTo>
                      <a:pt x="351" y="57"/>
                    </a:lnTo>
                    <a:lnTo>
                      <a:pt x="351" y="57"/>
                    </a:lnTo>
                    <a:lnTo>
                      <a:pt x="348" y="62"/>
                    </a:lnTo>
                    <a:lnTo>
                      <a:pt x="348" y="62"/>
                    </a:lnTo>
                    <a:lnTo>
                      <a:pt x="343" y="69"/>
                    </a:lnTo>
                    <a:lnTo>
                      <a:pt x="343" y="69"/>
                    </a:lnTo>
                    <a:lnTo>
                      <a:pt x="340" y="76"/>
                    </a:lnTo>
                    <a:lnTo>
                      <a:pt x="340" y="76"/>
                    </a:lnTo>
                    <a:lnTo>
                      <a:pt x="339" y="82"/>
                    </a:lnTo>
                    <a:lnTo>
                      <a:pt x="339" y="82"/>
                    </a:lnTo>
                    <a:lnTo>
                      <a:pt x="338" y="91"/>
                    </a:lnTo>
                    <a:lnTo>
                      <a:pt x="338" y="91"/>
                    </a:lnTo>
                    <a:lnTo>
                      <a:pt x="337" y="97"/>
                    </a:lnTo>
                    <a:lnTo>
                      <a:pt x="337" y="97"/>
                    </a:lnTo>
                    <a:lnTo>
                      <a:pt x="335" y="103"/>
                    </a:lnTo>
                    <a:lnTo>
                      <a:pt x="335" y="103"/>
                    </a:lnTo>
                    <a:lnTo>
                      <a:pt x="333" y="109"/>
                    </a:lnTo>
                    <a:lnTo>
                      <a:pt x="333" y="109"/>
                    </a:lnTo>
                    <a:lnTo>
                      <a:pt x="330" y="114"/>
                    </a:lnTo>
                    <a:lnTo>
                      <a:pt x="330" y="114"/>
                    </a:lnTo>
                    <a:lnTo>
                      <a:pt x="330" y="120"/>
                    </a:lnTo>
                    <a:lnTo>
                      <a:pt x="330" y="120"/>
                    </a:lnTo>
                    <a:lnTo>
                      <a:pt x="328" y="128"/>
                    </a:lnTo>
                    <a:lnTo>
                      <a:pt x="328" y="128"/>
                    </a:lnTo>
                    <a:lnTo>
                      <a:pt x="327" y="135"/>
                    </a:lnTo>
                    <a:lnTo>
                      <a:pt x="327" y="135"/>
                    </a:lnTo>
                    <a:lnTo>
                      <a:pt x="326" y="143"/>
                    </a:lnTo>
                    <a:lnTo>
                      <a:pt x="326" y="143"/>
                    </a:lnTo>
                    <a:lnTo>
                      <a:pt x="326" y="152"/>
                    </a:lnTo>
                    <a:lnTo>
                      <a:pt x="326" y="152"/>
                    </a:lnTo>
                    <a:lnTo>
                      <a:pt x="324" y="161"/>
                    </a:lnTo>
                    <a:lnTo>
                      <a:pt x="324" y="161"/>
                    </a:lnTo>
                    <a:lnTo>
                      <a:pt x="323" y="171"/>
                    </a:lnTo>
                    <a:lnTo>
                      <a:pt x="323" y="171"/>
                    </a:lnTo>
                    <a:lnTo>
                      <a:pt x="323" y="179"/>
                    </a:lnTo>
                    <a:lnTo>
                      <a:pt x="323" y="179"/>
                    </a:lnTo>
                    <a:lnTo>
                      <a:pt x="322" y="187"/>
                    </a:lnTo>
                    <a:lnTo>
                      <a:pt x="322" y="187"/>
                    </a:lnTo>
                    <a:lnTo>
                      <a:pt x="322" y="195"/>
                    </a:lnTo>
                    <a:lnTo>
                      <a:pt x="322" y="195"/>
                    </a:lnTo>
                    <a:lnTo>
                      <a:pt x="322" y="203"/>
                    </a:lnTo>
                    <a:lnTo>
                      <a:pt x="322" y="203"/>
                    </a:lnTo>
                    <a:lnTo>
                      <a:pt x="323" y="212"/>
                    </a:lnTo>
                    <a:lnTo>
                      <a:pt x="323" y="212"/>
                    </a:lnTo>
                    <a:lnTo>
                      <a:pt x="322" y="221"/>
                    </a:lnTo>
                    <a:lnTo>
                      <a:pt x="322" y="221"/>
                    </a:lnTo>
                    <a:lnTo>
                      <a:pt x="322" y="231"/>
                    </a:lnTo>
                    <a:lnTo>
                      <a:pt x="322" y="231"/>
                    </a:lnTo>
                    <a:lnTo>
                      <a:pt x="323" y="240"/>
                    </a:lnTo>
                    <a:lnTo>
                      <a:pt x="323" y="240"/>
                    </a:lnTo>
                    <a:lnTo>
                      <a:pt x="322" y="247"/>
                    </a:lnTo>
                    <a:lnTo>
                      <a:pt x="322" y="247"/>
                    </a:lnTo>
                    <a:lnTo>
                      <a:pt x="322" y="255"/>
                    </a:lnTo>
                    <a:lnTo>
                      <a:pt x="322" y="255"/>
                    </a:lnTo>
                    <a:lnTo>
                      <a:pt x="321" y="263"/>
                    </a:lnTo>
                    <a:lnTo>
                      <a:pt x="321" y="263"/>
                    </a:lnTo>
                    <a:lnTo>
                      <a:pt x="321" y="272"/>
                    </a:lnTo>
                    <a:lnTo>
                      <a:pt x="321" y="272"/>
                    </a:lnTo>
                    <a:lnTo>
                      <a:pt x="321" y="281"/>
                    </a:lnTo>
                    <a:lnTo>
                      <a:pt x="321" y="281"/>
                    </a:lnTo>
                    <a:lnTo>
                      <a:pt x="321" y="291"/>
                    </a:lnTo>
                    <a:lnTo>
                      <a:pt x="321" y="291"/>
                    </a:lnTo>
                    <a:lnTo>
                      <a:pt x="321" y="297"/>
                    </a:lnTo>
                    <a:lnTo>
                      <a:pt x="321" y="297"/>
                    </a:lnTo>
                    <a:lnTo>
                      <a:pt x="321" y="304"/>
                    </a:lnTo>
                    <a:lnTo>
                      <a:pt x="321" y="304"/>
                    </a:lnTo>
                    <a:lnTo>
                      <a:pt x="321" y="312"/>
                    </a:lnTo>
                    <a:lnTo>
                      <a:pt x="321" y="312"/>
                    </a:lnTo>
                    <a:lnTo>
                      <a:pt x="322" y="321"/>
                    </a:lnTo>
                    <a:lnTo>
                      <a:pt x="322" y="321"/>
                    </a:lnTo>
                    <a:lnTo>
                      <a:pt x="322" y="329"/>
                    </a:lnTo>
                    <a:lnTo>
                      <a:pt x="322" y="329"/>
                    </a:lnTo>
                    <a:lnTo>
                      <a:pt x="323" y="336"/>
                    </a:lnTo>
                    <a:lnTo>
                      <a:pt x="323" y="336"/>
                    </a:lnTo>
                    <a:lnTo>
                      <a:pt x="324" y="343"/>
                    </a:lnTo>
                    <a:lnTo>
                      <a:pt x="324" y="343"/>
                    </a:lnTo>
                    <a:lnTo>
                      <a:pt x="327" y="350"/>
                    </a:lnTo>
                    <a:lnTo>
                      <a:pt x="327" y="350"/>
                    </a:lnTo>
                    <a:lnTo>
                      <a:pt x="329" y="360"/>
                    </a:lnTo>
                    <a:lnTo>
                      <a:pt x="329" y="360"/>
                    </a:lnTo>
                    <a:lnTo>
                      <a:pt x="332" y="367"/>
                    </a:lnTo>
                    <a:lnTo>
                      <a:pt x="332" y="367"/>
                    </a:lnTo>
                    <a:lnTo>
                      <a:pt x="335" y="374"/>
                    </a:lnTo>
                    <a:lnTo>
                      <a:pt x="335" y="374"/>
                    </a:lnTo>
                    <a:lnTo>
                      <a:pt x="340" y="382"/>
                    </a:lnTo>
                    <a:lnTo>
                      <a:pt x="340" y="382"/>
                    </a:lnTo>
                    <a:lnTo>
                      <a:pt x="347" y="388"/>
                    </a:lnTo>
                    <a:lnTo>
                      <a:pt x="347" y="388"/>
                    </a:lnTo>
                    <a:lnTo>
                      <a:pt x="352" y="395"/>
                    </a:lnTo>
                    <a:lnTo>
                      <a:pt x="352" y="395"/>
                    </a:lnTo>
                    <a:lnTo>
                      <a:pt x="357" y="400"/>
                    </a:lnTo>
                    <a:lnTo>
                      <a:pt x="357" y="400"/>
                    </a:lnTo>
                    <a:lnTo>
                      <a:pt x="360" y="405"/>
                    </a:lnTo>
                    <a:lnTo>
                      <a:pt x="360" y="405"/>
                    </a:lnTo>
                    <a:lnTo>
                      <a:pt x="363" y="410"/>
                    </a:lnTo>
                    <a:lnTo>
                      <a:pt x="363" y="410"/>
                    </a:lnTo>
                    <a:lnTo>
                      <a:pt x="365" y="417"/>
                    </a:lnTo>
                    <a:lnTo>
                      <a:pt x="365" y="417"/>
                    </a:lnTo>
                    <a:lnTo>
                      <a:pt x="365" y="426"/>
                    </a:lnTo>
                    <a:lnTo>
                      <a:pt x="365" y="426"/>
                    </a:lnTo>
                    <a:lnTo>
                      <a:pt x="365" y="433"/>
                    </a:lnTo>
                    <a:lnTo>
                      <a:pt x="365" y="433"/>
                    </a:lnTo>
                    <a:lnTo>
                      <a:pt x="365" y="442"/>
                    </a:lnTo>
                    <a:lnTo>
                      <a:pt x="365" y="442"/>
                    </a:lnTo>
                    <a:lnTo>
                      <a:pt x="365" y="449"/>
                    </a:lnTo>
                    <a:lnTo>
                      <a:pt x="365" y="449"/>
                    </a:lnTo>
                    <a:lnTo>
                      <a:pt x="365" y="458"/>
                    </a:lnTo>
                    <a:lnTo>
                      <a:pt x="365" y="458"/>
                    </a:lnTo>
                    <a:lnTo>
                      <a:pt x="365" y="464"/>
                    </a:lnTo>
                    <a:lnTo>
                      <a:pt x="365" y="464"/>
                    </a:lnTo>
                    <a:lnTo>
                      <a:pt x="365" y="472"/>
                    </a:lnTo>
                    <a:lnTo>
                      <a:pt x="365" y="472"/>
                    </a:lnTo>
                    <a:lnTo>
                      <a:pt x="365" y="478"/>
                    </a:lnTo>
                    <a:lnTo>
                      <a:pt x="365" y="478"/>
                    </a:lnTo>
                    <a:lnTo>
                      <a:pt x="365" y="487"/>
                    </a:lnTo>
                    <a:lnTo>
                      <a:pt x="365" y="487"/>
                    </a:lnTo>
                    <a:lnTo>
                      <a:pt x="363" y="495"/>
                    </a:lnTo>
                    <a:lnTo>
                      <a:pt x="363" y="495"/>
                    </a:lnTo>
                    <a:lnTo>
                      <a:pt x="361" y="504"/>
                    </a:lnTo>
                    <a:lnTo>
                      <a:pt x="361" y="504"/>
                    </a:lnTo>
                    <a:lnTo>
                      <a:pt x="356" y="511"/>
                    </a:lnTo>
                    <a:lnTo>
                      <a:pt x="356" y="511"/>
                    </a:lnTo>
                    <a:lnTo>
                      <a:pt x="349" y="516"/>
                    </a:lnTo>
                    <a:lnTo>
                      <a:pt x="349" y="516"/>
                    </a:lnTo>
                    <a:lnTo>
                      <a:pt x="340" y="523"/>
                    </a:lnTo>
                    <a:lnTo>
                      <a:pt x="340" y="523"/>
                    </a:lnTo>
                    <a:lnTo>
                      <a:pt x="333" y="526"/>
                    </a:lnTo>
                    <a:lnTo>
                      <a:pt x="333" y="526"/>
                    </a:lnTo>
                    <a:lnTo>
                      <a:pt x="327" y="530"/>
                    </a:lnTo>
                    <a:lnTo>
                      <a:pt x="327" y="530"/>
                    </a:lnTo>
                    <a:lnTo>
                      <a:pt x="317" y="535"/>
                    </a:lnTo>
                    <a:lnTo>
                      <a:pt x="317" y="535"/>
                    </a:lnTo>
                    <a:lnTo>
                      <a:pt x="307" y="540"/>
                    </a:lnTo>
                    <a:lnTo>
                      <a:pt x="307" y="540"/>
                    </a:lnTo>
                    <a:lnTo>
                      <a:pt x="297" y="545"/>
                    </a:lnTo>
                    <a:lnTo>
                      <a:pt x="297" y="545"/>
                    </a:lnTo>
                    <a:lnTo>
                      <a:pt x="285" y="553"/>
                    </a:lnTo>
                    <a:lnTo>
                      <a:pt x="285" y="553"/>
                    </a:lnTo>
                    <a:lnTo>
                      <a:pt x="274" y="559"/>
                    </a:lnTo>
                    <a:lnTo>
                      <a:pt x="274" y="559"/>
                    </a:lnTo>
                    <a:lnTo>
                      <a:pt x="265" y="564"/>
                    </a:lnTo>
                    <a:lnTo>
                      <a:pt x="265" y="564"/>
                    </a:lnTo>
                    <a:lnTo>
                      <a:pt x="256" y="568"/>
                    </a:lnTo>
                    <a:lnTo>
                      <a:pt x="256" y="568"/>
                    </a:lnTo>
                    <a:lnTo>
                      <a:pt x="241" y="574"/>
                    </a:lnTo>
                    <a:lnTo>
                      <a:pt x="241" y="574"/>
                    </a:lnTo>
                    <a:lnTo>
                      <a:pt x="231" y="577"/>
                    </a:lnTo>
                    <a:lnTo>
                      <a:pt x="231" y="577"/>
                    </a:lnTo>
                    <a:lnTo>
                      <a:pt x="219" y="581"/>
                    </a:lnTo>
                    <a:lnTo>
                      <a:pt x="219" y="581"/>
                    </a:lnTo>
                    <a:lnTo>
                      <a:pt x="204" y="588"/>
                    </a:lnTo>
                    <a:lnTo>
                      <a:pt x="204" y="588"/>
                    </a:lnTo>
                    <a:lnTo>
                      <a:pt x="191" y="595"/>
                    </a:lnTo>
                    <a:lnTo>
                      <a:pt x="191" y="595"/>
                    </a:lnTo>
                    <a:lnTo>
                      <a:pt x="180" y="603"/>
                    </a:lnTo>
                    <a:lnTo>
                      <a:pt x="180" y="603"/>
                    </a:lnTo>
                    <a:lnTo>
                      <a:pt x="168" y="611"/>
                    </a:lnTo>
                    <a:lnTo>
                      <a:pt x="168" y="611"/>
                    </a:lnTo>
                    <a:lnTo>
                      <a:pt x="154" y="621"/>
                    </a:lnTo>
                    <a:lnTo>
                      <a:pt x="154" y="621"/>
                    </a:lnTo>
                    <a:lnTo>
                      <a:pt x="138" y="633"/>
                    </a:lnTo>
                    <a:lnTo>
                      <a:pt x="138" y="633"/>
                    </a:lnTo>
                    <a:lnTo>
                      <a:pt x="127" y="645"/>
                    </a:lnTo>
                    <a:lnTo>
                      <a:pt x="127" y="645"/>
                    </a:lnTo>
                    <a:lnTo>
                      <a:pt x="117" y="658"/>
                    </a:lnTo>
                    <a:lnTo>
                      <a:pt x="117" y="658"/>
                    </a:lnTo>
                    <a:lnTo>
                      <a:pt x="108" y="674"/>
                    </a:lnTo>
                    <a:lnTo>
                      <a:pt x="108" y="674"/>
                    </a:lnTo>
                    <a:lnTo>
                      <a:pt x="100" y="692"/>
                    </a:lnTo>
                    <a:lnTo>
                      <a:pt x="100" y="692"/>
                    </a:lnTo>
                    <a:lnTo>
                      <a:pt x="92" y="710"/>
                    </a:lnTo>
                    <a:lnTo>
                      <a:pt x="92" y="710"/>
                    </a:lnTo>
                    <a:lnTo>
                      <a:pt x="85" y="728"/>
                    </a:lnTo>
                    <a:lnTo>
                      <a:pt x="85" y="728"/>
                    </a:lnTo>
                    <a:lnTo>
                      <a:pt x="76" y="755"/>
                    </a:lnTo>
                    <a:lnTo>
                      <a:pt x="76" y="755"/>
                    </a:lnTo>
                    <a:lnTo>
                      <a:pt x="69" y="784"/>
                    </a:lnTo>
                    <a:lnTo>
                      <a:pt x="69" y="784"/>
                    </a:lnTo>
                    <a:lnTo>
                      <a:pt x="64" y="812"/>
                    </a:lnTo>
                    <a:lnTo>
                      <a:pt x="64" y="812"/>
                    </a:lnTo>
                    <a:lnTo>
                      <a:pt x="59" y="835"/>
                    </a:lnTo>
                    <a:lnTo>
                      <a:pt x="59" y="835"/>
                    </a:lnTo>
                    <a:lnTo>
                      <a:pt x="55" y="855"/>
                    </a:lnTo>
                    <a:lnTo>
                      <a:pt x="55" y="855"/>
                    </a:lnTo>
                    <a:lnTo>
                      <a:pt x="52" y="877"/>
                    </a:lnTo>
                    <a:lnTo>
                      <a:pt x="52" y="877"/>
                    </a:lnTo>
                    <a:lnTo>
                      <a:pt x="47" y="900"/>
                    </a:lnTo>
                    <a:lnTo>
                      <a:pt x="47" y="900"/>
                    </a:lnTo>
                    <a:lnTo>
                      <a:pt x="42" y="928"/>
                    </a:lnTo>
                    <a:lnTo>
                      <a:pt x="42" y="928"/>
                    </a:lnTo>
                    <a:lnTo>
                      <a:pt x="38" y="946"/>
                    </a:lnTo>
                    <a:lnTo>
                      <a:pt x="38" y="946"/>
                    </a:lnTo>
                    <a:lnTo>
                      <a:pt x="36" y="957"/>
                    </a:lnTo>
                    <a:lnTo>
                      <a:pt x="36" y="957"/>
                    </a:lnTo>
                    <a:lnTo>
                      <a:pt x="33" y="969"/>
                    </a:lnTo>
                    <a:lnTo>
                      <a:pt x="33" y="969"/>
                    </a:lnTo>
                    <a:lnTo>
                      <a:pt x="29" y="982"/>
                    </a:lnTo>
                    <a:lnTo>
                      <a:pt x="29" y="982"/>
                    </a:lnTo>
                    <a:lnTo>
                      <a:pt x="27" y="992"/>
                    </a:lnTo>
                    <a:lnTo>
                      <a:pt x="27" y="992"/>
                    </a:lnTo>
                    <a:lnTo>
                      <a:pt x="24" y="1002"/>
                    </a:lnTo>
                    <a:lnTo>
                      <a:pt x="24" y="1002"/>
                    </a:lnTo>
                    <a:lnTo>
                      <a:pt x="22" y="1012"/>
                    </a:lnTo>
                    <a:lnTo>
                      <a:pt x="22" y="1012"/>
                    </a:lnTo>
                    <a:lnTo>
                      <a:pt x="23" y="1024"/>
                    </a:lnTo>
                    <a:lnTo>
                      <a:pt x="23" y="1024"/>
                    </a:lnTo>
                    <a:lnTo>
                      <a:pt x="25" y="1032"/>
                    </a:lnTo>
                    <a:lnTo>
                      <a:pt x="25" y="1032"/>
                    </a:lnTo>
                    <a:lnTo>
                      <a:pt x="28" y="1040"/>
                    </a:lnTo>
                    <a:lnTo>
                      <a:pt x="28" y="1040"/>
                    </a:lnTo>
                    <a:lnTo>
                      <a:pt x="30" y="1046"/>
                    </a:lnTo>
                    <a:lnTo>
                      <a:pt x="30" y="1046"/>
                    </a:lnTo>
                    <a:lnTo>
                      <a:pt x="29" y="1053"/>
                    </a:lnTo>
                    <a:lnTo>
                      <a:pt x="29" y="1053"/>
                    </a:lnTo>
                    <a:lnTo>
                      <a:pt x="27" y="1061"/>
                    </a:lnTo>
                    <a:lnTo>
                      <a:pt x="27" y="1061"/>
                    </a:lnTo>
                    <a:lnTo>
                      <a:pt x="24" y="1067"/>
                    </a:lnTo>
                    <a:lnTo>
                      <a:pt x="24" y="1067"/>
                    </a:lnTo>
                    <a:lnTo>
                      <a:pt x="20" y="1074"/>
                    </a:lnTo>
                    <a:lnTo>
                      <a:pt x="20" y="1074"/>
                    </a:lnTo>
                    <a:lnTo>
                      <a:pt x="15" y="1085"/>
                    </a:lnTo>
                    <a:lnTo>
                      <a:pt x="15" y="1085"/>
                    </a:lnTo>
                    <a:lnTo>
                      <a:pt x="11" y="1091"/>
                    </a:lnTo>
                    <a:lnTo>
                      <a:pt x="11" y="1091"/>
                    </a:lnTo>
                    <a:lnTo>
                      <a:pt x="8" y="1098"/>
                    </a:lnTo>
                    <a:lnTo>
                      <a:pt x="8" y="1098"/>
                    </a:lnTo>
                    <a:lnTo>
                      <a:pt x="6" y="1106"/>
                    </a:lnTo>
                    <a:lnTo>
                      <a:pt x="6" y="1106"/>
                    </a:lnTo>
                    <a:lnTo>
                      <a:pt x="6" y="1116"/>
                    </a:lnTo>
                    <a:lnTo>
                      <a:pt x="6" y="1116"/>
                    </a:lnTo>
                    <a:lnTo>
                      <a:pt x="8" y="1126"/>
                    </a:lnTo>
                    <a:lnTo>
                      <a:pt x="8" y="1126"/>
                    </a:lnTo>
                    <a:lnTo>
                      <a:pt x="10" y="1136"/>
                    </a:lnTo>
                    <a:lnTo>
                      <a:pt x="10" y="1136"/>
                    </a:lnTo>
                    <a:lnTo>
                      <a:pt x="9" y="1146"/>
                    </a:lnTo>
                    <a:lnTo>
                      <a:pt x="9" y="1146"/>
                    </a:lnTo>
                    <a:lnTo>
                      <a:pt x="8" y="1153"/>
                    </a:lnTo>
                    <a:lnTo>
                      <a:pt x="8" y="1153"/>
                    </a:lnTo>
                    <a:lnTo>
                      <a:pt x="7" y="1162"/>
                    </a:lnTo>
                    <a:lnTo>
                      <a:pt x="7" y="1162"/>
                    </a:lnTo>
                    <a:lnTo>
                      <a:pt x="4" y="1174"/>
                    </a:lnTo>
                    <a:lnTo>
                      <a:pt x="4" y="1174"/>
                    </a:lnTo>
                    <a:lnTo>
                      <a:pt x="3" y="1185"/>
                    </a:lnTo>
                    <a:lnTo>
                      <a:pt x="3" y="1185"/>
                    </a:lnTo>
                    <a:lnTo>
                      <a:pt x="2" y="1198"/>
                    </a:lnTo>
                    <a:lnTo>
                      <a:pt x="2" y="1198"/>
                    </a:lnTo>
                    <a:lnTo>
                      <a:pt x="1" y="1206"/>
                    </a:lnTo>
                    <a:lnTo>
                      <a:pt x="1" y="1206"/>
                    </a:lnTo>
                    <a:lnTo>
                      <a:pt x="0" y="1216"/>
                    </a:lnTo>
                    <a:lnTo>
                      <a:pt x="0" y="1216"/>
                    </a:lnTo>
                    <a:lnTo>
                      <a:pt x="0" y="1226"/>
                    </a:lnTo>
                    <a:lnTo>
                      <a:pt x="0" y="1226"/>
                    </a:lnTo>
                    <a:lnTo>
                      <a:pt x="0" y="1235"/>
                    </a:lnTo>
                    <a:lnTo>
                      <a:pt x="0" y="1235"/>
                    </a:lnTo>
                    <a:lnTo>
                      <a:pt x="0" y="1245"/>
                    </a:lnTo>
                    <a:lnTo>
                      <a:pt x="0" y="1245"/>
                    </a:lnTo>
                    <a:lnTo>
                      <a:pt x="0" y="1256"/>
                    </a:lnTo>
                    <a:lnTo>
                      <a:pt x="0" y="1256"/>
                    </a:lnTo>
                    <a:lnTo>
                      <a:pt x="0" y="1270"/>
                    </a:lnTo>
                    <a:lnTo>
                      <a:pt x="0" y="1270"/>
                    </a:lnTo>
                    <a:lnTo>
                      <a:pt x="1" y="1284"/>
                    </a:lnTo>
                    <a:lnTo>
                      <a:pt x="1" y="1284"/>
                    </a:lnTo>
                    <a:lnTo>
                      <a:pt x="1" y="1297"/>
                    </a:lnTo>
                    <a:lnTo>
                      <a:pt x="1" y="1310"/>
                    </a:lnTo>
                    <a:lnTo>
                      <a:pt x="1" y="1310"/>
                    </a:lnTo>
                    <a:lnTo>
                      <a:pt x="2" y="1319"/>
                    </a:lnTo>
                    <a:lnTo>
                      <a:pt x="8" y="1388"/>
                    </a:lnTo>
                    <a:lnTo>
                      <a:pt x="8" y="1388"/>
                    </a:lnTo>
                    <a:lnTo>
                      <a:pt x="42" y="1385"/>
                    </a:lnTo>
                    <a:lnTo>
                      <a:pt x="74" y="1382"/>
                    </a:lnTo>
                    <a:lnTo>
                      <a:pt x="106" y="1377"/>
                    </a:lnTo>
                    <a:lnTo>
                      <a:pt x="138" y="1371"/>
                    </a:lnTo>
                    <a:lnTo>
                      <a:pt x="137" y="1367"/>
                    </a:lnTo>
                    <a:lnTo>
                      <a:pt x="137" y="1366"/>
                    </a:lnTo>
                    <a:lnTo>
                      <a:pt x="137" y="1365"/>
                    </a:lnTo>
                    <a:lnTo>
                      <a:pt x="140" y="1356"/>
                    </a:lnTo>
                    <a:lnTo>
                      <a:pt x="140" y="1356"/>
                    </a:lnTo>
                    <a:lnTo>
                      <a:pt x="141" y="1344"/>
                    </a:lnTo>
                    <a:lnTo>
                      <a:pt x="143" y="1330"/>
                    </a:lnTo>
                    <a:lnTo>
                      <a:pt x="143" y="1330"/>
                    </a:lnTo>
                    <a:lnTo>
                      <a:pt x="145" y="1321"/>
                    </a:lnTo>
                    <a:lnTo>
                      <a:pt x="145" y="1321"/>
                    </a:lnTo>
                    <a:lnTo>
                      <a:pt x="145" y="1320"/>
                    </a:lnTo>
                    <a:lnTo>
                      <a:pt x="147" y="1313"/>
                    </a:lnTo>
                    <a:lnTo>
                      <a:pt x="147" y="1304"/>
                    </a:lnTo>
                    <a:lnTo>
                      <a:pt x="146" y="1298"/>
                    </a:lnTo>
                    <a:lnTo>
                      <a:pt x="143" y="1293"/>
                    </a:lnTo>
                    <a:lnTo>
                      <a:pt x="142" y="1292"/>
                    </a:lnTo>
                    <a:lnTo>
                      <a:pt x="142" y="1291"/>
                    </a:lnTo>
                    <a:lnTo>
                      <a:pt x="140" y="1285"/>
                    </a:lnTo>
                    <a:lnTo>
                      <a:pt x="140" y="1284"/>
                    </a:lnTo>
                    <a:lnTo>
                      <a:pt x="140" y="1283"/>
                    </a:lnTo>
                    <a:lnTo>
                      <a:pt x="142" y="1274"/>
                    </a:lnTo>
                    <a:lnTo>
                      <a:pt x="143" y="1273"/>
                    </a:lnTo>
                    <a:lnTo>
                      <a:pt x="143" y="1273"/>
                    </a:lnTo>
                    <a:lnTo>
                      <a:pt x="147" y="1267"/>
                    </a:lnTo>
                    <a:lnTo>
                      <a:pt x="148" y="1259"/>
                    </a:lnTo>
                    <a:lnTo>
                      <a:pt x="148" y="1259"/>
                    </a:lnTo>
                    <a:lnTo>
                      <a:pt x="148" y="1247"/>
                    </a:lnTo>
                    <a:lnTo>
                      <a:pt x="148" y="1247"/>
                    </a:lnTo>
                    <a:lnTo>
                      <a:pt x="149" y="1235"/>
                    </a:lnTo>
                    <a:lnTo>
                      <a:pt x="149" y="1235"/>
                    </a:lnTo>
                    <a:lnTo>
                      <a:pt x="149" y="1222"/>
                    </a:lnTo>
                    <a:lnTo>
                      <a:pt x="149" y="1208"/>
                    </a:lnTo>
                    <a:lnTo>
                      <a:pt x="149" y="1208"/>
                    </a:lnTo>
                    <a:lnTo>
                      <a:pt x="151" y="1195"/>
                    </a:lnTo>
                    <a:lnTo>
                      <a:pt x="151" y="1195"/>
                    </a:lnTo>
                    <a:lnTo>
                      <a:pt x="151" y="1194"/>
                    </a:lnTo>
                    <a:lnTo>
                      <a:pt x="154" y="1187"/>
                    </a:lnTo>
                    <a:lnTo>
                      <a:pt x="154" y="1186"/>
                    </a:lnTo>
                    <a:lnTo>
                      <a:pt x="155" y="1185"/>
                    </a:lnTo>
                    <a:lnTo>
                      <a:pt x="159" y="1182"/>
                    </a:lnTo>
                    <a:lnTo>
                      <a:pt x="160" y="1179"/>
                    </a:lnTo>
                    <a:lnTo>
                      <a:pt x="158" y="1176"/>
                    </a:lnTo>
                    <a:lnTo>
                      <a:pt x="155" y="1173"/>
                    </a:lnTo>
                    <a:lnTo>
                      <a:pt x="154" y="1172"/>
                    </a:lnTo>
                    <a:lnTo>
                      <a:pt x="154" y="1170"/>
                    </a:lnTo>
                    <a:lnTo>
                      <a:pt x="154" y="1165"/>
                    </a:lnTo>
                    <a:lnTo>
                      <a:pt x="154" y="1164"/>
                    </a:lnTo>
                    <a:lnTo>
                      <a:pt x="154" y="1163"/>
                    </a:lnTo>
                    <a:lnTo>
                      <a:pt x="157" y="1155"/>
                    </a:lnTo>
                    <a:lnTo>
                      <a:pt x="157" y="1154"/>
                    </a:lnTo>
                    <a:lnTo>
                      <a:pt x="158" y="1154"/>
                    </a:lnTo>
                    <a:lnTo>
                      <a:pt x="162" y="1150"/>
                    </a:lnTo>
                    <a:lnTo>
                      <a:pt x="162" y="1150"/>
                    </a:lnTo>
                    <a:lnTo>
                      <a:pt x="170" y="1143"/>
                    </a:lnTo>
                    <a:lnTo>
                      <a:pt x="170" y="1143"/>
                    </a:lnTo>
                    <a:lnTo>
                      <a:pt x="176" y="1137"/>
                    </a:lnTo>
                    <a:lnTo>
                      <a:pt x="179" y="1128"/>
                    </a:lnTo>
                    <a:lnTo>
                      <a:pt x="178" y="1118"/>
                    </a:lnTo>
                    <a:lnTo>
                      <a:pt x="176" y="1113"/>
                    </a:lnTo>
                    <a:lnTo>
                      <a:pt x="170" y="1105"/>
                    </a:lnTo>
                    <a:lnTo>
                      <a:pt x="169" y="1104"/>
                    </a:lnTo>
                    <a:lnTo>
                      <a:pt x="169" y="1103"/>
                    </a:lnTo>
                    <a:lnTo>
                      <a:pt x="168" y="1094"/>
                    </a:lnTo>
                    <a:lnTo>
                      <a:pt x="168" y="1094"/>
                    </a:lnTo>
                    <a:lnTo>
                      <a:pt x="168" y="1093"/>
                    </a:lnTo>
                    <a:lnTo>
                      <a:pt x="168" y="1086"/>
                    </a:lnTo>
                    <a:lnTo>
                      <a:pt x="168" y="1086"/>
                    </a:lnTo>
                    <a:lnTo>
                      <a:pt x="168" y="1085"/>
                    </a:lnTo>
                    <a:lnTo>
                      <a:pt x="170" y="1073"/>
                    </a:lnTo>
                    <a:lnTo>
                      <a:pt x="170" y="1073"/>
                    </a:lnTo>
                    <a:lnTo>
                      <a:pt x="174" y="1058"/>
                    </a:lnTo>
                    <a:lnTo>
                      <a:pt x="174" y="1058"/>
                    </a:lnTo>
                    <a:lnTo>
                      <a:pt x="179" y="1044"/>
                    </a:lnTo>
                    <a:lnTo>
                      <a:pt x="179" y="1044"/>
                    </a:lnTo>
                    <a:lnTo>
                      <a:pt x="184" y="1032"/>
                    </a:lnTo>
                    <a:lnTo>
                      <a:pt x="184" y="1032"/>
                    </a:lnTo>
                    <a:lnTo>
                      <a:pt x="190" y="1018"/>
                    </a:lnTo>
                    <a:lnTo>
                      <a:pt x="190" y="1018"/>
                    </a:lnTo>
                    <a:lnTo>
                      <a:pt x="194" y="1007"/>
                    </a:lnTo>
                    <a:lnTo>
                      <a:pt x="194" y="1007"/>
                    </a:lnTo>
                    <a:lnTo>
                      <a:pt x="199" y="996"/>
                    </a:lnTo>
                    <a:lnTo>
                      <a:pt x="200" y="996"/>
                    </a:lnTo>
                    <a:lnTo>
                      <a:pt x="200" y="995"/>
                    </a:lnTo>
                    <a:lnTo>
                      <a:pt x="204" y="992"/>
                    </a:lnTo>
                    <a:lnTo>
                      <a:pt x="205" y="991"/>
                    </a:lnTo>
                    <a:lnTo>
                      <a:pt x="206" y="990"/>
                    </a:lnTo>
                    <a:lnTo>
                      <a:pt x="210" y="990"/>
                    </a:lnTo>
                    <a:lnTo>
                      <a:pt x="212" y="990"/>
                    </a:lnTo>
                    <a:lnTo>
                      <a:pt x="213" y="991"/>
                    </a:lnTo>
                    <a:lnTo>
                      <a:pt x="218" y="994"/>
                    </a:lnTo>
                    <a:lnTo>
                      <a:pt x="219" y="995"/>
                    </a:lnTo>
                    <a:lnTo>
                      <a:pt x="219" y="996"/>
                    </a:lnTo>
                    <a:lnTo>
                      <a:pt x="220" y="1001"/>
                    </a:lnTo>
                    <a:lnTo>
                      <a:pt x="221" y="1002"/>
                    </a:lnTo>
                    <a:lnTo>
                      <a:pt x="221" y="1002"/>
                    </a:lnTo>
                    <a:lnTo>
                      <a:pt x="221" y="1009"/>
                    </a:lnTo>
                    <a:lnTo>
                      <a:pt x="221" y="1017"/>
                    </a:lnTo>
                    <a:lnTo>
                      <a:pt x="221" y="1017"/>
                    </a:lnTo>
                    <a:lnTo>
                      <a:pt x="221" y="1025"/>
                    </a:lnTo>
                    <a:lnTo>
                      <a:pt x="221" y="1025"/>
                    </a:lnTo>
                    <a:lnTo>
                      <a:pt x="221" y="1025"/>
                    </a:lnTo>
                    <a:lnTo>
                      <a:pt x="221" y="1033"/>
                    </a:lnTo>
                    <a:lnTo>
                      <a:pt x="221" y="1033"/>
                    </a:lnTo>
                    <a:lnTo>
                      <a:pt x="221" y="1041"/>
                    </a:lnTo>
                    <a:lnTo>
                      <a:pt x="221" y="1052"/>
                    </a:lnTo>
                    <a:lnTo>
                      <a:pt x="223" y="1056"/>
                    </a:lnTo>
                    <a:lnTo>
                      <a:pt x="223" y="1056"/>
                    </a:lnTo>
                    <a:lnTo>
                      <a:pt x="226" y="1063"/>
                    </a:lnTo>
                    <a:lnTo>
                      <a:pt x="226" y="1063"/>
                    </a:lnTo>
                    <a:lnTo>
                      <a:pt x="226" y="1064"/>
                    </a:lnTo>
                    <a:lnTo>
                      <a:pt x="226" y="1064"/>
                    </a:lnTo>
                    <a:lnTo>
                      <a:pt x="227" y="1070"/>
                    </a:lnTo>
                    <a:lnTo>
                      <a:pt x="227" y="1076"/>
                    </a:lnTo>
                    <a:lnTo>
                      <a:pt x="227" y="1077"/>
                    </a:lnTo>
                    <a:lnTo>
                      <a:pt x="227" y="1077"/>
                    </a:lnTo>
                    <a:lnTo>
                      <a:pt x="225" y="1085"/>
                    </a:lnTo>
                    <a:lnTo>
                      <a:pt x="225" y="1085"/>
                    </a:lnTo>
                    <a:lnTo>
                      <a:pt x="225" y="1085"/>
                    </a:lnTo>
                    <a:lnTo>
                      <a:pt x="224" y="1091"/>
                    </a:lnTo>
                    <a:lnTo>
                      <a:pt x="224" y="1091"/>
                    </a:lnTo>
                    <a:lnTo>
                      <a:pt x="224" y="1091"/>
                    </a:lnTo>
                    <a:lnTo>
                      <a:pt x="222" y="1095"/>
                    </a:lnTo>
                    <a:lnTo>
                      <a:pt x="221" y="1102"/>
                    </a:lnTo>
                    <a:lnTo>
                      <a:pt x="221" y="1102"/>
                    </a:lnTo>
                    <a:lnTo>
                      <a:pt x="218" y="1111"/>
                    </a:lnTo>
                    <a:lnTo>
                      <a:pt x="218" y="1111"/>
                    </a:lnTo>
                    <a:lnTo>
                      <a:pt x="216" y="1123"/>
                    </a:lnTo>
                    <a:lnTo>
                      <a:pt x="216" y="1123"/>
                    </a:lnTo>
                    <a:lnTo>
                      <a:pt x="214" y="1134"/>
                    </a:lnTo>
                    <a:lnTo>
                      <a:pt x="213" y="1149"/>
                    </a:lnTo>
                    <a:lnTo>
                      <a:pt x="213" y="1149"/>
                    </a:lnTo>
                    <a:lnTo>
                      <a:pt x="213" y="1164"/>
                    </a:lnTo>
                    <a:lnTo>
                      <a:pt x="213" y="1177"/>
                    </a:lnTo>
                    <a:lnTo>
                      <a:pt x="216" y="1187"/>
                    </a:lnTo>
                    <a:lnTo>
                      <a:pt x="216" y="1187"/>
                    </a:lnTo>
                    <a:lnTo>
                      <a:pt x="216" y="1193"/>
                    </a:lnTo>
                    <a:lnTo>
                      <a:pt x="216" y="1193"/>
                    </a:lnTo>
                    <a:lnTo>
                      <a:pt x="216" y="1194"/>
                    </a:lnTo>
                    <a:lnTo>
                      <a:pt x="212" y="1203"/>
                    </a:lnTo>
                    <a:lnTo>
                      <a:pt x="212" y="1203"/>
                    </a:lnTo>
                    <a:lnTo>
                      <a:pt x="212" y="1203"/>
                    </a:lnTo>
                    <a:lnTo>
                      <a:pt x="208" y="1212"/>
                    </a:lnTo>
                    <a:lnTo>
                      <a:pt x="208" y="1212"/>
                    </a:lnTo>
                    <a:lnTo>
                      <a:pt x="204" y="1220"/>
                    </a:lnTo>
                    <a:lnTo>
                      <a:pt x="204" y="1220"/>
                    </a:lnTo>
                    <a:lnTo>
                      <a:pt x="200" y="1229"/>
                    </a:lnTo>
                    <a:lnTo>
                      <a:pt x="200" y="1230"/>
                    </a:lnTo>
                    <a:lnTo>
                      <a:pt x="199" y="1230"/>
                    </a:lnTo>
                    <a:lnTo>
                      <a:pt x="195" y="1235"/>
                    </a:lnTo>
                    <a:lnTo>
                      <a:pt x="188" y="1248"/>
                    </a:lnTo>
                    <a:lnTo>
                      <a:pt x="188" y="1248"/>
                    </a:lnTo>
                    <a:lnTo>
                      <a:pt x="181" y="1258"/>
                    </a:lnTo>
                    <a:lnTo>
                      <a:pt x="181" y="1258"/>
                    </a:lnTo>
                    <a:lnTo>
                      <a:pt x="181" y="1258"/>
                    </a:lnTo>
                    <a:lnTo>
                      <a:pt x="175" y="1264"/>
                    </a:lnTo>
                    <a:lnTo>
                      <a:pt x="172" y="1269"/>
                    </a:lnTo>
                    <a:lnTo>
                      <a:pt x="168" y="1275"/>
                    </a:lnTo>
                    <a:lnTo>
                      <a:pt x="169" y="1282"/>
                    </a:lnTo>
                    <a:lnTo>
                      <a:pt x="171" y="1287"/>
                    </a:lnTo>
                    <a:lnTo>
                      <a:pt x="175" y="1291"/>
                    </a:lnTo>
                    <a:lnTo>
                      <a:pt x="179" y="1294"/>
                    </a:lnTo>
                    <a:lnTo>
                      <a:pt x="184" y="1295"/>
                    </a:lnTo>
                    <a:lnTo>
                      <a:pt x="189" y="1293"/>
                    </a:lnTo>
                    <a:lnTo>
                      <a:pt x="190" y="1292"/>
                    </a:lnTo>
                    <a:lnTo>
                      <a:pt x="191" y="1293"/>
                    </a:lnTo>
                    <a:lnTo>
                      <a:pt x="198" y="1294"/>
                    </a:lnTo>
                    <a:lnTo>
                      <a:pt x="199" y="1294"/>
                    </a:lnTo>
                    <a:lnTo>
                      <a:pt x="199" y="1295"/>
                    </a:lnTo>
                    <a:lnTo>
                      <a:pt x="206" y="1300"/>
                    </a:lnTo>
                    <a:lnTo>
                      <a:pt x="207" y="1300"/>
                    </a:lnTo>
                    <a:lnTo>
                      <a:pt x="207" y="1301"/>
                    </a:lnTo>
                    <a:lnTo>
                      <a:pt x="212" y="1308"/>
                    </a:lnTo>
                    <a:lnTo>
                      <a:pt x="212" y="1309"/>
                    </a:lnTo>
                    <a:lnTo>
                      <a:pt x="212" y="1309"/>
                    </a:lnTo>
                    <a:lnTo>
                      <a:pt x="214" y="1317"/>
                    </a:lnTo>
                    <a:lnTo>
                      <a:pt x="216" y="1318"/>
                    </a:lnTo>
                    <a:lnTo>
                      <a:pt x="216" y="1318"/>
                    </a:lnTo>
                    <a:lnTo>
                      <a:pt x="216" y="1333"/>
                    </a:lnTo>
                    <a:lnTo>
                      <a:pt x="216" y="1333"/>
                    </a:lnTo>
                    <a:lnTo>
                      <a:pt x="216" y="1333"/>
                    </a:lnTo>
                    <a:lnTo>
                      <a:pt x="213" y="1345"/>
                    </a:lnTo>
                    <a:lnTo>
                      <a:pt x="213" y="1345"/>
                    </a:lnTo>
                    <a:lnTo>
                      <a:pt x="213" y="1346"/>
                    </a:lnTo>
                    <a:lnTo>
                      <a:pt x="210" y="1353"/>
                    </a:lnTo>
                    <a:lnTo>
                      <a:pt x="210" y="1353"/>
                    </a:lnTo>
                    <a:lnTo>
                      <a:pt x="240" y="1344"/>
                    </a:lnTo>
                    <a:lnTo>
                      <a:pt x="270" y="1333"/>
                    </a:lnTo>
                    <a:lnTo>
                      <a:pt x="300" y="1322"/>
                    </a:lnTo>
                    <a:lnTo>
                      <a:pt x="328" y="1309"/>
                    </a:lnTo>
                    <a:lnTo>
                      <a:pt x="357" y="1296"/>
                    </a:lnTo>
                    <a:lnTo>
                      <a:pt x="385" y="1282"/>
                    </a:lnTo>
                    <a:lnTo>
                      <a:pt x="412" y="1266"/>
                    </a:lnTo>
                    <a:lnTo>
                      <a:pt x="439" y="1250"/>
                    </a:lnTo>
                    <a:lnTo>
                      <a:pt x="464" y="1233"/>
                    </a:lnTo>
                    <a:lnTo>
                      <a:pt x="490" y="1216"/>
                    </a:lnTo>
                    <a:lnTo>
                      <a:pt x="515" y="1196"/>
                    </a:lnTo>
                    <a:lnTo>
                      <a:pt x="539" y="1177"/>
                    </a:lnTo>
                    <a:lnTo>
                      <a:pt x="563" y="1157"/>
                    </a:lnTo>
                    <a:lnTo>
                      <a:pt x="585" y="1135"/>
                    </a:lnTo>
                    <a:lnTo>
                      <a:pt x="608" y="1114"/>
                    </a:lnTo>
                    <a:lnTo>
                      <a:pt x="629" y="1092"/>
                    </a:lnTo>
                    <a:lnTo>
                      <a:pt x="649" y="1068"/>
                    </a:lnTo>
                    <a:lnTo>
                      <a:pt x="668" y="1044"/>
                    </a:lnTo>
                    <a:lnTo>
                      <a:pt x="688" y="1020"/>
                    </a:lnTo>
                    <a:lnTo>
                      <a:pt x="706" y="994"/>
                    </a:lnTo>
                    <a:lnTo>
                      <a:pt x="723" y="969"/>
                    </a:lnTo>
                    <a:lnTo>
                      <a:pt x="740" y="941"/>
                    </a:lnTo>
                    <a:lnTo>
                      <a:pt x="755" y="915"/>
                    </a:lnTo>
                    <a:lnTo>
                      <a:pt x="770" y="887"/>
                    </a:lnTo>
                    <a:lnTo>
                      <a:pt x="783" y="859"/>
                    </a:lnTo>
                    <a:lnTo>
                      <a:pt x="796" y="830"/>
                    </a:lnTo>
                    <a:lnTo>
                      <a:pt x="808" y="801"/>
                    </a:lnTo>
                    <a:lnTo>
                      <a:pt x="819" y="771"/>
                    </a:lnTo>
                    <a:lnTo>
                      <a:pt x="828" y="741"/>
                    </a:lnTo>
                    <a:lnTo>
                      <a:pt x="837" y="710"/>
                    </a:lnTo>
                    <a:lnTo>
                      <a:pt x="845" y="679"/>
                    </a:lnTo>
                    <a:lnTo>
                      <a:pt x="851" y="648"/>
                    </a:lnTo>
                    <a:lnTo>
                      <a:pt x="851" y="648"/>
                    </a:lnTo>
                    <a:close/>
                    <a:moveTo>
                      <a:pt x="450" y="1190"/>
                    </a:moveTo>
                    <a:lnTo>
                      <a:pt x="450" y="1190"/>
                    </a:lnTo>
                    <a:lnTo>
                      <a:pt x="445" y="1194"/>
                    </a:lnTo>
                    <a:lnTo>
                      <a:pt x="439" y="1202"/>
                    </a:lnTo>
                    <a:lnTo>
                      <a:pt x="423" y="1222"/>
                    </a:lnTo>
                    <a:lnTo>
                      <a:pt x="403" y="1248"/>
                    </a:lnTo>
                    <a:lnTo>
                      <a:pt x="361" y="1190"/>
                    </a:lnTo>
                    <a:lnTo>
                      <a:pt x="361" y="1190"/>
                    </a:lnTo>
                    <a:lnTo>
                      <a:pt x="364" y="1131"/>
                    </a:lnTo>
                    <a:lnTo>
                      <a:pt x="370" y="1023"/>
                    </a:lnTo>
                    <a:lnTo>
                      <a:pt x="379" y="905"/>
                    </a:lnTo>
                    <a:lnTo>
                      <a:pt x="383" y="855"/>
                    </a:lnTo>
                    <a:lnTo>
                      <a:pt x="387" y="819"/>
                    </a:lnTo>
                    <a:lnTo>
                      <a:pt x="387" y="819"/>
                    </a:lnTo>
                    <a:lnTo>
                      <a:pt x="396" y="760"/>
                    </a:lnTo>
                    <a:lnTo>
                      <a:pt x="409" y="686"/>
                    </a:lnTo>
                    <a:lnTo>
                      <a:pt x="422" y="621"/>
                    </a:lnTo>
                    <a:lnTo>
                      <a:pt x="426" y="599"/>
                    </a:lnTo>
                    <a:lnTo>
                      <a:pt x="429" y="588"/>
                    </a:lnTo>
                    <a:lnTo>
                      <a:pt x="429" y="588"/>
                    </a:lnTo>
                    <a:lnTo>
                      <a:pt x="431" y="585"/>
                    </a:lnTo>
                    <a:lnTo>
                      <a:pt x="433" y="584"/>
                    </a:lnTo>
                    <a:lnTo>
                      <a:pt x="435" y="583"/>
                    </a:lnTo>
                    <a:lnTo>
                      <a:pt x="435" y="583"/>
                    </a:lnTo>
                    <a:lnTo>
                      <a:pt x="458" y="582"/>
                    </a:lnTo>
                    <a:lnTo>
                      <a:pt x="458" y="582"/>
                    </a:lnTo>
                    <a:lnTo>
                      <a:pt x="461" y="583"/>
                    </a:lnTo>
                    <a:lnTo>
                      <a:pt x="464" y="584"/>
                    </a:lnTo>
                    <a:lnTo>
                      <a:pt x="465" y="586"/>
                    </a:lnTo>
                    <a:lnTo>
                      <a:pt x="465" y="586"/>
                    </a:lnTo>
                    <a:lnTo>
                      <a:pt x="466" y="603"/>
                    </a:lnTo>
                    <a:lnTo>
                      <a:pt x="467" y="621"/>
                    </a:lnTo>
                    <a:lnTo>
                      <a:pt x="467" y="644"/>
                    </a:lnTo>
                    <a:lnTo>
                      <a:pt x="467" y="644"/>
                    </a:lnTo>
                    <a:lnTo>
                      <a:pt x="459" y="925"/>
                    </a:lnTo>
                    <a:lnTo>
                      <a:pt x="450" y="1190"/>
                    </a:lnTo>
                    <a:lnTo>
                      <a:pt x="450" y="1190"/>
                    </a:lnTo>
                    <a:close/>
                    <a:moveTo>
                      <a:pt x="461" y="575"/>
                    </a:moveTo>
                    <a:lnTo>
                      <a:pt x="461" y="575"/>
                    </a:lnTo>
                    <a:lnTo>
                      <a:pt x="459" y="578"/>
                    </a:lnTo>
                    <a:lnTo>
                      <a:pt x="457" y="579"/>
                    </a:lnTo>
                    <a:lnTo>
                      <a:pt x="455" y="579"/>
                    </a:lnTo>
                    <a:lnTo>
                      <a:pt x="455" y="579"/>
                    </a:lnTo>
                    <a:lnTo>
                      <a:pt x="439" y="580"/>
                    </a:lnTo>
                    <a:lnTo>
                      <a:pt x="439" y="580"/>
                    </a:lnTo>
                    <a:lnTo>
                      <a:pt x="434" y="579"/>
                    </a:lnTo>
                    <a:lnTo>
                      <a:pt x="431" y="577"/>
                    </a:lnTo>
                    <a:lnTo>
                      <a:pt x="430" y="575"/>
                    </a:lnTo>
                    <a:lnTo>
                      <a:pt x="430" y="574"/>
                    </a:lnTo>
                    <a:lnTo>
                      <a:pt x="430" y="574"/>
                    </a:lnTo>
                    <a:lnTo>
                      <a:pt x="422" y="545"/>
                    </a:lnTo>
                    <a:lnTo>
                      <a:pt x="422" y="545"/>
                    </a:lnTo>
                    <a:lnTo>
                      <a:pt x="421" y="543"/>
                    </a:lnTo>
                    <a:lnTo>
                      <a:pt x="422" y="540"/>
                    </a:lnTo>
                    <a:lnTo>
                      <a:pt x="424" y="536"/>
                    </a:lnTo>
                    <a:lnTo>
                      <a:pt x="428" y="531"/>
                    </a:lnTo>
                    <a:lnTo>
                      <a:pt x="428" y="531"/>
                    </a:lnTo>
                    <a:lnTo>
                      <a:pt x="433" y="526"/>
                    </a:lnTo>
                    <a:lnTo>
                      <a:pt x="438" y="523"/>
                    </a:lnTo>
                    <a:lnTo>
                      <a:pt x="442" y="522"/>
                    </a:lnTo>
                    <a:lnTo>
                      <a:pt x="445" y="522"/>
                    </a:lnTo>
                    <a:lnTo>
                      <a:pt x="448" y="522"/>
                    </a:lnTo>
                    <a:lnTo>
                      <a:pt x="450" y="523"/>
                    </a:lnTo>
                    <a:lnTo>
                      <a:pt x="452" y="525"/>
                    </a:lnTo>
                    <a:lnTo>
                      <a:pt x="452" y="525"/>
                    </a:lnTo>
                    <a:lnTo>
                      <a:pt x="467" y="540"/>
                    </a:lnTo>
                    <a:lnTo>
                      <a:pt x="467" y="540"/>
                    </a:lnTo>
                    <a:lnTo>
                      <a:pt x="469" y="542"/>
                    </a:lnTo>
                    <a:lnTo>
                      <a:pt x="471" y="544"/>
                    </a:lnTo>
                    <a:lnTo>
                      <a:pt x="471" y="549"/>
                    </a:lnTo>
                    <a:lnTo>
                      <a:pt x="471" y="556"/>
                    </a:lnTo>
                    <a:lnTo>
                      <a:pt x="469" y="562"/>
                    </a:lnTo>
                    <a:lnTo>
                      <a:pt x="464" y="571"/>
                    </a:lnTo>
                    <a:lnTo>
                      <a:pt x="461" y="575"/>
                    </a:lnTo>
                    <a:lnTo>
                      <a:pt x="461" y="5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" name="Picture 86" descr=""/>
          <p:cNvPicPr/>
          <p:nvPr/>
        </p:nvPicPr>
        <p:blipFill>
          <a:blip r:embed="rId3"/>
          <a:stretch/>
        </p:blipFill>
        <p:spPr>
          <a:xfrm>
            <a:off x="8574120" y="1590840"/>
            <a:ext cx="393840" cy="160200"/>
          </a:xfrm>
          <a:prstGeom prst="rect">
            <a:avLst/>
          </a:prstGeom>
          <a:ln w="0">
            <a:noFill/>
          </a:ln>
        </p:spPr>
      </p:pic>
      <p:pic>
        <p:nvPicPr>
          <p:cNvPr id="25" name="Picture 87" descr=""/>
          <p:cNvPicPr/>
          <p:nvPr/>
        </p:nvPicPr>
        <p:blipFill>
          <a:blip r:embed="rId4"/>
          <a:stretch/>
        </p:blipFill>
        <p:spPr>
          <a:xfrm>
            <a:off x="8574120" y="1590840"/>
            <a:ext cx="393840" cy="160200"/>
          </a:xfrm>
          <a:prstGeom prst="rect">
            <a:avLst/>
          </a:prstGeom>
          <a:ln w="0">
            <a:noFill/>
          </a:ln>
        </p:spPr>
      </p:pic>
      <p:sp>
        <p:nvSpPr>
          <p:cNvPr id="26" name="Freeform 88"/>
          <p:cNvSpPr/>
          <p:nvPr/>
        </p:nvSpPr>
        <p:spPr>
          <a:xfrm rot="16200000">
            <a:off x="8358120" y="1234800"/>
            <a:ext cx="217440" cy="173160"/>
          </a:xfrm>
          <a:custGeom>
            <a:avLst/>
            <a:gdLst/>
            <a:ahLst/>
            <a:rect l="l" t="t" r="r" b="b"/>
            <a:pathLst>
              <a:path w="87" h="69">
                <a:moveTo>
                  <a:pt x="7" y="69"/>
                </a:moveTo>
                <a:cubicBezTo>
                  <a:pt x="33" y="51"/>
                  <a:pt x="60" y="31"/>
                  <a:pt x="87" y="9"/>
                </a:cubicBezTo>
                <a:cubicBezTo>
                  <a:pt x="85" y="6"/>
                  <a:pt x="84" y="3"/>
                  <a:pt x="82" y="0"/>
                </a:cubicBezTo>
                <a:cubicBezTo>
                  <a:pt x="54" y="23"/>
                  <a:pt x="27" y="43"/>
                  <a:pt x="0" y="62"/>
                </a:cubicBezTo>
                <a:cubicBezTo>
                  <a:pt x="2" y="65"/>
                  <a:pt x="5" y="67"/>
                  <a:pt x="7" y="69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Freeform 89"/>
          <p:cNvSpPr/>
          <p:nvPr/>
        </p:nvSpPr>
        <p:spPr>
          <a:xfrm rot="16200000">
            <a:off x="7769880" y="577080"/>
            <a:ext cx="184320" cy="210960"/>
          </a:xfrm>
          <a:custGeom>
            <a:avLst/>
            <a:gdLst/>
            <a:ahLst/>
            <a:rect l="l" t="t" r="r" b="b"/>
            <a:pathLst>
              <a:path w="74" h="85">
                <a:moveTo>
                  <a:pt x="74" y="7"/>
                </a:moveTo>
                <a:cubicBezTo>
                  <a:pt x="72" y="5"/>
                  <a:pt x="69" y="2"/>
                  <a:pt x="67" y="0"/>
                </a:cubicBezTo>
                <a:cubicBezTo>
                  <a:pt x="45" y="28"/>
                  <a:pt x="23" y="54"/>
                  <a:pt x="0" y="80"/>
                </a:cubicBezTo>
                <a:cubicBezTo>
                  <a:pt x="3" y="81"/>
                  <a:pt x="6" y="83"/>
                  <a:pt x="9" y="85"/>
                </a:cubicBezTo>
                <a:cubicBezTo>
                  <a:pt x="31" y="60"/>
                  <a:pt x="53" y="34"/>
                  <a:pt x="74" y="7"/>
                </a:cubicBezTo>
                <a:close/>
              </a:path>
            </a:pathLst>
          </a:custGeom>
          <a:solidFill>
            <a:srgbClr val="0099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Freeform 91"/>
          <p:cNvSpPr/>
          <p:nvPr/>
        </p:nvSpPr>
        <p:spPr>
          <a:xfrm rot="16200000">
            <a:off x="8501760" y="1373400"/>
            <a:ext cx="552600" cy="551160"/>
          </a:xfrm>
          <a:custGeom>
            <a:avLst/>
            <a:gdLst/>
            <a:ahLst/>
            <a:rect l="l" t="t" r="r" b="b"/>
            <a:pathLst>
              <a:path w="258" h="258">
                <a:moveTo>
                  <a:pt x="170" y="7"/>
                </a:moveTo>
                <a:cubicBezTo>
                  <a:pt x="157" y="3"/>
                  <a:pt x="143" y="0"/>
                  <a:pt x="129" y="0"/>
                </a:cubicBezTo>
                <a:cubicBezTo>
                  <a:pt x="57" y="0"/>
                  <a:pt x="0" y="58"/>
                  <a:pt x="0" y="129"/>
                </a:cubicBezTo>
                <a:cubicBezTo>
                  <a:pt x="0" y="164"/>
                  <a:pt x="13" y="195"/>
                  <a:pt x="35" y="218"/>
                </a:cubicBezTo>
                <a:cubicBezTo>
                  <a:pt x="37" y="220"/>
                  <a:pt x="40" y="223"/>
                  <a:pt x="42" y="225"/>
                </a:cubicBezTo>
                <a:cubicBezTo>
                  <a:pt x="45" y="228"/>
                  <a:pt x="49" y="230"/>
                  <a:pt x="52" y="233"/>
                </a:cubicBezTo>
                <a:cubicBezTo>
                  <a:pt x="74" y="249"/>
                  <a:pt x="100" y="258"/>
                  <a:pt x="129" y="258"/>
                </a:cubicBezTo>
                <a:cubicBezTo>
                  <a:pt x="200" y="258"/>
                  <a:pt x="258" y="200"/>
                  <a:pt x="258" y="129"/>
                </a:cubicBezTo>
                <a:cubicBezTo>
                  <a:pt x="258" y="80"/>
                  <a:pt x="231" y="38"/>
                  <a:pt x="191" y="16"/>
                </a:cubicBezTo>
                <a:cubicBezTo>
                  <a:pt x="187" y="14"/>
                  <a:pt x="184" y="12"/>
                  <a:pt x="180" y="11"/>
                </a:cubicBezTo>
                <a:cubicBezTo>
                  <a:pt x="177" y="9"/>
                  <a:pt x="174" y="8"/>
                  <a:pt x="170" y="7"/>
                </a:cubicBez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7ed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AutoShape 93"/>
          <p:cNvSpPr/>
          <p:nvPr/>
        </p:nvSpPr>
        <p:spPr>
          <a:xfrm rot="10800000">
            <a:off x="7197840" y="0"/>
            <a:ext cx="1946160" cy="1946160"/>
          </a:xfrm>
          <a:prstGeom prst="rtTriangl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ffffff"/>
              </a:gs>
              <a:gs pos="100000">
                <a:srgbClr val="0000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AutoShape 94"/>
          <p:cNvSpPr/>
          <p:nvPr/>
        </p:nvSpPr>
        <p:spPr>
          <a:xfrm rot="10800000">
            <a:off x="8318160" y="-360"/>
            <a:ext cx="825480" cy="825480"/>
          </a:xfrm>
          <a:prstGeom prst="rtTriangle">
            <a:avLst/>
          </a:prstGeom>
          <a:gradFill rotWithShape="0">
            <a:gsLst>
              <a:gs pos="0">
                <a:srgbClr val="000000">
                  <a:alpha val="0"/>
                </a:srgbClr>
              </a:gs>
              <a:gs pos="50000">
                <a:srgbClr val="ffffff"/>
              </a:gs>
              <a:gs pos="100000">
                <a:srgbClr val="000000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AutoShape 132"/>
          <p:cNvSpPr/>
          <p:nvPr/>
        </p:nvSpPr>
        <p:spPr>
          <a:xfrm rot="5400000">
            <a:off x="8142120" y="53172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AutoShape 133"/>
          <p:cNvSpPr/>
          <p:nvPr/>
        </p:nvSpPr>
        <p:spPr>
          <a:xfrm rot="5400000">
            <a:off x="7449480" y="-34920"/>
            <a:ext cx="18432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AutoShape 135"/>
          <p:cNvSpPr/>
          <p:nvPr/>
        </p:nvSpPr>
        <p:spPr>
          <a:xfrm rot="5400000">
            <a:off x="8142120" y="53640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AutoShape 137"/>
          <p:cNvSpPr/>
          <p:nvPr/>
        </p:nvSpPr>
        <p:spPr>
          <a:xfrm rot="5400000">
            <a:off x="7449840" y="-25560"/>
            <a:ext cx="183960" cy="466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AutoShape 219"/>
          <p:cNvSpPr/>
          <p:nvPr/>
        </p:nvSpPr>
        <p:spPr>
          <a:xfrm>
            <a:off x="8580600" y="1469880"/>
            <a:ext cx="393480" cy="263520"/>
          </a:xfrm>
          <a:prstGeom prst="cloudCallout">
            <a:avLst>
              <a:gd name="adj1" fmla="val 24194"/>
              <a:gd name="adj2" fmla="val 96384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64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AutoShape 112"/>
          <p:cNvSpPr/>
          <p:nvPr/>
        </p:nvSpPr>
        <p:spPr>
          <a:xfrm rot="5400000">
            <a:off x="8683560" y="1246320"/>
            <a:ext cx="18432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548" y="1704"/>
                  <a:pt x="9496" y="5080"/>
                  <a:pt x="9496" y="10800"/>
                </a:cubicBezTo>
                <a:cubicBezTo>
                  <a:pt x="9496" y="16520"/>
                  <a:pt x="15548" y="1989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3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AutoShape 134"/>
          <p:cNvSpPr/>
          <p:nvPr/>
        </p:nvSpPr>
        <p:spPr>
          <a:xfrm rot="5400000">
            <a:off x="8683560" y="1252440"/>
            <a:ext cx="18396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103" y="468"/>
                  <a:pt x="2606" y="5080"/>
                  <a:pt x="2606" y="10800"/>
                </a:cubicBezTo>
                <a:cubicBezTo>
                  <a:pt x="2606" y="16520"/>
                  <a:pt x="12103" y="2113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 type="title"/>
          </p:nvPr>
        </p:nvSpPr>
        <p:spPr>
          <a:xfrm>
            <a:off x="457200" y="117000"/>
            <a:ext cx="60595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5.jpeg"/><Relationship Id="rId6" Type="http://schemas.openxmlformats.org/officeDocument/2006/relationships/image" Target="../media/image9.jpeg"/><Relationship Id="rId7" Type="http://schemas.openxmlformats.org/officeDocument/2006/relationships/image" Target="../media/image6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10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4.jpeg"/><Relationship Id="rId9" Type="http://schemas.openxmlformats.org/officeDocument/2006/relationships/image" Target="../media/image9.jpeg"/><Relationship Id="rId10" Type="http://schemas.openxmlformats.org/officeDocument/2006/relationships/hyperlink" Target="http://www.eeppt.com/moban/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jpeg"/><Relationship Id="rId3" Type="http://schemas.openxmlformats.org/officeDocument/2006/relationships/image" Target="../media/image5.jpeg"/><Relationship Id="rId4" Type="http://schemas.openxmlformats.org/officeDocument/2006/relationships/image" Target="../media/image10.jpeg"/><Relationship Id="rId5" Type="http://schemas.openxmlformats.org/officeDocument/2006/relationships/image" Target="../media/image12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5.jpeg"/><Relationship Id="rId3" Type="http://schemas.openxmlformats.org/officeDocument/2006/relationships/image" Target="../media/image10.jpeg"/><Relationship Id="rId4" Type="http://schemas.openxmlformats.org/officeDocument/2006/relationships/image" Target="../media/image12.jpeg"/><Relationship Id="rId5" Type="http://schemas.openxmlformats.org/officeDocument/2006/relationships/image" Target="../media/image14.jpeg"/><Relationship Id="rId6" Type="http://schemas.openxmlformats.org/officeDocument/2006/relationships/image" Target="../media/image16.jpeg"/><Relationship Id="rId7" Type="http://schemas.openxmlformats.org/officeDocument/2006/relationships/image" Target="../media/image15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image" Target="../media/image16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image" Target="../media/image14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hyperlink" Target="http://www.eeppt.com/moban/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76" name="Rectangle 176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77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78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80" name="Rectangle 179" descr="Air0003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Rectangle 180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81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182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AutoShape 183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AutoShape 184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185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86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90" name="Rectangle 162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3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4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94" name="Rectangle 165" descr="Meeting00042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166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7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168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69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70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71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72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104" name="Freeform 91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92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AutoShape 93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109" name="Rectangle 14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4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5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113" name="Rectangle 151" descr="Building00005"/>
              <p:cNvPicPr/>
              <p:nvPr/>
            </p:nvPicPr>
            <p:blipFill>
              <a:blip r:embed="rId3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15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5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utoShape 15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15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utoShape 15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AutoShape 15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5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123" name="Rectangle 19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9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9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127" name="Rectangle 193" descr="Callcentre00022"/>
              <p:cNvPicPr/>
              <p:nvPr/>
            </p:nvPicPr>
            <p:blipFill>
              <a:blip r:embed="rId4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9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9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9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AutoShape 19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9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0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137" name="Rectangle 12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2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141" name="Rectangle 129" descr="Building00005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33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4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131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35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136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137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38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17640" y="4292640"/>
            <a:ext cx="506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现代商务会议流程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4276 0.32176 E">
                                      <p:cBhvr>
                                        <p:cTn id="2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25" dur="8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27" dur="8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1000" fill="hold"/>
                                        <p:tgtEl>
                                          <p:spTgt spid="13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154" name="Rectangle 280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81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282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158" name="Rectangle 283" descr="Handshake0000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Rectangle 284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85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86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87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288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89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90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168" name="Rectangle 224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225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226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172" name="Rectangle 227" descr="Meeting00042"/>
              <p:cNvPicPr/>
              <p:nvPr/>
            </p:nvPicPr>
            <p:blipFill>
              <a:blip r:embed="rId2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Rectangle 228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229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30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utoShape 231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232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233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234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182" name="Rectangle 23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23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24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186" name="Rectangle 241" descr="Meeting00042"/>
              <p:cNvPicPr/>
              <p:nvPr/>
            </p:nvPicPr>
            <p:blipFill>
              <a:blip r:embed="rId3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Rectangle 24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4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24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24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24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AutoShape 24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24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196" name="Rectangle 210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11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12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00" name="Rectangle 213" descr="Air00037"/>
              <p:cNvPicPr/>
              <p:nvPr/>
            </p:nvPicPr>
            <p:blipFill>
              <a:blip r:embed="rId4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Rectangle 214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215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216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217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218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AutoShape 219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220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210" name="Freeform 149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0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151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52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215" name="Freeform 154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55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156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AutoShape 157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220" name="Rectangle 19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9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0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224" name="Rectangle 201" descr="Building00005"/>
              <p:cNvPicPr/>
              <p:nvPr/>
            </p:nvPicPr>
            <p:blipFill>
              <a:blip r:embed="rId5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Rectangle 20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0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20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20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0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0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0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234" name="Rectangle 26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6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6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238" name="Rectangle 269" descr="Air0003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Rectangle 27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7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27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7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27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AutoShape 27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7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248" name="Rectangle 252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3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54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252" name="Rectangle 255" descr="Callcentre00022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Rectangle 256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57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58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59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60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61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62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262" name="Rectangle 293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94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95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266" name="Rectangle 296" descr="Callcentre00022"/>
              <p:cNvPicPr/>
              <p:nvPr/>
            </p:nvPicPr>
            <p:blipFill>
              <a:blip r:embed="rId8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Rectangle 297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298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299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300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301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302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3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Box 109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26875 0.32176 E">
                                      <p:cBhvr>
                                        <p:cTn id="48" dur="1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50" dur="8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52" dur="8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54" dur="8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56" dur="8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1000" fill="hold"/>
                                        <p:tgtEl>
                                          <p:spTgt spid="24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277" name="Rectangle 290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91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92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81" name="Rectangle 293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2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3" name="Rectangle 294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5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AutoShape 296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AutoShape 297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AutoShape 298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299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00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291" name="Rectangle 24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24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25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295" name="Rectangle 251" descr="Handshake00007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Rectangle 25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25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AutoShape 25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AutoShape 25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AutoShape 25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25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5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305" name="Rectangle 276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277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278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309" name="Rectangle 279" descr="Handshake00007"/>
              <p:cNvPicPr/>
              <p:nvPr/>
            </p:nvPicPr>
            <p:blipFill>
              <a:blip r:embed="rId3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Rectangle 280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281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282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AutoShape 283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AutoShape 284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AutoShape 285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286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319" name="Freeform 140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Text Box 141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AutoShape 142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AutoShape 143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324" name="Freeform 145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146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147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148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329" name="Freeform 150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51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152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153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334" name="Rectangle 182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83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84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338" name="Rectangle 185" descr="Building00005"/>
              <p:cNvPicPr/>
              <p:nvPr/>
            </p:nvPicPr>
            <p:blipFill>
              <a:blip r:embed="rId4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Rectangle 186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87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utoShape 188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189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90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91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92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348" name="Rectangle 194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95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96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352" name="Rectangle 197" descr="Callcentre00022"/>
              <p:cNvPicPr/>
              <p:nvPr/>
            </p:nvPicPr>
            <p:blipFill>
              <a:blip r:embed="rId5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198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99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200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201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202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AutoShape 203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204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362" name="Rectangle 206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207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208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366" name="Rectangle 209" descr="Air00037"/>
              <p:cNvPicPr/>
              <p:nvPr/>
            </p:nvPicPr>
            <p:blipFill>
              <a:blip r:embed="rId6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" name="Rectangle 210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11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212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AutoShape 213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AutoShape 214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215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16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376" name="Rectangle 234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35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36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380" name="Rectangle 237" descr="Meeting00042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238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39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AutoShape 240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241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242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AutoShape 243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244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390" name="Rectangle 262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263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264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394" name="Rectangle 265" descr="Meeting00042"/>
              <p:cNvPicPr/>
              <p:nvPr/>
            </p:nvPicPr>
            <p:blipFill>
              <a:blip r:embed="rId8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Rectangle 266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267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AutoShape 268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269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270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271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272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404" name="Rectangle 22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2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2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408" name="Rectangle 223" descr="Air00037"/>
              <p:cNvPicPr/>
              <p:nvPr/>
            </p:nvPicPr>
            <p:blipFill>
              <a:blip r:embed="rId9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Rectangle 22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2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AutoShape 22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2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2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2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3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TextBox 126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117360"/>
            <a:ext cx="715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60a2"/>
                </a:solidFill>
                <a:uFillTx/>
                <a:latin typeface="Arial"/>
                <a:hlinkClick r:id="rId10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11458 0.32176 E">
                                      <p:cBhvr>
                                        <p:cTn id="81" dur="1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83" dur="8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85" dur="8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87" dur="8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89" dur="8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" dur="1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2506680" y="836640"/>
            <a:ext cx="1886040" cy="2162160"/>
            <a:chOff x="2506680" y="836640"/>
            <a:chExt cx="1886040" cy="2162160"/>
          </a:xfrm>
        </p:grpSpPr>
        <p:sp>
          <p:nvSpPr>
            <p:cNvPr id="420" name="Rectangle 272"/>
            <p:cNvSpPr/>
            <p:nvPr/>
          </p:nvSpPr>
          <p:spPr>
            <a:xfrm>
              <a:off x="2506680" y="836640"/>
              <a:ext cx="188604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73"/>
            <p:cNvSpPr/>
            <p:nvPr/>
          </p:nvSpPr>
          <p:spPr>
            <a:xfrm>
              <a:off x="2520720" y="850680"/>
              <a:ext cx="185868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74"/>
            <p:cNvSpPr/>
            <p:nvPr/>
          </p:nvSpPr>
          <p:spPr>
            <a:xfrm>
              <a:off x="2541240" y="865080"/>
              <a:ext cx="182052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626920" y="974880"/>
              <a:ext cx="1640520" cy="1395360"/>
              <a:chOff x="2626920" y="974880"/>
              <a:chExt cx="1640520" cy="1395360"/>
            </a:xfrm>
          </p:grpSpPr>
          <p:pic>
            <p:nvPicPr>
              <p:cNvPr id="424" name="Rectangle 275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2626920" y="974880"/>
                <a:ext cx="164052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2630160" y="983880"/>
                <a:ext cx="162324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" name="Rectangle 276"/>
            <p:cNvSpPr/>
            <p:nvPr/>
          </p:nvSpPr>
          <p:spPr>
            <a:xfrm>
              <a:off x="263664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77"/>
            <p:cNvSpPr/>
            <p:nvPr/>
          </p:nvSpPr>
          <p:spPr>
            <a:xfrm rot="10800000">
              <a:off x="263628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AutoShape 278"/>
            <p:cNvSpPr/>
            <p:nvPr/>
          </p:nvSpPr>
          <p:spPr>
            <a:xfrm rot="10800000">
              <a:off x="3623760" y="993600"/>
              <a:ext cx="61992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AutoShape 279"/>
            <p:cNvSpPr/>
            <p:nvPr/>
          </p:nvSpPr>
          <p:spPr>
            <a:xfrm rot="5400000">
              <a:off x="2640240" y="992520"/>
              <a:ext cx="619560" cy="619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AutoShape 280"/>
            <p:cNvSpPr/>
            <p:nvPr/>
          </p:nvSpPr>
          <p:spPr>
            <a:xfrm>
              <a:off x="264852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AutoShape 281"/>
            <p:cNvSpPr/>
            <p:nvPr/>
          </p:nvSpPr>
          <p:spPr>
            <a:xfrm rot="16200000">
              <a:off x="3894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82"/>
            <p:cNvSpPr/>
            <p:nvPr/>
          </p:nvSpPr>
          <p:spPr>
            <a:xfrm rot="10800000">
              <a:off x="263628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434" name="Rectangle 258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59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60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438" name="Rectangle 261" descr="Handshake00007"/>
              <p:cNvPicPr/>
              <p:nvPr/>
            </p:nvPicPr>
            <p:blipFill>
              <a:blip r:embed="rId2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Rectangle 262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63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AutoShape 264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265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266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267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68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448" name="Freeform 152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53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AutoShape 154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AutoShape 155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453" name="Freeform 157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58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159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AutoShape 160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458" name="Freeform 162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 Box 163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64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65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463" name="Freeform 167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Text Box 168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AutoShape 169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AutoShape 170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468" name="Rectangle 182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83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84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472" name="Rectangle 185" descr="Building00005"/>
              <p:cNvPicPr/>
              <p:nvPr/>
            </p:nvPicPr>
            <p:blipFill>
              <a:blip r:embed="rId3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Rectangle 186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87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88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AutoShape 189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190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91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92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482" name="Rectangle 194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95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96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486" name="Rectangle 197" descr="Callcentre00022"/>
              <p:cNvPicPr/>
              <p:nvPr/>
            </p:nvPicPr>
            <p:blipFill>
              <a:blip r:embed="rId4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Rectangle 198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99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200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utoShape 201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202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203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204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496" name="Rectangle 206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207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208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500" name="Rectangle 209" descr="Air00037"/>
              <p:cNvPicPr/>
              <p:nvPr/>
            </p:nvPicPr>
            <p:blipFill>
              <a:blip r:embed="rId5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Rectangle 210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211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212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AutoShape 213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AutoShape 214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AutoShape 215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216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510" name="Rectangle 218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219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220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514" name="Rectangle 221" descr="Meeting00042"/>
              <p:cNvPicPr/>
              <p:nvPr/>
            </p:nvPicPr>
            <p:blipFill>
              <a:blip r:embed="rId6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222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223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24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225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26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227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228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524" name="Rectangle 24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24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24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528" name="Rectangle 249" descr="Handshake00007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Rectangle 25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25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25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25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25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25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25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538" name="Rectangle 232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233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234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542" name="Rectangle 235" descr="Meeting00042"/>
              <p:cNvPicPr/>
              <p:nvPr/>
            </p:nvPicPr>
            <p:blipFill>
              <a:blip r:embed="rId8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" name="Rectangle 236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37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AutoShape 238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239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240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241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242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Box 119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3.7037E-007 L -0.31268 3.7037E-007 E">
                                      <p:cBhvr>
                                        <p:cTn id="114" dur="8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1372 3.7037E-007 E">
                                      <p:cBhvr>
                                        <p:cTn id="116" dur="8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0.04445 0.32176 E">
                                      <p:cBhvr>
                                        <p:cTn id="118" dur="1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8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3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1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"/>
          <p:cNvGrpSpPr/>
          <p:nvPr/>
        </p:nvGrpSpPr>
        <p:grpSpPr>
          <a:xfrm>
            <a:off x="5369040" y="836640"/>
            <a:ext cx="1885680" cy="2162160"/>
            <a:chOff x="5369040" y="836640"/>
            <a:chExt cx="1885680" cy="2162160"/>
          </a:xfrm>
        </p:grpSpPr>
        <p:sp>
          <p:nvSpPr>
            <p:cNvPr id="553" name="Rectangle 264"/>
            <p:cNvSpPr/>
            <p:nvPr/>
          </p:nvSpPr>
          <p:spPr>
            <a:xfrm>
              <a:off x="5369040" y="836640"/>
              <a:ext cx="1885680" cy="21621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265"/>
            <p:cNvSpPr/>
            <p:nvPr/>
          </p:nvSpPr>
          <p:spPr>
            <a:xfrm>
              <a:off x="5383080" y="850680"/>
              <a:ext cx="1858320" cy="2132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266"/>
            <p:cNvSpPr/>
            <p:nvPr/>
          </p:nvSpPr>
          <p:spPr>
            <a:xfrm>
              <a:off x="5403600" y="865080"/>
              <a:ext cx="1820160" cy="2103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"/>
            <p:cNvGrpSpPr/>
            <p:nvPr/>
          </p:nvGrpSpPr>
          <p:grpSpPr>
            <a:xfrm>
              <a:off x="5487120" y="974880"/>
              <a:ext cx="1639800" cy="1395360"/>
              <a:chOff x="5487120" y="974880"/>
              <a:chExt cx="1639800" cy="1395360"/>
            </a:xfrm>
          </p:grpSpPr>
          <p:pic>
            <p:nvPicPr>
              <p:cNvPr id="557" name="Rectangle 267" descr="Presentation00007"/>
              <p:cNvPicPr/>
              <p:nvPr/>
            </p:nvPicPr>
            <p:blipFill>
              <a:blip r:embed="rId1"/>
              <a:stretch/>
            </p:blipFill>
            <p:spPr>
              <a:xfrm>
                <a:off x="5487120" y="974880"/>
                <a:ext cx="1639800" cy="139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"/>
              <p:cNvSpPr/>
              <p:nvPr/>
            </p:nvSpPr>
            <p:spPr>
              <a:xfrm>
                <a:off x="5493600" y="983880"/>
                <a:ext cx="162252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9" name="Rectangle 268"/>
            <p:cNvSpPr/>
            <p:nvPr/>
          </p:nvSpPr>
          <p:spPr>
            <a:xfrm>
              <a:off x="5499000" y="21502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269"/>
            <p:cNvSpPr/>
            <p:nvPr/>
          </p:nvSpPr>
          <p:spPr>
            <a:xfrm rot="10800000">
              <a:off x="5498640" y="991080"/>
              <a:ext cx="1610280" cy="2048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270"/>
            <p:cNvSpPr/>
            <p:nvPr/>
          </p:nvSpPr>
          <p:spPr>
            <a:xfrm rot="10800000">
              <a:off x="6485400" y="99360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271"/>
            <p:cNvSpPr/>
            <p:nvPr/>
          </p:nvSpPr>
          <p:spPr>
            <a:xfrm rot="5400000">
              <a:off x="5501880" y="992880"/>
              <a:ext cx="619560" cy="619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272"/>
            <p:cNvSpPr/>
            <p:nvPr/>
          </p:nvSpPr>
          <p:spPr>
            <a:xfrm>
              <a:off x="5510880" y="200484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273"/>
            <p:cNvSpPr/>
            <p:nvPr/>
          </p:nvSpPr>
          <p:spPr>
            <a:xfrm rot="16200000">
              <a:off x="6756480" y="2004480"/>
              <a:ext cx="350280" cy="3502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74"/>
            <p:cNvSpPr/>
            <p:nvPr/>
          </p:nvSpPr>
          <p:spPr>
            <a:xfrm rot="10800000">
              <a:off x="5498640" y="991080"/>
              <a:ext cx="1610280" cy="604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567" name="Freeform 158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Text Box 159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60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161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572" name="Freeform 163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164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65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66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577" name="Freeform 168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169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170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AutoShape 171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582" name="Freeform 173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174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AutoShape 175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76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587" name="Freeform 178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Text Box 179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AutoShape 180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AutoShape 181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592" name="Rectangle 18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Rectangle 18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9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596" name="Rectangle 191" descr="Building00005"/>
              <p:cNvPicPr/>
              <p:nvPr/>
            </p:nvPicPr>
            <p:blipFill>
              <a:blip r:embed="rId2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" name="Rectangle 19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9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9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9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AutoShape 19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9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9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606" name="Rectangle 200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01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02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610" name="Rectangle 203" descr="Callcentre00022"/>
              <p:cNvPicPr/>
              <p:nvPr/>
            </p:nvPicPr>
            <p:blipFill>
              <a:blip r:embed="rId3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1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204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05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AutoShape 206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AutoShape 207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208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209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10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620" name="Rectangle 212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213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214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624" name="Rectangle 215" descr="Air00037"/>
              <p:cNvPicPr/>
              <p:nvPr/>
            </p:nvPicPr>
            <p:blipFill>
              <a:blip r:embed="rId4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5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6" name="Rectangle 216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217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218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19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220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AutoShape 221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222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634" name="Rectangle 224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25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226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638" name="Rectangle 227" descr="Meeting00042"/>
              <p:cNvPicPr/>
              <p:nvPr/>
            </p:nvPicPr>
            <p:blipFill>
              <a:blip r:embed="rId5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9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0" name="Rectangle 228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229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AutoShape 230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231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232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AutoShape 233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234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648" name="Rectangle 250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251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252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652" name="Rectangle 253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4" name="Rectangle 254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255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256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57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58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AutoShape 259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260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662" name="Rectangle 236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237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238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666" name="Rectangle 239" descr="Handshake00007"/>
              <p:cNvPicPr/>
              <p:nvPr/>
            </p:nvPicPr>
            <p:blipFill>
              <a:blip r:embed="rId7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Rectangle 240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241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42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243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244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45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46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676" name="Rectangle 278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279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280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680" name="Rectangle 281" descr="Handshake00007"/>
              <p:cNvPicPr/>
              <p:nvPr/>
            </p:nvPicPr>
            <p:blipFill>
              <a:blip r:embed="rId8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1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2" name="Rectangle 282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83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AutoShape 284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AutoShape 285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AutoShape 286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AutoShape 287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288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Box 124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3.33333E-006 L -0.15504 0.00092 E">
                                      <p:cBhvr>
                                        <p:cTn id="142" dur="8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0.2 0.32176 E">
                                      <p:cBhvr>
                                        <p:cTn id="144" dur="1000" fill="hold"/>
                                        <p:tgtEl>
                                          <p:spTgt spid="6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8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33000" y="133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691" name="Freeform 158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59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160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161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696" name="Freeform 163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164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65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AutoShape 166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701" name="Freeform 168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69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www.3lian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170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171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706" name="Freeform 173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Text Box 174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175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176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711" name="Freeform 178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179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80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AutoShape 181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7466040" y="4960800"/>
            <a:ext cx="1373040" cy="1325520"/>
            <a:chOff x="7466040" y="4960800"/>
            <a:chExt cx="1373040" cy="1325520"/>
          </a:xfrm>
        </p:grpSpPr>
        <p:sp>
          <p:nvSpPr>
            <p:cNvPr id="716" name="Freeform 183"/>
            <p:cNvSpPr/>
            <p:nvPr/>
          </p:nvSpPr>
          <p:spPr>
            <a:xfrm>
              <a:off x="7466040" y="4960800"/>
              <a:ext cx="1373040" cy="1325520"/>
            </a:xfrm>
            <a:custGeom>
              <a:avLst/>
              <a:gdLst/>
              <a:ahLst/>
              <a:rect l="l" t="t" r="r" b="b"/>
              <a:pathLst>
                <a:path w="1796" h="1730">
                  <a:moveTo>
                    <a:pt x="1540" y="0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31" y="2"/>
                  </a:lnTo>
                  <a:lnTo>
                    <a:pt x="205" y="5"/>
                  </a:lnTo>
                  <a:lnTo>
                    <a:pt x="180" y="12"/>
                  </a:lnTo>
                  <a:lnTo>
                    <a:pt x="157" y="20"/>
                  </a:lnTo>
                  <a:lnTo>
                    <a:pt x="135" y="30"/>
                  </a:lnTo>
                  <a:lnTo>
                    <a:pt x="114" y="42"/>
                  </a:lnTo>
                  <a:lnTo>
                    <a:pt x="94" y="57"/>
                  </a:lnTo>
                  <a:lnTo>
                    <a:pt x="75" y="73"/>
                  </a:lnTo>
                  <a:lnTo>
                    <a:pt x="59" y="90"/>
                  </a:lnTo>
                  <a:lnTo>
                    <a:pt x="45" y="109"/>
                  </a:lnTo>
                  <a:lnTo>
                    <a:pt x="32" y="130"/>
                  </a:lnTo>
                  <a:lnTo>
                    <a:pt x="21" y="151"/>
                  </a:lnTo>
                  <a:lnTo>
                    <a:pt x="13" y="173"/>
                  </a:lnTo>
                  <a:lnTo>
                    <a:pt x="6" y="198"/>
                  </a:lnTo>
                  <a:lnTo>
                    <a:pt x="3" y="222"/>
                  </a:lnTo>
                  <a:lnTo>
                    <a:pt x="0" y="247"/>
                  </a:lnTo>
                  <a:lnTo>
                    <a:pt x="0" y="571"/>
                  </a:lnTo>
                  <a:lnTo>
                    <a:pt x="295" y="864"/>
                  </a:lnTo>
                  <a:lnTo>
                    <a:pt x="0" y="1159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3" y="1508"/>
                  </a:lnTo>
                  <a:lnTo>
                    <a:pt x="6" y="1532"/>
                  </a:lnTo>
                  <a:lnTo>
                    <a:pt x="13" y="1556"/>
                  </a:lnTo>
                  <a:lnTo>
                    <a:pt x="21" y="1579"/>
                  </a:lnTo>
                  <a:lnTo>
                    <a:pt x="32" y="1600"/>
                  </a:lnTo>
                  <a:lnTo>
                    <a:pt x="45" y="1621"/>
                  </a:lnTo>
                  <a:lnTo>
                    <a:pt x="59" y="1640"/>
                  </a:lnTo>
                  <a:lnTo>
                    <a:pt x="75" y="1657"/>
                  </a:lnTo>
                  <a:lnTo>
                    <a:pt x="94" y="1673"/>
                  </a:lnTo>
                  <a:lnTo>
                    <a:pt x="114" y="1688"/>
                  </a:lnTo>
                  <a:lnTo>
                    <a:pt x="135" y="1700"/>
                  </a:lnTo>
                  <a:lnTo>
                    <a:pt x="157" y="1710"/>
                  </a:lnTo>
                  <a:lnTo>
                    <a:pt x="180" y="1718"/>
                  </a:lnTo>
                  <a:lnTo>
                    <a:pt x="205" y="1725"/>
                  </a:lnTo>
                  <a:lnTo>
                    <a:pt x="231" y="1728"/>
                  </a:lnTo>
                  <a:lnTo>
                    <a:pt x="256" y="1730"/>
                  </a:lnTo>
                  <a:lnTo>
                    <a:pt x="1540" y="1730"/>
                  </a:lnTo>
                  <a:lnTo>
                    <a:pt x="1540" y="1730"/>
                  </a:lnTo>
                  <a:lnTo>
                    <a:pt x="1566" y="1728"/>
                  </a:lnTo>
                  <a:lnTo>
                    <a:pt x="1592" y="1725"/>
                  </a:lnTo>
                  <a:lnTo>
                    <a:pt x="1616" y="1718"/>
                  </a:lnTo>
                  <a:lnTo>
                    <a:pt x="1640" y="1710"/>
                  </a:lnTo>
                  <a:lnTo>
                    <a:pt x="1662" y="1700"/>
                  </a:lnTo>
                  <a:lnTo>
                    <a:pt x="1683" y="1688"/>
                  </a:lnTo>
                  <a:lnTo>
                    <a:pt x="1703" y="1673"/>
                  </a:lnTo>
                  <a:lnTo>
                    <a:pt x="1721" y="1657"/>
                  </a:lnTo>
                  <a:lnTo>
                    <a:pt x="1737" y="1640"/>
                  </a:lnTo>
                  <a:lnTo>
                    <a:pt x="1752" y="1621"/>
                  </a:lnTo>
                  <a:lnTo>
                    <a:pt x="1766" y="1600"/>
                  </a:lnTo>
                  <a:lnTo>
                    <a:pt x="1777" y="1579"/>
                  </a:lnTo>
                  <a:lnTo>
                    <a:pt x="1785" y="1556"/>
                  </a:lnTo>
                  <a:lnTo>
                    <a:pt x="1791" y="1532"/>
                  </a:lnTo>
                  <a:lnTo>
                    <a:pt x="1795" y="1508"/>
                  </a:lnTo>
                  <a:lnTo>
                    <a:pt x="1796" y="1483"/>
                  </a:lnTo>
                  <a:lnTo>
                    <a:pt x="1796" y="247"/>
                  </a:lnTo>
                  <a:lnTo>
                    <a:pt x="1796" y="247"/>
                  </a:lnTo>
                  <a:lnTo>
                    <a:pt x="1795" y="222"/>
                  </a:lnTo>
                  <a:lnTo>
                    <a:pt x="1791" y="198"/>
                  </a:lnTo>
                  <a:lnTo>
                    <a:pt x="1785" y="173"/>
                  </a:lnTo>
                  <a:lnTo>
                    <a:pt x="1777" y="151"/>
                  </a:lnTo>
                  <a:lnTo>
                    <a:pt x="1766" y="130"/>
                  </a:lnTo>
                  <a:lnTo>
                    <a:pt x="1752" y="109"/>
                  </a:lnTo>
                  <a:lnTo>
                    <a:pt x="1737" y="90"/>
                  </a:lnTo>
                  <a:lnTo>
                    <a:pt x="1721" y="73"/>
                  </a:lnTo>
                  <a:lnTo>
                    <a:pt x="1703" y="57"/>
                  </a:lnTo>
                  <a:lnTo>
                    <a:pt x="1683" y="42"/>
                  </a:lnTo>
                  <a:lnTo>
                    <a:pt x="1662" y="30"/>
                  </a:lnTo>
                  <a:lnTo>
                    <a:pt x="1640" y="20"/>
                  </a:lnTo>
                  <a:lnTo>
                    <a:pt x="1616" y="12"/>
                  </a:lnTo>
                  <a:lnTo>
                    <a:pt x="1592" y="5"/>
                  </a:lnTo>
                  <a:lnTo>
                    <a:pt x="1566" y="2"/>
                  </a:lnTo>
                  <a:lnTo>
                    <a:pt x="1540" y="0"/>
                  </a:lnTo>
                  <a:lnTo>
                    <a:pt x="154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Text Box 184"/>
            <p:cNvSpPr/>
            <p:nvPr/>
          </p:nvSpPr>
          <p:spPr>
            <a:xfrm>
              <a:off x="754056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AutoShape 185"/>
            <p:cNvSpPr/>
            <p:nvPr/>
          </p:nvSpPr>
          <p:spPr>
            <a:xfrm>
              <a:off x="75373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86"/>
            <p:cNvSpPr/>
            <p:nvPr/>
          </p:nvSpPr>
          <p:spPr>
            <a:xfrm>
              <a:off x="75643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721" name="Rectangle 188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89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90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725" name="Rectangle 191" descr="Building00005"/>
              <p:cNvPicPr/>
              <p:nvPr/>
            </p:nvPicPr>
            <p:blipFill>
              <a:blip r:embed="rId1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Rectangle 192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93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AutoShape 194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AutoShape 195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AutoShape 196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97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98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735" name="Rectangle 200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01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02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8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739" name="Rectangle 203" descr="Callcentre00022"/>
              <p:cNvPicPr/>
              <p:nvPr/>
            </p:nvPicPr>
            <p:blipFill>
              <a:blip r:embed="rId2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40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1" name="Rectangle 204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205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AutoShape 206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AutoShape 207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AutoShape 208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AutoShape 209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210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749" name="Rectangle 212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213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214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753" name="Rectangle 215" descr="Air00037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4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Rectangle 216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217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AutoShape 218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AutoShape 219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AutoShape 220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AutoShape 221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222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763" name="Rectangle 224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225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226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767" name="Rectangle 227" descr="Meeting00042"/>
              <p:cNvPicPr/>
              <p:nvPr/>
            </p:nvPicPr>
            <p:blipFill>
              <a:blip r:embed="rId4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8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9" name="Rectangle 228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229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AutoShape 230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AutoShape 231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AutoShape 232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AutoShape 233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234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777" name="Rectangle 236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237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238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781" name="Rectangle 239" descr="Handshake00007"/>
              <p:cNvPicPr/>
              <p:nvPr/>
            </p:nvPicPr>
            <p:blipFill>
              <a:blip r:embed="rId5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2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Rectangle 240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241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242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AutoShape 243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244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245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46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625920" y="477720"/>
            <a:ext cx="2511360" cy="2879640"/>
            <a:chOff x="3625920" y="477720"/>
            <a:chExt cx="2511360" cy="2879640"/>
          </a:xfrm>
        </p:grpSpPr>
        <p:sp>
          <p:nvSpPr>
            <p:cNvPr id="791" name="Rectangle 248"/>
            <p:cNvSpPr/>
            <p:nvPr/>
          </p:nvSpPr>
          <p:spPr>
            <a:xfrm>
              <a:off x="3625920" y="477720"/>
              <a:ext cx="2511360" cy="287964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49"/>
            <p:cNvSpPr/>
            <p:nvPr/>
          </p:nvSpPr>
          <p:spPr>
            <a:xfrm>
              <a:off x="3645000" y="496800"/>
              <a:ext cx="2475000" cy="28400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50"/>
            <p:cNvSpPr/>
            <p:nvPr/>
          </p:nvSpPr>
          <p:spPr>
            <a:xfrm>
              <a:off x="3672000" y="515880"/>
              <a:ext cx="2424240" cy="2801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3786120" y="669960"/>
              <a:ext cx="2176560" cy="1847520"/>
              <a:chOff x="3786120" y="669960"/>
              <a:chExt cx="2176560" cy="1847520"/>
            </a:xfrm>
          </p:grpSpPr>
          <p:pic>
            <p:nvPicPr>
              <p:cNvPr id="795" name="Rectangle 251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3786120" y="669960"/>
                <a:ext cx="2176560" cy="18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6" name=""/>
              <p:cNvSpPr/>
              <p:nvPr/>
            </p:nvSpPr>
            <p:spPr>
              <a:xfrm>
                <a:off x="3791160" y="673920"/>
                <a:ext cx="2161080" cy="18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7" name="Rectangle 252"/>
            <p:cNvSpPr/>
            <p:nvPr/>
          </p:nvSpPr>
          <p:spPr>
            <a:xfrm>
              <a:off x="3799080" y="2227320"/>
              <a:ext cx="2144520" cy="2728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253"/>
            <p:cNvSpPr/>
            <p:nvPr/>
          </p:nvSpPr>
          <p:spPr>
            <a:xfrm rot="10800000">
              <a:off x="3798720" y="683280"/>
              <a:ext cx="2144520" cy="2732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254"/>
            <p:cNvSpPr/>
            <p:nvPr/>
          </p:nvSpPr>
          <p:spPr>
            <a:xfrm rot="10800000">
              <a:off x="5113080" y="68688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AutoShape 255"/>
            <p:cNvSpPr/>
            <p:nvPr/>
          </p:nvSpPr>
          <p:spPr>
            <a:xfrm rot="5400000">
              <a:off x="3803400" y="685440"/>
              <a:ext cx="825480" cy="82548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AutoShape 256"/>
            <p:cNvSpPr/>
            <p:nvPr/>
          </p:nvSpPr>
          <p:spPr>
            <a:xfrm>
              <a:off x="381492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AutoShape 257"/>
            <p:cNvSpPr/>
            <p:nvPr/>
          </p:nvSpPr>
          <p:spPr>
            <a:xfrm rot="16200000">
              <a:off x="5473800" y="2033640"/>
              <a:ext cx="466560" cy="46656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258"/>
            <p:cNvSpPr/>
            <p:nvPr/>
          </p:nvSpPr>
          <p:spPr>
            <a:xfrm rot="10800000">
              <a:off x="3798720" y="683280"/>
              <a:ext cx="2144520" cy="8100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7523280" y="3403440"/>
            <a:ext cx="1253880" cy="1438560"/>
            <a:chOff x="7523280" y="3403440"/>
            <a:chExt cx="1253880" cy="1438560"/>
          </a:xfrm>
        </p:grpSpPr>
        <p:sp>
          <p:nvSpPr>
            <p:cNvPr id="805" name="Rectangle 262"/>
            <p:cNvSpPr/>
            <p:nvPr/>
          </p:nvSpPr>
          <p:spPr>
            <a:xfrm>
              <a:off x="75232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263"/>
            <p:cNvSpPr/>
            <p:nvPr/>
          </p:nvSpPr>
          <p:spPr>
            <a:xfrm>
              <a:off x="75326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264"/>
            <p:cNvSpPr/>
            <p:nvPr/>
          </p:nvSpPr>
          <p:spPr>
            <a:xfrm>
              <a:off x="75459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7601760" y="3492720"/>
              <a:ext cx="1090440" cy="932760"/>
              <a:chOff x="7601760" y="3492720"/>
              <a:chExt cx="1090440" cy="932760"/>
            </a:xfrm>
          </p:grpSpPr>
          <p:pic>
            <p:nvPicPr>
              <p:cNvPr id="809" name="Rectangle 265" descr="Presentation00007"/>
              <p:cNvPicPr/>
              <p:nvPr/>
            </p:nvPicPr>
            <p:blipFill>
              <a:blip r:embed="rId7"/>
              <a:stretch/>
            </p:blipFill>
            <p:spPr>
              <a:xfrm>
                <a:off x="7601760" y="3492720"/>
                <a:ext cx="109044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0" name=""/>
              <p:cNvSpPr/>
              <p:nvPr/>
            </p:nvSpPr>
            <p:spPr>
              <a:xfrm>
                <a:off x="7605360" y="3501360"/>
                <a:ext cx="10782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Rectangle 266"/>
            <p:cNvSpPr/>
            <p:nvPr/>
          </p:nvSpPr>
          <p:spPr>
            <a:xfrm>
              <a:off x="76096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67"/>
            <p:cNvSpPr/>
            <p:nvPr/>
          </p:nvSpPr>
          <p:spPr>
            <a:xfrm rot="10800000">
              <a:off x="76096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AutoShape 268"/>
            <p:cNvSpPr/>
            <p:nvPr/>
          </p:nvSpPr>
          <p:spPr>
            <a:xfrm rot="10800000">
              <a:off x="82656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AutoShape 269"/>
            <p:cNvSpPr/>
            <p:nvPr/>
          </p:nvSpPr>
          <p:spPr>
            <a:xfrm rot="5400000">
              <a:off x="76114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AutoShape 270"/>
            <p:cNvSpPr/>
            <p:nvPr/>
          </p:nvSpPr>
          <p:spPr>
            <a:xfrm>
              <a:off x="76176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AutoShape 271"/>
            <p:cNvSpPr/>
            <p:nvPr/>
          </p:nvSpPr>
          <p:spPr>
            <a:xfrm rot="16200000">
              <a:off x="84459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272"/>
            <p:cNvSpPr/>
            <p:nvPr/>
          </p:nvSpPr>
          <p:spPr>
            <a:xfrm rot="10800000">
              <a:off x="76096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TextBox 117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3.7037E-007 L 0.35782 0.32176 E">
                                      <p:cBhvr>
                                        <p:cTn id="165" dur="1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" dur="1000" fill="hold"/>
                                        <p:tgtEl>
                                          <p:spTgt spid="79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GB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GB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0a2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F7B7-557D-4DF9-93EB-677340E448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823" name="Freeform 85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86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AutoShape 87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AutoShape 88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728720" y="4960800"/>
            <a:ext cx="1585800" cy="1325520"/>
            <a:chOff x="1728720" y="4960800"/>
            <a:chExt cx="1585800" cy="1325520"/>
          </a:xfrm>
        </p:grpSpPr>
        <p:sp>
          <p:nvSpPr>
            <p:cNvPr id="828" name="Freeform 22"/>
            <p:cNvSpPr/>
            <p:nvPr/>
          </p:nvSpPr>
          <p:spPr>
            <a:xfrm>
              <a:off x="172872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23"/>
            <p:cNvSpPr/>
            <p:nvPr/>
          </p:nvSpPr>
          <p:spPr>
            <a:xfrm>
              <a:off x="18064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AutoShape 24"/>
            <p:cNvSpPr/>
            <p:nvPr/>
          </p:nvSpPr>
          <p:spPr>
            <a:xfrm>
              <a:off x="18079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25"/>
            <p:cNvSpPr/>
            <p:nvPr/>
          </p:nvSpPr>
          <p:spPr>
            <a:xfrm>
              <a:off x="183348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2" name=""/>
          <p:cNvGrpSpPr/>
          <p:nvPr/>
        </p:nvGrpSpPr>
        <p:grpSpPr>
          <a:xfrm>
            <a:off x="3162240" y="4960800"/>
            <a:ext cx="1585800" cy="1325520"/>
            <a:chOff x="3162240" y="4960800"/>
            <a:chExt cx="1585800" cy="1325520"/>
          </a:xfrm>
        </p:grpSpPr>
        <p:sp>
          <p:nvSpPr>
            <p:cNvPr id="833" name="Freeform 27"/>
            <p:cNvSpPr/>
            <p:nvPr/>
          </p:nvSpPr>
          <p:spPr>
            <a:xfrm>
              <a:off x="3162240" y="4960800"/>
              <a:ext cx="15858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28"/>
            <p:cNvSpPr/>
            <p:nvPr/>
          </p:nvSpPr>
          <p:spPr>
            <a:xfrm>
              <a:off x="324468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AutoShape 29"/>
            <p:cNvSpPr/>
            <p:nvPr/>
          </p:nvSpPr>
          <p:spPr>
            <a:xfrm>
              <a:off x="3238560" y="4986360"/>
              <a:ext cx="12254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AutoShape 30"/>
            <p:cNvSpPr/>
            <p:nvPr/>
          </p:nvSpPr>
          <p:spPr>
            <a:xfrm>
              <a:off x="326556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595760" y="4959360"/>
            <a:ext cx="1587600" cy="1325520"/>
            <a:chOff x="4595760" y="4959360"/>
            <a:chExt cx="1587600" cy="1325520"/>
          </a:xfrm>
        </p:grpSpPr>
        <p:sp>
          <p:nvSpPr>
            <p:cNvPr id="838" name="Freeform 32"/>
            <p:cNvSpPr/>
            <p:nvPr/>
          </p:nvSpPr>
          <p:spPr>
            <a:xfrm>
              <a:off x="4595760" y="4959360"/>
              <a:ext cx="158760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Text Box 33"/>
            <p:cNvSpPr/>
            <p:nvPr/>
          </p:nvSpPr>
          <p:spPr>
            <a:xfrm>
              <a:off x="4672080" y="5419800"/>
              <a:ext cx="1224000" cy="396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34"/>
            <p:cNvSpPr/>
            <p:nvPr/>
          </p:nvSpPr>
          <p:spPr>
            <a:xfrm>
              <a:off x="4670280" y="4986360"/>
              <a:ext cx="1225800" cy="216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AutoShape 35"/>
            <p:cNvSpPr/>
            <p:nvPr/>
          </p:nvSpPr>
          <p:spPr>
            <a:xfrm>
              <a:off x="47005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6031080" y="4960800"/>
            <a:ext cx="1587240" cy="1325520"/>
            <a:chOff x="6031080" y="4960800"/>
            <a:chExt cx="1587240" cy="1325520"/>
          </a:xfrm>
        </p:grpSpPr>
        <p:sp>
          <p:nvSpPr>
            <p:cNvPr id="843" name="Freeform 37"/>
            <p:cNvSpPr/>
            <p:nvPr/>
          </p:nvSpPr>
          <p:spPr>
            <a:xfrm>
              <a:off x="6031080" y="4960800"/>
              <a:ext cx="1587240" cy="1325520"/>
            </a:xfrm>
            <a:custGeom>
              <a:avLst/>
              <a:gdLst/>
              <a:ahLst/>
              <a:rect l="l" t="t" r="r" b="b"/>
              <a:pathLst>
                <a:path w="2213" h="1846">
                  <a:moveTo>
                    <a:pt x="2213" y="922"/>
                  </a:moveTo>
                  <a:lnTo>
                    <a:pt x="1961" y="670"/>
                  </a:lnTo>
                  <a:lnTo>
                    <a:pt x="1961" y="796"/>
                  </a:lnTo>
                  <a:lnTo>
                    <a:pt x="1916" y="796"/>
                  </a:lnTo>
                  <a:lnTo>
                    <a:pt x="1916" y="263"/>
                  </a:lnTo>
                  <a:lnTo>
                    <a:pt x="1916" y="263"/>
                  </a:lnTo>
                  <a:lnTo>
                    <a:pt x="1915" y="235"/>
                  </a:lnTo>
                  <a:lnTo>
                    <a:pt x="1911" y="209"/>
                  </a:lnTo>
                  <a:lnTo>
                    <a:pt x="1904" y="184"/>
                  </a:lnTo>
                  <a:lnTo>
                    <a:pt x="1895" y="160"/>
                  </a:lnTo>
                  <a:lnTo>
                    <a:pt x="1883" y="137"/>
                  </a:lnTo>
                  <a:lnTo>
                    <a:pt x="1870" y="115"/>
                  </a:lnTo>
                  <a:lnTo>
                    <a:pt x="1854" y="96"/>
                  </a:lnTo>
                  <a:lnTo>
                    <a:pt x="1837" y="76"/>
                  </a:lnTo>
                  <a:lnTo>
                    <a:pt x="1817" y="59"/>
                  </a:lnTo>
                  <a:lnTo>
                    <a:pt x="1796" y="44"/>
                  </a:lnTo>
                  <a:lnTo>
                    <a:pt x="1774" y="31"/>
                  </a:lnTo>
                  <a:lnTo>
                    <a:pt x="1750" y="19"/>
                  </a:lnTo>
                  <a:lnTo>
                    <a:pt x="1724" y="11"/>
                  </a:lnTo>
                  <a:lnTo>
                    <a:pt x="1699" y="5"/>
                  </a:lnTo>
                  <a:lnTo>
                    <a:pt x="1671" y="1"/>
                  </a:lnTo>
                  <a:lnTo>
                    <a:pt x="1644" y="0"/>
                  </a:lnTo>
                  <a:lnTo>
                    <a:pt x="273" y="0"/>
                  </a:lnTo>
                  <a:lnTo>
                    <a:pt x="273" y="0"/>
                  </a:lnTo>
                  <a:lnTo>
                    <a:pt x="246" y="1"/>
                  </a:lnTo>
                  <a:lnTo>
                    <a:pt x="218" y="5"/>
                  </a:lnTo>
                  <a:lnTo>
                    <a:pt x="192" y="11"/>
                  </a:lnTo>
                  <a:lnTo>
                    <a:pt x="167" y="19"/>
                  </a:lnTo>
                  <a:lnTo>
                    <a:pt x="143" y="31"/>
                  </a:lnTo>
                  <a:lnTo>
                    <a:pt x="121" y="44"/>
                  </a:lnTo>
                  <a:lnTo>
                    <a:pt x="100" y="59"/>
                  </a:lnTo>
                  <a:lnTo>
                    <a:pt x="80" y="76"/>
                  </a:lnTo>
                  <a:lnTo>
                    <a:pt x="61" y="96"/>
                  </a:lnTo>
                  <a:lnTo>
                    <a:pt x="47" y="115"/>
                  </a:lnTo>
                  <a:lnTo>
                    <a:pt x="33" y="137"/>
                  </a:lnTo>
                  <a:lnTo>
                    <a:pt x="21" y="160"/>
                  </a:lnTo>
                  <a:lnTo>
                    <a:pt x="11" y="184"/>
                  </a:lnTo>
                  <a:lnTo>
                    <a:pt x="5" y="209"/>
                  </a:lnTo>
                  <a:lnTo>
                    <a:pt x="1" y="235"/>
                  </a:lnTo>
                  <a:lnTo>
                    <a:pt x="0" y="263"/>
                  </a:lnTo>
                  <a:lnTo>
                    <a:pt x="0" y="635"/>
                  </a:lnTo>
                  <a:lnTo>
                    <a:pt x="288" y="922"/>
                  </a:lnTo>
                  <a:lnTo>
                    <a:pt x="0" y="1209"/>
                  </a:lnTo>
                  <a:lnTo>
                    <a:pt x="0" y="1583"/>
                  </a:lnTo>
                  <a:lnTo>
                    <a:pt x="0" y="1583"/>
                  </a:lnTo>
                  <a:lnTo>
                    <a:pt x="1" y="1609"/>
                  </a:lnTo>
                  <a:lnTo>
                    <a:pt x="5" y="1636"/>
                  </a:lnTo>
                  <a:lnTo>
                    <a:pt x="11" y="1661"/>
                  </a:lnTo>
                  <a:lnTo>
                    <a:pt x="21" y="1684"/>
                  </a:lnTo>
                  <a:lnTo>
                    <a:pt x="33" y="1708"/>
                  </a:lnTo>
                  <a:lnTo>
                    <a:pt x="47" y="1729"/>
                  </a:lnTo>
                  <a:lnTo>
                    <a:pt x="61" y="1750"/>
                  </a:lnTo>
                  <a:lnTo>
                    <a:pt x="80" y="1769"/>
                  </a:lnTo>
                  <a:lnTo>
                    <a:pt x="100" y="1786"/>
                  </a:lnTo>
                  <a:lnTo>
                    <a:pt x="121" y="1800"/>
                  </a:lnTo>
                  <a:lnTo>
                    <a:pt x="143" y="1813"/>
                  </a:lnTo>
                  <a:lnTo>
                    <a:pt x="167" y="1825"/>
                  </a:lnTo>
                  <a:lnTo>
                    <a:pt x="192" y="1835"/>
                  </a:lnTo>
                  <a:lnTo>
                    <a:pt x="218" y="1841"/>
                  </a:lnTo>
                  <a:lnTo>
                    <a:pt x="246" y="1845"/>
                  </a:lnTo>
                  <a:lnTo>
                    <a:pt x="273" y="1846"/>
                  </a:lnTo>
                  <a:lnTo>
                    <a:pt x="1644" y="1846"/>
                  </a:lnTo>
                  <a:lnTo>
                    <a:pt x="1644" y="1846"/>
                  </a:lnTo>
                  <a:lnTo>
                    <a:pt x="1671" y="1845"/>
                  </a:lnTo>
                  <a:lnTo>
                    <a:pt x="1699" y="1841"/>
                  </a:lnTo>
                  <a:lnTo>
                    <a:pt x="1724" y="1835"/>
                  </a:lnTo>
                  <a:lnTo>
                    <a:pt x="1750" y="1825"/>
                  </a:lnTo>
                  <a:lnTo>
                    <a:pt x="1774" y="1813"/>
                  </a:lnTo>
                  <a:lnTo>
                    <a:pt x="1796" y="1800"/>
                  </a:lnTo>
                  <a:lnTo>
                    <a:pt x="1817" y="1786"/>
                  </a:lnTo>
                  <a:lnTo>
                    <a:pt x="1837" y="1769"/>
                  </a:lnTo>
                  <a:lnTo>
                    <a:pt x="1854" y="1750"/>
                  </a:lnTo>
                  <a:lnTo>
                    <a:pt x="1870" y="1729"/>
                  </a:lnTo>
                  <a:lnTo>
                    <a:pt x="1883" y="1708"/>
                  </a:lnTo>
                  <a:lnTo>
                    <a:pt x="1895" y="1684"/>
                  </a:lnTo>
                  <a:lnTo>
                    <a:pt x="1904" y="1661"/>
                  </a:lnTo>
                  <a:lnTo>
                    <a:pt x="1911" y="1636"/>
                  </a:lnTo>
                  <a:lnTo>
                    <a:pt x="1915" y="1609"/>
                  </a:lnTo>
                  <a:lnTo>
                    <a:pt x="1916" y="1583"/>
                  </a:lnTo>
                  <a:lnTo>
                    <a:pt x="1916" y="1049"/>
                  </a:lnTo>
                  <a:lnTo>
                    <a:pt x="1961" y="1049"/>
                  </a:lnTo>
                  <a:lnTo>
                    <a:pt x="1961" y="1175"/>
                  </a:lnTo>
                  <a:lnTo>
                    <a:pt x="2213" y="922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Text Box 38"/>
            <p:cNvSpPr/>
            <p:nvPr/>
          </p:nvSpPr>
          <p:spPr>
            <a:xfrm>
              <a:off x="6097320" y="5419440"/>
              <a:ext cx="122364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AutoShape 39"/>
            <p:cNvSpPr/>
            <p:nvPr/>
          </p:nvSpPr>
          <p:spPr>
            <a:xfrm>
              <a:off x="6095880" y="4986360"/>
              <a:ext cx="122508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AutoShape 40"/>
            <p:cNvSpPr/>
            <p:nvPr/>
          </p:nvSpPr>
          <p:spPr>
            <a:xfrm>
              <a:off x="6122880" y="4995720"/>
              <a:ext cx="116964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7466040" y="4960800"/>
            <a:ext cx="1373040" cy="1325520"/>
            <a:chOff x="7466040" y="4960800"/>
            <a:chExt cx="1373040" cy="1325520"/>
          </a:xfrm>
        </p:grpSpPr>
        <p:sp>
          <p:nvSpPr>
            <p:cNvPr id="848" name="Freeform 42"/>
            <p:cNvSpPr/>
            <p:nvPr/>
          </p:nvSpPr>
          <p:spPr>
            <a:xfrm>
              <a:off x="7466040" y="4960800"/>
              <a:ext cx="1373040" cy="1325520"/>
            </a:xfrm>
            <a:custGeom>
              <a:avLst/>
              <a:gdLst/>
              <a:ahLst/>
              <a:rect l="l" t="t" r="r" b="b"/>
              <a:pathLst>
                <a:path w="1796" h="1730">
                  <a:moveTo>
                    <a:pt x="1540" y="0"/>
                  </a:moveTo>
                  <a:lnTo>
                    <a:pt x="256" y="0"/>
                  </a:lnTo>
                  <a:lnTo>
                    <a:pt x="256" y="0"/>
                  </a:lnTo>
                  <a:lnTo>
                    <a:pt x="231" y="2"/>
                  </a:lnTo>
                  <a:lnTo>
                    <a:pt x="205" y="5"/>
                  </a:lnTo>
                  <a:lnTo>
                    <a:pt x="180" y="12"/>
                  </a:lnTo>
                  <a:lnTo>
                    <a:pt x="157" y="20"/>
                  </a:lnTo>
                  <a:lnTo>
                    <a:pt x="135" y="30"/>
                  </a:lnTo>
                  <a:lnTo>
                    <a:pt x="114" y="42"/>
                  </a:lnTo>
                  <a:lnTo>
                    <a:pt x="94" y="57"/>
                  </a:lnTo>
                  <a:lnTo>
                    <a:pt x="75" y="73"/>
                  </a:lnTo>
                  <a:lnTo>
                    <a:pt x="59" y="90"/>
                  </a:lnTo>
                  <a:lnTo>
                    <a:pt x="45" y="109"/>
                  </a:lnTo>
                  <a:lnTo>
                    <a:pt x="32" y="130"/>
                  </a:lnTo>
                  <a:lnTo>
                    <a:pt x="21" y="151"/>
                  </a:lnTo>
                  <a:lnTo>
                    <a:pt x="13" y="173"/>
                  </a:lnTo>
                  <a:lnTo>
                    <a:pt x="6" y="198"/>
                  </a:lnTo>
                  <a:lnTo>
                    <a:pt x="3" y="222"/>
                  </a:lnTo>
                  <a:lnTo>
                    <a:pt x="0" y="247"/>
                  </a:lnTo>
                  <a:lnTo>
                    <a:pt x="0" y="571"/>
                  </a:lnTo>
                  <a:lnTo>
                    <a:pt x="295" y="864"/>
                  </a:lnTo>
                  <a:lnTo>
                    <a:pt x="0" y="1159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3" y="1508"/>
                  </a:lnTo>
                  <a:lnTo>
                    <a:pt x="6" y="1532"/>
                  </a:lnTo>
                  <a:lnTo>
                    <a:pt x="13" y="1556"/>
                  </a:lnTo>
                  <a:lnTo>
                    <a:pt x="21" y="1579"/>
                  </a:lnTo>
                  <a:lnTo>
                    <a:pt x="32" y="1600"/>
                  </a:lnTo>
                  <a:lnTo>
                    <a:pt x="45" y="1621"/>
                  </a:lnTo>
                  <a:lnTo>
                    <a:pt x="59" y="1640"/>
                  </a:lnTo>
                  <a:lnTo>
                    <a:pt x="75" y="1657"/>
                  </a:lnTo>
                  <a:lnTo>
                    <a:pt x="94" y="1673"/>
                  </a:lnTo>
                  <a:lnTo>
                    <a:pt x="114" y="1688"/>
                  </a:lnTo>
                  <a:lnTo>
                    <a:pt x="135" y="1700"/>
                  </a:lnTo>
                  <a:lnTo>
                    <a:pt x="157" y="1710"/>
                  </a:lnTo>
                  <a:lnTo>
                    <a:pt x="180" y="1718"/>
                  </a:lnTo>
                  <a:lnTo>
                    <a:pt x="205" y="1725"/>
                  </a:lnTo>
                  <a:lnTo>
                    <a:pt x="231" y="1728"/>
                  </a:lnTo>
                  <a:lnTo>
                    <a:pt x="256" y="1730"/>
                  </a:lnTo>
                  <a:lnTo>
                    <a:pt x="1540" y="1730"/>
                  </a:lnTo>
                  <a:lnTo>
                    <a:pt x="1540" y="1730"/>
                  </a:lnTo>
                  <a:lnTo>
                    <a:pt x="1566" y="1728"/>
                  </a:lnTo>
                  <a:lnTo>
                    <a:pt x="1592" y="1725"/>
                  </a:lnTo>
                  <a:lnTo>
                    <a:pt x="1616" y="1718"/>
                  </a:lnTo>
                  <a:lnTo>
                    <a:pt x="1640" y="1710"/>
                  </a:lnTo>
                  <a:lnTo>
                    <a:pt x="1662" y="1700"/>
                  </a:lnTo>
                  <a:lnTo>
                    <a:pt x="1683" y="1688"/>
                  </a:lnTo>
                  <a:lnTo>
                    <a:pt x="1703" y="1673"/>
                  </a:lnTo>
                  <a:lnTo>
                    <a:pt x="1721" y="1657"/>
                  </a:lnTo>
                  <a:lnTo>
                    <a:pt x="1737" y="1640"/>
                  </a:lnTo>
                  <a:lnTo>
                    <a:pt x="1752" y="1621"/>
                  </a:lnTo>
                  <a:lnTo>
                    <a:pt x="1766" y="1600"/>
                  </a:lnTo>
                  <a:lnTo>
                    <a:pt x="1777" y="1579"/>
                  </a:lnTo>
                  <a:lnTo>
                    <a:pt x="1785" y="1556"/>
                  </a:lnTo>
                  <a:lnTo>
                    <a:pt x="1791" y="1532"/>
                  </a:lnTo>
                  <a:lnTo>
                    <a:pt x="1795" y="1508"/>
                  </a:lnTo>
                  <a:lnTo>
                    <a:pt x="1796" y="1483"/>
                  </a:lnTo>
                  <a:lnTo>
                    <a:pt x="1796" y="247"/>
                  </a:lnTo>
                  <a:lnTo>
                    <a:pt x="1796" y="247"/>
                  </a:lnTo>
                  <a:lnTo>
                    <a:pt x="1795" y="222"/>
                  </a:lnTo>
                  <a:lnTo>
                    <a:pt x="1791" y="198"/>
                  </a:lnTo>
                  <a:lnTo>
                    <a:pt x="1785" y="173"/>
                  </a:lnTo>
                  <a:lnTo>
                    <a:pt x="1777" y="151"/>
                  </a:lnTo>
                  <a:lnTo>
                    <a:pt x="1766" y="130"/>
                  </a:lnTo>
                  <a:lnTo>
                    <a:pt x="1752" y="109"/>
                  </a:lnTo>
                  <a:lnTo>
                    <a:pt x="1737" y="90"/>
                  </a:lnTo>
                  <a:lnTo>
                    <a:pt x="1721" y="73"/>
                  </a:lnTo>
                  <a:lnTo>
                    <a:pt x="1703" y="57"/>
                  </a:lnTo>
                  <a:lnTo>
                    <a:pt x="1683" y="42"/>
                  </a:lnTo>
                  <a:lnTo>
                    <a:pt x="1662" y="30"/>
                  </a:lnTo>
                  <a:lnTo>
                    <a:pt x="1640" y="20"/>
                  </a:lnTo>
                  <a:lnTo>
                    <a:pt x="1616" y="12"/>
                  </a:lnTo>
                  <a:lnTo>
                    <a:pt x="1592" y="5"/>
                  </a:lnTo>
                  <a:lnTo>
                    <a:pt x="1566" y="2"/>
                  </a:lnTo>
                  <a:lnTo>
                    <a:pt x="1540" y="0"/>
                  </a:lnTo>
                  <a:lnTo>
                    <a:pt x="154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252525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754056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44"/>
            <p:cNvSpPr/>
            <p:nvPr/>
          </p:nvSpPr>
          <p:spPr>
            <a:xfrm>
              <a:off x="7537320" y="4986360"/>
              <a:ext cx="122580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45"/>
            <p:cNvSpPr/>
            <p:nvPr/>
          </p:nvSpPr>
          <p:spPr>
            <a:xfrm>
              <a:off x="75643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43080" y="3403440"/>
            <a:ext cx="1253880" cy="1438560"/>
            <a:chOff x="343080" y="3403440"/>
            <a:chExt cx="1253880" cy="1438560"/>
          </a:xfrm>
        </p:grpSpPr>
        <p:sp>
          <p:nvSpPr>
            <p:cNvPr id="853" name="Rectangle 116"/>
            <p:cNvSpPr/>
            <p:nvPr/>
          </p:nvSpPr>
          <p:spPr>
            <a:xfrm>
              <a:off x="3430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117"/>
            <p:cNvSpPr/>
            <p:nvPr/>
          </p:nvSpPr>
          <p:spPr>
            <a:xfrm>
              <a:off x="3524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Rectangle 118"/>
            <p:cNvSpPr/>
            <p:nvPr/>
          </p:nvSpPr>
          <p:spPr>
            <a:xfrm>
              <a:off x="3657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6" name=""/>
            <p:cNvGrpSpPr/>
            <p:nvPr/>
          </p:nvGrpSpPr>
          <p:grpSpPr>
            <a:xfrm>
              <a:off x="420480" y="3492720"/>
              <a:ext cx="1090800" cy="932760"/>
              <a:chOff x="420480" y="3492720"/>
              <a:chExt cx="1090800" cy="932760"/>
            </a:xfrm>
          </p:grpSpPr>
          <p:pic>
            <p:nvPicPr>
              <p:cNvPr id="857" name="Rectangle 119" descr="Building00005"/>
              <p:cNvPicPr/>
              <p:nvPr/>
            </p:nvPicPr>
            <p:blipFill>
              <a:blip r:embed="rId1"/>
              <a:stretch/>
            </p:blipFill>
            <p:spPr>
              <a:xfrm>
                <a:off x="4204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>
                <a:off x="4251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Rectangle 120"/>
            <p:cNvSpPr/>
            <p:nvPr/>
          </p:nvSpPr>
          <p:spPr>
            <a:xfrm>
              <a:off x="4294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121"/>
            <p:cNvSpPr/>
            <p:nvPr/>
          </p:nvSpPr>
          <p:spPr>
            <a:xfrm rot="10800000">
              <a:off x="4294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AutoShape 122"/>
            <p:cNvSpPr/>
            <p:nvPr/>
          </p:nvSpPr>
          <p:spPr>
            <a:xfrm rot="10800000">
              <a:off x="10854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AutoShape 123"/>
            <p:cNvSpPr/>
            <p:nvPr/>
          </p:nvSpPr>
          <p:spPr>
            <a:xfrm rot="5400000">
              <a:off x="4312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AutoShape 124"/>
            <p:cNvSpPr/>
            <p:nvPr/>
          </p:nvSpPr>
          <p:spPr>
            <a:xfrm>
              <a:off x="4374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125"/>
            <p:cNvSpPr/>
            <p:nvPr/>
          </p:nvSpPr>
          <p:spPr>
            <a:xfrm rot="16200000">
              <a:off x="12657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126"/>
            <p:cNvSpPr/>
            <p:nvPr/>
          </p:nvSpPr>
          <p:spPr>
            <a:xfrm rot="10800000">
              <a:off x="4294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1793880" y="3403440"/>
            <a:ext cx="1254240" cy="1438560"/>
            <a:chOff x="1793880" y="3403440"/>
            <a:chExt cx="1254240" cy="1438560"/>
          </a:xfrm>
        </p:grpSpPr>
        <p:sp>
          <p:nvSpPr>
            <p:cNvPr id="867" name="Rectangle 128"/>
            <p:cNvSpPr/>
            <p:nvPr/>
          </p:nvSpPr>
          <p:spPr>
            <a:xfrm>
              <a:off x="179388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29"/>
            <p:cNvSpPr/>
            <p:nvPr/>
          </p:nvSpPr>
          <p:spPr>
            <a:xfrm>
              <a:off x="180324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30"/>
            <p:cNvSpPr/>
            <p:nvPr/>
          </p:nvSpPr>
          <p:spPr>
            <a:xfrm>
              <a:off x="181656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1871280" y="3492720"/>
              <a:ext cx="1090800" cy="932760"/>
              <a:chOff x="1871280" y="3492720"/>
              <a:chExt cx="1090800" cy="932760"/>
            </a:xfrm>
          </p:grpSpPr>
          <p:pic>
            <p:nvPicPr>
              <p:cNvPr id="871" name="Rectangle 131" descr="Callcentre00022"/>
              <p:cNvPicPr/>
              <p:nvPr/>
            </p:nvPicPr>
            <p:blipFill>
              <a:blip r:embed="rId2"/>
              <a:stretch/>
            </p:blipFill>
            <p:spPr>
              <a:xfrm>
                <a:off x="187128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"/>
              <p:cNvSpPr/>
              <p:nvPr/>
            </p:nvSpPr>
            <p:spPr>
              <a:xfrm>
                <a:off x="187596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Rectangle 132"/>
            <p:cNvSpPr/>
            <p:nvPr/>
          </p:nvSpPr>
          <p:spPr>
            <a:xfrm>
              <a:off x="188028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133"/>
            <p:cNvSpPr/>
            <p:nvPr/>
          </p:nvSpPr>
          <p:spPr>
            <a:xfrm rot="10800000">
              <a:off x="187992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AutoShape 134"/>
            <p:cNvSpPr/>
            <p:nvPr/>
          </p:nvSpPr>
          <p:spPr>
            <a:xfrm rot="10800000">
              <a:off x="25362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135"/>
            <p:cNvSpPr/>
            <p:nvPr/>
          </p:nvSpPr>
          <p:spPr>
            <a:xfrm rot="5400000">
              <a:off x="18820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AutoShape 136"/>
            <p:cNvSpPr/>
            <p:nvPr/>
          </p:nvSpPr>
          <p:spPr>
            <a:xfrm>
              <a:off x="18882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AutoShape 137"/>
            <p:cNvSpPr/>
            <p:nvPr/>
          </p:nvSpPr>
          <p:spPr>
            <a:xfrm rot="16200000">
              <a:off x="27165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138"/>
            <p:cNvSpPr/>
            <p:nvPr/>
          </p:nvSpPr>
          <p:spPr>
            <a:xfrm rot="10800000">
              <a:off x="187992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3203640" y="3403440"/>
            <a:ext cx="1254240" cy="1438560"/>
            <a:chOff x="3203640" y="3403440"/>
            <a:chExt cx="1254240" cy="1438560"/>
          </a:xfrm>
        </p:grpSpPr>
        <p:sp>
          <p:nvSpPr>
            <p:cNvPr id="881" name="Rectangle 140"/>
            <p:cNvSpPr/>
            <p:nvPr/>
          </p:nvSpPr>
          <p:spPr>
            <a:xfrm>
              <a:off x="32036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41"/>
            <p:cNvSpPr/>
            <p:nvPr/>
          </p:nvSpPr>
          <p:spPr>
            <a:xfrm>
              <a:off x="32130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42"/>
            <p:cNvSpPr/>
            <p:nvPr/>
          </p:nvSpPr>
          <p:spPr>
            <a:xfrm>
              <a:off x="32263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279600" y="3492720"/>
              <a:ext cx="1090800" cy="932760"/>
              <a:chOff x="3279600" y="3492720"/>
              <a:chExt cx="1090800" cy="932760"/>
            </a:xfrm>
          </p:grpSpPr>
          <p:pic>
            <p:nvPicPr>
              <p:cNvPr id="885" name="Rectangle 143" descr="Air00037"/>
              <p:cNvPicPr/>
              <p:nvPr/>
            </p:nvPicPr>
            <p:blipFill>
              <a:blip r:embed="rId3"/>
              <a:stretch/>
            </p:blipFill>
            <p:spPr>
              <a:xfrm>
                <a:off x="327960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2857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7" name="Rectangle 144"/>
            <p:cNvSpPr/>
            <p:nvPr/>
          </p:nvSpPr>
          <p:spPr>
            <a:xfrm>
              <a:off x="32900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45"/>
            <p:cNvSpPr/>
            <p:nvPr/>
          </p:nvSpPr>
          <p:spPr>
            <a:xfrm rot="10800000">
              <a:off x="32896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AutoShape 146"/>
            <p:cNvSpPr/>
            <p:nvPr/>
          </p:nvSpPr>
          <p:spPr>
            <a:xfrm rot="10800000">
              <a:off x="39459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AutoShape 147"/>
            <p:cNvSpPr/>
            <p:nvPr/>
          </p:nvSpPr>
          <p:spPr>
            <a:xfrm rot="5400000">
              <a:off x="32918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AutoShape 148"/>
            <p:cNvSpPr/>
            <p:nvPr/>
          </p:nvSpPr>
          <p:spPr>
            <a:xfrm>
              <a:off x="32979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AutoShape 149"/>
            <p:cNvSpPr/>
            <p:nvPr/>
          </p:nvSpPr>
          <p:spPr>
            <a:xfrm rot="16200000">
              <a:off x="41263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150"/>
            <p:cNvSpPr/>
            <p:nvPr/>
          </p:nvSpPr>
          <p:spPr>
            <a:xfrm rot="10800000">
              <a:off x="32896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659480" y="3403440"/>
            <a:ext cx="1253880" cy="1438560"/>
            <a:chOff x="4659480" y="3403440"/>
            <a:chExt cx="1253880" cy="1438560"/>
          </a:xfrm>
        </p:grpSpPr>
        <p:sp>
          <p:nvSpPr>
            <p:cNvPr id="895" name="Rectangle 152"/>
            <p:cNvSpPr/>
            <p:nvPr/>
          </p:nvSpPr>
          <p:spPr>
            <a:xfrm>
              <a:off x="46594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53"/>
            <p:cNvSpPr/>
            <p:nvPr/>
          </p:nvSpPr>
          <p:spPr>
            <a:xfrm>
              <a:off x="46688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54"/>
            <p:cNvSpPr/>
            <p:nvPr/>
          </p:nvSpPr>
          <p:spPr>
            <a:xfrm>
              <a:off x="46821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4736160" y="3492720"/>
              <a:ext cx="1090800" cy="932760"/>
              <a:chOff x="4736160" y="3492720"/>
              <a:chExt cx="1090800" cy="932760"/>
            </a:xfrm>
          </p:grpSpPr>
          <p:pic>
            <p:nvPicPr>
              <p:cNvPr id="899" name="Rectangle 155" descr="Meeting00042"/>
              <p:cNvPicPr/>
              <p:nvPr/>
            </p:nvPicPr>
            <p:blipFill>
              <a:blip r:embed="rId4"/>
              <a:stretch/>
            </p:blipFill>
            <p:spPr>
              <a:xfrm>
                <a:off x="473616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>
                <a:off x="474120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1" name="Rectangle 156"/>
            <p:cNvSpPr/>
            <p:nvPr/>
          </p:nvSpPr>
          <p:spPr>
            <a:xfrm>
              <a:off x="47458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57"/>
            <p:cNvSpPr/>
            <p:nvPr/>
          </p:nvSpPr>
          <p:spPr>
            <a:xfrm rot="10800000">
              <a:off x="47458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58"/>
            <p:cNvSpPr/>
            <p:nvPr/>
          </p:nvSpPr>
          <p:spPr>
            <a:xfrm rot="10800000">
              <a:off x="54018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AutoShape 159"/>
            <p:cNvSpPr/>
            <p:nvPr/>
          </p:nvSpPr>
          <p:spPr>
            <a:xfrm rot="5400000">
              <a:off x="47476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AutoShape 160"/>
            <p:cNvSpPr/>
            <p:nvPr/>
          </p:nvSpPr>
          <p:spPr>
            <a:xfrm>
              <a:off x="47538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AutoShape 161"/>
            <p:cNvSpPr/>
            <p:nvPr/>
          </p:nvSpPr>
          <p:spPr>
            <a:xfrm rot="16200000">
              <a:off x="55821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162"/>
            <p:cNvSpPr/>
            <p:nvPr/>
          </p:nvSpPr>
          <p:spPr>
            <a:xfrm rot="10800000">
              <a:off x="47458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6080040" y="3403440"/>
            <a:ext cx="1254240" cy="1438560"/>
            <a:chOff x="6080040" y="3403440"/>
            <a:chExt cx="1254240" cy="1438560"/>
          </a:xfrm>
        </p:grpSpPr>
        <p:sp>
          <p:nvSpPr>
            <p:cNvPr id="909" name="Rectangle 164"/>
            <p:cNvSpPr/>
            <p:nvPr/>
          </p:nvSpPr>
          <p:spPr>
            <a:xfrm>
              <a:off x="6080040" y="3403440"/>
              <a:ext cx="125424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165"/>
            <p:cNvSpPr/>
            <p:nvPr/>
          </p:nvSpPr>
          <p:spPr>
            <a:xfrm>
              <a:off x="6089400" y="3412800"/>
              <a:ext cx="123624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166"/>
            <p:cNvSpPr/>
            <p:nvPr/>
          </p:nvSpPr>
          <p:spPr>
            <a:xfrm>
              <a:off x="6102720" y="3422160"/>
              <a:ext cx="121068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2" name=""/>
            <p:cNvGrpSpPr/>
            <p:nvPr/>
          </p:nvGrpSpPr>
          <p:grpSpPr>
            <a:xfrm>
              <a:off x="6156720" y="3492720"/>
              <a:ext cx="1090800" cy="932760"/>
              <a:chOff x="6156720" y="3492720"/>
              <a:chExt cx="1090800" cy="932760"/>
            </a:xfrm>
          </p:grpSpPr>
          <p:pic>
            <p:nvPicPr>
              <p:cNvPr id="913" name="Rectangle 167" descr="Handshake00007"/>
              <p:cNvPicPr/>
              <p:nvPr/>
            </p:nvPicPr>
            <p:blipFill>
              <a:blip r:embed="rId5"/>
              <a:stretch/>
            </p:blipFill>
            <p:spPr>
              <a:xfrm>
                <a:off x="6156720" y="3492720"/>
                <a:ext cx="109080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4" name=""/>
              <p:cNvSpPr/>
              <p:nvPr/>
            </p:nvSpPr>
            <p:spPr>
              <a:xfrm>
                <a:off x="6162120" y="3501360"/>
                <a:ext cx="107856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5" name="Rectangle 168"/>
            <p:cNvSpPr/>
            <p:nvPr/>
          </p:nvSpPr>
          <p:spPr>
            <a:xfrm>
              <a:off x="6166440" y="4277520"/>
              <a:ext cx="107100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169"/>
            <p:cNvSpPr/>
            <p:nvPr/>
          </p:nvSpPr>
          <p:spPr>
            <a:xfrm rot="10800000">
              <a:off x="6166080" y="3506040"/>
              <a:ext cx="107100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AutoShape 170"/>
            <p:cNvSpPr/>
            <p:nvPr/>
          </p:nvSpPr>
          <p:spPr>
            <a:xfrm rot="10800000">
              <a:off x="682236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AutoShape 171"/>
            <p:cNvSpPr/>
            <p:nvPr/>
          </p:nvSpPr>
          <p:spPr>
            <a:xfrm rot="5400000">
              <a:off x="616824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AutoShape 172"/>
            <p:cNvSpPr/>
            <p:nvPr/>
          </p:nvSpPr>
          <p:spPr>
            <a:xfrm>
              <a:off x="617436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173"/>
            <p:cNvSpPr/>
            <p:nvPr/>
          </p:nvSpPr>
          <p:spPr>
            <a:xfrm rot="16200000">
              <a:off x="700272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74"/>
            <p:cNvSpPr/>
            <p:nvPr/>
          </p:nvSpPr>
          <p:spPr>
            <a:xfrm rot="10800000">
              <a:off x="6166080" y="3506400"/>
              <a:ext cx="107100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"/>
          <p:cNvGrpSpPr/>
          <p:nvPr/>
        </p:nvGrpSpPr>
        <p:grpSpPr>
          <a:xfrm>
            <a:off x="7523280" y="3403440"/>
            <a:ext cx="1253880" cy="1438560"/>
            <a:chOff x="7523280" y="3403440"/>
            <a:chExt cx="1253880" cy="1438560"/>
          </a:xfrm>
        </p:grpSpPr>
        <p:sp>
          <p:nvSpPr>
            <p:cNvPr id="923" name="Rectangle 176"/>
            <p:cNvSpPr/>
            <p:nvPr/>
          </p:nvSpPr>
          <p:spPr>
            <a:xfrm>
              <a:off x="7523280" y="3403440"/>
              <a:ext cx="1253880" cy="1438560"/>
            </a:xfrm>
            <a:prstGeom prst="rect">
              <a:avLst/>
            </a:prstGeom>
            <a:gradFill rotWithShape="0">
              <a:gsLst>
                <a:gs pos="0">
                  <a:srgbClr val="e3e3e3"/>
                </a:gs>
                <a:gs pos="100000">
                  <a:srgbClr val="ffffff"/>
                </a:gs>
              </a:gsLst>
              <a:lin ang="8100000"/>
            </a:gradFill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77"/>
            <p:cNvSpPr/>
            <p:nvPr/>
          </p:nvSpPr>
          <p:spPr>
            <a:xfrm>
              <a:off x="7532640" y="3412800"/>
              <a:ext cx="1235880" cy="1418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78"/>
            <p:cNvSpPr/>
            <p:nvPr/>
          </p:nvSpPr>
          <p:spPr>
            <a:xfrm>
              <a:off x="7545960" y="3422160"/>
              <a:ext cx="1210320" cy="13996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"/>
            <p:cNvGrpSpPr/>
            <p:nvPr/>
          </p:nvGrpSpPr>
          <p:grpSpPr>
            <a:xfrm>
              <a:off x="7601760" y="3492720"/>
              <a:ext cx="1090440" cy="932760"/>
              <a:chOff x="7601760" y="3492720"/>
              <a:chExt cx="1090440" cy="932760"/>
            </a:xfrm>
          </p:grpSpPr>
          <p:pic>
            <p:nvPicPr>
              <p:cNvPr id="927" name="Rectangle 179" descr="Presentation00007"/>
              <p:cNvPicPr/>
              <p:nvPr/>
            </p:nvPicPr>
            <p:blipFill>
              <a:blip r:embed="rId6"/>
              <a:stretch/>
            </p:blipFill>
            <p:spPr>
              <a:xfrm>
                <a:off x="7601760" y="3492720"/>
                <a:ext cx="1090440" cy="93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8" name=""/>
              <p:cNvSpPr/>
              <p:nvPr/>
            </p:nvSpPr>
            <p:spPr>
              <a:xfrm>
                <a:off x="7605360" y="3501360"/>
                <a:ext cx="1078200" cy="91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9" name="Rectangle 180"/>
            <p:cNvSpPr/>
            <p:nvPr/>
          </p:nvSpPr>
          <p:spPr>
            <a:xfrm>
              <a:off x="7609680" y="4277520"/>
              <a:ext cx="1070640" cy="13608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00000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181"/>
            <p:cNvSpPr/>
            <p:nvPr/>
          </p:nvSpPr>
          <p:spPr>
            <a:xfrm rot="10800000">
              <a:off x="7609680" y="3506040"/>
              <a:ext cx="1070640" cy="13644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4000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AutoShape 182"/>
            <p:cNvSpPr/>
            <p:nvPr/>
          </p:nvSpPr>
          <p:spPr>
            <a:xfrm rot="10800000">
              <a:off x="8265600" y="350748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AutoShape 183"/>
            <p:cNvSpPr/>
            <p:nvPr/>
          </p:nvSpPr>
          <p:spPr>
            <a:xfrm rot="5400000">
              <a:off x="7611480" y="3507120"/>
              <a:ext cx="412200" cy="41220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ffffff">
                    <a:alpha val="65098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AutoShape 184"/>
            <p:cNvSpPr/>
            <p:nvPr/>
          </p:nvSpPr>
          <p:spPr>
            <a:xfrm>
              <a:off x="7617600" y="418068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AutoShape 185"/>
            <p:cNvSpPr/>
            <p:nvPr/>
          </p:nvSpPr>
          <p:spPr>
            <a:xfrm rot="16200000">
              <a:off x="8445960" y="4180320"/>
              <a:ext cx="232920" cy="232920"/>
            </a:xfrm>
            <a:prstGeom prst="rtTriangle">
              <a:avLst/>
            </a:prstGeom>
            <a:gradFill rotWithShape="0">
              <a:gsLst>
                <a:gs pos="0">
                  <a:srgbClr val="000000">
                    <a:alpha val="0"/>
                  </a:srgbClr>
                </a:gs>
                <a:gs pos="5000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186"/>
            <p:cNvSpPr/>
            <p:nvPr/>
          </p:nvSpPr>
          <p:spPr>
            <a:xfrm rot="10800000">
              <a:off x="7609680" y="3506400"/>
              <a:ext cx="1070640" cy="4032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6" name=""/>
          <p:cNvGrpSpPr/>
          <p:nvPr/>
        </p:nvGrpSpPr>
        <p:grpSpPr>
          <a:xfrm>
            <a:off x="276120" y="4960800"/>
            <a:ext cx="1604880" cy="1325520"/>
            <a:chOff x="276120" y="4960800"/>
            <a:chExt cx="1604880" cy="1325520"/>
          </a:xfrm>
        </p:grpSpPr>
        <p:sp>
          <p:nvSpPr>
            <p:cNvPr id="937" name="Freeform 17"/>
            <p:cNvSpPr/>
            <p:nvPr/>
          </p:nvSpPr>
          <p:spPr>
            <a:xfrm>
              <a:off x="276120" y="4960800"/>
              <a:ext cx="1604880" cy="1325520"/>
            </a:xfrm>
            <a:custGeom>
              <a:avLst/>
              <a:gdLst/>
              <a:ahLst/>
              <a:rect l="l" t="t" r="r" b="b"/>
              <a:pathLst>
                <a:path w="2098" h="1730">
                  <a:moveTo>
                    <a:pt x="2098" y="866"/>
                  </a:moveTo>
                  <a:lnTo>
                    <a:pt x="1862" y="629"/>
                  </a:lnTo>
                  <a:lnTo>
                    <a:pt x="1862" y="747"/>
                  </a:lnTo>
                  <a:lnTo>
                    <a:pt x="1795" y="747"/>
                  </a:lnTo>
                  <a:lnTo>
                    <a:pt x="1795" y="247"/>
                  </a:lnTo>
                  <a:lnTo>
                    <a:pt x="1795" y="247"/>
                  </a:lnTo>
                  <a:lnTo>
                    <a:pt x="1794" y="222"/>
                  </a:lnTo>
                  <a:lnTo>
                    <a:pt x="1790" y="198"/>
                  </a:lnTo>
                  <a:lnTo>
                    <a:pt x="1784" y="174"/>
                  </a:lnTo>
                  <a:lnTo>
                    <a:pt x="1776" y="152"/>
                  </a:lnTo>
                  <a:lnTo>
                    <a:pt x="1764" y="130"/>
                  </a:lnTo>
                  <a:lnTo>
                    <a:pt x="1751" y="110"/>
                  </a:lnTo>
                  <a:lnTo>
                    <a:pt x="1736" y="90"/>
                  </a:lnTo>
                  <a:lnTo>
                    <a:pt x="1720" y="73"/>
                  </a:lnTo>
                  <a:lnTo>
                    <a:pt x="1702" y="57"/>
                  </a:lnTo>
                  <a:lnTo>
                    <a:pt x="1682" y="44"/>
                  </a:lnTo>
                  <a:lnTo>
                    <a:pt x="1661" y="31"/>
                  </a:lnTo>
                  <a:lnTo>
                    <a:pt x="1639" y="20"/>
                  </a:lnTo>
                  <a:lnTo>
                    <a:pt x="1615" y="12"/>
                  </a:lnTo>
                  <a:lnTo>
                    <a:pt x="1591" y="5"/>
                  </a:lnTo>
                  <a:lnTo>
                    <a:pt x="1565" y="2"/>
                  </a:lnTo>
                  <a:lnTo>
                    <a:pt x="1539" y="0"/>
                  </a:lnTo>
                  <a:lnTo>
                    <a:pt x="255" y="0"/>
                  </a:lnTo>
                  <a:lnTo>
                    <a:pt x="255" y="0"/>
                  </a:lnTo>
                  <a:lnTo>
                    <a:pt x="230" y="2"/>
                  </a:lnTo>
                  <a:lnTo>
                    <a:pt x="204" y="5"/>
                  </a:lnTo>
                  <a:lnTo>
                    <a:pt x="180" y="12"/>
                  </a:lnTo>
                  <a:lnTo>
                    <a:pt x="156" y="20"/>
                  </a:lnTo>
                  <a:lnTo>
                    <a:pt x="134" y="31"/>
                  </a:lnTo>
                  <a:lnTo>
                    <a:pt x="113" y="44"/>
                  </a:lnTo>
                  <a:lnTo>
                    <a:pt x="93" y="57"/>
                  </a:lnTo>
                  <a:lnTo>
                    <a:pt x="74" y="73"/>
                  </a:lnTo>
                  <a:lnTo>
                    <a:pt x="58" y="90"/>
                  </a:lnTo>
                  <a:lnTo>
                    <a:pt x="44" y="110"/>
                  </a:lnTo>
                  <a:lnTo>
                    <a:pt x="31" y="130"/>
                  </a:lnTo>
                  <a:lnTo>
                    <a:pt x="20" y="152"/>
                  </a:lnTo>
                  <a:lnTo>
                    <a:pt x="12" y="174"/>
                  </a:lnTo>
                  <a:lnTo>
                    <a:pt x="5" y="198"/>
                  </a:lnTo>
                  <a:lnTo>
                    <a:pt x="2" y="222"/>
                  </a:lnTo>
                  <a:lnTo>
                    <a:pt x="0" y="247"/>
                  </a:lnTo>
                  <a:lnTo>
                    <a:pt x="0" y="1483"/>
                  </a:lnTo>
                  <a:lnTo>
                    <a:pt x="0" y="1483"/>
                  </a:lnTo>
                  <a:lnTo>
                    <a:pt x="2" y="1509"/>
                  </a:lnTo>
                  <a:lnTo>
                    <a:pt x="5" y="1534"/>
                  </a:lnTo>
                  <a:lnTo>
                    <a:pt x="12" y="1557"/>
                  </a:lnTo>
                  <a:lnTo>
                    <a:pt x="20" y="1579"/>
                  </a:lnTo>
                  <a:lnTo>
                    <a:pt x="31" y="1601"/>
                  </a:lnTo>
                  <a:lnTo>
                    <a:pt x="44" y="1621"/>
                  </a:lnTo>
                  <a:lnTo>
                    <a:pt x="58" y="1640"/>
                  </a:lnTo>
                  <a:lnTo>
                    <a:pt x="74" y="1658"/>
                  </a:lnTo>
                  <a:lnTo>
                    <a:pt x="93" y="1674"/>
                  </a:lnTo>
                  <a:lnTo>
                    <a:pt x="113" y="1688"/>
                  </a:lnTo>
                  <a:lnTo>
                    <a:pt x="134" y="1700"/>
                  </a:lnTo>
                  <a:lnTo>
                    <a:pt x="156" y="1711"/>
                  </a:lnTo>
                  <a:lnTo>
                    <a:pt x="180" y="1718"/>
                  </a:lnTo>
                  <a:lnTo>
                    <a:pt x="204" y="1725"/>
                  </a:lnTo>
                  <a:lnTo>
                    <a:pt x="230" y="1728"/>
                  </a:lnTo>
                  <a:lnTo>
                    <a:pt x="255" y="1730"/>
                  </a:lnTo>
                  <a:lnTo>
                    <a:pt x="1539" y="1730"/>
                  </a:lnTo>
                  <a:lnTo>
                    <a:pt x="1539" y="1730"/>
                  </a:lnTo>
                  <a:lnTo>
                    <a:pt x="1565" y="1728"/>
                  </a:lnTo>
                  <a:lnTo>
                    <a:pt x="1591" y="1725"/>
                  </a:lnTo>
                  <a:lnTo>
                    <a:pt x="1615" y="1718"/>
                  </a:lnTo>
                  <a:lnTo>
                    <a:pt x="1639" y="1711"/>
                  </a:lnTo>
                  <a:lnTo>
                    <a:pt x="1661" y="1700"/>
                  </a:lnTo>
                  <a:lnTo>
                    <a:pt x="1682" y="1688"/>
                  </a:lnTo>
                  <a:lnTo>
                    <a:pt x="1702" y="1674"/>
                  </a:lnTo>
                  <a:lnTo>
                    <a:pt x="1720" y="1658"/>
                  </a:lnTo>
                  <a:lnTo>
                    <a:pt x="1736" y="1640"/>
                  </a:lnTo>
                  <a:lnTo>
                    <a:pt x="1751" y="1621"/>
                  </a:lnTo>
                  <a:lnTo>
                    <a:pt x="1764" y="1601"/>
                  </a:lnTo>
                  <a:lnTo>
                    <a:pt x="1776" y="1579"/>
                  </a:lnTo>
                  <a:lnTo>
                    <a:pt x="1784" y="1557"/>
                  </a:lnTo>
                  <a:lnTo>
                    <a:pt x="1790" y="1534"/>
                  </a:lnTo>
                  <a:lnTo>
                    <a:pt x="1794" y="1509"/>
                  </a:lnTo>
                  <a:lnTo>
                    <a:pt x="1795" y="1483"/>
                  </a:lnTo>
                  <a:lnTo>
                    <a:pt x="1795" y="984"/>
                  </a:lnTo>
                  <a:lnTo>
                    <a:pt x="1862" y="984"/>
                  </a:lnTo>
                  <a:lnTo>
                    <a:pt x="1862" y="1102"/>
                  </a:lnTo>
                  <a:lnTo>
                    <a:pt x="2098" y="866"/>
                  </a:lnTo>
                  <a:close/>
                </a:path>
              </a:pathLst>
            </a:custGeom>
            <a:gradFill rotWithShape="0">
              <a:gsLst>
                <a:gs pos="0">
                  <a:srgbClr val="0099ff"/>
                </a:gs>
                <a:gs pos="100000">
                  <a:srgbClr val="0070ba"/>
                </a:gs>
              </a:gsLst>
              <a:lin ang="5400000"/>
            </a:gradFill>
            <a:ln w="1908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Text Box 18"/>
            <p:cNvSpPr/>
            <p:nvPr/>
          </p:nvSpPr>
          <p:spPr>
            <a:xfrm>
              <a:off x="352440" y="5419440"/>
              <a:ext cx="1224000" cy="397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AutoShape 19"/>
            <p:cNvSpPr/>
            <p:nvPr/>
          </p:nvSpPr>
          <p:spPr>
            <a:xfrm>
              <a:off x="331560" y="4986360"/>
              <a:ext cx="1254240" cy="215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AutoShape 20"/>
            <p:cNvSpPr/>
            <p:nvPr/>
          </p:nvSpPr>
          <p:spPr>
            <a:xfrm>
              <a:off x="384120" y="4995720"/>
              <a:ext cx="1170000" cy="69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4509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TextBox 110"/>
          <p:cNvSpPr/>
          <p:nvPr/>
        </p:nvSpPr>
        <p:spPr>
          <a:xfrm>
            <a:off x="2195640" y="6453360"/>
            <a:ext cx="68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55640" y="21337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60a2"/>
                </a:solidFill>
                <a:uFillTx/>
                <a:latin typeface="Arial"/>
                <a:hlinkClick r:id="rId7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48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16Z</dcterms:modified>
  <cp:revision>8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fe07000000000001024140</vt:lpwstr>
  </property>
</Properties>
</file>