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9.wmf" ContentType="image/x-wmf"/>
  <Override PartName="/ppt/media/image14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jpeg" ContentType="image/jpeg"/>
  <Override PartName="/ppt/media/image2.png" ContentType="image/png"/>
  <Override PartName="/ppt/media/image26.jpeg" ContentType="image/jpeg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wmf" ContentType="image/x-wmf"/>
  <Override PartName="/ppt/media/image17.png" ContentType="image/png"/>
  <Override PartName="/ppt/media/image15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409-E24F-4782-B540-E33C875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3C3-A5E4-4C88-8451-85811A07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631-16B0-4CC0-B31E-89452DEC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42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550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334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42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550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76B-553A-471D-9221-13B5AAD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68E-40C6-4BB4-B3CA-6330414E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B1E-F96B-4B97-8A9F-5D0A96F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C39-1944-49F7-85EC-15A41C85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ADD-2388-4596-A00C-0E3E78B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2EAE-79EA-4E34-853B-050B9B9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2880" y="1904760"/>
            <a:ext cx="726624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12B-A683-49FF-99FE-3FB43B36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E5C-7FB9-4715-AED1-BEF9829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E8C-AD89-4B0D-BCBA-D7FB38A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33D5-741E-4CF9-A6EA-1C735D9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216-8E2C-463A-89E1-97E7F79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228C-6024-4788-A1D6-DF65C3F5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5753-0C2F-4567-883E-0CA3A304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42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5000" y="472392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334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42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5000" y="4923360"/>
            <a:ext cx="21528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F87C-78D6-4D11-82A6-1ABA08D3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66866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294-C9B8-4157-9930-8B826DE6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A34-8EE9-4E0F-A95C-8C4D33A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8E9-8872-4BC8-984B-A410C1C4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2880" y="1904760"/>
            <a:ext cx="726624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DAC-9F78-4DE0-9F74-B61F0688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7A3-1FC5-439B-B22C-4FB89843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9880" y="492336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754-18C8-4498-8808-9351C5D7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3340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9880" y="4723920"/>
            <a:ext cx="3263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33400" y="4923360"/>
            <a:ext cx="66866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1AA-FF77-4206-A762-3573A6A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445000"/>
            <a:ext cx="9906120" cy="1414440"/>
          </a:xfrm>
          <a:custGeom>
            <a:avLst/>
            <a:gdLst/>
            <a:ahLst/>
            <a:rect l="l" t="t" r="r" b="b"/>
            <a:pathLst>
              <a:path w="5760" h="891">
                <a:moveTo>
                  <a:pt x="5760" y="885"/>
                </a:moveTo>
                <a:lnTo>
                  <a:pt x="5760" y="0"/>
                </a:lnTo>
                <a:cubicBezTo>
                  <a:pt x="4888" y="573"/>
                  <a:pt x="3696" y="609"/>
                  <a:pt x="2832" y="626"/>
                </a:cubicBezTo>
                <a:cubicBezTo>
                  <a:pt x="1968" y="643"/>
                  <a:pt x="640" y="474"/>
                  <a:pt x="0" y="36"/>
                </a:cubicBezTo>
                <a:lnTo>
                  <a:pt x="0" y="891"/>
                </a:lnTo>
                <a:lnTo>
                  <a:pt x="5760" y="885"/>
                </a:lnTo>
                <a:close/>
              </a:path>
            </a:pathLst>
          </a:custGeom>
          <a:gradFill rotWithShape="0">
            <a:gsLst>
              <a:gs pos="0">
                <a:srgbClr val="48bdec"/>
              </a:gs>
              <a:gs pos="100000">
                <a:srgbClr val="e2f3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90612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9061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6539040"/>
            <a:ext cx="9906120" cy="33336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100000">
                <a:srgbClr val="1640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92280"/>
            <a:ext cx="9906120" cy="7272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50000">
                <a:srgbClr val="cbebf8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95000" y="899640"/>
            <a:ext cx="89154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Click to edit the outline text format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48bd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econd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Third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Four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Fif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ix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Seventh Outline Level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95360" y="6523200"/>
            <a:ext cx="23112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240600" y="6536880"/>
            <a:ext cx="3665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五 河 供 电 公 司 调 度 班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QC 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宋体"/>
              </a:rPr>
              <a:t>小 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3549240" y="653688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3177-2B34-4218-9CAD-2347AAC1187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7000" y="3784680"/>
            <a:ext cx="9879120" cy="2928960"/>
          </a:xfrm>
          <a:custGeom>
            <a:avLst/>
            <a:gdLst/>
            <a:ahLst/>
            <a:rect l="l" t="t" r="r" b="b"/>
            <a:pathLst>
              <a:path w="5776" h="1845">
                <a:moveTo>
                  <a:pt x="0" y="1845"/>
                </a:moveTo>
                <a:lnTo>
                  <a:pt x="0" y="1336"/>
                </a:lnTo>
                <a:cubicBezTo>
                  <a:pt x="1039" y="1531"/>
                  <a:pt x="2448" y="1744"/>
                  <a:pt x="3664" y="1456"/>
                </a:cubicBezTo>
                <a:cubicBezTo>
                  <a:pt x="4880" y="1168"/>
                  <a:pt x="5624" y="520"/>
                  <a:pt x="5776" y="0"/>
                </a:cubicBezTo>
                <a:lnTo>
                  <a:pt x="5752" y="1845"/>
                </a:lnTo>
                <a:lnTo>
                  <a:pt x="0" y="18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076640"/>
            <a:ext cx="5888160" cy="2349720"/>
          </a:xfrm>
          <a:custGeom>
            <a:avLst/>
            <a:gdLst/>
            <a:ahLst/>
            <a:rect l="l" t="t" r="r" b="b"/>
            <a:pathLst>
              <a:path w="3048" h="1424">
                <a:moveTo>
                  <a:pt x="3048" y="1335"/>
                </a:moveTo>
                <a:cubicBezTo>
                  <a:pt x="3048" y="1335"/>
                  <a:pt x="2352" y="1424"/>
                  <a:pt x="1440" y="1099"/>
                </a:cubicBezTo>
                <a:cubicBezTo>
                  <a:pt x="528" y="773"/>
                  <a:pt x="8" y="41"/>
                  <a:pt x="0" y="0"/>
                </a:cubicBezTo>
                <a:lnTo>
                  <a:pt x="0" y="1424"/>
                </a:lnTo>
                <a:lnTo>
                  <a:pt x="3048" y="13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95960"/>
            <a:ext cx="9933120" cy="2476440"/>
          </a:xfrm>
          <a:custGeom>
            <a:avLst/>
            <a:gdLst/>
            <a:ahLst/>
            <a:rect l="l" t="t" r="r" b="b"/>
            <a:pathLst>
              <a:path w="5776" h="1560">
                <a:moveTo>
                  <a:pt x="0" y="1560"/>
                </a:moveTo>
                <a:lnTo>
                  <a:pt x="0" y="928"/>
                </a:lnTo>
                <a:cubicBezTo>
                  <a:pt x="1040" y="1114"/>
                  <a:pt x="3064" y="1370"/>
                  <a:pt x="4200" y="984"/>
                </a:cubicBezTo>
                <a:cubicBezTo>
                  <a:pt x="5336" y="599"/>
                  <a:pt x="5776" y="24"/>
                  <a:pt x="5768" y="0"/>
                </a:cubicBezTo>
                <a:lnTo>
                  <a:pt x="5760" y="1560"/>
                </a:ln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1640b6"/>
              </a:gs>
              <a:gs pos="100000">
                <a:srgbClr val="48bd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95360" y="6553080"/>
            <a:ext cx="2311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384360" y="6553080"/>
            <a:ext cx="31366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098840" y="6553080"/>
            <a:ext cx="23115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2607-B103-47EC-8DB3-1DF912400C22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1442880" y="1904760"/>
            <a:ext cx="72662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166e"/>
                </a:solidFill>
                <a:latin typeface="黑体"/>
              </a:rPr>
              <a:t>Click to edit the title text format</a:t>
            </a:r>
            <a:endParaRPr b="1" lang="en-US" sz="54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宋体"/>
              </a:rPr>
              <a:t>Click to edit the outline text format</a:t>
            </a: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宋体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宋体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宋体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宋体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760" y="2425320"/>
            <a:ext cx="769608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项目小组报告</a:t>
            </a: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2b166e"/>
                </a:solidFill>
                <a:latin typeface="黑体"/>
              </a:rPr>
              <a:t>模板免费下载</a:t>
            </a:r>
            <a:endParaRPr b="1" lang="en-US" sz="4000" spc="-1" strike="noStrike">
              <a:solidFill>
                <a:srgbClr val="2b166e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14840" y="6377040"/>
            <a:ext cx="5191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宋体"/>
              </a:rPr>
              <a:t>SSS</a:t>
            </a:r>
            <a:r>
              <a:rPr b="1" lang="zh-CN" sz="2300" spc="-1" strike="noStrike">
                <a:solidFill>
                  <a:srgbClr val="ffffff"/>
                </a:solidFill>
                <a:latin typeface="宋体"/>
              </a:rPr>
              <a:t>公司信息化建设</a:t>
            </a:r>
            <a:r>
              <a:rPr b="1" lang="en-US" sz="2300" spc="-1" strike="noStrike">
                <a:solidFill>
                  <a:srgbClr val="ffffff"/>
                </a:solidFill>
                <a:latin typeface="宋体"/>
              </a:rPr>
              <a:t>QC</a:t>
            </a:r>
            <a:r>
              <a:rPr b="1" lang="zh-CN" sz="2300" spc="-1" strike="noStrike">
                <a:solidFill>
                  <a:srgbClr val="ffffff"/>
                </a:solidFill>
                <a:latin typeface="宋体"/>
              </a:rPr>
              <a:t>小组</a:t>
            </a:r>
            <a:endParaRPr b="0" lang="en-US" sz="23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551480" y="4524480"/>
            <a:ext cx="18540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编写：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　　　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2b166e"/>
                </a:solidFill>
                <a:latin typeface="宋体"/>
                <a:ea typeface="宋体"/>
              </a:rPr>
              <a:t>发布：</a:t>
            </a:r>
            <a:r>
              <a:rPr b="1" lang="en-US" sz="19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endParaRPr b="0" lang="en-US" sz="19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8360" y="11397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这是无线集抄系统数据库界面，红色单元格为漏抄数据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6720" y="1978200"/>
            <a:ext cx="9080640" cy="41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2200" y="1006560"/>
            <a:ext cx="906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对抄表率进行分类汇总：　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95360" y="1550880"/>
          <a:ext cx="8915400" cy="4780080"/>
        </p:xfrm>
        <a:graphic>
          <a:graphicData uri="http://schemas.openxmlformats.org/drawingml/2006/table">
            <a:tbl>
              <a:tblPr/>
              <a:tblGrid>
                <a:gridCol w="800280"/>
                <a:gridCol w="736560"/>
                <a:gridCol w="736560"/>
                <a:gridCol w="736560"/>
                <a:gridCol w="736560"/>
                <a:gridCol w="736560"/>
                <a:gridCol w="749160"/>
                <a:gridCol w="736920"/>
                <a:gridCol w="736560"/>
                <a:gridCol w="736560"/>
                <a:gridCol w="736560"/>
                <a:gridCol w="736560"/>
              </a:tblGrid>
              <a:tr h="39852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雨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雨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阴天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9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2b166e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1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9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6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3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4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4.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4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7.4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栋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5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6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9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5.3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7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2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1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7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平均值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8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6.9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5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7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3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9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8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9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98.0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98.7 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58880" y="1136520"/>
            <a:ext cx="6837480" cy="4924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14760" y="1698480"/>
            <a:ext cx="31320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32640" y="1373040"/>
            <a:ext cx="257472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4760" y="2701800"/>
            <a:ext cx="31320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32640" y="2300400"/>
            <a:ext cx="257472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14760" y="3706920"/>
            <a:ext cx="313200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2640" y="3228840"/>
            <a:ext cx="257472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14760" y="4711680"/>
            <a:ext cx="1438200" cy="611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769160" y="4157640"/>
            <a:ext cx="1438200" cy="719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84760" y="5194440"/>
            <a:ext cx="4422600" cy="610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540120" y="3967200"/>
            <a:ext cx="800640" cy="411120"/>
            <a:chOff x="6540120" y="3967200"/>
            <a:chExt cx="800640" cy="411120"/>
          </a:xfrm>
        </p:grpSpPr>
        <p:sp>
          <p:nvSpPr>
            <p:cNvPr id="284" name=""/>
            <p:cNvSpPr/>
            <p:nvPr/>
          </p:nvSpPr>
          <p:spPr>
            <a:xfrm rot="16200000">
              <a:off x="7158240" y="406764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7065000" y="404892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6941880" y="4035960"/>
              <a:ext cx="228240" cy="2131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6768000" y="400788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7238160" y="407772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6526440" y="3980880"/>
              <a:ext cx="411120" cy="383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261280" y="526572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9680" y="47736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61280" y="430704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1280" y="33498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1280" y="239220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1280" y="143496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9680" y="17589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9680" y="276372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376884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＃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5520" y="1166400"/>
            <a:ext cx="233352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这是小区平面图，从图中可以看出：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距离集中器较近，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、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较远，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＃楼则相对更远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232760" y="4214880"/>
            <a:ext cx="509400" cy="5904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7613640" y="3969000"/>
            <a:ext cx="819360" cy="437760"/>
            <a:chOff x="7613640" y="3969000"/>
            <a:chExt cx="819360" cy="437760"/>
          </a:xfrm>
        </p:grpSpPr>
        <p:sp>
          <p:nvSpPr>
            <p:cNvPr id="302" name=""/>
            <p:cNvSpPr/>
            <p:nvPr/>
          </p:nvSpPr>
          <p:spPr>
            <a:xfrm rot="5649000">
              <a:off x="7666920" y="413316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649000">
              <a:off x="7710480" y="411048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649000">
              <a:off x="7787880" y="408816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649000">
              <a:off x="7885080" y="405396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649000">
              <a:off x="7613640" y="414288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649000">
              <a:off x="8021160" y="399600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remove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00185 L -0.04375 0.00185 E">
                                      <p:cBhvr>
                                        <p:cTn id="47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remove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0185 L 0.04514 0.00185 E">
                                      <p:cBhvr>
                                        <p:cTn id="47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000" y="899640"/>
            <a:ext cx="89154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为找出问题，小组试着采用分层法，按“天气”和“距离”进行分层，见下图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63480" y="2271600"/>
          <a:ext cx="4149720" cy="28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271600"/>
                    <a:ext cx="4149720" cy="2862360"/>
                  </a:xfrm>
                  <a:prstGeom prst="rect">
                    <a:avLst/>
                  </a:prstGeom>
                  <a:ln w="0">
                    <a:solidFill>
                      <a:srgbClr val="48bdec"/>
                    </a:solidFill>
                  </a:ln>
                </p:spPr>
              </p:pic>
            </p:oleObj>
          </a:graphicData>
        </a:graphic>
      </p:graphicFrame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251320" y="2273400"/>
            <a:ext cx="4102200" cy="2873160"/>
          </a:xfrm>
          <a:prstGeom prst="rect">
            <a:avLst/>
          </a:prstGeom>
          <a:ln w="0">
            <a:solidFill>
              <a:srgbClr val="48bdec"/>
            </a:solidFill>
          </a:ln>
        </p:spPr>
      </p:pic>
      <p:sp>
        <p:nvSpPr>
          <p:cNvPr id="313" name=""/>
          <p:cNvSpPr/>
          <p:nvPr/>
        </p:nvSpPr>
        <p:spPr>
          <a:xfrm>
            <a:off x="722160" y="5207040"/>
            <a:ext cx="404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“天气”分层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晴天抄表率较高，阴雨天较低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11800" y="5207040"/>
            <a:ext cx="404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“距离”分层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距离近抄表率较高，距离远较低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1557360" y="399096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13160" y="399096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3417840" y="4097160"/>
            <a:ext cx="666720" cy="4604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6207120" y="3963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7240680" y="396396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9"/>
          <a:stretch/>
        </p:blipFill>
        <p:spPr>
          <a:xfrm>
            <a:off x="8273880" y="396396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1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/>
          <p:nvPr/>
        </p:nvSpPr>
        <p:spPr>
          <a:xfrm>
            <a:off x="836640" y="2044800"/>
            <a:ext cx="8001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使用分层法让我们得出以下结论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天气变化”和“距离远且阻挡物多”是造成抄表率低的主要问题，小组决定以此作为解决问题的突破口展开活动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22600" y="3181320"/>
            <a:ext cx="5373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2600" y="3181320"/>
            <a:ext cx="537372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60560" y="3181320"/>
            <a:ext cx="6935760" cy="3170160"/>
            <a:chOff x="1060560" y="3181320"/>
            <a:chExt cx="6935760" cy="3170160"/>
          </a:xfrm>
        </p:grpSpPr>
        <p:sp>
          <p:nvSpPr>
            <p:cNvPr id="327" name=""/>
            <p:cNvSpPr/>
            <p:nvPr/>
          </p:nvSpPr>
          <p:spPr>
            <a:xfrm>
              <a:off x="3333240" y="61228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前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2000" y="61228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目标值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060560" y="3181320"/>
              <a:ext cx="6935760" cy="3037680"/>
              <a:chOff x="1060560" y="3181320"/>
              <a:chExt cx="6935760" cy="303768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060560" y="3181320"/>
                <a:ext cx="1562040" cy="3037680"/>
                <a:chOff x="1060560" y="3181320"/>
                <a:chExt cx="1562040" cy="3037680"/>
              </a:xfrm>
            </p:grpSpPr>
            <p:sp>
              <p:nvSpPr>
                <p:cNvPr id="331" name=""/>
                <p:cNvSpPr/>
                <p:nvPr/>
              </p:nvSpPr>
              <p:spPr>
                <a:xfrm rot="16200000">
                  <a:off x="980280" y="4494240"/>
                  <a:ext cx="4809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100" spc="-1" strike="noStrike">
                      <a:solidFill>
                        <a:srgbClr val="2b166e"/>
                      </a:solidFill>
                      <a:latin typeface="黑体"/>
                      <a:ea typeface="黑体"/>
                    </a:rPr>
                    <a:t>抄收率</a:t>
                  </a:r>
                  <a:endParaRPr b="0" lang="en-US" sz="21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47840" y="3181320"/>
                  <a:ext cx="374760" cy="2878200"/>
                </a:xfrm>
                <a:custGeom>
                  <a:avLst/>
                  <a:gdLst/>
                  <a:ahLst/>
                  <a:rect l="l" t="t" r="r" b="b"/>
                  <a:pathLst>
                    <a:path w="180" h="1813">
                      <a:moveTo>
                        <a:pt x="0" y="1813"/>
                      </a:moveTo>
                      <a:lnTo>
                        <a:pt x="0" y="230"/>
                      </a:lnTo>
                      <a:lnTo>
                        <a:pt x="180" y="0"/>
                      </a:lnTo>
                      <a:lnTo>
                        <a:pt x="180" y="1583"/>
                      </a:lnTo>
                      <a:lnTo>
                        <a:pt x="0" y="1813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247840" y="3181320"/>
                  <a:ext cx="374760" cy="2878200"/>
                </a:xfrm>
                <a:custGeom>
                  <a:avLst/>
                  <a:gdLst/>
                  <a:ahLst/>
                  <a:rect l="l" t="t" r="r" b="b"/>
                  <a:pathLst>
                    <a:path w="180" h="1813">
                      <a:moveTo>
                        <a:pt x="0" y="1813"/>
                      </a:moveTo>
                      <a:lnTo>
                        <a:pt x="0" y="230"/>
                      </a:lnTo>
                      <a:lnTo>
                        <a:pt x="180" y="0"/>
                      </a:lnTo>
                      <a:lnTo>
                        <a:pt x="180" y="1583"/>
                      </a:lnTo>
                      <a:lnTo>
                        <a:pt x="0" y="1813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2246400" y="3546000"/>
                  <a:ext cx="1440" cy="251316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2246400" y="555768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2246400" y="5048280"/>
                  <a:ext cx="47520" cy="144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2246400" y="4548240"/>
                  <a:ext cx="47520" cy="144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533600" y="595944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5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33600" y="545796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6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533600" y="494820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7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533600" y="444816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8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246400" y="6013440"/>
                  <a:ext cx="1440" cy="4608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2246400" y="404640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2246400" y="3546360"/>
                  <a:ext cx="47520" cy="1800"/>
                </a:xfrm>
                <a:prstGeom prst="line">
                  <a:avLst/>
                </a:prstGeom>
                <a:ln w="6480">
                  <a:solidFill>
                    <a:srgbClr val="2b16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533600" y="3946320"/>
                  <a:ext cx="6145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99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3446280"/>
                  <a:ext cx="6159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2b166e"/>
                      </a:solidFill>
                      <a:latin typeface="宋体"/>
                      <a:ea typeface="宋体"/>
                    </a:rPr>
                    <a:t>100%</a:t>
                  </a:r>
                  <a:endParaRPr b="0" lang="en-US" sz="17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46400" y="3181320"/>
                <a:ext cx="5749920" cy="2878200"/>
                <a:chOff x="2246400" y="3181320"/>
                <a:chExt cx="5749920" cy="287820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2246400" y="4692600"/>
                  <a:ext cx="5749920" cy="1366920"/>
                  <a:chOff x="2246400" y="4692600"/>
                  <a:chExt cx="5749920" cy="13669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30">
                        <a:moveTo>
                          <a:pt x="2765" y="0"/>
                        </a:moveTo>
                        <a:lnTo>
                          <a:pt x="2585" y="230"/>
                        </a:lnTo>
                        <a:lnTo>
                          <a:pt x="0" y="230"/>
                        </a:lnTo>
                        <a:lnTo>
                          <a:pt x="180" y="0"/>
                        </a:lnTo>
                        <a:lnTo>
                          <a:pt x="2765" y="0"/>
                        </a:lnTo>
                        <a:close/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246400" y="569448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30">
                        <a:moveTo>
                          <a:pt x="0" y="230"/>
                        </a:moveTo>
                        <a:lnTo>
                          <a:pt x="180" y="0"/>
                        </a:lnTo>
                        <a:lnTo>
                          <a:pt x="2765" y="0"/>
                        </a:lnTo>
                        <a:lnTo>
                          <a:pt x="2585" y="230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246400" y="5194080"/>
                    <a:ext cx="574992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246400" y="4692600"/>
                    <a:ext cx="57499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9">
                        <a:moveTo>
                          <a:pt x="0" y="39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2246400" y="3181320"/>
                  <a:ext cx="5749920" cy="1366920"/>
                  <a:chOff x="2246400" y="3181320"/>
                  <a:chExt cx="5749920" cy="13669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2246400" y="4192560"/>
                    <a:ext cx="57499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9">
                        <a:moveTo>
                          <a:pt x="0" y="39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246400" y="3682800"/>
                    <a:ext cx="574992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246400" y="3181320"/>
                    <a:ext cx="574992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40">
                        <a:moveTo>
                          <a:pt x="0" y="40"/>
                        </a:moveTo>
                        <a:lnTo>
                          <a:pt x="40" y="0"/>
                        </a:lnTo>
                        <a:lnTo>
                          <a:pt x="616" y="0"/>
                        </a:lnTo>
                      </a:path>
                    </a:pathLst>
                  </a:custGeom>
                  <a:noFill/>
                  <a:ln w="6480">
                    <a:solidFill>
                      <a:srgbClr val="2b16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设定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22560" y="3666960"/>
            <a:ext cx="1251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  <a:ea typeface="宋体"/>
              </a:rPr>
              <a:t>99.81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46480" y="2736720"/>
            <a:ext cx="100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87720" y="4162320"/>
            <a:ext cx="1170000" cy="1908360"/>
          </a:xfrm>
          <a:prstGeom prst="cube">
            <a:avLst>
              <a:gd name="adj" fmla="val 27523"/>
            </a:avLst>
          </a:prstGeom>
          <a:gradFill rotWithShape="0">
            <a:gsLst>
              <a:gs pos="0">
                <a:srgbClr val="d07c00"/>
              </a:gs>
              <a:gs pos="50000">
                <a:srgbClr val="ff9900"/>
              </a:gs>
              <a:gs pos="100000">
                <a:srgbClr val="d07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92400" y="3187800"/>
            <a:ext cx="1158840" cy="1296720"/>
          </a:xfrm>
          <a:prstGeom prst="cube">
            <a:avLst>
              <a:gd name="adj" fmla="val 26694"/>
            </a:avLst>
          </a:prstGeom>
          <a:gradFill rotWithShape="0">
            <a:gsLst>
              <a:gs pos="0">
                <a:srgbClr val="d0537c"/>
              </a:gs>
              <a:gs pos="50000">
                <a:srgbClr val="ff6699"/>
              </a:gs>
              <a:gs pos="100000">
                <a:srgbClr val="d053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87720" y="3189240"/>
            <a:ext cx="1170000" cy="2879640"/>
          </a:xfrm>
          <a:prstGeom prst="cube">
            <a:avLst>
              <a:gd name="adj" fmla="val 16416"/>
            </a:avLst>
          </a:prstGeom>
          <a:gradFill rotWithShape="0">
            <a:gsLst>
              <a:gs pos="0">
                <a:srgbClr val="3894b9"/>
              </a:gs>
              <a:gs pos="50000">
                <a:srgbClr val="48bdec"/>
              </a:gs>
              <a:gs pos="100000">
                <a:srgbClr val="3894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267200">
            <a:off x="3615840" y="2569680"/>
            <a:ext cx="1960560" cy="471600"/>
          </a:xfrm>
          <a:custGeom>
            <a:avLst/>
            <a:gdLst>
              <a:gd name="textAreaLeft" fmla="*/ 343080 w 1960560"/>
              <a:gd name="textAreaRight" fmla="*/ 1421640 w 1960560"/>
              <a:gd name="textAreaTop" fmla="*/ 63000 h 471600"/>
              <a:gd name="textAreaBottom" fmla="*/ 40860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5360" y="900000"/>
            <a:ext cx="90802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现场调查，我们决心以公司下达指标数值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做为本次活动的课题，即将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无线低压集中抄表系统抄收率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从目前的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98.1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提高到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3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"/>
                            </p:stCondLst>
                            <p:childTnLst>
                              <p:par>
                                <p:cTn id="5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6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900"/>
                            </p:stCondLst>
                            <p:childTnLst>
                              <p:par>
                                <p:cTn id="591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3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800"/>
                            </p:stCondLst>
                            <p:childTnLst>
                              <p:par>
                                <p:cTn id="60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400"/>
                            </p:stCondLst>
                            <p:childTnLst>
                              <p:par>
                                <p:cTn id="6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700"/>
                            </p:stCondLst>
                            <p:childTnLst>
                              <p:par>
                                <p:cTn id="6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2.1536E-006 L 0.20115 2.1536E-006 E">
                                      <p:cBhvr>
                                        <p:cTn id="617" dur="3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9978E-006 3.71733E-006 L 0.19506 3.71733E-006 E">
                                      <p:cBhvr>
                                        <p:cTn id="619" dur="3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300"/>
                            </p:stCondLst>
                            <p:childTnLst>
                              <p:par>
                                <p:cTn id="6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原因分析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05400" y="1135080"/>
            <a:ext cx="2159280" cy="687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b166e"/>
                </a:solidFill>
                <a:latin typeface="黑体"/>
                <a:ea typeface="黑体"/>
              </a:rPr>
              <a:t>距离远</a:t>
            </a:r>
            <a:endParaRPr b="0" lang="en-US" sz="2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560" y="1073160"/>
            <a:ext cx="2158920" cy="6872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b166e"/>
                </a:solidFill>
                <a:latin typeface="黑体"/>
                <a:ea typeface="黑体"/>
              </a:rPr>
              <a:t>天气变化</a:t>
            </a:r>
            <a:endParaRPr b="0" lang="en-US" sz="2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0280" y="48229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系统抗干扰能力差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2520" y="308628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空气特性发生变化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1320" y="295740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电波传输过程中有衰减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56240" y="408636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小区内电磁干扰源较多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88200" y="4334040"/>
            <a:ext cx="150840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有效传输距离短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78240" y="54259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射频通讯收发功率小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17840" y="428004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信号传输中反射折射多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4800" y="22255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高大建筑阻挡信号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2774880"/>
            <a:ext cx="1508400" cy="728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金属建材屏蔽信号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00480" y="1784520"/>
            <a:ext cx="150804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抄表方式不合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700280" y="3324240"/>
            <a:ext cx="604800" cy="1396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6560" y="3586320"/>
            <a:ext cx="1508400" cy="728640"/>
          </a:xfrm>
          <a:prstGeom prst="ellipse">
            <a:avLst/>
          </a:prstGeom>
          <a:gradFill rotWithShape="0">
            <a:gsLst>
              <a:gs pos="0">
                <a:srgbClr val="eb984d"/>
              </a:gs>
              <a:gs pos="100000">
                <a:srgbClr val="c982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天线安装不科学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3538440" y="3622320"/>
            <a:ext cx="1162080" cy="8190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7659720" y="2974680"/>
            <a:ext cx="347760" cy="7477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759280" y="4897440"/>
            <a:ext cx="2505240" cy="98424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454440" y="3141360"/>
            <a:ext cx="546120" cy="4395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429160" y="3510000"/>
            <a:ext cx="265320" cy="5731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3750840" y="4948200"/>
            <a:ext cx="763560" cy="5824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3033360" y="3684600"/>
            <a:ext cx="166680" cy="6048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249200" y="3633840"/>
            <a:ext cx="1341720" cy="11872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036520" y="5256360"/>
            <a:ext cx="2244600" cy="5508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08960" y="4186080"/>
            <a:ext cx="655560" cy="3193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8376840" y="2947680"/>
            <a:ext cx="608040" cy="137484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007720" y="1762200"/>
            <a:ext cx="916200" cy="118728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2901600" y="1534680"/>
            <a:ext cx="617400" cy="37620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782960" y="1565280"/>
            <a:ext cx="1479600" cy="47952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727600" y="1843200"/>
            <a:ext cx="1182960" cy="9633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7781400" y="1800000"/>
            <a:ext cx="360360" cy="4395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776760" y="1832040"/>
            <a:ext cx="2527200" cy="1488960"/>
          </a:xfrm>
          <a:prstGeom prst="line">
            <a:avLst/>
          </a:prstGeom>
          <a:ln w="19080">
            <a:solidFill>
              <a:srgbClr val="1640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原因分析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-2395440" y="1055160"/>
            <a:ext cx="4770360" cy="4824360"/>
            <a:chOff x="-2395440" y="1055160"/>
            <a:chExt cx="4770360" cy="4824360"/>
          </a:xfrm>
        </p:grpSpPr>
        <p:sp>
          <p:nvSpPr>
            <p:cNvPr id="403" name=""/>
            <p:cNvSpPr/>
            <p:nvPr/>
          </p:nvSpPr>
          <p:spPr>
            <a:xfrm rot="5400000">
              <a:off x="-2422440" y="108180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b2b2b2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5400000">
              <a:off x="-2019600" y="151488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447920" y="1428840"/>
            <a:ext cx="4736520" cy="507960"/>
            <a:chOff x="1447920" y="1428840"/>
            <a:chExt cx="4736520" cy="507960"/>
          </a:xfrm>
        </p:grpSpPr>
        <p:sp>
          <p:nvSpPr>
            <p:cNvPr id="406" name=""/>
            <p:cNvSpPr/>
            <p:nvPr/>
          </p:nvSpPr>
          <p:spPr>
            <a:xfrm>
              <a:off x="1765080" y="1428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天线安装不科学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447920" y="1517760"/>
              <a:ext cx="380520" cy="380880"/>
              <a:chOff x="1447920" y="1517760"/>
              <a:chExt cx="380520" cy="380880"/>
            </a:xfrm>
          </p:grpSpPr>
          <p:sp>
            <p:nvSpPr>
              <p:cNvPr id="408" name=""/>
              <p:cNvSpPr/>
              <p:nvPr/>
            </p:nvSpPr>
            <p:spPr>
              <a:xfrm>
                <a:off x="1447920" y="1517760"/>
                <a:ext cx="3805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69520" y="1539000"/>
                <a:ext cx="33696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1981080" y="2198520"/>
            <a:ext cx="4724280" cy="507960"/>
            <a:chOff x="1981080" y="2198520"/>
            <a:chExt cx="4724280" cy="507960"/>
          </a:xfrm>
        </p:grpSpPr>
        <p:sp>
          <p:nvSpPr>
            <p:cNvPr id="415" name=""/>
            <p:cNvSpPr/>
            <p:nvPr/>
          </p:nvSpPr>
          <p:spPr>
            <a:xfrm>
              <a:off x="2286000" y="219852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981080" y="2304720"/>
              <a:ext cx="380880" cy="381240"/>
              <a:chOff x="1981080" y="2304720"/>
              <a:chExt cx="380880" cy="381240"/>
            </a:xfrm>
          </p:grpSpPr>
          <p:sp>
            <p:nvSpPr>
              <p:cNvPr id="417" name=""/>
              <p:cNvSpPr/>
              <p:nvPr/>
            </p:nvSpPr>
            <p:spPr>
              <a:xfrm>
                <a:off x="1981080" y="23047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002680" y="232596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2133720" y="3067200"/>
            <a:ext cx="4724280" cy="507960"/>
            <a:chOff x="2133720" y="3067200"/>
            <a:chExt cx="4724280" cy="507960"/>
          </a:xfrm>
        </p:grpSpPr>
        <p:sp>
          <p:nvSpPr>
            <p:cNvPr id="424" name=""/>
            <p:cNvSpPr/>
            <p:nvPr/>
          </p:nvSpPr>
          <p:spPr>
            <a:xfrm>
              <a:off x="2438640" y="30672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抄表方式不合理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133720" y="3143520"/>
              <a:ext cx="380880" cy="380880"/>
              <a:chOff x="2133720" y="3143520"/>
              <a:chExt cx="380880" cy="380880"/>
            </a:xfrm>
          </p:grpSpPr>
          <p:sp>
            <p:nvSpPr>
              <p:cNvPr id="426" name=""/>
              <p:cNvSpPr/>
              <p:nvPr/>
            </p:nvSpPr>
            <p:spPr>
              <a:xfrm>
                <a:off x="2133720" y="31435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55320" y="31647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"/>
          <p:cNvGrpSpPr/>
          <p:nvPr/>
        </p:nvGrpSpPr>
        <p:grpSpPr>
          <a:xfrm>
            <a:off x="1981080" y="3879720"/>
            <a:ext cx="4756320" cy="507960"/>
            <a:chOff x="1981080" y="3879720"/>
            <a:chExt cx="4756320" cy="507960"/>
          </a:xfrm>
        </p:grpSpPr>
        <p:sp>
          <p:nvSpPr>
            <p:cNvPr id="433" name=""/>
            <p:cNvSpPr/>
            <p:nvPr/>
          </p:nvSpPr>
          <p:spPr>
            <a:xfrm>
              <a:off x="2317680" y="38797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空气特性发生变化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981080" y="3981240"/>
              <a:ext cx="380880" cy="381240"/>
              <a:chOff x="1981080" y="3981240"/>
              <a:chExt cx="380880" cy="381240"/>
            </a:xfrm>
          </p:grpSpPr>
          <p:sp>
            <p:nvSpPr>
              <p:cNvPr id="435" name=""/>
              <p:cNvSpPr/>
              <p:nvPr/>
            </p:nvSpPr>
            <p:spPr>
              <a:xfrm>
                <a:off x="1981080" y="3981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02680" y="4002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1657440" y="4707000"/>
            <a:ext cx="4717440" cy="507960"/>
            <a:chOff x="1657440" y="4707000"/>
            <a:chExt cx="4717440" cy="507960"/>
          </a:xfrm>
        </p:grpSpPr>
        <p:sp>
          <p:nvSpPr>
            <p:cNvPr id="442" name=""/>
            <p:cNvSpPr/>
            <p:nvPr/>
          </p:nvSpPr>
          <p:spPr>
            <a:xfrm>
              <a:off x="1955520" y="47070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657440" y="4756320"/>
              <a:ext cx="355320" cy="380880"/>
              <a:chOff x="1657440" y="4756320"/>
              <a:chExt cx="355320" cy="380880"/>
            </a:xfrm>
          </p:grpSpPr>
          <p:sp>
            <p:nvSpPr>
              <p:cNvPr id="444" name=""/>
              <p:cNvSpPr/>
              <p:nvPr/>
            </p:nvSpPr>
            <p:spPr>
              <a:xfrm>
                <a:off x="1657440" y="4756320"/>
                <a:ext cx="3553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77600" y="4777560"/>
                <a:ext cx="31464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7540560" y="1450800"/>
            <a:ext cx="185760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通过原因分析得出六个末端因素，针对每个末端因素展开要因确认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" y="282744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末端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150"/>
                            </p:stCondLst>
                            <p:childTnLst>
                              <p:par>
                                <p:cTn id="7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650"/>
                            </p:stCondLst>
                            <p:childTnLst>
                              <p:par>
                                <p:cTn id="7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150"/>
                            </p:stCondLst>
                            <p:childTnLst>
                              <p:par>
                                <p:cTn id="8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650"/>
                            </p:stCondLst>
                            <p:childTnLst>
                              <p:par>
                                <p:cTn id="8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150"/>
                            </p:stCondLst>
                            <p:childTnLst>
                              <p:par>
                                <p:cTn id="8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650"/>
                            </p:stCondLst>
                            <p:childTnLst>
                              <p:par>
                                <p:cTn id="8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15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455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460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465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470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天线安装不科学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474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现场设备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476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479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483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485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）现场安装采集器天线时，用力不当导致内芯接触不良，人为造成发射功率的衰减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）天线的户外部分方向定位不统一，没有充分考虑到无线射频信号的传输特性，增加了信号反射、折射的次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3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"/>
                            </p:stCondLst>
                            <p:childTnLst>
                              <p:par>
                                <p:cTn id="8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7" dur="3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6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7" dur="3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900"/>
                            </p:stCondLst>
                            <p:childTnLst>
                              <p:par>
                                <p:cTn id="8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7" dur="3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二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493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498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03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08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抄表方式不合理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12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抄表系统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14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17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21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23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目前我们的系统设置抄表时间是在干扰情况比较严重的白天，容易受到干扰，造成抄收率的情况；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数据发生漏抄后，我们采取的办法是人工手动进行补抄，数据实时性差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3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3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600"/>
                            </p:stCondLst>
                            <p:childTnLst>
                              <p:par>
                                <p:cTn id="9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3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900"/>
                            </p:stCondLst>
                            <p:childTnLst>
                              <p:par>
                                <p:cTn id="9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2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200"/>
                            </p:stCondLst>
                            <p:childTnLst>
                              <p:par>
                                <p:cTn id="9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前　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565200" y="1273320"/>
            <a:ext cx="86374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近年来，供电企业纷纷推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广使用集中抄表系统，其方式多以载波和音频电缆有线方式为主，投资规模较大，工期较长，并且要更换原有电能表，造成重复建设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2007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年初，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SSS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公司选择了县名人花园居民小区作为试点，致力于无线低压集中抄表系统的自主研发，经过深入调研、精心策划、分步实施、总结提炼，全面完成了此项任务，并进入了实用化运行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三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531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536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41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46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50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现场试验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52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55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59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61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机动车辆在启动时，高压包产生的高频电磁波可能会对正在收发的信号产生干扰，但这不是永久性的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）对其它无线通讯设备如对讲机、手机、小灵通等干扰因素的试验，表明此类设备对系统无线信号不构成干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Verdana"/>
                <a:ea typeface="黑体"/>
              </a:rPr>
              <a:t>是非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7" dur="3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"/>
                            </p:stCondLst>
                            <p:childTnLst>
                              <p:par>
                                <p:cTn id="9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7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600"/>
                            </p:stCondLst>
                            <p:childTnLst>
                              <p:par>
                                <p:cTn id="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3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900"/>
                            </p:stCondLst>
                            <p:childTnLst>
                              <p:par>
                                <p:cTn id="9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7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200"/>
                            </p:stCondLst>
                            <p:childTnLst>
                              <p:par>
                                <p:cTn id="9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四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569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574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579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584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空气特性发生变化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588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相关资料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590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593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597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599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经查阅有关资料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地面受日照后放出的热量使低层大气受热膨胀，空气密度不均匀，于是产生了对流。空气中的各种成分、气压、温湿度会相应变化，导致电波在传输过程中被吸收、反射、折射和散射，产生衰减，这便是天气干扰所在，但属于不可抗拒因素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Verdana"/>
                <a:ea typeface="黑体"/>
              </a:rPr>
              <a:t>是非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2" dur="3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"/>
                            </p:stCondLst>
                            <p:childTnLst>
                              <p:par>
                                <p:cTn id="100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2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600"/>
                            </p:stCondLst>
                            <p:childTnLst>
                              <p:par>
                                <p:cTn id="10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3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2" dur="3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0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55720" y="2671920"/>
            <a:ext cx="7974000" cy="348264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48bdec">
                  <a:alpha val="54117"/>
                </a:srgbClr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五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664000" y="1170000"/>
            <a:ext cx="901080" cy="124920"/>
            <a:chOff x="2664000" y="1170000"/>
            <a:chExt cx="901080" cy="124920"/>
          </a:xfrm>
        </p:grpSpPr>
        <p:sp>
          <p:nvSpPr>
            <p:cNvPr id="607" name=""/>
            <p:cNvSpPr/>
            <p:nvPr/>
          </p:nvSpPr>
          <p:spPr>
            <a:xfrm>
              <a:off x="266400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50400" y="1170720"/>
              <a:ext cx="7470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0136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327560" y="1170000"/>
            <a:ext cx="901080" cy="124920"/>
            <a:chOff x="4327560" y="1170000"/>
            <a:chExt cx="901080" cy="124920"/>
          </a:xfrm>
        </p:grpSpPr>
        <p:sp>
          <p:nvSpPr>
            <p:cNvPr id="612" name=""/>
            <p:cNvSpPr/>
            <p:nvPr/>
          </p:nvSpPr>
          <p:spPr>
            <a:xfrm>
              <a:off x="4327560" y="1170000"/>
              <a:ext cx="1519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13960" y="1170720"/>
              <a:ext cx="74736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92200" y="1171800"/>
              <a:ext cx="13644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65280" y="1211040"/>
              <a:ext cx="3816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992920" y="1170000"/>
            <a:ext cx="1178640" cy="124920"/>
            <a:chOff x="5992920" y="1170000"/>
            <a:chExt cx="1178640" cy="124920"/>
          </a:xfrm>
        </p:grpSpPr>
        <p:sp>
          <p:nvSpPr>
            <p:cNvPr id="617" name=""/>
            <p:cNvSpPr/>
            <p:nvPr/>
          </p:nvSpPr>
          <p:spPr>
            <a:xfrm>
              <a:off x="5992920" y="1170000"/>
              <a:ext cx="198720" cy="12420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5960" y="1170720"/>
              <a:ext cx="977400" cy="124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93000" y="1171800"/>
              <a:ext cx="178560" cy="120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8400" y="1211040"/>
              <a:ext cx="50040" cy="352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471680" y="850680"/>
            <a:ext cx="1620720" cy="2241360"/>
            <a:chOff x="1471680" y="850680"/>
            <a:chExt cx="1620720" cy="2241360"/>
          </a:xfrm>
        </p:grpSpPr>
        <p:sp>
          <p:nvSpPr>
            <p:cNvPr id="622" name=""/>
            <p:cNvSpPr/>
            <p:nvPr/>
          </p:nvSpPr>
          <p:spPr>
            <a:xfrm>
              <a:off x="14716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3418800">
              <a:off x="1737360" y="996120"/>
              <a:ext cx="874440" cy="971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7462f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46440" y="1284120"/>
              <a:ext cx="768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要　因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3178080" y="789120"/>
            <a:ext cx="1563840" cy="2302920"/>
            <a:chOff x="3178080" y="789120"/>
            <a:chExt cx="1563840" cy="2302920"/>
          </a:xfrm>
        </p:grpSpPr>
        <p:sp>
          <p:nvSpPr>
            <p:cNvPr id="626" name=""/>
            <p:cNvSpPr/>
            <p:nvPr/>
          </p:nvSpPr>
          <p:spPr>
            <a:xfrm>
              <a:off x="3178080" y="2231640"/>
              <a:ext cx="156384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查相关资料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3197520" y="789120"/>
              <a:ext cx="1289880" cy="1261800"/>
              <a:chOff x="3197520" y="789120"/>
              <a:chExt cx="1289880" cy="1261800"/>
            </a:xfrm>
          </p:grpSpPr>
          <p:sp>
            <p:nvSpPr>
              <p:cNvPr id="628" name=""/>
              <p:cNvSpPr/>
              <p:nvPr/>
            </p:nvSpPr>
            <p:spPr>
              <a:xfrm rot="3418800">
                <a:off x="3404880" y="934920"/>
                <a:ext cx="874440" cy="969840"/>
              </a:xfrm>
              <a:prstGeom prst="rect">
                <a:avLst/>
              </a:prstGeom>
              <a:solidFill>
                <a:srgbClr val="48bdec"/>
              </a:soli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541680" y="1284120"/>
                <a:ext cx="768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方　法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4789440" y="789480"/>
            <a:ext cx="1682640" cy="2302560"/>
            <a:chOff x="4789440" y="789480"/>
            <a:chExt cx="1682640" cy="2302560"/>
          </a:xfrm>
        </p:grpSpPr>
        <p:sp>
          <p:nvSpPr>
            <p:cNvPr id="631" name=""/>
            <p:cNvSpPr/>
            <p:nvPr/>
          </p:nvSpPr>
          <p:spPr>
            <a:xfrm>
              <a:off x="4861080" y="2231640"/>
              <a:ext cx="161100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eb98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SS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3418800">
              <a:off x="4996800" y="93528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eb984d"/>
                </a:gs>
                <a:gs pos="100000">
                  <a:srgbClr val="6c4623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87880" y="1284120"/>
              <a:ext cx="767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责任人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441480" y="788760"/>
            <a:ext cx="1719720" cy="2303280"/>
            <a:chOff x="6441480" y="788760"/>
            <a:chExt cx="1719720" cy="2303280"/>
          </a:xfrm>
        </p:grpSpPr>
        <p:sp>
          <p:nvSpPr>
            <p:cNvPr id="635" name=""/>
            <p:cNvSpPr/>
            <p:nvPr/>
          </p:nvSpPr>
          <p:spPr>
            <a:xfrm>
              <a:off x="6540480" y="2231640"/>
              <a:ext cx="1620720" cy="860400"/>
            </a:xfrm>
            <a:prstGeom prst="roundRect">
              <a:avLst>
                <a:gd name="adj" fmla="val 13745"/>
              </a:avLst>
            </a:prstGeom>
            <a:solidFill>
              <a:srgbClr val="ffffff"/>
            </a:solidFill>
            <a:ln w="3816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07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8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日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6441480" y="788760"/>
              <a:ext cx="1290960" cy="1262520"/>
              <a:chOff x="6441480" y="788760"/>
              <a:chExt cx="1290960" cy="1262520"/>
            </a:xfrm>
          </p:grpSpPr>
          <p:sp>
            <p:nvSpPr>
              <p:cNvPr id="637" name=""/>
              <p:cNvSpPr/>
              <p:nvPr/>
            </p:nvSpPr>
            <p:spPr>
              <a:xfrm rot="3418800">
                <a:off x="6649560" y="934200"/>
                <a:ext cx="874440" cy="971280"/>
              </a:xfrm>
              <a:prstGeom prst="rect">
                <a:avLst/>
              </a:prstGeom>
              <a:gradFill rotWithShape="0">
                <a:gsLst>
                  <a:gs pos="0">
                    <a:srgbClr val="7e88e4"/>
                  </a:gs>
                  <a:gs pos="100000">
                    <a:srgbClr val="3a3e69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770520" y="1284120"/>
                <a:ext cx="767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完成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时间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890640" y="2992320"/>
            <a:ext cx="7902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我们所用的业余频段频率在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430.050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440.000MHz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之间。这个频率范围内，无线射频通信收发功率小、有效传输距离短，波的传播近似于光波。遇到建筑物或其他障碍物时，将出现明显的衰减，容易受到干扰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98720" y="586440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8bdec"/>
              </a:gs>
              <a:gs pos="50000">
                <a:srgbClr val="fefefe"/>
              </a:gs>
              <a:gs pos="100000">
                <a:srgbClr val="48bdec"/>
              </a:gs>
            </a:gsLst>
            <a:lin ang="10800000"/>
          </a:gradFill>
          <a:ln w="381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601"/>
                </a:solidFill>
                <a:latin typeface="Verdana"/>
                <a:ea typeface="黑体"/>
              </a:rPr>
              <a:t>是要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7" dur="3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00"/>
                            </p:stCondLst>
                            <p:childTnLst>
                              <p:par>
                                <p:cTn id="1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7" dur="3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"/>
                            </p:stCondLst>
                            <p:childTnLst>
                              <p:par>
                                <p:cTn id="10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7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900"/>
                            </p:stCondLst>
                            <p:childTnLst>
                              <p:par>
                                <p:cTn id="10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3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7" dur="3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要因确认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-2395440" y="1055160"/>
            <a:ext cx="4770360" cy="4824360"/>
            <a:chOff x="-2395440" y="1055160"/>
            <a:chExt cx="4770360" cy="4824360"/>
          </a:xfrm>
        </p:grpSpPr>
        <p:sp>
          <p:nvSpPr>
            <p:cNvPr id="645" name=""/>
            <p:cNvSpPr/>
            <p:nvPr/>
          </p:nvSpPr>
          <p:spPr>
            <a:xfrm rot="5400000">
              <a:off x="-2422440" y="108180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dbdbdb"/>
                </a:gs>
                <a:gs pos="50000">
                  <a:srgbClr val="b2b2b2"/>
                </a:gs>
                <a:gs pos="100000">
                  <a:srgbClr val="dbdb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400000">
              <a:off x="-2019600" y="151488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447920" y="1428840"/>
            <a:ext cx="4736520" cy="507960"/>
            <a:chOff x="1447920" y="1428840"/>
            <a:chExt cx="4736520" cy="507960"/>
          </a:xfrm>
        </p:grpSpPr>
        <p:sp>
          <p:nvSpPr>
            <p:cNvPr id="648" name=""/>
            <p:cNvSpPr/>
            <p:nvPr/>
          </p:nvSpPr>
          <p:spPr>
            <a:xfrm>
              <a:off x="1765080" y="142884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天线安装不科学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1447920" y="1517760"/>
              <a:ext cx="380520" cy="380880"/>
              <a:chOff x="1447920" y="1517760"/>
              <a:chExt cx="380520" cy="380880"/>
            </a:xfrm>
          </p:grpSpPr>
          <p:sp>
            <p:nvSpPr>
              <p:cNvPr id="650" name=""/>
              <p:cNvSpPr/>
              <p:nvPr/>
            </p:nvSpPr>
            <p:spPr>
              <a:xfrm>
                <a:off x="1447920" y="1517760"/>
                <a:ext cx="3805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469520" y="1539000"/>
                <a:ext cx="33696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489320" y="1559160"/>
                <a:ext cx="297360" cy="2980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08760" y="1578600"/>
                <a:ext cx="258120" cy="25884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981080" y="2198520"/>
            <a:ext cx="4724280" cy="507960"/>
            <a:chOff x="1981080" y="2198520"/>
            <a:chExt cx="4724280" cy="507960"/>
          </a:xfrm>
        </p:grpSpPr>
        <p:sp>
          <p:nvSpPr>
            <p:cNvPr id="657" name=""/>
            <p:cNvSpPr/>
            <p:nvPr/>
          </p:nvSpPr>
          <p:spPr>
            <a:xfrm>
              <a:off x="2286000" y="219852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小区内电磁干扰源较多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1981080" y="2304720"/>
              <a:ext cx="380880" cy="381240"/>
              <a:chOff x="1981080" y="2304720"/>
              <a:chExt cx="380880" cy="381240"/>
            </a:xfrm>
          </p:grpSpPr>
          <p:sp>
            <p:nvSpPr>
              <p:cNvPr id="659" name=""/>
              <p:cNvSpPr/>
              <p:nvPr/>
            </p:nvSpPr>
            <p:spPr>
              <a:xfrm>
                <a:off x="1981080" y="230472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02680" y="232596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22480" y="234612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041920" y="236556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2133720" y="3067200"/>
            <a:ext cx="4724280" cy="507960"/>
            <a:chOff x="2133720" y="3067200"/>
            <a:chExt cx="4724280" cy="507960"/>
          </a:xfrm>
        </p:grpSpPr>
        <p:sp>
          <p:nvSpPr>
            <p:cNvPr id="666" name=""/>
            <p:cNvSpPr/>
            <p:nvPr/>
          </p:nvSpPr>
          <p:spPr>
            <a:xfrm>
              <a:off x="2438640" y="30672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抄表方式不合理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133720" y="3143520"/>
              <a:ext cx="380880" cy="380880"/>
              <a:chOff x="2133720" y="3143520"/>
              <a:chExt cx="380880" cy="380880"/>
            </a:xfrm>
          </p:grpSpPr>
          <p:sp>
            <p:nvSpPr>
              <p:cNvPr id="668" name=""/>
              <p:cNvSpPr/>
              <p:nvPr/>
            </p:nvSpPr>
            <p:spPr>
              <a:xfrm>
                <a:off x="2133720" y="314352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55320" y="316476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75120" y="318492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194560" y="320436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1981080" y="3879720"/>
            <a:ext cx="4756320" cy="507960"/>
            <a:chOff x="1981080" y="3879720"/>
            <a:chExt cx="4756320" cy="507960"/>
          </a:xfrm>
        </p:grpSpPr>
        <p:sp>
          <p:nvSpPr>
            <p:cNvPr id="675" name=""/>
            <p:cNvSpPr/>
            <p:nvPr/>
          </p:nvSpPr>
          <p:spPr>
            <a:xfrm>
              <a:off x="2317680" y="387972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空气特性发生变化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981080" y="3981240"/>
              <a:ext cx="380880" cy="381240"/>
              <a:chOff x="1981080" y="3981240"/>
              <a:chExt cx="380880" cy="381240"/>
            </a:xfrm>
          </p:grpSpPr>
          <p:sp>
            <p:nvSpPr>
              <p:cNvPr id="677" name=""/>
              <p:cNvSpPr/>
              <p:nvPr/>
            </p:nvSpPr>
            <p:spPr>
              <a:xfrm>
                <a:off x="1981080" y="3981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002680" y="4002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022480" y="4022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041920" y="4042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"/>
          <p:cNvGrpSpPr/>
          <p:nvPr/>
        </p:nvGrpSpPr>
        <p:grpSpPr>
          <a:xfrm>
            <a:off x="1657440" y="4707000"/>
            <a:ext cx="4717440" cy="507960"/>
            <a:chOff x="1657440" y="4707000"/>
            <a:chExt cx="4717440" cy="507960"/>
          </a:xfrm>
        </p:grpSpPr>
        <p:sp>
          <p:nvSpPr>
            <p:cNvPr id="684" name=""/>
            <p:cNvSpPr/>
            <p:nvPr/>
          </p:nvSpPr>
          <p:spPr>
            <a:xfrm>
              <a:off x="1955520" y="470700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射频通讯收发功率小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1657440" y="4756320"/>
              <a:ext cx="355320" cy="380880"/>
              <a:chOff x="1657440" y="4756320"/>
              <a:chExt cx="355320" cy="380880"/>
            </a:xfrm>
          </p:grpSpPr>
          <p:sp>
            <p:nvSpPr>
              <p:cNvPr id="686" name=""/>
              <p:cNvSpPr/>
              <p:nvPr/>
            </p:nvSpPr>
            <p:spPr>
              <a:xfrm>
                <a:off x="1657440" y="4756320"/>
                <a:ext cx="35532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77600" y="4777560"/>
                <a:ext cx="31464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6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5960" y="4797720"/>
                <a:ext cx="277560" cy="29808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1b5236"/>
                  </a:gs>
                  <a:gs pos="50000">
                    <a:srgbClr val="339966"/>
                  </a:gs>
                  <a:gs pos="100000">
                    <a:srgbClr val="1b523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14320" y="4817160"/>
                <a:ext cx="241200" cy="25884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133200" y="282744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末端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54800" y="1233360"/>
            <a:ext cx="2052720" cy="44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经过要因确认得出以下三个为主要因素，分别是：天线安装不科学、抄表时间不合理和射频通讯收发功率小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33200" y="2838600"/>
            <a:ext cx="11178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主要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黑体"/>
                <a:ea typeface="黑体"/>
              </a:rPr>
              <a:t>因素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650"/>
                            </p:stCondLst>
                            <p:childTnLst>
                              <p:par>
                                <p:cTn id="11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150"/>
                            </p:stCondLst>
                            <p:childTnLst>
                              <p:par>
                                <p:cTn id="115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150"/>
                            </p:stCondLst>
                            <p:childTnLst>
                              <p:par>
                                <p:cTn id="11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650"/>
                            </p:stCondLst>
                            <p:childTnLst>
                              <p:par>
                                <p:cTn id="116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6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150"/>
                            </p:stCondLst>
                            <p:childTnLst>
                              <p:par>
                                <p:cTn id="1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3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650"/>
                            </p:stCondLst>
                            <p:childTnLst>
                              <p:par>
                                <p:cTn id="1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制定对策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299880" y="1504800"/>
          <a:ext cx="9388440" cy="4761000"/>
        </p:xfrm>
        <a:graphic>
          <a:graphicData uri="http://schemas.openxmlformats.org/drawingml/2006/table">
            <a:tbl>
              <a:tblPr/>
              <a:tblGrid>
                <a:gridCol w="606600"/>
                <a:gridCol w="819000"/>
                <a:gridCol w="1434960"/>
                <a:gridCol w="1778040"/>
                <a:gridCol w="1803600"/>
                <a:gridCol w="912600"/>
                <a:gridCol w="827280"/>
                <a:gridCol w="1206360"/>
              </a:tblGrid>
              <a:tr h="72864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要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目　标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措施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负责人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完成时间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/>
                    </a:solidFill>
                  </a:tcPr>
                </a:tc>
              </a:tr>
              <a:tr h="63648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射频通讯收发功率小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增大收发功率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在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00m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范围内能够有效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适当提高装置供电电压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远动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机房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63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提高稳定性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使通信模块工作稳定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改进电路，增加看门狗电路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维修室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5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950760">
                <a:tc rowSpan="2"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 rowSpan="2"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天线安装不科学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改进安装方法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保证天线和装置之间有着良好的接触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安装时进行测试，并保证有一定的反射面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名人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花园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95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实现信号的接力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能够穿越阻档和屏蔽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增加中继模块，实现信号的接力传输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维修室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  <a:tr h="860400"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抄表时间不合理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新设置抄表时间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确保抄收率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0﹪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设定干扰源较小的时间段抄表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信息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机房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SSS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007-05-10</a:t>
                      </a:r>
                      <a:endParaRPr b="0" lang="en-US" sz="17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8" name=""/>
          <p:cNvSpPr/>
          <p:nvPr/>
        </p:nvSpPr>
        <p:spPr>
          <a:xfrm>
            <a:off x="314280" y="835200"/>
            <a:ext cx="9088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综上所述，按“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5W1H”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法制定对策表如下：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701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703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707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709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11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713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715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719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721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23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Do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实施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817560" y="2071800"/>
            <a:ext cx="8091360" cy="417168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d1effb"/>
              </a:gs>
            </a:gsLst>
            <a:lin ang="135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000" y="89964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为使实施的全过程的可控和在控，小组经讨论制定实施过程的日程计划安排，绘制成箭条图如下：</a:t>
            </a:r>
            <a:endParaRPr b="1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6575400"/>
            <a:ext cx="4959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30600" y="3948120"/>
            <a:ext cx="787320" cy="519120"/>
            <a:chOff x="2730600" y="3948120"/>
            <a:chExt cx="787320" cy="519120"/>
          </a:xfrm>
        </p:grpSpPr>
        <p:sp>
          <p:nvSpPr>
            <p:cNvPr id="729" name=""/>
            <p:cNvSpPr/>
            <p:nvPr/>
          </p:nvSpPr>
          <p:spPr>
            <a:xfrm>
              <a:off x="2730600" y="419256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74880" y="394812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方案确定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90880" y="422100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52260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908520" y="3951360"/>
            <a:ext cx="787320" cy="519120"/>
            <a:chOff x="3908520" y="3951360"/>
            <a:chExt cx="787320" cy="519120"/>
          </a:xfrm>
        </p:grpSpPr>
        <p:sp>
          <p:nvSpPr>
            <p:cNvPr id="734" name=""/>
            <p:cNvSpPr/>
            <p:nvPr/>
          </p:nvSpPr>
          <p:spPr>
            <a:xfrm>
              <a:off x="3908520" y="419580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52800" y="395136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整改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68800" y="422424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70052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086440" y="3951360"/>
            <a:ext cx="1180800" cy="519120"/>
            <a:chOff x="5086440" y="3951360"/>
            <a:chExt cx="1180800" cy="519120"/>
          </a:xfrm>
        </p:grpSpPr>
        <p:sp>
          <p:nvSpPr>
            <p:cNvPr id="739" name=""/>
            <p:cNvSpPr/>
            <p:nvPr/>
          </p:nvSpPr>
          <p:spPr>
            <a:xfrm>
              <a:off x="5086440" y="4195800"/>
              <a:ext cx="11808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52680" y="395136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天线安装合理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76680" y="422424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625464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5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178840" y="402444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8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554120" y="3787920"/>
            <a:ext cx="787320" cy="671400"/>
            <a:chOff x="1554120" y="3787920"/>
            <a:chExt cx="787320" cy="671400"/>
          </a:xfrm>
        </p:grpSpPr>
        <p:sp>
          <p:nvSpPr>
            <p:cNvPr id="745" name=""/>
            <p:cNvSpPr/>
            <p:nvPr/>
          </p:nvSpPr>
          <p:spPr>
            <a:xfrm>
              <a:off x="1554120" y="4184640"/>
              <a:ext cx="78732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98400" y="3787920"/>
              <a:ext cx="698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按对策表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分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14400" y="4213440"/>
              <a:ext cx="26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2346480" y="40132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79360" y="39909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728800" y="2433600"/>
            <a:ext cx="787320" cy="519120"/>
            <a:chOff x="2728800" y="2433600"/>
            <a:chExt cx="787320" cy="519120"/>
          </a:xfrm>
        </p:grpSpPr>
        <p:sp>
          <p:nvSpPr>
            <p:cNvPr id="751" name=""/>
            <p:cNvSpPr/>
            <p:nvPr/>
          </p:nvSpPr>
          <p:spPr>
            <a:xfrm>
              <a:off x="2728800" y="26780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773080" y="2433600"/>
              <a:ext cx="698400" cy="519120"/>
              <a:chOff x="2773080" y="2433600"/>
              <a:chExt cx="698400" cy="519120"/>
            </a:xfrm>
          </p:grpSpPr>
          <p:sp>
            <p:nvSpPr>
              <p:cNvPr id="753" name=""/>
              <p:cNvSpPr/>
              <p:nvPr/>
            </p:nvSpPr>
            <p:spPr>
              <a:xfrm>
                <a:off x="2773080" y="2433600"/>
                <a:ext cx="6984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66"/>
                    </a:solidFill>
                    <a:latin typeface="宋体"/>
                    <a:ea typeface="宋体"/>
                  </a:rPr>
                  <a:t>计算分析</a:t>
                </a:r>
                <a:endParaRPr b="0" lang="en-US" sz="12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89080" y="2706480"/>
                <a:ext cx="26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10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"/>
          <p:cNvSpPr/>
          <p:nvPr/>
        </p:nvSpPr>
        <p:spPr>
          <a:xfrm>
            <a:off x="352116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3906720" y="2433600"/>
            <a:ext cx="787320" cy="519120"/>
            <a:chOff x="3906720" y="2433600"/>
            <a:chExt cx="787320" cy="519120"/>
          </a:xfrm>
        </p:grpSpPr>
        <p:sp>
          <p:nvSpPr>
            <p:cNvPr id="757" name=""/>
            <p:cNvSpPr/>
            <p:nvPr/>
          </p:nvSpPr>
          <p:spPr>
            <a:xfrm>
              <a:off x="3906720" y="26780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951000" y="24336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现场调试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67000" y="27064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69908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084640" y="2433600"/>
            <a:ext cx="1158480" cy="519120"/>
            <a:chOff x="5084640" y="2433600"/>
            <a:chExt cx="1158480" cy="519120"/>
          </a:xfrm>
        </p:grpSpPr>
        <p:sp>
          <p:nvSpPr>
            <p:cNvPr id="762" name=""/>
            <p:cNvSpPr/>
            <p:nvPr/>
          </p:nvSpPr>
          <p:spPr>
            <a:xfrm>
              <a:off x="5084640" y="2678040"/>
              <a:ext cx="115848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49800" y="2433600"/>
              <a:ext cx="1028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功率增大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67680" y="2706480"/>
              <a:ext cx="39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6254640" y="2506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6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727360" y="5462640"/>
            <a:ext cx="787320" cy="519120"/>
            <a:chOff x="2727360" y="5462640"/>
            <a:chExt cx="787320" cy="519120"/>
          </a:xfrm>
        </p:grpSpPr>
        <p:sp>
          <p:nvSpPr>
            <p:cNvPr id="767" name=""/>
            <p:cNvSpPr/>
            <p:nvPr/>
          </p:nvSpPr>
          <p:spPr>
            <a:xfrm>
              <a:off x="2727360" y="570708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71640" y="546264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调查分析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87640" y="573552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519360" y="553572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722680" y="2684160"/>
            <a:ext cx="0" cy="3019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709720" y="4705200"/>
            <a:ext cx="787320" cy="519120"/>
            <a:chOff x="2709720" y="4705200"/>
            <a:chExt cx="787320" cy="519120"/>
          </a:xfrm>
        </p:grpSpPr>
        <p:sp>
          <p:nvSpPr>
            <p:cNvPr id="773" name=""/>
            <p:cNvSpPr/>
            <p:nvPr/>
          </p:nvSpPr>
          <p:spPr>
            <a:xfrm>
              <a:off x="2709720" y="49496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754000" y="47052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现场勘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70000" y="49780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502080" y="475452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709720" y="3191040"/>
            <a:ext cx="787320" cy="519120"/>
            <a:chOff x="2709720" y="3191040"/>
            <a:chExt cx="787320" cy="519120"/>
          </a:xfrm>
        </p:grpSpPr>
        <p:sp>
          <p:nvSpPr>
            <p:cNvPr id="778" name=""/>
            <p:cNvSpPr/>
            <p:nvPr/>
          </p:nvSpPr>
          <p:spPr>
            <a:xfrm>
              <a:off x="2709720" y="343548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754000" y="319104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电路设计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70000" y="346392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3502080" y="32637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7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884760" y="3198960"/>
            <a:ext cx="787320" cy="519120"/>
            <a:chOff x="3884760" y="3198960"/>
            <a:chExt cx="787320" cy="519120"/>
          </a:xfrm>
        </p:grpSpPr>
        <p:sp>
          <p:nvSpPr>
            <p:cNvPr id="783" name=""/>
            <p:cNvSpPr/>
            <p:nvPr/>
          </p:nvSpPr>
          <p:spPr>
            <a:xfrm>
              <a:off x="3884760" y="344340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29040" y="319896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改造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45040" y="347184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676760" y="3271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5062680" y="3198960"/>
            <a:ext cx="1180440" cy="519120"/>
            <a:chOff x="5062680" y="3198960"/>
            <a:chExt cx="1180440" cy="519120"/>
          </a:xfrm>
        </p:grpSpPr>
        <p:sp>
          <p:nvSpPr>
            <p:cNvPr id="788" name=""/>
            <p:cNvSpPr/>
            <p:nvPr/>
          </p:nvSpPr>
          <p:spPr>
            <a:xfrm>
              <a:off x="5062680" y="3443400"/>
              <a:ext cx="118044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28920" y="3198960"/>
              <a:ext cx="1047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提高稳定性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52920" y="347184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254640" y="32716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7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895560" y="4697280"/>
            <a:ext cx="787320" cy="519120"/>
            <a:chOff x="3895560" y="4697280"/>
            <a:chExt cx="787320" cy="519120"/>
          </a:xfrm>
        </p:grpSpPr>
        <p:sp>
          <p:nvSpPr>
            <p:cNvPr id="793" name=""/>
            <p:cNvSpPr/>
            <p:nvPr/>
          </p:nvSpPr>
          <p:spPr>
            <a:xfrm>
              <a:off x="3895560" y="494172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939840" y="469728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组织施工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5840" y="497016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4687920" y="47703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073480" y="4697280"/>
            <a:ext cx="1180800" cy="519120"/>
            <a:chOff x="5073480" y="4697280"/>
            <a:chExt cx="1180800" cy="519120"/>
          </a:xfrm>
        </p:grpSpPr>
        <p:sp>
          <p:nvSpPr>
            <p:cNvPr id="798" name=""/>
            <p:cNvSpPr/>
            <p:nvPr/>
          </p:nvSpPr>
          <p:spPr>
            <a:xfrm>
              <a:off x="5073480" y="4941720"/>
              <a:ext cx="11808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39720" y="469728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接力传输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63720" y="497016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6254640" y="477036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4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3895560" y="5473800"/>
            <a:ext cx="787320" cy="519120"/>
            <a:chOff x="3895560" y="5473800"/>
            <a:chExt cx="787320" cy="519120"/>
          </a:xfrm>
        </p:grpSpPr>
        <p:sp>
          <p:nvSpPr>
            <p:cNvPr id="803" name=""/>
            <p:cNvSpPr/>
            <p:nvPr/>
          </p:nvSpPr>
          <p:spPr>
            <a:xfrm>
              <a:off x="3895560" y="5718240"/>
              <a:ext cx="78732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939840" y="5473800"/>
              <a:ext cx="69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系统调试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155840" y="5746680"/>
              <a:ext cx="26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4687920" y="55468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黑体"/>
                <a:ea typeface="黑体"/>
              </a:rPr>
              <a:t>8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073480" y="5473800"/>
            <a:ext cx="1180800" cy="519120"/>
            <a:chOff x="5073480" y="5473800"/>
            <a:chExt cx="1180800" cy="519120"/>
          </a:xfrm>
        </p:grpSpPr>
        <p:sp>
          <p:nvSpPr>
            <p:cNvPr id="808" name=""/>
            <p:cNvSpPr/>
            <p:nvPr/>
          </p:nvSpPr>
          <p:spPr>
            <a:xfrm>
              <a:off x="5073480" y="5718240"/>
              <a:ext cx="1180800" cy="1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39720" y="547380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66"/>
                  </a:solidFill>
                  <a:latin typeface="宋体"/>
                  <a:ea typeface="宋体"/>
                </a:rPr>
                <a:t>实现设定功能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63720" y="574668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6254640" y="5546880"/>
            <a:ext cx="360360" cy="3603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黑体"/>
                <a:ea typeface="黑体"/>
              </a:rPr>
              <a:t>13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621480" y="2678040"/>
            <a:ext cx="360360" cy="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21480" y="344340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621480" y="4208400"/>
            <a:ext cx="360360" cy="18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621480" y="497376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621480" y="5740560"/>
            <a:ext cx="360360" cy="14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975360" y="2663640"/>
            <a:ext cx="0" cy="30826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969240" y="3962520"/>
            <a:ext cx="1180800" cy="519120"/>
            <a:chOff x="6969240" y="3962520"/>
            <a:chExt cx="1180800" cy="519120"/>
          </a:xfrm>
        </p:grpSpPr>
        <p:sp>
          <p:nvSpPr>
            <p:cNvPr id="819" name=""/>
            <p:cNvSpPr/>
            <p:nvPr/>
          </p:nvSpPr>
          <p:spPr>
            <a:xfrm>
              <a:off x="6969240" y="4206960"/>
              <a:ext cx="1180800" cy="18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35480" y="3962520"/>
              <a:ext cx="104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e50601"/>
                  </a:solidFill>
                  <a:latin typeface="宋体"/>
                  <a:ea typeface="宋体"/>
                </a:rPr>
                <a:t>实现目标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59480" y="4235400"/>
              <a:ext cx="40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824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23720" y="835200"/>
            <a:ext cx="2657160" cy="899280"/>
            <a:chOff x="423720" y="835200"/>
            <a:chExt cx="2657160" cy="899280"/>
          </a:xfrm>
        </p:grpSpPr>
        <p:grpSp>
          <p:nvGrpSpPr>
            <p:cNvPr id="827" name=""/>
            <p:cNvGrpSpPr/>
            <p:nvPr/>
          </p:nvGrpSpPr>
          <p:grpSpPr>
            <a:xfrm>
              <a:off x="423720" y="911160"/>
              <a:ext cx="2657160" cy="823320"/>
              <a:chOff x="423720" y="911160"/>
              <a:chExt cx="2657160" cy="823320"/>
            </a:xfrm>
          </p:grpSpPr>
          <p:sp>
            <p:nvSpPr>
              <p:cNvPr id="828" name=""/>
              <p:cNvSpPr/>
              <p:nvPr/>
            </p:nvSpPr>
            <p:spPr>
              <a:xfrm>
                <a:off x="423720" y="91116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64960" y="91116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3720" y="91116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423720" y="835200"/>
              <a:ext cx="2657160" cy="861480"/>
              <a:chOff x="423720" y="835200"/>
              <a:chExt cx="2657160" cy="861480"/>
            </a:xfrm>
          </p:grpSpPr>
          <p:sp>
            <p:nvSpPr>
              <p:cNvPr id="832" name=""/>
              <p:cNvSpPr/>
              <p:nvPr/>
            </p:nvSpPr>
            <p:spPr>
              <a:xfrm>
                <a:off x="423720" y="83520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64960" y="83520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23720" y="83520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>
            <a:off x="1165320" y="1062000"/>
            <a:ext cx="176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一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95640" y="852480"/>
            <a:ext cx="11509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9708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08040" y="105084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839" name=""/>
          <p:cNvSpPr/>
          <p:nvPr/>
        </p:nvSpPr>
        <p:spPr>
          <a:xfrm>
            <a:off x="437688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37688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4192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64192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875640" y="852480"/>
            <a:ext cx="1150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87564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95000" y="1874880"/>
            <a:ext cx="8901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适当提高采集器供电压。无线数据模块的工作电压范围为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12V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，下图测试结果表明：适当增加无线数据模块工作电压可以增强发射功率，有效延伸发射距离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6869160" y="865080"/>
            <a:ext cx="36000" cy="828720"/>
            <a:chOff x="6869160" y="865080"/>
            <a:chExt cx="36000" cy="828720"/>
          </a:xfrm>
        </p:grpSpPr>
        <p:sp>
          <p:nvSpPr>
            <p:cNvPr id="849" name=""/>
            <p:cNvSpPr/>
            <p:nvPr/>
          </p:nvSpPr>
          <p:spPr>
            <a:xfrm>
              <a:off x="686916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7456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586480" y="865080"/>
            <a:ext cx="36000" cy="828720"/>
            <a:chOff x="5586480" y="865080"/>
            <a:chExt cx="36000" cy="828720"/>
          </a:xfrm>
        </p:grpSpPr>
        <p:sp>
          <p:nvSpPr>
            <p:cNvPr id="852" name=""/>
            <p:cNvSpPr/>
            <p:nvPr/>
          </p:nvSpPr>
          <p:spPr>
            <a:xfrm>
              <a:off x="558648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9188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303800" y="865080"/>
            <a:ext cx="36000" cy="828720"/>
            <a:chOff x="4303800" y="865080"/>
            <a:chExt cx="36000" cy="828720"/>
          </a:xfrm>
        </p:grpSpPr>
        <p:sp>
          <p:nvSpPr>
            <p:cNvPr id="855" name=""/>
            <p:cNvSpPr/>
            <p:nvPr/>
          </p:nvSpPr>
          <p:spPr>
            <a:xfrm>
              <a:off x="4303800" y="865080"/>
              <a:ext cx="30600" cy="82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09200" y="865080"/>
              <a:ext cx="30600" cy="8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8186760" y="853920"/>
            <a:ext cx="1150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8186760" y="987480"/>
            <a:ext cx="11509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8148600" y="851040"/>
            <a:ext cx="36360" cy="828360"/>
            <a:chOff x="8148600" y="851040"/>
            <a:chExt cx="36360" cy="828360"/>
          </a:xfrm>
        </p:grpSpPr>
        <p:sp>
          <p:nvSpPr>
            <p:cNvPr id="860" name=""/>
            <p:cNvSpPr/>
            <p:nvPr/>
          </p:nvSpPr>
          <p:spPr>
            <a:xfrm>
              <a:off x="8148600" y="851040"/>
              <a:ext cx="30960" cy="82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54000" y="851040"/>
              <a:ext cx="30960" cy="82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1332000" y="3286080"/>
            <a:ext cx="73134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0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4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4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4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400"/>
                            </p:stCondLst>
                            <p:childTnLst>
                              <p:par>
                                <p:cTn id="1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4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800"/>
                            </p:stCondLst>
                            <p:childTnLst>
                              <p:par>
                                <p:cTn id="1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4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4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4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1" dur="4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360"/>
                            </p:stCondLst>
                            <p:childTnLst>
                              <p:par>
                                <p:cTn id="1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4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4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4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4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760"/>
                            </p:stCondLst>
                            <p:childTnLst>
                              <p:par>
                                <p:cTn id="1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4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4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4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4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4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4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4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4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4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4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4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4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4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4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4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4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4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4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4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4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160"/>
                            </p:stCondLst>
                            <p:childTnLst>
                              <p:par>
                                <p:cTn id="1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4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4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4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4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560"/>
                            </p:stCondLst>
                            <p:childTnLst>
                              <p:par>
                                <p:cTn id="1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60"/>
                            </p:stCondLst>
                            <p:childTnLst>
                              <p:par>
                                <p:cTn id="1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360"/>
                            </p:stCondLst>
                            <p:childTnLst>
                              <p:par>
                                <p:cTn id="1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3660"/>
                            </p:stCondLst>
                            <p:childTnLst>
                              <p:par>
                                <p:cTn id="1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426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560"/>
                            </p:stCondLst>
                            <p:childTnLst>
                              <p:par>
                                <p:cTn id="1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60"/>
                            </p:stCondLst>
                            <p:childTnLst>
                              <p:par>
                                <p:cTn id="1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3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865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309564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9708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37688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4192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64192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75640" y="852480"/>
            <a:ext cx="122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1000080"/>
            <a:ext cx="1223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4303800" y="851040"/>
            <a:ext cx="36000" cy="863640"/>
            <a:chOff x="4303800" y="851040"/>
            <a:chExt cx="36000" cy="863640"/>
          </a:xfrm>
        </p:grpSpPr>
        <p:sp>
          <p:nvSpPr>
            <p:cNvPr id="877" name=""/>
            <p:cNvSpPr/>
            <p:nvPr/>
          </p:nvSpPr>
          <p:spPr>
            <a:xfrm>
              <a:off x="430380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0920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8186760" y="85392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18676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35276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69160" y="851040"/>
            <a:ext cx="36000" cy="863640"/>
            <a:chOff x="6869160" y="851040"/>
            <a:chExt cx="36000" cy="863640"/>
          </a:xfrm>
        </p:grpSpPr>
        <p:sp>
          <p:nvSpPr>
            <p:cNvPr id="883" name=""/>
            <p:cNvSpPr/>
            <p:nvPr/>
          </p:nvSpPr>
          <p:spPr>
            <a:xfrm>
              <a:off x="68691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745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8148600" y="851040"/>
            <a:ext cx="36360" cy="863640"/>
            <a:chOff x="8148600" y="851040"/>
            <a:chExt cx="36360" cy="863640"/>
          </a:xfrm>
        </p:grpSpPr>
        <p:sp>
          <p:nvSpPr>
            <p:cNvPr id="886" name=""/>
            <p:cNvSpPr/>
            <p:nvPr/>
          </p:nvSpPr>
          <p:spPr>
            <a:xfrm>
              <a:off x="8148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154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586480" y="851040"/>
            <a:ext cx="36000" cy="863640"/>
            <a:chOff x="5586480" y="851040"/>
            <a:chExt cx="36000" cy="863640"/>
          </a:xfrm>
        </p:grpSpPr>
        <p:sp>
          <p:nvSpPr>
            <p:cNvPr id="889" name=""/>
            <p:cNvSpPr/>
            <p:nvPr/>
          </p:nvSpPr>
          <p:spPr>
            <a:xfrm>
              <a:off x="558648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9188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376880" y="100008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893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894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898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二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63320" y="1928880"/>
            <a:ext cx="8915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改进装置的电源部分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</a:rPr>
              <a:t>提高自身的抗干扰能力。无线射频收发系统对电源噪声很敏感，因此设计时采用了无线射频部分和其它电路分开供电的方法。同时在各部分电源上加装滤波器或稳压器，以减少电源噪声对芯片的干扰。另外，对芯片使用电源监控及看门狗电路，以便大幅度提高整个电路的抗干扰性能。</a:t>
            </a:r>
            <a:endParaRPr b="1" lang="en-US" sz="2400" spc="-1" strike="noStrike">
              <a:solidFill>
                <a:srgbClr val="2b166e"/>
              </a:solidFill>
              <a:latin typeface="宋体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838160" y="3705120"/>
            <a:ext cx="5569200" cy="2589480"/>
            <a:chOff x="1838160" y="3705120"/>
            <a:chExt cx="5569200" cy="2589480"/>
          </a:xfrm>
        </p:grpSpPr>
        <p:sp>
          <p:nvSpPr>
            <p:cNvPr id="905" name=""/>
            <p:cNvSpPr/>
            <p:nvPr/>
          </p:nvSpPr>
          <p:spPr>
            <a:xfrm>
              <a:off x="2847600" y="4028760"/>
              <a:ext cx="0" cy="66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854080" y="4778280"/>
              <a:ext cx="612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39960" y="468936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39960" y="478476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65200" y="5172120"/>
              <a:ext cx="14605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28800" y="548352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28800" y="5477040"/>
              <a:ext cx="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25400" y="5985360"/>
              <a:ext cx="12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47600" y="59918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54080" y="5769360"/>
              <a:ext cx="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52560" y="6294600"/>
              <a:ext cx="203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71320" y="5064480"/>
              <a:ext cx="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71320" y="414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5200" y="4162320"/>
              <a:ext cx="47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69800" y="4365720"/>
              <a:ext cx="101520" cy="20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71320" y="45752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25400" y="5978880"/>
              <a:ext cx="12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5680" y="5978880"/>
              <a:ext cx="243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91360" y="4568760"/>
              <a:ext cx="0" cy="14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99400" y="4575240"/>
              <a:ext cx="29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92920" y="486108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400880" y="3837960"/>
              <a:ext cx="6120" cy="10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5254560" y="3850920"/>
              <a:ext cx="215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35480" y="4270320"/>
              <a:ext cx="81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54560" y="4575240"/>
              <a:ext cx="80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49920" y="3971880"/>
              <a:ext cx="0" cy="9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749920" y="4880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749920" y="396540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99400" y="4270320"/>
              <a:ext cx="29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85240" y="3965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261040" y="547704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05880" y="5166000"/>
              <a:ext cx="11412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20000" y="51721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45320" y="5172120"/>
              <a:ext cx="20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38840" y="5083200"/>
              <a:ext cx="0" cy="196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63800" y="58266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65680" y="5820120"/>
              <a:ext cx="0" cy="28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74920" y="5261400"/>
              <a:ext cx="2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71640" y="5382000"/>
              <a:ext cx="164880" cy="387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31920" y="5883840"/>
              <a:ext cx="393480" cy="20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25720" y="4988160"/>
              <a:ext cx="368280" cy="679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97400" y="3787560"/>
              <a:ext cx="857160" cy="186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048360" y="4066920"/>
              <a:ext cx="850680" cy="1212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82400" y="4689360"/>
              <a:ext cx="164880" cy="361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96840" y="3908160"/>
              <a:ext cx="122400" cy="122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96840" y="51087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6280" y="600444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C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21040" y="599796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0.1μF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62080" y="609336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0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50720" y="557244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0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051000" y="565524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47640" y="540720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38160" y="4861080"/>
              <a:ext cx="5270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kΩ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52280" y="467064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22120" y="43657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39960" y="37051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cc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68200" y="469584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22μF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12840" y="449892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C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666960" y="47530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74LS3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809800" y="445428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＋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38320" y="5185080"/>
              <a:ext cx="336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≥</a:t>
              </a: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346280" y="51912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ESE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67240" y="48103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89C5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53080" y="54072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53080" y="446724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753080" y="41688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753080" y="37936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P1.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143760" y="526140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X2504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54840" y="5045400"/>
              <a:ext cx="355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ss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461280" y="506448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04040" y="477216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CK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346800" y="44863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RESE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57920" y="4473720"/>
              <a:ext cx="6220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S0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550200" y="4130640"/>
              <a:ext cx="355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Vcc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730840" y="406044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730840" y="434016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30840" y="46195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12000" y="496260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45320" y="49561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912000" y="465768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6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12000" y="434016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7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912000" y="4066920"/>
              <a:ext cx="2221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8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6045120" y="4041720"/>
              <a:ext cx="279360" cy="272520"/>
              <a:chOff x="6045120" y="4041720"/>
              <a:chExt cx="279360" cy="272520"/>
            </a:xfrm>
          </p:grpSpPr>
          <p:sp>
            <p:nvSpPr>
              <p:cNvPr id="988" name=""/>
              <p:cNvSpPr/>
              <p:nvPr/>
            </p:nvSpPr>
            <p:spPr>
              <a:xfrm>
                <a:off x="6045120" y="413028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CS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45120" y="404172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—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062400" y="4670640"/>
              <a:ext cx="279720" cy="272520"/>
              <a:chOff x="6062400" y="4670640"/>
              <a:chExt cx="279720" cy="272520"/>
            </a:xfrm>
          </p:grpSpPr>
          <p:sp>
            <p:nvSpPr>
              <p:cNvPr id="991" name=""/>
              <p:cNvSpPr/>
              <p:nvPr/>
            </p:nvSpPr>
            <p:spPr>
              <a:xfrm>
                <a:off x="6062400" y="475920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WP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062760" y="4670640"/>
                <a:ext cx="27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—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0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4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4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4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4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560"/>
                            </p:stCondLst>
                            <p:childTnLst>
                              <p:par>
                                <p:cTn id="160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08" dur="4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1" dur="4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960"/>
                            </p:stCondLst>
                            <p:childTnLst>
                              <p:par>
                                <p:cTn id="16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5" dur="4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4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360"/>
                            </p:stCondLst>
                            <p:childTnLst>
                              <p:par>
                                <p:cTn id="1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860"/>
                            </p:stCondLst>
                            <p:childTnLst>
                              <p:par>
                                <p:cTn id="1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635200" y="852480"/>
            <a:ext cx="6929280" cy="865080"/>
            <a:chOff x="2635200" y="852480"/>
            <a:chExt cx="6929280" cy="865080"/>
          </a:xfrm>
        </p:grpSpPr>
        <p:sp>
          <p:nvSpPr>
            <p:cNvPr id="995" name=""/>
            <p:cNvSpPr/>
            <p:nvPr/>
          </p:nvSpPr>
          <p:spPr>
            <a:xfrm>
              <a:off x="2635200" y="852480"/>
              <a:ext cx="692928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83880" y="852480"/>
              <a:ext cx="674820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38480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38624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665680" y="8524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095640" y="84600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9564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875640" y="852480"/>
            <a:ext cx="122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875640" y="1003320"/>
            <a:ext cx="1223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92600" y="851040"/>
            <a:ext cx="36360" cy="863640"/>
            <a:chOff x="5592600" y="851040"/>
            <a:chExt cx="36360" cy="863640"/>
          </a:xfrm>
        </p:grpSpPr>
        <p:sp>
          <p:nvSpPr>
            <p:cNvPr id="1007" name=""/>
            <p:cNvSpPr/>
            <p:nvPr/>
          </p:nvSpPr>
          <p:spPr>
            <a:xfrm>
              <a:off x="5592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98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8186760" y="85392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18676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641920" y="85248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6869160" y="851040"/>
            <a:ext cx="36000" cy="863640"/>
            <a:chOff x="6869160" y="851040"/>
            <a:chExt cx="36000" cy="863640"/>
          </a:xfrm>
        </p:grpSpPr>
        <p:sp>
          <p:nvSpPr>
            <p:cNvPr id="1013" name=""/>
            <p:cNvSpPr/>
            <p:nvPr/>
          </p:nvSpPr>
          <p:spPr>
            <a:xfrm>
              <a:off x="68691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8745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8148600" y="851040"/>
            <a:ext cx="36360" cy="863640"/>
            <a:chOff x="8148600" y="851040"/>
            <a:chExt cx="36360" cy="863640"/>
          </a:xfrm>
        </p:grpSpPr>
        <p:sp>
          <p:nvSpPr>
            <p:cNvPr id="1016" name=""/>
            <p:cNvSpPr/>
            <p:nvPr/>
          </p:nvSpPr>
          <p:spPr>
            <a:xfrm>
              <a:off x="8148600" y="8510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154000" y="8510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341960" y="851040"/>
            <a:ext cx="36000" cy="863640"/>
            <a:chOff x="4341960" y="851040"/>
            <a:chExt cx="36000" cy="863640"/>
          </a:xfrm>
        </p:grpSpPr>
        <p:sp>
          <p:nvSpPr>
            <p:cNvPr id="1019" name=""/>
            <p:cNvSpPr/>
            <p:nvPr/>
          </p:nvSpPr>
          <p:spPr>
            <a:xfrm>
              <a:off x="4341960" y="85104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47360" y="85104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5665680" y="100332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1023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1024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三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63320" y="1928880"/>
            <a:ext cx="89154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改进天线安装方法，调整天线定向位置 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尽量避开钢筋混凝土墙以及金属防盗门等阻挡、屏蔽，远离同频率干扰设备。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5724360" y="3270240"/>
            <a:ext cx="2808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1700280" y="32702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4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4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4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4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60"/>
                            </p:stCondLst>
                            <p:childTnLst>
                              <p:par>
                                <p:cTn id="163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40" dur="4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3" dur="4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96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4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9" dur="4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360"/>
                            </p:stCondLst>
                            <p:childTnLst>
                              <p:par>
                                <p:cTn id="16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3" dur="500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860"/>
                            </p:stCondLst>
                            <p:childTnLst>
                              <p:par>
                                <p:cTn id="1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前　言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9" name=""/>
          <p:cNvSpPr/>
          <p:nvPr/>
        </p:nvSpPr>
        <p:spPr>
          <a:xfrm>
            <a:off x="407880" y="1782720"/>
            <a:ext cx="90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在项目实施中，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影响无线数据传输的各种干扰因素一直困惑着我们，抄收率达不到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  <a:ea typeface="宋体"/>
              </a:rPr>
              <a:t>，项目的可行性受到一定的置疑。为此我们把提高系统的抗干扰能力保证集抄系统的可靠、稳定运行作为首要解决的问题。正视困难，坚定信心，发挥集体智慧，探索问题的根源和寻求解决问题的办法成为本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QC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  <a:ea typeface="宋体"/>
              </a:rPr>
              <a:t>小组成员的共识。</a:t>
            </a:r>
            <a:endParaRPr b="0" lang="en-US" sz="3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2629080" y="855720"/>
            <a:ext cx="6928920" cy="865080"/>
            <a:chOff x="2629080" y="855720"/>
            <a:chExt cx="6928920" cy="865080"/>
          </a:xfrm>
        </p:grpSpPr>
        <p:sp>
          <p:nvSpPr>
            <p:cNvPr id="1040" name=""/>
            <p:cNvSpPr/>
            <p:nvPr/>
          </p:nvSpPr>
          <p:spPr>
            <a:xfrm>
              <a:off x="2629080" y="855720"/>
              <a:ext cx="692892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77760" y="855720"/>
              <a:ext cx="674784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5654520" y="85572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632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935760" y="85572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089160" y="84924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8916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73640" y="87480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7364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6862680" y="853920"/>
            <a:ext cx="36360" cy="863640"/>
            <a:chOff x="6862680" y="853920"/>
            <a:chExt cx="36360" cy="863640"/>
          </a:xfrm>
        </p:grpSpPr>
        <p:sp>
          <p:nvSpPr>
            <p:cNvPr id="1050" name=""/>
            <p:cNvSpPr/>
            <p:nvPr/>
          </p:nvSpPr>
          <p:spPr>
            <a:xfrm>
              <a:off x="6862680" y="85392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868080" y="85392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8180280" y="857160"/>
            <a:ext cx="122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8028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912000" y="85572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5605560" y="844560"/>
            <a:ext cx="36000" cy="863640"/>
            <a:chOff x="5605560" y="844560"/>
            <a:chExt cx="36000" cy="863640"/>
          </a:xfrm>
        </p:grpSpPr>
        <p:sp>
          <p:nvSpPr>
            <p:cNvPr id="1056" name=""/>
            <p:cNvSpPr/>
            <p:nvPr/>
          </p:nvSpPr>
          <p:spPr>
            <a:xfrm>
              <a:off x="5605560" y="84456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0960" y="84456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8142120" y="853920"/>
            <a:ext cx="36360" cy="863640"/>
            <a:chOff x="8142120" y="853920"/>
            <a:chExt cx="36360" cy="863640"/>
          </a:xfrm>
        </p:grpSpPr>
        <p:sp>
          <p:nvSpPr>
            <p:cNvPr id="1059" name=""/>
            <p:cNvSpPr/>
            <p:nvPr/>
          </p:nvSpPr>
          <p:spPr>
            <a:xfrm>
              <a:off x="8142120" y="85392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47520" y="85392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4335480" y="853920"/>
            <a:ext cx="36000" cy="863640"/>
            <a:chOff x="4335480" y="853920"/>
            <a:chExt cx="36000" cy="863640"/>
          </a:xfrm>
        </p:grpSpPr>
        <p:sp>
          <p:nvSpPr>
            <p:cNvPr id="1062" name=""/>
            <p:cNvSpPr/>
            <p:nvPr/>
          </p:nvSpPr>
          <p:spPr>
            <a:xfrm>
              <a:off x="4335480" y="853920"/>
              <a:ext cx="3060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0880" y="853920"/>
              <a:ext cx="3060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6935760" y="99684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23720" y="853920"/>
            <a:ext cx="2657160" cy="899640"/>
            <a:chOff x="423720" y="853920"/>
            <a:chExt cx="2657160" cy="899640"/>
          </a:xfrm>
        </p:grpSpPr>
        <p:grpSp>
          <p:nvGrpSpPr>
            <p:cNvPr id="1066" name=""/>
            <p:cNvGrpSpPr/>
            <p:nvPr/>
          </p:nvGrpSpPr>
          <p:grpSpPr>
            <a:xfrm>
              <a:off x="423720" y="929880"/>
              <a:ext cx="2657160" cy="823680"/>
              <a:chOff x="423720" y="929880"/>
              <a:chExt cx="2657160" cy="823680"/>
            </a:xfrm>
          </p:grpSpPr>
          <p:sp>
            <p:nvSpPr>
              <p:cNvPr id="1067" name=""/>
              <p:cNvSpPr/>
              <p:nvPr/>
            </p:nvSpPr>
            <p:spPr>
              <a:xfrm>
                <a:off x="423720" y="929880"/>
                <a:ext cx="1421280" cy="67356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164960" y="929880"/>
                <a:ext cx="1915920" cy="82368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23720" y="929880"/>
                <a:ext cx="1915920" cy="82368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423720" y="853920"/>
              <a:ext cx="2657160" cy="861840"/>
              <a:chOff x="423720" y="853920"/>
              <a:chExt cx="2657160" cy="861840"/>
            </a:xfrm>
          </p:grpSpPr>
          <p:sp>
            <p:nvSpPr>
              <p:cNvPr id="1071" name=""/>
              <p:cNvSpPr/>
              <p:nvPr/>
            </p:nvSpPr>
            <p:spPr>
              <a:xfrm>
                <a:off x="423720" y="853920"/>
                <a:ext cx="1421280" cy="70488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64960" y="853920"/>
                <a:ext cx="1915920" cy="861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23720" y="853920"/>
                <a:ext cx="1915920" cy="86184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074" name=""/>
          <p:cNvSpPr/>
          <p:nvPr/>
        </p:nvSpPr>
        <p:spPr>
          <a:xfrm>
            <a:off x="1165320" y="1081080"/>
            <a:ext cx="1766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四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08040" y="106992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076" name=""/>
          <p:cNvSpPr/>
          <p:nvPr/>
        </p:nvSpPr>
        <p:spPr>
          <a:xfrm>
            <a:off x="463680" y="1928880"/>
            <a:ext cx="8915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扩充采集器功能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增加中继模块</a:t>
            </a:r>
            <a:r>
              <a:rPr b="1" lang="en-US" sz="2400" spc="-1" strike="noStrike">
                <a:solidFill>
                  <a:srgbClr val="2b166e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2b166e"/>
                </a:solidFill>
                <a:latin typeface="宋体"/>
                <a:ea typeface="宋体"/>
              </a:rPr>
              <a:t>实现信号的接力传输。为了让无线信号更强、传得更远，连得更畅，我们更换了部分高增益天线。同时增加中继模块，实现信号的接力传输，将部分天线安装在尽可能高的位置，避开遮挡物的影响。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5199120" y="4888080"/>
            <a:ext cx="1117440" cy="1392120"/>
          </a:xfrm>
          <a:prstGeom prst="rect">
            <a:avLst/>
          </a:prstGeom>
          <a:ln w="0">
            <a:noFill/>
          </a:ln>
        </p:spPr>
      </p:pic>
      <p:pic>
        <p:nvPicPr>
          <p:cNvPr id="1078" name="" descr=""/>
          <p:cNvPicPr/>
          <p:nvPr/>
        </p:nvPicPr>
        <p:blipFill>
          <a:blip r:embed="rId2"/>
          <a:stretch/>
        </p:blipFill>
        <p:spPr>
          <a:xfrm flipH="1">
            <a:off x="7719480" y="5127480"/>
            <a:ext cx="863640" cy="1368720"/>
          </a:xfrm>
          <a:prstGeom prst="rect">
            <a:avLst/>
          </a:prstGeom>
          <a:ln w="0">
            <a:noFill/>
          </a:ln>
        </p:spPr>
      </p:pic>
      <p:grpSp>
        <p:nvGrpSpPr>
          <p:cNvPr id="1079" name=""/>
          <p:cNvGrpSpPr/>
          <p:nvPr/>
        </p:nvGrpSpPr>
        <p:grpSpPr>
          <a:xfrm>
            <a:off x="698400" y="4518000"/>
            <a:ext cx="1082160" cy="1690560"/>
            <a:chOff x="698400" y="4518000"/>
            <a:chExt cx="1082160" cy="1690560"/>
          </a:xfrm>
        </p:grpSpPr>
        <p:sp>
          <p:nvSpPr>
            <p:cNvPr id="1080" name=""/>
            <p:cNvSpPr/>
            <p:nvPr/>
          </p:nvSpPr>
          <p:spPr>
            <a:xfrm>
              <a:off x="855360" y="4599000"/>
              <a:ext cx="112320" cy="18720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83880" y="4564080"/>
              <a:ext cx="187200" cy="25236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8400" y="4518000"/>
              <a:ext cx="218520" cy="32688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07640" y="4962600"/>
              <a:ext cx="487080" cy="77616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85600" y="4800600"/>
              <a:ext cx="736200" cy="140796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01560" y="4599000"/>
              <a:ext cx="120240" cy="19044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98160" y="4564080"/>
              <a:ext cx="196560" cy="25236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555560" y="4518000"/>
              <a:ext cx="225000" cy="32688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1088" name="" descr=""/>
          <p:cNvPicPr/>
          <p:nvPr/>
        </p:nvPicPr>
        <p:blipFill>
          <a:blip r:embed="rId3"/>
          <a:stretch/>
        </p:blipFill>
        <p:spPr>
          <a:xfrm>
            <a:off x="2895480" y="3687840"/>
            <a:ext cx="1747800" cy="198432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3555000" y="3891600"/>
            <a:ext cx="468000" cy="633600"/>
            <a:chOff x="3555000" y="3891600"/>
            <a:chExt cx="468000" cy="633600"/>
          </a:xfrm>
        </p:grpSpPr>
        <p:sp>
          <p:nvSpPr>
            <p:cNvPr id="1090" name=""/>
            <p:cNvSpPr/>
            <p:nvPr/>
          </p:nvSpPr>
          <p:spPr>
            <a:xfrm flipH="1">
              <a:off x="3906000" y="3922200"/>
              <a:ext cx="48600" cy="6984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3818160" y="3908880"/>
              <a:ext cx="81000" cy="9432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3927960" y="3891600"/>
              <a:ext cx="94680" cy="12240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3678120" y="4058280"/>
              <a:ext cx="210600" cy="29052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3623040" y="3997800"/>
              <a:ext cx="318600" cy="52740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623400" y="3922200"/>
              <a:ext cx="51840" cy="7128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678480" y="3908880"/>
              <a:ext cx="84960" cy="9432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555000" y="3891600"/>
              <a:ext cx="97200" cy="12240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713560" y="5036760"/>
            <a:ext cx="416880" cy="563760"/>
            <a:chOff x="5713560" y="5036760"/>
            <a:chExt cx="416880" cy="563760"/>
          </a:xfrm>
        </p:grpSpPr>
        <p:sp>
          <p:nvSpPr>
            <p:cNvPr id="1099" name=""/>
            <p:cNvSpPr/>
            <p:nvPr/>
          </p:nvSpPr>
          <p:spPr>
            <a:xfrm flipH="1">
              <a:off x="6026760" y="5063760"/>
              <a:ext cx="43200" cy="6228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142" y="0"/>
                  </a:moveTo>
                  <a:lnTo>
                    <a:pt x="87" y="19"/>
                  </a:lnTo>
                  <a:lnTo>
                    <a:pt x="39" y="44"/>
                  </a:lnTo>
                  <a:lnTo>
                    <a:pt x="12" y="83"/>
                  </a:lnTo>
                  <a:lnTo>
                    <a:pt x="0" y="120"/>
                  </a:lnTo>
                  <a:lnTo>
                    <a:pt x="12" y="159"/>
                  </a:lnTo>
                  <a:lnTo>
                    <a:pt x="39" y="191"/>
                  </a:lnTo>
                  <a:lnTo>
                    <a:pt x="77" y="223"/>
                  </a:lnTo>
                  <a:lnTo>
                    <a:pt x="133" y="23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948640" y="5052240"/>
              <a:ext cx="72000" cy="8388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142" y="25"/>
                  </a:lnTo>
                  <a:lnTo>
                    <a:pt x="67" y="57"/>
                  </a:lnTo>
                  <a:lnTo>
                    <a:pt x="19" y="102"/>
                  </a:lnTo>
                  <a:lnTo>
                    <a:pt x="0" y="159"/>
                  </a:lnTo>
                  <a:lnTo>
                    <a:pt x="19" y="215"/>
                  </a:lnTo>
                  <a:lnTo>
                    <a:pt x="57" y="260"/>
                  </a:lnTo>
                  <a:lnTo>
                    <a:pt x="132" y="298"/>
                  </a:lnTo>
                  <a:lnTo>
                    <a:pt x="216" y="3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6046200" y="5036760"/>
              <a:ext cx="84240" cy="108720"/>
            </a:xfrm>
            <a:custGeom>
              <a:avLst/>
              <a:gdLst/>
              <a:ahLst/>
              <a:rect l="l" t="t" r="r" b="b"/>
              <a:pathLst>
                <a:path w="274" h="411">
                  <a:moveTo>
                    <a:pt x="274" y="0"/>
                  </a:moveTo>
                  <a:lnTo>
                    <a:pt x="218" y="13"/>
                  </a:lnTo>
                  <a:lnTo>
                    <a:pt x="163" y="26"/>
                  </a:lnTo>
                  <a:lnTo>
                    <a:pt x="76" y="77"/>
                  </a:lnTo>
                  <a:lnTo>
                    <a:pt x="21" y="139"/>
                  </a:lnTo>
                  <a:lnTo>
                    <a:pt x="9" y="171"/>
                  </a:lnTo>
                  <a:lnTo>
                    <a:pt x="0" y="209"/>
                  </a:lnTo>
                  <a:lnTo>
                    <a:pt x="9" y="247"/>
                  </a:lnTo>
                  <a:lnTo>
                    <a:pt x="21" y="279"/>
                  </a:lnTo>
                  <a:lnTo>
                    <a:pt x="76" y="336"/>
                  </a:lnTo>
                  <a:lnTo>
                    <a:pt x="151" y="380"/>
                  </a:lnTo>
                  <a:lnTo>
                    <a:pt x="257" y="41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823360" y="5185080"/>
              <a:ext cx="187560" cy="258840"/>
            </a:xfrm>
            <a:custGeom>
              <a:avLst/>
              <a:gdLst/>
              <a:ahLst/>
              <a:rect l="l" t="t" r="r" b="b"/>
              <a:pathLst>
                <a:path w="614" h="980">
                  <a:moveTo>
                    <a:pt x="614" y="980"/>
                  </a:moveTo>
                  <a:lnTo>
                    <a:pt x="0" y="980"/>
                  </a:lnTo>
                  <a:lnTo>
                    <a:pt x="463" y="658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311" y="0"/>
                  </a:lnTo>
                  <a:lnTo>
                    <a:pt x="150" y="322"/>
                  </a:lnTo>
                  <a:lnTo>
                    <a:pt x="463" y="322"/>
                  </a:lnTo>
                  <a:lnTo>
                    <a:pt x="150" y="658"/>
                  </a:lnTo>
                  <a:lnTo>
                    <a:pt x="614" y="980"/>
                  </a:lnTo>
                  <a:lnTo>
                    <a:pt x="0" y="980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774760" y="5131080"/>
              <a:ext cx="283680" cy="469440"/>
            </a:xfrm>
            <a:custGeom>
              <a:avLst/>
              <a:gdLst/>
              <a:ahLst/>
              <a:rect l="l" t="t" r="r" b="b"/>
              <a:pathLst>
                <a:path w="927" h="1773">
                  <a:moveTo>
                    <a:pt x="927" y="1773"/>
                  </a:moveTo>
                  <a:lnTo>
                    <a:pt x="466" y="0"/>
                  </a:lnTo>
                  <a:lnTo>
                    <a:pt x="0" y="1773"/>
                  </a:lnTo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5774040" y="5063760"/>
              <a:ext cx="46440" cy="63360"/>
            </a:xfrm>
            <a:custGeom>
              <a:avLst/>
              <a:gdLst/>
              <a:ahLst/>
              <a:rect l="l" t="t" r="r" b="b"/>
              <a:pathLst>
                <a:path w="152" h="241">
                  <a:moveTo>
                    <a:pt x="12" y="241"/>
                  </a:moveTo>
                  <a:lnTo>
                    <a:pt x="67" y="222"/>
                  </a:lnTo>
                  <a:lnTo>
                    <a:pt x="115" y="197"/>
                  </a:lnTo>
                  <a:lnTo>
                    <a:pt x="142" y="165"/>
                  </a:lnTo>
                  <a:lnTo>
                    <a:pt x="152" y="120"/>
                  </a:lnTo>
                  <a:lnTo>
                    <a:pt x="142" y="83"/>
                  </a:lnTo>
                  <a:lnTo>
                    <a:pt x="106" y="44"/>
                  </a:lnTo>
                  <a:lnTo>
                    <a:pt x="58" y="1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5823720" y="5052240"/>
              <a:ext cx="75600" cy="83880"/>
            </a:xfrm>
            <a:custGeom>
              <a:avLst/>
              <a:gdLst/>
              <a:ahLst/>
              <a:rect l="l" t="t" r="r" b="b"/>
              <a:pathLst>
                <a:path w="247" h="317">
                  <a:moveTo>
                    <a:pt x="19" y="317"/>
                  </a:moveTo>
                  <a:lnTo>
                    <a:pt x="113" y="298"/>
                  </a:lnTo>
                  <a:lnTo>
                    <a:pt x="180" y="260"/>
                  </a:lnTo>
                  <a:lnTo>
                    <a:pt x="228" y="215"/>
                  </a:lnTo>
                  <a:lnTo>
                    <a:pt x="247" y="159"/>
                  </a:lnTo>
                  <a:lnTo>
                    <a:pt x="247" y="133"/>
                  </a:lnTo>
                  <a:lnTo>
                    <a:pt x="228" y="102"/>
                  </a:lnTo>
                  <a:lnTo>
                    <a:pt x="180" y="57"/>
                  </a:lnTo>
                  <a:lnTo>
                    <a:pt x="96" y="2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5713200" y="5036760"/>
              <a:ext cx="86760" cy="108720"/>
            </a:xfrm>
            <a:custGeom>
              <a:avLst/>
              <a:gdLst/>
              <a:ahLst/>
              <a:rect l="l" t="t" r="r" b="b"/>
              <a:pathLst>
                <a:path w="284" h="411">
                  <a:moveTo>
                    <a:pt x="20" y="411"/>
                  </a:moveTo>
                  <a:lnTo>
                    <a:pt x="131" y="380"/>
                  </a:lnTo>
                  <a:lnTo>
                    <a:pt x="208" y="336"/>
                  </a:lnTo>
                  <a:lnTo>
                    <a:pt x="263" y="279"/>
                  </a:lnTo>
                  <a:lnTo>
                    <a:pt x="284" y="247"/>
                  </a:lnTo>
                  <a:lnTo>
                    <a:pt x="284" y="209"/>
                  </a:lnTo>
                  <a:lnTo>
                    <a:pt x="273" y="171"/>
                  </a:lnTo>
                  <a:lnTo>
                    <a:pt x="263" y="139"/>
                  </a:lnTo>
                  <a:lnTo>
                    <a:pt x="208" y="77"/>
                  </a:lnTo>
                  <a:lnTo>
                    <a:pt x="114" y="26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204560" y="3975840"/>
            <a:ext cx="1497960" cy="954360"/>
            <a:chOff x="1204560" y="3975840"/>
            <a:chExt cx="1497960" cy="954360"/>
          </a:xfrm>
        </p:grpSpPr>
        <p:sp>
          <p:nvSpPr>
            <p:cNvPr id="1108" name=""/>
            <p:cNvSpPr/>
            <p:nvPr/>
          </p:nvSpPr>
          <p:spPr>
            <a:xfrm rot="4485000">
              <a:off x="1303200" y="4649040"/>
              <a:ext cx="255600" cy="221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4485000">
              <a:off x="1368360" y="4566240"/>
              <a:ext cx="351000" cy="306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4485000">
              <a:off x="1495080" y="4465800"/>
              <a:ext cx="441360" cy="382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4485000">
              <a:off x="1650600" y="4323240"/>
              <a:ext cx="588960" cy="510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4485000">
              <a:off x="1214640" y="4707000"/>
              <a:ext cx="20484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4485000">
              <a:off x="1868760" y="4104720"/>
              <a:ext cx="793800" cy="688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6118560" y="4843080"/>
            <a:ext cx="1488600" cy="856080"/>
            <a:chOff x="6118560" y="4843080"/>
            <a:chExt cx="1488600" cy="856080"/>
          </a:xfrm>
        </p:grpSpPr>
        <p:sp>
          <p:nvSpPr>
            <p:cNvPr id="1115" name=""/>
            <p:cNvSpPr/>
            <p:nvPr/>
          </p:nvSpPr>
          <p:spPr>
            <a:xfrm rot="5721600">
              <a:off x="6208200" y="5156640"/>
              <a:ext cx="255600" cy="222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5721600">
              <a:off x="6279480" y="5115600"/>
              <a:ext cx="352440" cy="3067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5721600">
              <a:off x="6418440" y="5079240"/>
              <a:ext cx="44316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5721600">
              <a:off x="6592320" y="5027400"/>
              <a:ext cx="590400" cy="511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5721600">
              <a:off x="6114240" y="5172840"/>
              <a:ext cx="204840" cy="177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5721600">
              <a:off x="6828120" y="4925160"/>
              <a:ext cx="795240" cy="691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876840" y="3829680"/>
            <a:ext cx="1480320" cy="1239120"/>
            <a:chOff x="3876840" y="3829680"/>
            <a:chExt cx="1480320" cy="1239120"/>
          </a:xfrm>
        </p:grpSpPr>
        <p:sp>
          <p:nvSpPr>
            <p:cNvPr id="1122" name=""/>
            <p:cNvSpPr/>
            <p:nvPr/>
          </p:nvSpPr>
          <p:spPr>
            <a:xfrm rot="7785600">
              <a:off x="3977280" y="3926160"/>
              <a:ext cx="255600" cy="221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7785600">
              <a:off x="4027680" y="3953520"/>
              <a:ext cx="351000" cy="306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7785600">
              <a:off x="4132440" y="4020840"/>
              <a:ext cx="441360" cy="382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7785600">
              <a:off x="4254120" y="4099320"/>
              <a:ext cx="588960" cy="510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7785600">
              <a:off x="3908160" y="3876120"/>
              <a:ext cx="20484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7785600">
              <a:off x="4441680" y="4199040"/>
              <a:ext cx="793800" cy="688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7e88e4"/>
            </a:solidFill>
            <a:ln w="9360">
              <a:solidFill>
                <a:srgbClr val="e50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4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4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4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560"/>
                            </p:stCondLst>
                            <p:childTnLst>
                              <p:par>
                                <p:cTn id="1674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75" dur="4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8" dur="4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60"/>
                            </p:stCondLst>
                            <p:childTnLst>
                              <p:par>
                                <p:cTn id="1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4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4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360"/>
                            </p:stCondLst>
                            <p:childTnLst>
                              <p:par>
                                <p:cTn id="1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860"/>
                            </p:stCondLst>
                            <p:childTnLst>
                              <p:par>
                                <p:cTn id="1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9829E-006 -4.44444E-006 L 0.18084 -0.11851 E">
                                      <p:cBhvr>
                                        <p:cTn id="1705" dur="2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 0.00231 L 0.1368 0.12083 E">
                                      <p:cBhvr>
                                        <p:cTn id="1709" dur="2000" fill="hold"/>
                                        <p:tgtEl>
                                          <p:spTgt spid="1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7 0.00231 L 0.10845 0.02616 E">
                                      <p:cBhvr>
                                        <p:cTn id="1713" dur="2000" fill="hold"/>
                                        <p:tgtEl>
                                          <p:spTgt spid="1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rot="16200000">
            <a:off x="2269440" y="-720000"/>
            <a:ext cx="5418000" cy="9096480"/>
          </a:xfrm>
          <a:prstGeom prst="rect">
            <a:avLst/>
          </a:prstGeom>
          <a:gradFill rotWithShape="0">
            <a:gsLst>
              <a:gs pos="0">
                <a:srgbClr val="48bdec">
                  <a:alpha val="25098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48bd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对策实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622600" y="847800"/>
            <a:ext cx="6928920" cy="865080"/>
            <a:chOff x="2622600" y="847800"/>
            <a:chExt cx="6928920" cy="865080"/>
          </a:xfrm>
        </p:grpSpPr>
        <p:sp>
          <p:nvSpPr>
            <p:cNvPr id="1132" name=""/>
            <p:cNvSpPr/>
            <p:nvPr/>
          </p:nvSpPr>
          <p:spPr>
            <a:xfrm>
              <a:off x="2622600" y="847800"/>
              <a:ext cx="6928920" cy="865080"/>
            </a:xfrm>
            <a:prstGeom prst="roundRect">
              <a:avLst>
                <a:gd name="adj" fmla="val 16667"/>
              </a:avLst>
            </a:prstGeom>
            <a:solidFill>
              <a:srgbClr val="48b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71280" y="847800"/>
              <a:ext cx="6747840" cy="86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48bd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991200" y="847800"/>
            <a:ext cx="122400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99300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宋体"/>
                <a:ea typeface="宋体"/>
              </a:rPr>
              <a:t>实现接力传输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272440" y="84780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83040" y="84132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8304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增大收发功率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367160" y="8668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36716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提高稳定性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199360" y="846000"/>
            <a:ext cx="36360" cy="863640"/>
            <a:chOff x="8199360" y="846000"/>
            <a:chExt cx="36360" cy="863640"/>
          </a:xfrm>
        </p:grpSpPr>
        <p:sp>
          <p:nvSpPr>
            <p:cNvPr id="1142" name=""/>
            <p:cNvSpPr/>
            <p:nvPr/>
          </p:nvSpPr>
          <p:spPr>
            <a:xfrm>
              <a:off x="8199360" y="84600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204760" y="84600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688000" y="839880"/>
            <a:ext cx="122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8800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改进安装方法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248680" y="847800"/>
            <a:ext cx="125244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5599080" y="836640"/>
            <a:ext cx="36360" cy="863640"/>
            <a:chOff x="5599080" y="836640"/>
            <a:chExt cx="36360" cy="863640"/>
          </a:xfrm>
        </p:grpSpPr>
        <p:sp>
          <p:nvSpPr>
            <p:cNvPr id="1148" name=""/>
            <p:cNvSpPr/>
            <p:nvPr/>
          </p:nvSpPr>
          <p:spPr>
            <a:xfrm>
              <a:off x="5599080" y="8366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604480" y="8366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6935760" y="836640"/>
            <a:ext cx="36360" cy="863640"/>
            <a:chOff x="6935760" y="836640"/>
            <a:chExt cx="36360" cy="863640"/>
          </a:xfrm>
        </p:grpSpPr>
        <p:sp>
          <p:nvSpPr>
            <p:cNvPr id="1151" name=""/>
            <p:cNvSpPr/>
            <p:nvPr/>
          </p:nvSpPr>
          <p:spPr>
            <a:xfrm>
              <a:off x="6935760" y="83664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41160" y="83664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329000" y="846000"/>
            <a:ext cx="36360" cy="863640"/>
            <a:chOff x="4329000" y="846000"/>
            <a:chExt cx="36360" cy="863640"/>
          </a:xfrm>
        </p:grpSpPr>
        <p:sp>
          <p:nvSpPr>
            <p:cNvPr id="1154" name=""/>
            <p:cNvSpPr/>
            <p:nvPr/>
          </p:nvSpPr>
          <p:spPr>
            <a:xfrm>
              <a:off x="4329000" y="846000"/>
              <a:ext cx="30960" cy="86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34400" y="846000"/>
              <a:ext cx="3096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8272440" y="979560"/>
            <a:ext cx="1224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593ab"/>
                </a:solidFill>
                <a:latin typeface="宋体"/>
                <a:ea typeface="宋体"/>
              </a:rPr>
              <a:t>设置抄表时间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423720" y="844560"/>
            <a:ext cx="2657160" cy="899280"/>
            <a:chOff x="423720" y="844560"/>
            <a:chExt cx="2657160" cy="899280"/>
          </a:xfrm>
        </p:grpSpPr>
        <p:grpSp>
          <p:nvGrpSpPr>
            <p:cNvPr id="1158" name=""/>
            <p:cNvGrpSpPr/>
            <p:nvPr/>
          </p:nvGrpSpPr>
          <p:grpSpPr>
            <a:xfrm>
              <a:off x="423720" y="920520"/>
              <a:ext cx="2657160" cy="823320"/>
              <a:chOff x="423720" y="920520"/>
              <a:chExt cx="2657160" cy="823320"/>
            </a:xfrm>
          </p:grpSpPr>
          <p:sp>
            <p:nvSpPr>
              <p:cNvPr id="1159" name=""/>
              <p:cNvSpPr/>
              <p:nvPr/>
            </p:nvSpPr>
            <p:spPr>
              <a:xfrm>
                <a:off x="423720" y="920520"/>
                <a:ext cx="1421280" cy="673200"/>
              </a:xfrm>
              <a:prstGeom prst="rect">
                <a:avLst/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64960" y="920520"/>
                <a:ext cx="1915920" cy="823320"/>
              </a:xfrm>
              <a:prstGeom prst="roundRect">
                <a:avLst>
                  <a:gd name="adj" fmla="val 16667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23720" y="920520"/>
                <a:ext cx="1915920" cy="823320"/>
              </a:xfrm>
              <a:prstGeom prst="roundRect">
                <a:avLst>
                  <a:gd name="adj" fmla="val 19639"/>
                </a:avLst>
              </a:prstGeom>
              <a:solidFill>
                <a:srgbClr val="48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23720" y="844560"/>
              <a:ext cx="2657160" cy="861480"/>
              <a:chOff x="423720" y="844560"/>
              <a:chExt cx="2657160" cy="861480"/>
            </a:xfrm>
          </p:grpSpPr>
          <p:sp>
            <p:nvSpPr>
              <p:cNvPr id="1163" name=""/>
              <p:cNvSpPr/>
              <p:nvPr/>
            </p:nvSpPr>
            <p:spPr>
              <a:xfrm>
                <a:off x="423720" y="844560"/>
                <a:ext cx="1421280" cy="704520"/>
              </a:xfrm>
              <a:prstGeom prst="rect">
                <a:avLst/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164960" y="844560"/>
                <a:ext cx="1915920" cy="861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Arial Black"/>
                    <a:ea typeface="宋体"/>
                  </a:rPr>
                  <a:t>  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23720" y="844560"/>
                <a:ext cx="1915920" cy="861480"/>
              </a:xfrm>
              <a:prstGeom prst="roundRect">
                <a:avLst>
                  <a:gd name="adj" fmla="val 19639"/>
                </a:avLst>
              </a:prstGeom>
              <a:gradFill rotWithShape="0">
                <a:gsLst>
                  <a:gs pos="0">
                    <a:srgbClr val="254765"/>
                  </a:gs>
                  <a:gs pos="100000">
                    <a:srgbClr val="192f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66" name=""/>
          <p:cNvSpPr/>
          <p:nvPr/>
        </p:nvSpPr>
        <p:spPr>
          <a:xfrm>
            <a:off x="1165320" y="1071720"/>
            <a:ext cx="1766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d6ecee"/>
                </a:solidFill>
                <a:latin typeface="黑体"/>
                <a:ea typeface="黑体"/>
              </a:rPr>
              <a:t>对策实施五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608040" y="1060560"/>
            <a:ext cx="47628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仿宋_GB2312"/>
              </a:rPr>
              <a:t>Do</a:t>
            </a:r>
            <a:endParaRPr b="1" lang="en-US" sz="1800" spc="-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仿宋_GB2312"/>
              <a:ea typeface="仿宋_GB2312"/>
            </a:endParaRPr>
          </a:p>
        </p:txBody>
      </p:sp>
      <p:sp>
        <p:nvSpPr>
          <p:cNvPr id="1168" name=""/>
          <p:cNvSpPr/>
          <p:nvPr/>
        </p:nvSpPr>
        <p:spPr>
          <a:xfrm>
            <a:off x="495360" y="1855800"/>
            <a:ext cx="8964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针对天气的影响，一是选择抄表最佳时段加以设置改变以往白天抄收的情况，采用凌晨两点干扰小的时间进行；二是通过主站软件功能扩展，将一次漏抄点自动筛选二次补抄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73360" y="3225960"/>
            <a:ext cx="6621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0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4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4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4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4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60"/>
                            </p:stCondLst>
                            <p:childTnLst>
                              <p:par>
                                <p:cTn id="172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28" dur="4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1" dur="4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3a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960"/>
                            </p:stCondLst>
                            <p:childTnLst>
                              <p:par>
                                <p:cTn id="1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4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7" dur="4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d4d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360"/>
                            </p:stCondLst>
                            <p:childTnLst>
                              <p:par>
                                <p:cTn id="17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860"/>
                            </p:stCondLst>
                            <p:childTnLst>
                              <p:par>
                                <p:cTn id="1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5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160"/>
                            </p:stCondLst>
                            <p:childTnLst>
                              <p:par>
                                <p:cTn id="1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2460"/>
                            </p:stCondLst>
                            <p:childTnLst>
                              <p:par>
                                <p:cTn id="1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76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3060"/>
                            </p:stCondLst>
                            <p:childTnLst>
                              <p:par>
                                <p:cTn id="1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1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3360"/>
                            </p:stCondLst>
                            <p:childTnLst>
                              <p:par>
                                <p:cTn id="17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3660"/>
                            </p:stCondLst>
                            <p:childTnLst>
                              <p:par>
                                <p:cTn id="1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3960"/>
                            </p:stCondLst>
                            <p:childTnLst>
                              <p:par>
                                <p:cTn id="1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4260"/>
                            </p:stCondLst>
                            <p:childTnLst>
                              <p:par>
                                <p:cTn id="1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7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172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174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178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180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82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184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186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190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192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Check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检查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果检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实施前抄收率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44520" y="1898640"/>
            <a:ext cx="73962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9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249200" y="1906560"/>
            <a:ext cx="7396200" cy="4319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495360" y="900000"/>
            <a:ext cx="8915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实施后抄收率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7" dur="indefinite" restart="never" nodeType="tmRoot">
          <p:childTnLst>
            <p:seq>
              <p:cTn id="1838" dur="indefinite" nodeType="mainSeq">
                <p:childTnLst>
                  <p:par>
                    <p:cTn id="1839" fill="hold">
                      <p:stCondLst>
                        <p:cond delay="0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500"/>
                            </p:stCondLst>
                            <p:childTnLst>
                              <p:par>
                                <p:cTn id="18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1" dur="10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854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果检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目标柱状图如下：</a:t>
            </a:r>
            <a:endParaRPr b="1" lang="en-US" sz="32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56000" y="327024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98.1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068720" y="2419200"/>
            <a:ext cx="120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772240" y="2419200"/>
            <a:ext cx="1233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100%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986600" y="3794040"/>
            <a:ext cx="1393920" cy="1123920"/>
            <a:chOff x="7986600" y="3794040"/>
            <a:chExt cx="1393920" cy="1123920"/>
          </a:xfrm>
        </p:grpSpPr>
        <p:sp>
          <p:nvSpPr>
            <p:cNvPr id="1208" name=""/>
            <p:cNvSpPr/>
            <p:nvPr/>
          </p:nvSpPr>
          <p:spPr>
            <a:xfrm>
              <a:off x="7986600" y="3794040"/>
              <a:ext cx="1374840" cy="1123920"/>
            </a:xfrm>
            <a:prstGeom prst="rect">
              <a:avLst/>
            </a:prstGeom>
            <a:noFill/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8113680" y="4192560"/>
              <a:ext cx="1266840" cy="252360"/>
              <a:chOff x="8113680" y="4192560"/>
              <a:chExt cx="1266840" cy="252360"/>
            </a:xfrm>
          </p:grpSpPr>
          <p:sp>
            <p:nvSpPr>
              <p:cNvPr id="1210" name=""/>
              <p:cNvSpPr/>
              <p:nvPr/>
            </p:nvSpPr>
            <p:spPr>
              <a:xfrm>
                <a:off x="8113680" y="4228920"/>
                <a:ext cx="193680" cy="17964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d07c00"/>
                  </a:gs>
                  <a:gs pos="50000">
                    <a:srgbClr val="ff9900"/>
                  </a:gs>
                  <a:gs pos="100000">
                    <a:srgbClr val="d07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480520" y="419256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前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8113680" y="3841560"/>
              <a:ext cx="1264680" cy="252360"/>
              <a:chOff x="8113680" y="3841560"/>
              <a:chExt cx="1264680" cy="252360"/>
            </a:xfrm>
          </p:grpSpPr>
          <p:sp>
            <p:nvSpPr>
              <p:cNvPr id="1213" name=""/>
              <p:cNvSpPr/>
              <p:nvPr/>
            </p:nvSpPr>
            <p:spPr>
              <a:xfrm>
                <a:off x="8113680" y="3889080"/>
                <a:ext cx="193320" cy="17964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3894b9"/>
                  </a:gs>
                  <a:gs pos="50000">
                    <a:srgbClr val="48bdec"/>
                  </a:gs>
                  <a:gs pos="100000">
                    <a:srgbClr val="3894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478360" y="384156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目标值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8113680" y="4545000"/>
              <a:ext cx="1264680" cy="252360"/>
              <a:chOff x="8113680" y="4545000"/>
              <a:chExt cx="1264680" cy="252360"/>
            </a:xfrm>
          </p:grpSpPr>
          <p:sp>
            <p:nvSpPr>
              <p:cNvPr id="1216" name=""/>
              <p:cNvSpPr/>
              <p:nvPr/>
            </p:nvSpPr>
            <p:spPr>
              <a:xfrm>
                <a:off x="8478360" y="4545000"/>
                <a:ext cx="90000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后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113680" y="4583160"/>
                <a:ext cx="193320" cy="179280"/>
              </a:xfrm>
              <a:prstGeom prst="cube">
                <a:avLst>
                  <a:gd name="adj" fmla="val 0"/>
                </a:avLst>
              </a:prstGeom>
              <a:gradFill rotWithShape="0">
                <a:gsLst>
                  <a:gs pos="0">
                    <a:srgbClr val="d07ca6"/>
                  </a:gs>
                  <a:gs pos="50000">
                    <a:srgbClr val="ff99cc"/>
                  </a:gs>
                  <a:gs pos="100000">
                    <a:srgbClr val="d07c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218" name=""/>
          <p:cNvSpPr/>
          <p:nvPr/>
        </p:nvSpPr>
        <p:spPr>
          <a:xfrm>
            <a:off x="3832200" y="1789200"/>
            <a:ext cx="1654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2b166e"/>
                </a:solidFill>
                <a:latin typeface="黑体"/>
                <a:ea typeface="黑体"/>
              </a:rPr>
              <a:t>目标实现柱状图</a:t>
            </a:r>
            <a:endParaRPr b="0" lang="en-US" sz="31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65000" y="2809800"/>
            <a:ext cx="6935760" cy="3170160"/>
            <a:chOff x="765000" y="2809800"/>
            <a:chExt cx="6935760" cy="3170160"/>
          </a:xfrm>
        </p:grpSpPr>
        <p:sp>
          <p:nvSpPr>
            <p:cNvPr id="1220" name=""/>
            <p:cNvSpPr/>
            <p:nvPr/>
          </p:nvSpPr>
          <p:spPr>
            <a:xfrm rot="16200000">
              <a:off x="684720" y="412272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2b166e"/>
                  </a:solidFill>
                  <a:latin typeface="黑体"/>
                  <a:ea typeface="黑体"/>
                </a:rPr>
                <a:t>抄收率</a:t>
              </a:r>
              <a:endParaRPr b="0" lang="en-US" sz="21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588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前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0064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目标值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52280" y="2809800"/>
              <a:ext cx="374760" cy="2878200"/>
            </a:xfrm>
            <a:custGeom>
              <a:avLst/>
              <a:gdLst/>
              <a:ahLst/>
              <a:rect l="l" t="t" r="r" b="b"/>
              <a:pathLst>
                <a:path w="180" h="1813">
                  <a:moveTo>
                    <a:pt x="0" y="1813"/>
                  </a:moveTo>
                  <a:lnTo>
                    <a:pt x="0" y="230"/>
                  </a:lnTo>
                  <a:lnTo>
                    <a:pt x="180" y="0"/>
                  </a:lnTo>
                  <a:lnTo>
                    <a:pt x="180" y="1583"/>
                  </a:lnTo>
                  <a:lnTo>
                    <a:pt x="0" y="18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7040" y="2809800"/>
              <a:ext cx="537372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52280" y="2809800"/>
              <a:ext cx="374760" cy="2878200"/>
            </a:xfrm>
            <a:custGeom>
              <a:avLst/>
              <a:gdLst/>
              <a:ahLst/>
              <a:rect l="l" t="t" r="r" b="b"/>
              <a:pathLst>
                <a:path w="180" h="1813">
                  <a:moveTo>
                    <a:pt x="0" y="1813"/>
                  </a:moveTo>
                  <a:lnTo>
                    <a:pt x="0" y="230"/>
                  </a:lnTo>
                  <a:lnTo>
                    <a:pt x="180" y="0"/>
                  </a:lnTo>
                  <a:lnTo>
                    <a:pt x="180" y="1583"/>
                  </a:lnTo>
                  <a:lnTo>
                    <a:pt x="0" y="18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27040" y="2809800"/>
              <a:ext cx="5373720" cy="25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950840" y="3174480"/>
              <a:ext cx="1440" cy="251316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2765" h="230">
                  <a:moveTo>
                    <a:pt x="2765" y="0"/>
                  </a:moveTo>
                  <a:lnTo>
                    <a:pt x="2585" y="230"/>
                  </a:lnTo>
                  <a:lnTo>
                    <a:pt x="0" y="230"/>
                  </a:lnTo>
                  <a:lnTo>
                    <a:pt x="180" y="0"/>
                  </a:lnTo>
                  <a:lnTo>
                    <a:pt x="2765" y="0"/>
                  </a:lnTo>
                  <a:close/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950840" y="518616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950840" y="4676760"/>
              <a:ext cx="47520" cy="144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1950840" y="4176720"/>
              <a:ext cx="47520" cy="144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38040" y="558792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5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238040" y="508644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6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238040" y="457668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7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238040" y="407664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8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50840" y="5641920"/>
              <a:ext cx="1440" cy="4608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1950840" y="367488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1950840" y="3174840"/>
              <a:ext cx="47520" cy="1800"/>
            </a:xfrm>
            <a:prstGeom prst="line">
              <a:avLst/>
            </a:prstGeom>
            <a:ln w="64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38040" y="3574800"/>
              <a:ext cx="614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99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36600" y="3074760"/>
              <a:ext cx="61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100%</a:t>
              </a:r>
              <a:endParaRPr b="0" lang="en-US" sz="17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50840" y="5322960"/>
              <a:ext cx="5749920" cy="365040"/>
            </a:xfrm>
            <a:custGeom>
              <a:avLst/>
              <a:gdLst/>
              <a:ahLst/>
              <a:rect l="l" t="t" r="r" b="b"/>
              <a:pathLst>
                <a:path w="2765" h="230">
                  <a:moveTo>
                    <a:pt x="0" y="230"/>
                  </a:moveTo>
                  <a:lnTo>
                    <a:pt x="180" y="0"/>
                  </a:lnTo>
                  <a:lnTo>
                    <a:pt x="2765" y="0"/>
                  </a:lnTo>
                  <a:lnTo>
                    <a:pt x="2585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950840" y="4822920"/>
              <a:ext cx="5749920" cy="3632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50840" y="4321080"/>
              <a:ext cx="5749920" cy="355680"/>
            </a:xfrm>
            <a:custGeom>
              <a:avLst/>
              <a:gdLst/>
              <a:ahLst/>
              <a:rect l="l" t="t" r="r" b="b"/>
              <a:pathLst>
                <a:path w="616" h="39">
                  <a:moveTo>
                    <a:pt x="0" y="39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50840" y="3821040"/>
              <a:ext cx="5749920" cy="355680"/>
            </a:xfrm>
            <a:custGeom>
              <a:avLst/>
              <a:gdLst/>
              <a:ahLst/>
              <a:rect l="l" t="t" r="r" b="b"/>
              <a:pathLst>
                <a:path w="616" h="39">
                  <a:moveTo>
                    <a:pt x="0" y="39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50840" y="3311280"/>
              <a:ext cx="5749920" cy="36360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950840" y="2809800"/>
              <a:ext cx="5749920" cy="365040"/>
            </a:xfrm>
            <a:custGeom>
              <a:avLst/>
              <a:gdLst/>
              <a:ahLst/>
              <a:rect l="l" t="t" r="r" b="b"/>
              <a:pathLst>
                <a:path w="616" h="40">
                  <a:moveTo>
                    <a:pt x="0" y="40"/>
                  </a:moveTo>
                  <a:lnTo>
                    <a:pt x="40" y="0"/>
                  </a:lnTo>
                  <a:lnTo>
                    <a:pt x="616" y="0"/>
                  </a:lnTo>
                </a:path>
              </a:pathLst>
            </a:custGeom>
            <a:noFill/>
            <a:ln w="6480">
              <a:solidFill>
                <a:srgbClr val="2b16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25320" y="575136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实施后</a:t>
              </a:r>
              <a:endParaRPr b="0" lang="en-US" sz="15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2401920" y="3774960"/>
            <a:ext cx="1170000" cy="1924200"/>
          </a:xfrm>
          <a:prstGeom prst="cube">
            <a:avLst>
              <a:gd name="adj" fmla="val 27523"/>
            </a:avLst>
          </a:prstGeom>
          <a:gradFill rotWithShape="0">
            <a:gsLst>
              <a:gs pos="0">
                <a:srgbClr val="d07c00"/>
              </a:gs>
              <a:gs pos="50000">
                <a:srgbClr val="ff9900"/>
              </a:gs>
              <a:gs pos="100000">
                <a:srgbClr val="d07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49920" y="2813040"/>
            <a:ext cx="1168560" cy="2886120"/>
          </a:xfrm>
          <a:prstGeom prst="cube">
            <a:avLst>
              <a:gd name="adj" fmla="val 18476"/>
            </a:avLst>
          </a:prstGeom>
          <a:gradFill rotWithShape="0">
            <a:gsLst>
              <a:gs pos="0">
                <a:srgbClr val="d0537c"/>
              </a:gs>
              <a:gs pos="50000">
                <a:srgbClr val="ff6699"/>
              </a:gs>
              <a:gs pos="100000">
                <a:srgbClr val="d0537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075200" y="2817720"/>
            <a:ext cx="1170000" cy="2881440"/>
          </a:xfrm>
          <a:prstGeom prst="cube">
            <a:avLst>
              <a:gd name="adj" fmla="val 16416"/>
            </a:avLst>
          </a:prstGeom>
          <a:gradFill rotWithShape="0">
            <a:gsLst>
              <a:gs pos="0">
                <a:srgbClr val="3894b9"/>
              </a:gs>
              <a:gs pos="50000">
                <a:srgbClr val="48bdec"/>
              </a:gs>
              <a:gs pos="100000">
                <a:srgbClr val="3894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302520" y="863640"/>
            <a:ext cx="3441600" cy="2074680"/>
          </a:xfrm>
          <a:prstGeom prst="irregularSeal1">
            <a:avLst/>
          </a:prstGeom>
          <a:solidFill>
            <a:srgbClr val="ff0000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目标实现了！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0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500"/>
                            </p:stCondLst>
                            <p:childTnLst>
                              <p:par>
                                <p:cTn id="191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15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16" dur="250" autoRev="1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465120" y="1963800"/>
          <a:ext cx="9048600" cy="4284720"/>
        </p:xfrm>
        <a:graphic>
          <a:graphicData uri="http://schemas.openxmlformats.org/drawingml/2006/table">
            <a:tbl>
              <a:tblPr/>
              <a:tblGrid>
                <a:gridCol w="790560"/>
                <a:gridCol w="3511440"/>
                <a:gridCol w="2414880"/>
                <a:gridCol w="636480"/>
                <a:gridCol w="563400"/>
                <a:gridCol w="1131840"/>
              </a:tblGrid>
              <a:tr h="58500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通信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方式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优　　　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缺　　　点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造价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期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适应范围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163512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载波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需要铺设专用电缆，不破坏路面或其它设施，不影响美观。因没有专用电缆，载波方式易于维护，节省了施工和电缆费用，载波方式的成本低，目前载波表的成本较高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网的干扰会影响载通讯，从而使通讯距离缩短，，通讯速率也会明显下降，误码率不能保证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中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老小区改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93168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音频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电缆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通信速率高，可靠性强，能较稳定传输数据质量有保证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讯电缆的短路、开路故障查找困难，敷设难度大，增加施工难度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新建小区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1132920"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无线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投资成本低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需要铺设专用电缆，不破坏路面或其它设施，不影响美观，便于施工，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本方案可采用普通的电能表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抗干扰能力差，可能还会对其他民用设备产生干扰。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短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36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新老小区根据实际情况都可以考虑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56" name=""/>
          <p:cNvSpPr/>
          <p:nvPr/>
        </p:nvSpPr>
        <p:spPr>
          <a:xfrm>
            <a:off x="495360" y="900000"/>
            <a:ext cx="8915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将工程投资与其他方式的集抄系统进行对比（如下表所示），工程总造价节省投资近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  <a:ea typeface="宋体"/>
              </a:rPr>
              <a:t>26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万元。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500"/>
                            </p:stCondLst>
                            <p:childTnLst>
                              <p:par>
                                <p:cTn id="1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1778040" y="334152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778040" y="421956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778040" y="50990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778040" y="58658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778040" y="2368440"/>
            <a:ext cx="6846840" cy="0"/>
          </a:xfrm>
          <a:prstGeom prst="line">
            <a:avLst/>
          </a:prstGeom>
          <a:ln cap="rnd" w="25560">
            <a:solidFill>
              <a:srgbClr val="2b166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949320" y="4659480"/>
            <a:ext cx="1623960" cy="1303200"/>
          </a:xfrm>
          <a:prstGeom prst="diamond">
            <a:avLst/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925560" y="3824280"/>
            <a:ext cx="1697040" cy="1479600"/>
          </a:xfrm>
          <a:prstGeom prst="diamond">
            <a:avLst/>
          </a:prstGeom>
          <a:gradFill rotWithShape="0">
            <a:gsLst>
              <a:gs pos="0">
                <a:srgbClr val="eb984d"/>
              </a:gs>
              <a:gs pos="100000">
                <a:srgbClr val="6c4623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63640" y="2951280"/>
            <a:ext cx="1820880" cy="1517400"/>
          </a:xfrm>
          <a:prstGeom prst="diamond">
            <a:avLst/>
          </a:prstGeom>
          <a:gradFill rotWithShape="0">
            <a:gsLst>
              <a:gs pos="0">
                <a:srgbClr val="48bdec"/>
              </a:gs>
              <a:gs pos="100000">
                <a:srgbClr val="21576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17560" y="1996920"/>
            <a:ext cx="1919160" cy="1598760"/>
          </a:xfrm>
          <a:prstGeom prst="diamond">
            <a:avLst/>
          </a:prstGeom>
          <a:gradFill rotWithShape="0">
            <a:gsLst>
              <a:gs pos="0">
                <a:srgbClr val="eb984d"/>
              </a:gs>
              <a:gs pos="100000">
                <a:srgbClr val="6c4623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30080" y="809640"/>
            <a:ext cx="1040040" cy="5337000"/>
          </a:xfrm>
          <a:custGeom>
            <a:avLst/>
            <a:gdLst/>
            <a:ahLst/>
            <a:rect l="l" t="t" r="r" b="b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54200" y="996840"/>
            <a:ext cx="2052360" cy="1643040"/>
          </a:xfrm>
          <a:prstGeom prst="diamond">
            <a:avLst/>
          </a:prstGeom>
          <a:gradFill rotWithShape="0">
            <a:gsLst>
              <a:gs pos="0">
                <a:srgbClr val="21576c"/>
              </a:gs>
              <a:gs pos="100000">
                <a:srgbClr val="48bdec"/>
              </a:gs>
            </a:gsLst>
            <a:lin ang="13500000"/>
          </a:gra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47600" y="5091120"/>
            <a:ext cx="14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022400" y="4335480"/>
            <a:ext cx="14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022400" y="349236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022400" y="2614680"/>
            <a:ext cx="14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22400" y="160164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fefe"/>
                </a:solidFill>
                <a:latin typeface="黑体"/>
                <a:ea typeface="黑体"/>
              </a:rPr>
              <a:t>社会效益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711520" y="5213520"/>
            <a:ext cx="61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利用大屏幕传递安全用电知识、停电信息、天气预报等相关内容，使客户及时掌握电力使用的相关信息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711520" y="44211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利用大屏幕公布近几个月的用电信息，让用户及时掌握自己的用电情况，真正用上明白电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711520" y="355140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降低了抄表人员的工作强度，节约出的人力就可以投入到其他抢、维修服务中去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11520" y="263196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可以随时跟踪用户的用电情况，及时发现用电异常，便于进行反窃电工作的分析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711520" y="1716120"/>
            <a:ext cx="60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Arial"/>
                <a:ea typeface="宋体"/>
              </a:rPr>
              <a:t>该系统运行后，为线损管理提了供理论依据。解决以往线损评价基本靠理论线损计算和工作经验的情况。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583920" y="1542600"/>
            <a:ext cx="282600" cy="3846600"/>
          </a:xfrm>
          <a:prstGeom prst="line">
            <a:avLst/>
          </a:prstGeom>
          <a:ln w="25560">
            <a:solidFill>
              <a:srgbClr val="2b166e"/>
            </a:solidFill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9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0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7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500"/>
                            </p:stCondLst>
                            <p:childTnLst>
                              <p:par>
                                <p:cTn id="19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5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500"/>
                            </p:stCondLst>
                            <p:childTnLst>
                              <p:par>
                                <p:cTn id="20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500"/>
                            </p:stCondLst>
                            <p:childTnLst>
                              <p:par>
                                <p:cTn id="20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效益评价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85680" y="5013360"/>
            <a:ext cx="1950840" cy="1414440"/>
            <a:chOff x="85680" y="5013360"/>
            <a:chExt cx="1950840" cy="1414440"/>
          </a:xfrm>
        </p:grpSpPr>
        <p:sp>
          <p:nvSpPr>
            <p:cNvPr id="1283" name=""/>
            <p:cNvSpPr/>
            <p:nvPr/>
          </p:nvSpPr>
          <p:spPr>
            <a:xfrm>
              <a:off x="85680" y="5467320"/>
              <a:ext cx="19508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680" y="5013360"/>
              <a:ext cx="1950840" cy="453960"/>
            </a:xfrm>
            <a:prstGeom prst="bevel">
              <a:avLst>
                <a:gd name="adj" fmla="val 3718"/>
              </a:avLst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229680" y="5089680"/>
              <a:ext cx="1659960" cy="1224720"/>
              <a:chOff x="229680" y="5089680"/>
              <a:chExt cx="1659960" cy="1224720"/>
            </a:xfrm>
          </p:grpSpPr>
          <p:sp>
            <p:nvSpPr>
              <p:cNvPr id="1286" name=""/>
              <p:cNvSpPr/>
              <p:nvPr/>
            </p:nvSpPr>
            <p:spPr>
              <a:xfrm>
                <a:off x="78480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质量意识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9680" y="5545440"/>
                <a:ext cx="16599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"/>
          <p:cNvSpPr/>
          <p:nvPr/>
        </p:nvSpPr>
        <p:spPr>
          <a:xfrm>
            <a:off x="3483000" y="2216160"/>
            <a:ext cx="2374920" cy="1965240"/>
          </a:xfrm>
          <a:custGeom>
            <a:avLst/>
            <a:gdLst/>
            <a:ahLst/>
            <a:rect l="l" t="t" r="r" b="b"/>
            <a:pathLst>
              <a:path w="1710" h="1607">
                <a:moveTo>
                  <a:pt x="951" y="0"/>
                </a:moveTo>
                <a:lnTo>
                  <a:pt x="1710" y="551"/>
                </a:lnTo>
                <a:lnTo>
                  <a:pt x="1538" y="1607"/>
                </a:lnTo>
                <a:lnTo>
                  <a:pt x="364" y="1607"/>
                </a:lnTo>
                <a:lnTo>
                  <a:pt x="0" y="490"/>
                </a:lnTo>
                <a:lnTo>
                  <a:pt x="951" y="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792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278240" y="2711520"/>
            <a:ext cx="1052640" cy="1082520"/>
          </a:xfrm>
          <a:custGeom>
            <a:avLst/>
            <a:gdLst/>
            <a:ahLst/>
            <a:rect l="l" t="t" r="r" b="b"/>
            <a:pathLst>
              <a:path w="758" h="885">
                <a:moveTo>
                  <a:pt x="379" y="0"/>
                </a:moveTo>
                <a:lnTo>
                  <a:pt x="758" y="278"/>
                </a:lnTo>
                <a:lnTo>
                  <a:pt x="733" y="885"/>
                </a:lnTo>
                <a:lnTo>
                  <a:pt x="25" y="885"/>
                </a:lnTo>
                <a:lnTo>
                  <a:pt x="0" y="278"/>
                </a:lnTo>
                <a:lnTo>
                  <a:pt x="37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7920">
            <a:solidFill>
              <a:srgbClr val="2b16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06280" y="1461960"/>
            <a:ext cx="3738600" cy="3112920"/>
            <a:chOff x="2906280" y="1461960"/>
            <a:chExt cx="3738600" cy="3112920"/>
          </a:xfrm>
        </p:grpSpPr>
        <p:sp>
          <p:nvSpPr>
            <p:cNvPr id="1291" name=""/>
            <p:cNvSpPr/>
            <p:nvPr/>
          </p:nvSpPr>
          <p:spPr>
            <a:xfrm flipH="1" flipV="1">
              <a:off x="2906280" y="2653920"/>
              <a:ext cx="1322280" cy="37764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659040" y="3585960"/>
              <a:ext cx="816840" cy="98892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15960" y="3585960"/>
              <a:ext cx="815400" cy="98748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5322600" y="2665080"/>
              <a:ext cx="1322280" cy="37764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4794480" y="1461960"/>
              <a:ext cx="1440" cy="1224000"/>
            </a:xfrm>
            <a:prstGeom prst="line">
              <a:avLst/>
            </a:prstGeom>
            <a:ln w="12600">
              <a:solidFill>
                <a:srgbClr val="2b166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794480" y="1971720"/>
              <a:ext cx="1440" cy="122544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794480" y="2819160"/>
              <a:ext cx="1322280" cy="37800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794480" y="3197160"/>
              <a:ext cx="816480" cy="98748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3979440" y="3197160"/>
              <a:ext cx="814680" cy="98748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 flipV="1">
              <a:off x="3474000" y="2819160"/>
              <a:ext cx="1320480" cy="378000"/>
            </a:xfrm>
            <a:prstGeom prst="line">
              <a:avLst/>
            </a:prstGeom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3398040" y="1960560"/>
              <a:ext cx="2783880" cy="2450880"/>
              <a:chOff x="3398040" y="1960560"/>
              <a:chExt cx="2783880" cy="2450880"/>
            </a:xfrm>
          </p:grpSpPr>
          <p:sp>
            <p:nvSpPr>
              <p:cNvPr id="1302" name=""/>
              <p:cNvSpPr/>
              <p:nvPr/>
            </p:nvSpPr>
            <p:spPr>
              <a:xfrm>
                <a:off x="3398040" y="1960560"/>
                <a:ext cx="2783880" cy="245088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686760" y="2214360"/>
                <a:ext cx="2221560" cy="195696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233600" y="2690280"/>
                <a:ext cx="1110960" cy="97920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51720" y="2452320"/>
                <a:ext cx="1673280" cy="147276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512600" y="2945880"/>
                <a:ext cx="567360" cy="498240"/>
              </a:xfrm>
              <a:prstGeom prst="ellipse">
                <a:avLst/>
              </a:prstGeom>
              <a:noFill/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3214800" y="2670120"/>
            <a:ext cx="374400" cy="2761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75280" y="3711600"/>
            <a:ext cx="226800" cy="166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755880" y="4037040"/>
            <a:ext cx="374760" cy="2761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481720" y="4038480"/>
            <a:ext cx="374400" cy="27648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667480" y="2759040"/>
            <a:ext cx="301680" cy="22392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06920" y="2098800"/>
            <a:ext cx="303120" cy="2235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4720" y="3700440"/>
            <a:ext cx="225360" cy="1681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234040" y="2984400"/>
            <a:ext cx="15084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16360" y="2658960"/>
            <a:ext cx="15084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172040" y="2994120"/>
            <a:ext cx="152280" cy="112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54520" y="150804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个人能力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04120" y="249696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宋体"/>
                <a:ea typeface="宋体"/>
              </a:rPr>
              <a:t>QC</a:t>
            </a: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知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010200" y="426888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团队精神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801880" y="4268880"/>
            <a:ext cx="10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自信心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943280" y="249696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b166e"/>
                </a:solidFill>
                <a:latin typeface="宋体"/>
                <a:ea typeface="宋体"/>
              </a:rPr>
              <a:t>质量意识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2036880" y="5013360"/>
            <a:ext cx="1949040" cy="1414440"/>
            <a:chOff x="2036880" y="5013360"/>
            <a:chExt cx="1949040" cy="1414440"/>
          </a:xfrm>
        </p:grpSpPr>
        <p:sp>
          <p:nvSpPr>
            <p:cNvPr id="1323" name=""/>
            <p:cNvSpPr/>
            <p:nvPr/>
          </p:nvSpPr>
          <p:spPr>
            <a:xfrm>
              <a:off x="2036880" y="5467320"/>
              <a:ext cx="19490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36880" y="5013360"/>
              <a:ext cx="1949040" cy="453960"/>
            </a:xfrm>
            <a:prstGeom prst="bevel">
              <a:avLst>
                <a:gd name="adj" fmla="val 3718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2179440" y="5089680"/>
              <a:ext cx="1658160" cy="1224720"/>
              <a:chOff x="2179440" y="5089680"/>
              <a:chExt cx="1658160" cy="1224720"/>
            </a:xfrm>
          </p:grpSpPr>
          <p:sp>
            <p:nvSpPr>
              <p:cNvPr id="1326" name=""/>
              <p:cNvSpPr/>
              <p:nvPr/>
            </p:nvSpPr>
            <p:spPr>
              <a:xfrm>
                <a:off x="273492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个人能力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179440" y="5545440"/>
                <a:ext cx="16581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4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3984480" y="5013360"/>
            <a:ext cx="1950840" cy="1414440"/>
            <a:chOff x="3984480" y="5013360"/>
            <a:chExt cx="1950840" cy="1414440"/>
          </a:xfrm>
        </p:grpSpPr>
        <p:sp>
          <p:nvSpPr>
            <p:cNvPr id="1329" name=""/>
            <p:cNvSpPr/>
            <p:nvPr/>
          </p:nvSpPr>
          <p:spPr>
            <a:xfrm>
              <a:off x="3984480" y="5467320"/>
              <a:ext cx="19508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984480" y="5013360"/>
              <a:ext cx="1950840" cy="453960"/>
            </a:xfrm>
            <a:prstGeom prst="bevel">
              <a:avLst>
                <a:gd name="adj" fmla="val 3718"/>
              </a:avLst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4128480" y="5089680"/>
              <a:ext cx="1659960" cy="1224720"/>
              <a:chOff x="4128480" y="5089680"/>
              <a:chExt cx="1659960" cy="1224720"/>
            </a:xfrm>
          </p:grpSpPr>
          <p:sp>
            <p:nvSpPr>
              <p:cNvPr id="1332" name=""/>
              <p:cNvSpPr/>
              <p:nvPr/>
            </p:nvSpPr>
            <p:spPr>
              <a:xfrm>
                <a:off x="4629600" y="5089680"/>
                <a:ext cx="65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QC</a:t>
                </a: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知识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128480" y="5545440"/>
                <a:ext cx="16599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4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34" name=""/>
          <p:cNvGrpSpPr/>
          <p:nvPr/>
        </p:nvGrpSpPr>
        <p:grpSpPr>
          <a:xfrm>
            <a:off x="5935680" y="5013360"/>
            <a:ext cx="1949040" cy="1414440"/>
            <a:chOff x="5935680" y="5013360"/>
            <a:chExt cx="1949040" cy="1414440"/>
          </a:xfrm>
        </p:grpSpPr>
        <p:sp>
          <p:nvSpPr>
            <p:cNvPr id="1335" name=""/>
            <p:cNvSpPr/>
            <p:nvPr/>
          </p:nvSpPr>
          <p:spPr>
            <a:xfrm>
              <a:off x="5935680" y="5467320"/>
              <a:ext cx="194904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35680" y="5013360"/>
              <a:ext cx="1949040" cy="453960"/>
            </a:xfrm>
            <a:prstGeom prst="bevel">
              <a:avLst>
                <a:gd name="adj" fmla="val 3718"/>
              </a:avLst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078240" y="5089680"/>
              <a:ext cx="1658160" cy="1224720"/>
              <a:chOff x="6078240" y="5089680"/>
              <a:chExt cx="1658160" cy="1224720"/>
            </a:xfrm>
          </p:grpSpPr>
          <p:sp>
            <p:nvSpPr>
              <p:cNvPr id="1338" name=""/>
              <p:cNvSpPr/>
              <p:nvPr/>
            </p:nvSpPr>
            <p:spPr>
              <a:xfrm>
                <a:off x="6633720" y="5089680"/>
                <a:ext cx="5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团队精神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78240" y="5545440"/>
                <a:ext cx="165816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3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7883640" y="5013360"/>
            <a:ext cx="1950480" cy="1414440"/>
            <a:chOff x="7883640" y="5013360"/>
            <a:chExt cx="1950480" cy="1414440"/>
          </a:xfrm>
        </p:grpSpPr>
        <p:sp>
          <p:nvSpPr>
            <p:cNvPr id="1341" name=""/>
            <p:cNvSpPr/>
            <p:nvPr/>
          </p:nvSpPr>
          <p:spPr>
            <a:xfrm>
              <a:off x="7883640" y="5467320"/>
              <a:ext cx="1950480" cy="96048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883640" y="5013360"/>
              <a:ext cx="1950480" cy="453960"/>
            </a:xfrm>
            <a:prstGeom prst="bevel">
              <a:avLst>
                <a:gd name="adj" fmla="val 3718"/>
              </a:avLst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8027640" y="5089680"/>
              <a:ext cx="1659600" cy="1224720"/>
              <a:chOff x="8027640" y="5089680"/>
              <a:chExt cx="1659600" cy="1224720"/>
            </a:xfrm>
          </p:grpSpPr>
          <p:sp>
            <p:nvSpPr>
              <p:cNvPr id="1344" name=""/>
              <p:cNvSpPr/>
              <p:nvPr/>
            </p:nvSpPr>
            <p:spPr>
              <a:xfrm>
                <a:off x="8649720" y="5089680"/>
                <a:ext cx="41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2b166e"/>
                    </a:solidFill>
                    <a:latin typeface="黑体"/>
                    <a:ea typeface="黑体"/>
                  </a:rPr>
                  <a:t>自信心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27640" y="5545440"/>
                <a:ext cx="165960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前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3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实施后：</a:t>
                </a:r>
                <a:r>
                  <a:rPr b="1" lang="en-US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5</a:t>
                </a:r>
                <a:r>
                  <a:rPr b="1" lang="zh-CN" sz="20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分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85680" y="4770000"/>
            <a:ext cx="9748440" cy="244440"/>
            <a:chOff x="85680" y="4770000"/>
            <a:chExt cx="9748440" cy="244440"/>
          </a:xfrm>
        </p:grpSpPr>
        <p:sp>
          <p:nvSpPr>
            <p:cNvPr id="1347" name=""/>
            <p:cNvSpPr/>
            <p:nvPr/>
          </p:nvSpPr>
          <p:spPr>
            <a:xfrm flipV="1">
              <a:off x="85680" y="4769280"/>
              <a:ext cx="9748440" cy="244440"/>
            </a:xfrm>
            <a:custGeom>
              <a:avLst/>
              <a:gdLst>
                <a:gd name="textAreaLeft" fmla="*/ 1456200 w 9748440"/>
                <a:gd name="textAreaRight" fmla="*/ 8292240 w 9748440"/>
                <a:gd name="textAreaTop" fmla="*/ 36360 h 244440"/>
                <a:gd name="textAreaBottom" fmla="*/ 208080 h 2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1" y="21600"/>
                  </a:lnTo>
                  <a:lnTo>
                    <a:pt x="265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059920" y="4776480"/>
              <a:ext cx="349200" cy="22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5708160" y="4776480"/>
              <a:ext cx="20664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7520400" y="4776480"/>
              <a:ext cx="34380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3974400" y="4776480"/>
              <a:ext cx="20664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7574040" y="3255840"/>
            <a:ext cx="1233000" cy="768240"/>
            <a:chOff x="7574040" y="3255840"/>
            <a:chExt cx="1233000" cy="768240"/>
          </a:xfrm>
        </p:grpSpPr>
        <p:sp>
          <p:nvSpPr>
            <p:cNvPr id="1353" name=""/>
            <p:cNvSpPr/>
            <p:nvPr/>
          </p:nvSpPr>
          <p:spPr>
            <a:xfrm>
              <a:off x="7574040" y="3255840"/>
              <a:ext cx="1233000" cy="768240"/>
            </a:xfrm>
            <a:prstGeom prst="rect">
              <a:avLst/>
            </a:prstGeom>
            <a:noFill/>
            <a:ln w="792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7733520" y="3357360"/>
              <a:ext cx="790200" cy="565920"/>
              <a:chOff x="7733520" y="3357360"/>
              <a:chExt cx="790200" cy="565920"/>
            </a:xfrm>
          </p:grpSpPr>
          <p:sp>
            <p:nvSpPr>
              <p:cNvPr id="1355" name=""/>
              <p:cNvSpPr/>
              <p:nvPr/>
            </p:nvSpPr>
            <p:spPr>
              <a:xfrm>
                <a:off x="7733520" y="3381120"/>
                <a:ext cx="178560" cy="168480"/>
              </a:xfrm>
              <a:prstGeom prst="rect">
                <a:avLst/>
              </a:prstGeom>
              <a:solidFill>
                <a:srgbClr val="ccffcc"/>
              </a:solidFill>
              <a:ln w="792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202960" y="335736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后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33520" y="3733560"/>
                <a:ext cx="178560" cy="168480"/>
              </a:xfrm>
              <a:prstGeom prst="rect">
                <a:avLst/>
              </a:prstGeom>
              <a:solidFill>
                <a:srgbClr val="ff6600"/>
              </a:solidFill>
              <a:ln w="792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202960" y="370980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2b166e"/>
                    </a:solidFill>
                    <a:latin typeface="宋体"/>
                    <a:ea typeface="宋体"/>
                  </a:rPr>
                  <a:t>实施前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小组成员活动前后综合素质对比图（满分</a:t>
            </a:r>
            <a:r>
              <a:rPr b="1" lang="en-US" sz="2800" spc="-1" strike="noStrike">
                <a:solidFill>
                  <a:srgbClr val="2b166e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分）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0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3" dur="500"/>
                                        <p:tgtEl>
                                          <p:spTgt spid="1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500"/>
                            </p:stCondLst>
                            <p:childTnLst>
                              <p:par>
                                <p:cTn id="2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5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8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9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0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363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365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67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369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371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375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377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79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381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383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85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Action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总结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9966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2b166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73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29760" y="-360"/>
            <a:ext cx="899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巩固措施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1093680" y="1249200"/>
            <a:ext cx="8248320" cy="2155680"/>
            <a:chOff x="1093680" y="1249200"/>
            <a:chExt cx="8248320" cy="2155680"/>
          </a:xfrm>
        </p:grpSpPr>
        <p:sp>
          <p:nvSpPr>
            <p:cNvPr id="1389" name=""/>
            <p:cNvSpPr/>
            <p:nvPr/>
          </p:nvSpPr>
          <p:spPr>
            <a:xfrm>
              <a:off x="1093680" y="2442960"/>
              <a:ext cx="2187360" cy="96192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10800000">
              <a:off x="7257600" y="1248840"/>
              <a:ext cx="2084400" cy="96192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ffcc99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459800" y="1608120"/>
              <a:ext cx="7407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ccef"/>
                </a:gs>
                <a:gs pos="50000">
                  <a:srgbClr val="48bdec"/>
                </a:gs>
                <a:gs pos="100000">
                  <a:srgbClr val="74cce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　为全面提高数据采集速度，确保数据存储安全性，我们计划把数据存储位置由原采集器移至集中器，以此巩固现有系统的稳定、可靠性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1093680" y="4105440"/>
            <a:ext cx="8249760" cy="2112840"/>
            <a:chOff x="1093680" y="4105440"/>
            <a:chExt cx="8249760" cy="2112840"/>
          </a:xfrm>
        </p:grpSpPr>
        <p:sp>
          <p:nvSpPr>
            <p:cNvPr id="1393" name=""/>
            <p:cNvSpPr/>
            <p:nvPr/>
          </p:nvSpPr>
          <p:spPr>
            <a:xfrm>
              <a:off x="1093680" y="5257800"/>
              <a:ext cx="2187360" cy="96048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48bd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0800000">
              <a:off x="7257240" y="4105440"/>
              <a:ext cx="2086200" cy="960480"/>
            </a:xfrm>
            <a:custGeom>
              <a:avLst/>
              <a:gdLst/>
              <a:ahLst/>
              <a:rect l="l" t="t" r="r" b="b"/>
              <a:pathLst>
                <a:path w="2320" h="792">
                  <a:moveTo>
                    <a:pt x="88" y="696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792"/>
                  </a:lnTo>
                  <a:lnTo>
                    <a:pt x="2320" y="792"/>
                  </a:lnTo>
                  <a:lnTo>
                    <a:pt x="2320" y="696"/>
                  </a:lnTo>
                  <a:lnTo>
                    <a:pt x="88" y="696"/>
                  </a:lnTo>
                  <a:close/>
                </a:path>
              </a:pathLst>
            </a:custGeom>
            <a:solidFill>
              <a:srgbClr val="48bde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59800" y="4476960"/>
              <a:ext cx="7407720" cy="14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eb077"/>
                </a:gs>
                <a:gs pos="50000">
                  <a:srgbClr val="eb984d"/>
                </a:gs>
                <a:gs pos="100000">
                  <a:srgbClr val="eeb0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no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　在本次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QC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活动在基础上，制定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《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低压集抄系统运行管理规程</a:t>
              </a:r>
              <a:r>
                <a:rPr b="1" lang="en-US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》</a:t>
              </a:r>
              <a:r>
                <a:rPr b="1" lang="zh-CN" sz="2800" spc="-1" strike="noStrike">
                  <a:solidFill>
                    <a:srgbClr val="2b166e"/>
                  </a:solidFill>
                  <a:latin typeface="宋体"/>
                  <a:ea typeface="宋体"/>
                </a:rPr>
                <a:t>进一步巩固小组成果。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955440" y="928800"/>
            <a:ext cx="336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巩固措施一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397" name=""/>
          <p:cNvSpPr/>
          <p:nvPr/>
        </p:nvSpPr>
        <p:spPr>
          <a:xfrm>
            <a:off x="955800" y="3700440"/>
            <a:ext cx="29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  <a:ea typeface="宋体"/>
              </a:rPr>
              <a:t>巩固措施二：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0" y="6591240"/>
            <a:ext cx="5637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图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图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0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2278" dur="indefinite" restart="never" nodeType="tmRoot">
          <p:childTnLst>
            <p:seq>
              <p:cTn id="2279" dur="indefinite" nodeType="mainSeq">
                <p:childTnLst>
                  <p:par>
                    <p:cTn id="2280" fill="hold">
                      <p:stCondLst>
                        <p:cond delay="0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500"/>
                            </p:stCondLst>
                            <p:childTnLst>
                              <p:par>
                                <p:cTn id="2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小组概况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19160" y="1293840"/>
            <a:ext cx="1243080" cy="1266840"/>
            <a:chOff x="1019160" y="1293840"/>
            <a:chExt cx="1243080" cy="1266840"/>
          </a:xfrm>
        </p:grpSpPr>
        <p:grpSp>
          <p:nvGrpSpPr>
            <p:cNvPr id="102" name=""/>
            <p:cNvGrpSpPr/>
            <p:nvPr/>
          </p:nvGrpSpPr>
          <p:grpSpPr>
            <a:xfrm>
              <a:off x="1019160" y="1293840"/>
              <a:ext cx="1243080" cy="1266840"/>
              <a:chOff x="1019160" y="1293840"/>
              <a:chExt cx="1243080" cy="1266840"/>
            </a:xfrm>
          </p:grpSpPr>
          <p:sp>
            <p:nvSpPr>
              <p:cNvPr id="103" name=""/>
              <p:cNvSpPr/>
              <p:nvPr/>
            </p:nvSpPr>
            <p:spPr>
              <a:xfrm>
                <a:off x="1019160" y="1293840"/>
                <a:ext cx="1243080" cy="1266840"/>
              </a:xfrm>
              <a:custGeom>
                <a:avLst/>
                <a:gdLst>
                  <a:gd name="textAreaLeft" fmla="*/ 43200 w 1243080"/>
                  <a:gd name="textAreaRight" fmla="*/ 1199880 w 1243080"/>
                  <a:gd name="textAreaTop" fmla="*/ 43200 h 1266840"/>
                  <a:gd name="textAreaBottom" fmla="*/ 1223640 h 1266840"/>
                </a:gdLst>
                <a:ahLst/>
                <a:rect l="textAreaLeft" t="textAreaTop" r="textAreaRight" b="textAreaBottom"/>
                <a:pathLst>
                  <a:path w="21600" h="22013">
                    <a:moveTo>
                      <a:pt x="2575" y="0"/>
                    </a:moveTo>
                    <a:arcTo wR="2575" hR="2575" stAng="16200000" swAng="-5400000"/>
                    <a:lnTo>
                      <a:pt x="0" y="19438"/>
                    </a:lnTo>
                    <a:arcTo wR="2575" hR="2575" stAng="10800000" swAng="-5400000"/>
                    <a:lnTo>
                      <a:pt x="19025" y="22013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solidFill>
                <a:srgbClr val="eead38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88280" y="1364040"/>
                <a:ext cx="619920" cy="633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e0b5"/>
                  </a:gs>
                  <a:gs pos="50000">
                    <a:srgbClr val="eead38"/>
                  </a:gs>
                  <a:gs pos="100000">
                    <a:srgbClr val="f7e0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171440" y="147384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注册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019160" y="2860560"/>
            <a:ext cx="1243080" cy="1306800"/>
            <a:chOff x="1019160" y="2860560"/>
            <a:chExt cx="1243080" cy="1306800"/>
          </a:xfrm>
        </p:grpSpPr>
        <p:sp>
          <p:nvSpPr>
            <p:cNvPr id="107" name=""/>
            <p:cNvSpPr/>
            <p:nvPr/>
          </p:nvSpPr>
          <p:spPr>
            <a:xfrm>
              <a:off x="1019160" y="2860560"/>
              <a:ext cx="1243080" cy="1306800"/>
            </a:xfrm>
            <a:custGeom>
              <a:avLst/>
              <a:gdLst>
                <a:gd name="textAreaLeft" fmla="*/ 43200 w 1243080"/>
                <a:gd name="textAreaRight" fmla="*/ 1199880 w 1243080"/>
                <a:gd name="textAreaTop" fmla="*/ 43200 h 1306800"/>
                <a:gd name="textAreaBottom" fmla="*/ 1263600 h 1306800"/>
              </a:gdLst>
              <a:ahLst/>
              <a:rect l="textAreaLeft" t="textAreaTop" r="textAreaRight" b="textAreaBottom"/>
              <a:pathLst>
                <a:path w="21600" h="22707">
                  <a:moveTo>
                    <a:pt x="2575" y="0"/>
                  </a:moveTo>
                  <a:arcTo wR="2575" hR="2575" stAng="16200000" swAng="-5400000"/>
                  <a:lnTo>
                    <a:pt x="0" y="20132"/>
                  </a:lnTo>
                  <a:arcTo wR="2575" hR="2575" stAng="10800000" swAng="-5400000"/>
                  <a:lnTo>
                    <a:pt x="19025" y="22707"/>
                  </a:lnTo>
                  <a:arcTo wR="2575" hR="2575" stAng="5400000" swAng="-5400000"/>
                  <a:lnTo>
                    <a:pt x="21600" y="2575"/>
                  </a:lnTo>
                  <a:arcTo wR="2575" hR="2575" stAng="0" swAng="-5400000"/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236ab1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8280" y="2932920"/>
              <a:ext cx="619920" cy="6534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1d8fe"/>
                </a:gs>
                <a:gs pos="50000">
                  <a:srgbClr val="0099ff"/>
                </a:gs>
                <a:gs pos="100000">
                  <a:srgbClr val="a1d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71440" y="304632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活动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19160" y="4489560"/>
            <a:ext cx="1243080" cy="1268280"/>
            <a:chOff x="1019160" y="4489560"/>
            <a:chExt cx="1243080" cy="1268280"/>
          </a:xfrm>
        </p:grpSpPr>
        <p:grpSp>
          <p:nvGrpSpPr>
            <p:cNvPr id="111" name=""/>
            <p:cNvGrpSpPr/>
            <p:nvPr/>
          </p:nvGrpSpPr>
          <p:grpSpPr>
            <a:xfrm>
              <a:off x="1019160" y="4489560"/>
              <a:ext cx="1243080" cy="1268280"/>
              <a:chOff x="1019160" y="4489560"/>
              <a:chExt cx="1243080" cy="126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1019160" y="4489560"/>
                <a:ext cx="1243080" cy="1268280"/>
              </a:xfrm>
              <a:custGeom>
                <a:avLst/>
                <a:gdLst>
                  <a:gd name="textAreaLeft" fmla="*/ 43200 w 1243080"/>
                  <a:gd name="textAreaRight" fmla="*/ 1199880 w 1243080"/>
                  <a:gd name="textAreaTop" fmla="*/ 43200 h 1268280"/>
                  <a:gd name="textAreaBottom" fmla="*/ 1225080 h 1268280"/>
                </a:gdLst>
                <a:ahLst/>
                <a:rect l="textAreaLeft" t="textAreaTop" r="textAreaRight" b="textAreaBottom"/>
                <a:pathLst>
                  <a:path w="21600" h="22038">
                    <a:moveTo>
                      <a:pt x="2575" y="0"/>
                    </a:moveTo>
                    <a:arcTo wR="2575" hR="2575" stAng="16200000" swAng="-5400000"/>
                    <a:lnTo>
                      <a:pt x="0" y="19463"/>
                    </a:lnTo>
                    <a:arcTo wR="2575" hR="2575" stAng="10800000" swAng="-5400000"/>
                    <a:lnTo>
                      <a:pt x="19025" y="22038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bcfa1"/>
                  </a:gs>
                  <a:gs pos="100000">
                    <a:srgbClr val="298f6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8280" y="4560120"/>
                <a:ext cx="619920" cy="6339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ecdb"/>
                  </a:gs>
                  <a:gs pos="50000">
                    <a:srgbClr val="3bcfa1"/>
                  </a:gs>
                  <a:gs pos="100000">
                    <a:srgbClr val="b6ecd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171440" y="4669920"/>
              <a:ext cx="92232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小组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课题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381400" y="1305000"/>
            <a:ext cx="6343200" cy="1270080"/>
            <a:chOff x="2381400" y="1305000"/>
            <a:chExt cx="6343200" cy="1270080"/>
          </a:xfrm>
        </p:grpSpPr>
        <p:sp>
          <p:nvSpPr>
            <p:cNvPr id="116" name=""/>
            <p:cNvSpPr/>
            <p:nvPr/>
          </p:nvSpPr>
          <p:spPr>
            <a:xfrm>
              <a:off x="2381400" y="1305000"/>
              <a:ext cx="6343200" cy="12700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cc66"/>
                </a:gs>
                <a:gs pos="50000">
                  <a:srgbClr val="fee9c1"/>
                </a:gs>
                <a:gs pos="100000">
                  <a:srgbClr val="ffcc6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4280" y="1375200"/>
              <a:ext cx="837720" cy="633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1416240"/>
              <a:ext cx="5690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立时间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册登记号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QC0568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81400" y="2871720"/>
            <a:ext cx="6397200" cy="1309680"/>
            <a:chOff x="2381400" y="2871720"/>
            <a:chExt cx="6397200" cy="1309680"/>
          </a:xfrm>
        </p:grpSpPr>
        <p:sp>
          <p:nvSpPr>
            <p:cNvPr id="120" name=""/>
            <p:cNvSpPr/>
            <p:nvPr/>
          </p:nvSpPr>
          <p:spPr>
            <a:xfrm>
              <a:off x="2381400" y="2871720"/>
              <a:ext cx="6397200" cy="1309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acd5fe"/>
                </a:gs>
                <a:gs pos="100000">
                  <a:srgbClr val="3399ff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5000" y="2944080"/>
              <a:ext cx="844920" cy="6530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7600" y="2986560"/>
              <a:ext cx="5738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动时间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0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－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动次数：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次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381400" y="4500720"/>
            <a:ext cx="6579720" cy="1271520"/>
            <a:chOff x="2381400" y="4500720"/>
            <a:chExt cx="6579720" cy="1271520"/>
          </a:xfrm>
        </p:grpSpPr>
        <p:sp>
          <p:nvSpPr>
            <p:cNvPr id="124" name=""/>
            <p:cNvSpPr/>
            <p:nvPr/>
          </p:nvSpPr>
          <p:spPr>
            <a:xfrm>
              <a:off x="2381400" y="4500720"/>
              <a:ext cx="6434280" cy="1271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98e9d5"/>
                </a:gs>
                <a:gs pos="100000">
                  <a:srgbClr val="00cc9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75720" y="4571280"/>
              <a:ext cx="849960" cy="633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59760" y="4611960"/>
              <a:ext cx="62013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题类型：</a:t>
              </a:r>
              <a:r>
                <a:rPr b="0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攻 关 型</a:t>
              </a:r>
              <a:endParaRPr b="0" lang="en-US" sz="3000" spc="-1" strike="noStrike">
                <a:solidFill>
                  <a:srgbClr val="2b166e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题名称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2300" spc="-1" strike="noStrike">
                  <a:solidFill>
                    <a:srgbClr val="e50601"/>
                  </a:solidFill>
                  <a:latin typeface="黑体"/>
                  <a:ea typeface="黑体"/>
                </a:rPr>
                <a:t>提高</a:t>
              </a:r>
              <a:r>
                <a:rPr b="1" lang="zh-CN" sz="2300" spc="-1" strike="noStrike">
                  <a:solidFill>
                    <a:srgbClr val="e50601"/>
                  </a:solidFill>
                  <a:latin typeface="黑体"/>
                  <a:ea typeface="黑体"/>
                </a:rPr>
                <a:t>无线低压集中抄表系统抄收率</a:t>
              </a:r>
              <a:endParaRPr b="0" lang="en-US" sz="23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下步打算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69720" y="1755720"/>
            <a:ext cx="9203040" cy="3805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rmAutofit/>
          </a:bodyPr>
          <a:p>
            <a:pPr>
              <a:spcBef>
                <a:spcPts val="799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下一步，我们将借助集中抄表系统平台，进行功能扩展，对集抄台区供电可靠性、电压合格率实现数据集抄、统计分析，丰富配电台区运行管理智能化含量，提高自动化技术的应用水平。我们下一个研究课题是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利用低压集抄系统平台，实现“两率”管理</a:t>
            </a:r>
            <a:r>
              <a:rPr b="1" lang="en-US" sz="3200" spc="-1" strike="noStrike">
                <a:solidFill>
                  <a:srgbClr val="2b166e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2b166e"/>
                </a:solidFill>
                <a:latin typeface="宋体"/>
              </a:rPr>
              <a:t>。 </a:t>
            </a:r>
            <a:endParaRPr b="1" lang="en-US" sz="3200" spc="-1" strike="noStrike">
              <a:solidFill>
                <a:srgbClr val="2b166e"/>
              </a:solidFill>
              <a:latin typeface="宋体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0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5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宋体"/>
              </a:rPr>
              <a:t>：</a:t>
            </a:r>
            <a:endParaRPr b="1" lang="en-US" sz="14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403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3E0-FEA9-4043-9737-F08EC85BDC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2063880" y="2819520"/>
            <a:ext cx="5771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bdec"/>
                    </a:gs>
                    <a:gs pos="100000">
                      <a:srgbClr val="1640b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bdec"/>
                  </a:gs>
                  <a:gs pos="100000">
                    <a:srgbClr val="1640b6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fill="hold">
                      <p:stCondLst>
                        <p:cond delay="0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小组成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2120" y="1319040"/>
          <a:ext cx="8943840" cy="4514760"/>
        </p:xfrm>
        <a:graphic>
          <a:graphicData uri="http://schemas.openxmlformats.org/drawingml/2006/table">
            <a:tbl>
              <a:tblPr/>
              <a:tblGrid>
                <a:gridCol w="1138320"/>
                <a:gridCol w="901440"/>
                <a:gridCol w="1325880"/>
                <a:gridCol w="2079360"/>
                <a:gridCol w="1260720"/>
                <a:gridCol w="2238120"/>
              </a:tblGrid>
              <a:tr h="522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性别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文化程度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职　务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职　称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组内分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238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　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生产副总经理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全面策划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87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信息中心主任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组　长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91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网络安全专职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联合调试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828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大　专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MIS</a:t>
                      </a: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系统管理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主站</a:t>
                      </a:r>
                      <a:r>
                        <a:rPr b="1" lang="en-US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MIS</a:t>
                      </a: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接口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74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  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长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工程师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通信系统调试 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男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大　专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成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助　工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主站数据分析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566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SSS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女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本　科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远动班成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技术员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b166e"/>
                          </a:solidFill>
                          <a:latin typeface="宋体"/>
                          <a:ea typeface="宋体"/>
                        </a:rPr>
                        <a:t>资料规整</a:t>
                      </a:r>
                      <a:endParaRPr b="0" lang="en-US" sz="22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48080" y="494028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Actio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总结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965600" y="4882680"/>
            <a:ext cx="5616000" cy="709200"/>
            <a:chOff x="1965600" y="4882680"/>
            <a:chExt cx="5616000" cy="709200"/>
          </a:xfrm>
        </p:grpSpPr>
        <p:sp>
          <p:nvSpPr>
            <p:cNvPr id="131" name=""/>
            <p:cNvSpPr/>
            <p:nvPr/>
          </p:nvSpPr>
          <p:spPr>
            <a:xfrm>
              <a:off x="2381040" y="555300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965600" y="4882680"/>
              <a:ext cx="733680" cy="709200"/>
              <a:chOff x="1965600" y="4882680"/>
              <a:chExt cx="733680" cy="709200"/>
            </a:xfrm>
          </p:grpSpPr>
          <p:sp>
            <p:nvSpPr>
              <p:cNvPr id="133" name=""/>
              <p:cNvSpPr/>
              <p:nvPr/>
            </p:nvSpPr>
            <p:spPr>
              <a:xfrm rot="3418800">
                <a:off x="2092320" y="495540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75393b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24360" y="5019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Plan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计划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65600" y="1605960"/>
            <a:ext cx="5616000" cy="709200"/>
            <a:chOff x="1965600" y="1605960"/>
            <a:chExt cx="5616000" cy="709200"/>
          </a:xfrm>
        </p:grpSpPr>
        <p:sp>
          <p:nvSpPr>
            <p:cNvPr id="137" name=""/>
            <p:cNvSpPr/>
            <p:nvPr/>
          </p:nvSpPr>
          <p:spPr>
            <a:xfrm>
              <a:off x="2381040" y="227628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965600" y="1605960"/>
              <a:ext cx="733680" cy="709200"/>
              <a:chOff x="1965600" y="1605960"/>
              <a:chExt cx="733680" cy="709200"/>
            </a:xfrm>
          </p:grpSpPr>
          <p:sp>
            <p:nvSpPr>
              <p:cNvPr id="139" name=""/>
              <p:cNvSpPr/>
              <p:nvPr/>
            </p:nvSpPr>
            <p:spPr>
              <a:xfrm rot="3418800">
                <a:off x="2092320" y="167868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33720" y="1743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448080" y="2755800"/>
            <a:ext cx="4317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Do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实施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65600" y="2698200"/>
            <a:ext cx="5616000" cy="709200"/>
            <a:chOff x="1965600" y="2698200"/>
            <a:chExt cx="5616000" cy="709200"/>
          </a:xfrm>
        </p:grpSpPr>
        <p:sp>
          <p:nvSpPr>
            <p:cNvPr id="143" name=""/>
            <p:cNvSpPr/>
            <p:nvPr/>
          </p:nvSpPr>
          <p:spPr>
            <a:xfrm>
              <a:off x="2381040" y="3368520"/>
              <a:ext cx="52005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965600" y="2698200"/>
              <a:ext cx="733680" cy="709200"/>
              <a:chOff x="1965600" y="2698200"/>
              <a:chExt cx="733680" cy="709200"/>
            </a:xfrm>
          </p:grpSpPr>
          <p:sp>
            <p:nvSpPr>
              <p:cNvPr id="145" name=""/>
              <p:cNvSpPr/>
              <p:nvPr/>
            </p:nvSpPr>
            <p:spPr>
              <a:xfrm rot="3418800">
                <a:off x="2092320" y="277092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f46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24360" y="2835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3448080" y="384804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宋体"/>
                <a:ea typeface="宋体"/>
              </a:rPr>
              <a:t>Check</a:t>
            </a:r>
            <a:r>
              <a:rPr b="0" lang="zh-CN" sz="2400" spc="-1" strike="noStrike">
                <a:solidFill>
                  <a:srgbClr val="33cccc"/>
                </a:solidFill>
                <a:latin typeface="宋体"/>
                <a:ea typeface="宋体"/>
              </a:rPr>
              <a:t>：检查阶段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65600" y="3790440"/>
            <a:ext cx="5616000" cy="709200"/>
            <a:chOff x="1965600" y="3790440"/>
            <a:chExt cx="5616000" cy="709200"/>
          </a:xfrm>
        </p:grpSpPr>
        <p:sp>
          <p:nvSpPr>
            <p:cNvPr id="149" name=""/>
            <p:cNvSpPr/>
            <p:nvPr/>
          </p:nvSpPr>
          <p:spPr>
            <a:xfrm>
              <a:off x="2382840" y="4459320"/>
              <a:ext cx="519876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65600" y="3790440"/>
              <a:ext cx="733680" cy="709200"/>
              <a:chOff x="1965600" y="3790440"/>
              <a:chExt cx="733680" cy="709200"/>
            </a:xfrm>
          </p:grpSpPr>
          <p:sp>
            <p:nvSpPr>
              <p:cNvPr id="151" name=""/>
              <p:cNvSpPr/>
              <p:nvPr/>
            </p:nvSpPr>
            <p:spPr>
              <a:xfrm rot="3418800">
                <a:off x="2092320" y="3863160"/>
                <a:ext cx="479520" cy="5634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754617"/>
                  </a:gs>
                </a:gsLst>
                <a:lin ang="198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24360" y="3927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3448080" y="1652760"/>
            <a:ext cx="4317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黑体"/>
                <a:ea typeface="黑体"/>
              </a:rPr>
              <a:t>Plan</a:t>
            </a:r>
            <a:r>
              <a:rPr b="1" lang="zh-CN" sz="3600" spc="-1" strike="noStrike">
                <a:solidFill>
                  <a:srgbClr val="2b166e"/>
                </a:solidFill>
                <a:latin typeface="黑体"/>
                <a:ea typeface="黑体"/>
              </a:rPr>
              <a:t>：计划阶段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选题理由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14680" y="2151000"/>
            <a:ext cx="6837120" cy="2981520"/>
          </a:xfrm>
          <a:prstGeom prst="rect">
            <a:avLst/>
          </a:pr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这是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2007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年一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月份集抄系统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一次抄收成功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率折线图，平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均值为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98.1﹪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且随机性较强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规律也不明显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14680" y="1243080"/>
            <a:ext cx="6837120" cy="689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抄收率必须达到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％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14680" y="5372280"/>
            <a:ext cx="6837120" cy="6886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提高无线低压集中抄表系统抄收率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10080" y="2133720"/>
          <a:ext cx="4903920" cy="29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0080" y="2133720"/>
                    <a:ext cx="49039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881360" y="1335240"/>
            <a:ext cx="668160" cy="50292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81360" y="3390840"/>
            <a:ext cx="668160" cy="50328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81360" y="5465880"/>
            <a:ext cx="668160" cy="503280"/>
          </a:xfrm>
          <a:custGeom>
            <a:avLst/>
            <a:gdLst>
              <a:gd name="textAreaLeft" fmla="*/ 104400 w 668160"/>
              <a:gd name="textAreaRight" fmla="*/ 584640 w 6681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520" y="5351400"/>
            <a:ext cx="1535040" cy="73044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ff9933"/>
              </a:gs>
              <a:gs pos="100000">
                <a:srgbClr val="8e551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5b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选择课题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520" y="3276720"/>
            <a:ext cx="1535040" cy="73008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48bdec"/>
              </a:gs>
              <a:gs pos="100000">
                <a:srgbClr val="28698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2b70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系统现状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20" y="1222200"/>
            <a:ext cx="1535040" cy="730440"/>
          </a:xfrm>
          <a:prstGeom prst="roundRect">
            <a:avLst>
              <a:gd name="adj" fmla="val 10782"/>
            </a:avLst>
          </a:prstGeom>
          <a:gradFill rotWithShape="0">
            <a:gsLst>
              <a:gs pos="0">
                <a:srgbClr val="00cc99"/>
              </a:gs>
              <a:gs pos="100000">
                <a:srgbClr val="007155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黑体"/>
              </a:rPr>
              <a:t>公司要求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5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6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65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85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5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5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5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25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3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35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4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5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5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6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65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7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75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8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85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9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95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5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活动计划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6440" y="1209600"/>
          <a:ext cx="9156600" cy="4979880"/>
        </p:xfrm>
        <a:graphic>
          <a:graphicData uri="http://schemas.openxmlformats.org/drawingml/2006/table">
            <a:tbl>
              <a:tblPr/>
              <a:tblGrid>
                <a:gridCol w="1276200"/>
                <a:gridCol w="876600"/>
                <a:gridCol w="860400"/>
                <a:gridCol w="890640"/>
                <a:gridCol w="876240"/>
                <a:gridCol w="874440"/>
                <a:gridCol w="874800"/>
                <a:gridCol w="876240"/>
                <a:gridCol w="874800"/>
                <a:gridCol w="87624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8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选择课题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现状调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设定目标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分析原因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要因确认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制定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实施对策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效果检查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巩固措施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166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8bdec">
                        <a:alpha val="50000"/>
                      </a:srgbClr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下步打算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b166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8bdec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2155680" y="1792440"/>
            <a:ext cx="16992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93880" y="3127320"/>
            <a:ext cx="18252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7720" y="3581280"/>
            <a:ext cx="12016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73400" y="4035600"/>
            <a:ext cx="403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9080" y="4489560"/>
            <a:ext cx="33624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08760" y="4943520"/>
            <a:ext cx="1558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97960" y="5397480"/>
            <a:ext cx="8632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94720" y="5853240"/>
            <a:ext cx="392040" cy="214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36760" y="2246400"/>
            <a:ext cx="2541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35200" y="2700360"/>
            <a:ext cx="81000" cy="20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575400"/>
            <a:ext cx="532764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制表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SSS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　　　　制表日期：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2007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年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3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月</a:t>
            </a:r>
            <a:r>
              <a:rPr b="0" lang="en-US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15</a:t>
            </a:r>
            <a:r>
              <a:rPr b="0" lang="zh-CN" sz="1800" spc="-1" strike="noStrike">
                <a:solidFill>
                  <a:srgbClr val="d9f1ff"/>
                </a:solidFill>
                <a:latin typeface="Times New Roman"/>
                <a:ea typeface="仿宋_GB2312"/>
              </a:rPr>
              <a:t>日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805280" y="207504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8712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现状调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900000"/>
            <a:ext cx="8915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166e"/>
                </a:solidFill>
                <a:latin typeface="宋体"/>
              </a:rPr>
              <a:t>这是低压集抄系统基本组成：</a:t>
            </a:r>
            <a:endParaRPr b="1" lang="en-US" sz="2800" spc="-1" strike="noStrike">
              <a:solidFill>
                <a:srgbClr val="2b166e"/>
              </a:solidFill>
              <a:latin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1714680" y="3645000"/>
            <a:ext cx="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95760" y="4940280"/>
            <a:ext cx="365040" cy="865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308480" y="184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451400" y="3213000"/>
            <a:ext cx="620640" cy="720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533920" y="2060640"/>
            <a:ext cx="0" cy="388764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1760" y="594828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11760" y="5803920"/>
            <a:ext cx="0" cy="14436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11760" y="4148280"/>
            <a:ext cx="72072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11760" y="3860640"/>
            <a:ext cx="0" cy="28764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075040" y="29242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7940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162396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2468520" y="3838680"/>
            <a:ext cx="623880" cy="69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1211400" y="2924280"/>
            <a:ext cx="623880" cy="69372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1068480" y="3500280"/>
            <a:ext cx="2808360" cy="1728720"/>
            <a:chOff x="1068480" y="3500280"/>
            <a:chExt cx="2808360" cy="1728720"/>
          </a:xfrm>
        </p:grpSpPr>
        <p:sp>
          <p:nvSpPr>
            <p:cNvPr id="198" name=""/>
            <p:cNvSpPr/>
            <p:nvPr/>
          </p:nvSpPr>
          <p:spPr>
            <a:xfrm>
              <a:off x="1498680" y="3500280"/>
              <a:ext cx="1440" cy="158436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760" y="3500280"/>
              <a:ext cx="0" cy="12970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00480" y="4437000"/>
              <a:ext cx="0" cy="215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3760" y="4795560"/>
              <a:ext cx="107964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2120" y="4940280"/>
              <a:ext cx="165564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95760" y="4652640"/>
              <a:ext cx="50472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68480" y="5229000"/>
              <a:ext cx="280836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0120" y="5084640"/>
              <a:ext cx="2232360" cy="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32120" y="4437000"/>
              <a:ext cx="0" cy="5032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95760" y="4437000"/>
              <a:ext cx="0" cy="215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76840" y="4437000"/>
              <a:ext cx="0" cy="79200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32480" y="4437000"/>
              <a:ext cx="0" cy="64764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7760" y="4437000"/>
              <a:ext cx="0" cy="50328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43400" y="4437000"/>
              <a:ext cx="0" cy="35856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8480" y="4437000"/>
              <a:ext cx="0" cy="792000"/>
            </a:xfrm>
            <a:prstGeom prst="line">
              <a:avLst/>
            </a:prstGeom>
            <a:ln w="19080">
              <a:solidFill>
                <a:srgbClr val="2b166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9">
            <a:lum bright="18000"/>
          </a:blip>
          <a:srcRect l="23861" t="0" r="28586" b="11234"/>
          <a:stretch/>
        </p:blipFill>
        <p:spPr>
          <a:xfrm>
            <a:off x="3228840" y="2781360"/>
            <a:ext cx="719280" cy="1655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682776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767232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8516880" y="3767040"/>
            <a:ext cx="625680" cy="693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3"/>
          <a:stretch/>
        </p:blipFill>
        <p:spPr>
          <a:xfrm>
            <a:off x="8124840" y="2852640"/>
            <a:ext cx="625320" cy="693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4"/>
          <a:stretch/>
        </p:blipFill>
        <p:spPr>
          <a:xfrm>
            <a:off x="7259760" y="2852640"/>
            <a:ext cx="625320" cy="693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611760" y="4579920"/>
            <a:ext cx="50508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69200" y="4724280"/>
            <a:ext cx="107928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4869000"/>
            <a:ext cx="165600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35760" y="5156280"/>
            <a:ext cx="280836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80120" y="5013360"/>
            <a:ext cx="2232000" cy="0"/>
          </a:xfrm>
          <a:prstGeom prst="line">
            <a:avLst/>
          </a:prstGeom>
          <a:ln w="1908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11760" y="4363920"/>
            <a:ext cx="0" cy="21600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844120" y="4363920"/>
            <a:ext cx="0" cy="792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80120" y="4363920"/>
            <a:ext cx="0" cy="64764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4363920"/>
            <a:ext cx="0" cy="5032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9200" y="4363920"/>
            <a:ext cx="0" cy="35892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12120" y="3429000"/>
            <a:ext cx="1800" cy="1584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8480" y="3429000"/>
            <a:ext cx="0" cy="12970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80480" y="4363920"/>
            <a:ext cx="0" cy="50328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16840" y="4363920"/>
            <a:ext cx="0" cy="21600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35760" y="4363920"/>
            <a:ext cx="0" cy="792360"/>
          </a:xfrm>
          <a:prstGeom prst="line">
            <a:avLst/>
          </a:prstGeom>
          <a:ln w="19080">
            <a:solidFill>
              <a:srgbClr val="2b166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5">
            <a:lum bright="18000"/>
          </a:blip>
          <a:srcRect l="23861" t="0" r="28586" b="11234"/>
          <a:stretch/>
        </p:blipFill>
        <p:spPr>
          <a:xfrm>
            <a:off x="5965920" y="2708280"/>
            <a:ext cx="718920" cy="165564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048640" y="3894120"/>
            <a:ext cx="850320" cy="1074240"/>
            <a:chOff x="5048640" y="3894120"/>
            <a:chExt cx="850320" cy="1074240"/>
          </a:xfrm>
        </p:grpSpPr>
        <p:sp>
          <p:nvSpPr>
            <p:cNvPr id="236" name=""/>
            <p:cNvSpPr/>
            <p:nvPr/>
          </p:nvSpPr>
          <p:spPr>
            <a:xfrm rot="13057200">
              <a:off x="5703480" y="3966480"/>
              <a:ext cx="115920" cy="177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3057200">
              <a:off x="5625000" y="4013280"/>
              <a:ext cx="159840" cy="2444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3057200">
              <a:off x="5522760" y="4101120"/>
              <a:ext cx="200160" cy="3063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3057200">
              <a:off x="5376240" y="4208040"/>
              <a:ext cx="267120" cy="4093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3057200">
              <a:off x="5771520" y="3907800"/>
              <a:ext cx="93240" cy="142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3057200">
              <a:off x="5179320" y="4363560"/>
              <a:ext cx="360360" cy="5518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61800" y="3834720"/>
            <a:ext cx="704160" cy="1130760"/>
            <a:chOff x="3961800" y="3834720"/>
            <a:chExt cx="704160" cy="1130760"/>
          </a:xfrm>
        </p:grpSpPr>
        <p:sp>
          <p:nvSpPr>
            <p:cNvPr id="243" name=""/>
            <p:cNvSpPr/>
            <p:nvPr/>
          </p:nvSpPr>
          <p:spPr>
            <a:xfrm rot="9390000">
              <a:off x="4014720" y="3916440"/>
              <a:ext cx="115920" cy="17784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9390000">
              <a:off x="4035600" y="3971160"/>
              <a:ext cx="159840" cy="2448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9390000">
              <a:off x="4080240" y="4070160"/>
              <a:ext cx="200160" cy="3067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9390000">
              <a:off x="4130280" y="4194360"/>
              <a:ext cx="267120" cy="4096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9390000">
              <a:off x="3985920" y="3847320"/>
              <a:ext cx="93240" cy="1425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9390000">
              <a:off x="4210200" y="4363920"/>
              <a:ext cx="360360" cy="5526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1280" y="2926080"/>
            <a:ext cx="819360" cy="437760"/>
            <a:chOff x="5021280" y="2926080"/>
            <a:chExt cx="819360" cy="437760"/>
          </a:xfrm>
        </p:grpSpPr>
        <p:sp>
          <p:nvSpPr>
            <p:cNvPr id="250" name=""/>
            <p:cNvSpPr/>
            <p:nvPr/>
          </p:nvSpPr>
          <p:spPr>
            <a:xfrm rot="5649000">
              <a:off x="5074560" y="309024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649000">
              <a:off x="5118120" y="306756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649000">
              <a:off x="5195520" y="304524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649000">
              <a:off x="5292720" y="301104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649000">
              <a:off x="5021280" y="309996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649000">
              <a:off x="5428800" y="295308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48840" y="2924280"/>
            <a:ext cx="799560" cy="411120"/>
            <a:chOff x="3948840" y="2924280"/>
            <a:chExt cx="799560" cy="411120"/>
          </a:xfrm>
        </p:grpSpPr>
        <p:sp>
          <p:nvSpPr>
            <p:cNvPr id="257" name=""/>
            <p:cNvSpPr/>
            <p:nvPr/>
          </p:nvSpPr>
          <p:spPr>
            <a:xfrm rot="16200000">
              <a:off x="4565880" y="3024720"/>
              <a:ext cx="132480" cy="12348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4472640" y="3006000"/>
              <a:ext cx="182520" cy="16992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4349880" y="2993040"/>
              <a:ext cx="228240" cy="21276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200000">
              <a:off x="4176000" y="2964960"/>
              <a:ext cx="304920" cy="284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4645800" y="3034800"/>
              <a:ext cx="106200" cy="990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200000">
              <a:off x="3934800" y="2937960"/>
              <a:ext cx="411120" cy="383400"/>
            </a:xfrm>
            <a:prstGeom prst="blockArc">
              <a:avLst>
                <a:gd name="adj1" fmla="val 11063871"/>
                <a:gd name="adj2" fmla="val 21336129"/>
                <a:gd name="adj3" fmla="val 206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1"/>
                            </p:stCondLst>
                            <p:childTnLst>
                              <p:par>
                                <p:cTn id="364" nodeType="afterEffect" fill="remove" presetClass="path" presetID="4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-0.09467 L 0.0276 0.07338 E">
                                      <p:cBhvr>
                                        <p:cTn id="36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remove" presetClass="path" presetID="56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0.06805 L 0.05399 -0.11042 E">
                                      <p:cBhvr>
                                        <p:cTn id="36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remove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9 0.00185 L -0.04375 0.00185 E">
                                      <p:cBhvr>
                                        <p:cTn id="36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remove" presetClass="path" presetID="6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75 0.00185 L 0.04514 0.00185 E">
                                      <p:cBhvr>
                                        <p:cTn id="37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yuliang</cp:lastModifiedBy>
  <dcterms:modified xsi:type="dcterms:W3CDTF">2015-08-12T14:36:30Z</dcterms:modified>
  <cp:revision>3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