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A76-11E7-4C8C-B89B-873948DA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23036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263-EC2B-4D2C-B063-88AE98A3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3692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24B-7AD7-49B7-96A5-0B823DA5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184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280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184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280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2AE-672C-4C36-96C9-F188280B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6E60-8FE4-49B6-B81C-CF3123C2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1523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B750-B7DA-427A-B668-D2D0DE58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2370-81F3-4672-A38C-77C58220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3EFD-A1A4-4ED4-B5D6-E46BE8A2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6B64-D538-47BC-8A55-147B2741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8960" y="304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B35F-8916-4C18-94CD-1CD22D9C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E6F8-AE8D-4427-BC2C-595A9D18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523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015-4C2B-4E8A-A864-E2566943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3692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F2B6-CA91-4074-8636-7B1296E3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3E2A-EF58-484B-9011-BC8A3EA4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240" y="423036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1857-046F-4B0C-9177-60CBC552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3692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58C5-6555-44DA-BEAD-1D37A405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2184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7280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24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2184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7280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F55A-E891-450D-BD20-2DE51E71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36B67-B90A-4066-968F-6B5BBB1C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240" y="1523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14AA-D0D3-4545-BBDB-FEB425FD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C161-7522-4B7D-985D-3137FBAE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B827-B183-47D8-A3F5-8EDD4A24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4DC7-2F12-4A39-BD2D-8EDB0923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542-3875-4487-927A-D58510EB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8960" y="304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C95B-4851-4E32-BB26-71FC6E56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53E72-5477-4F65-8659-86B3B48B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23692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D99B-92CA-4317-BFB1-C4A2E373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92CD-BF99-4E7E-92A2-3305FF6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71240" y="423036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A4B5-1EFD-4283-AE30-B0162183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23692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EEEC5-9484-4DAE-804A-4043900D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92184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7280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7124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92184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7280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B6A52-CD19-4BDF-9E3F-78DBE4CD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6357-4286-4918-8312-1C5DF582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240" y="1523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FE24-6A23-402C-82BC-30FDB292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67FC8-3AFC-43C6-893D-26304805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907-F11E-42CA-B11A-0A694C57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63681-A780-4F24-8AAB-35E6FF8A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E4EA6-3CA7-4531-8BE7-ACA54059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218960" y="304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D90A6-EAC5-443E-AF0C-434E88B7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EF75E-B8C2-4EE0-98E2-EEF37D79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23692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74427-5D60-4AF4-9BB4-6058EF0A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7E5C0-7614-4B5B-B117-CFDF4D5A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71240" y="423036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0FBDC-50EC-42FB-A689-EEED40E4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23692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C3436-72B3-4D7E-A4F9-A4A3CFE9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2184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72800" y="15238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7124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92184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72800" y="42303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00D7-DE8B-45D8-A36D-D14A9A16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701-8E55-4499-83A2-06680CD2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8960" y="304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4C4-F9F0-45F7-8E55-30BAD6B1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1ED-030B-41BF-BFA2-24DD9EF0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6920" y="42303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4995-D02C-4D18-8069-A1A9E5BC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5238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23036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758-B643-4090-9152-0EA743FF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51ppt.com.cn/" TargetMode="External"/><Relationship Id="rId3" Type="http://schemas.openxmlformats.org/officeDocument/2006/relationships/hyperlink" Target="http://www.51ppt.com.cn/" TargetMode="External"/><Relationship Id="rId4" Type="http://schemas.openxmlformats.org/officeDocument/2006/relationships/hyperlink" Target="http://www.51ppt.com.cn/" TargetMode="External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F893-E5E5-4724-A2E5-E4C1FB269A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581280" y="6324480"/>
            <a:ext cx="21337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523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9AF5-67F5-488A-A781-514274B34B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324480"/>
            <a:ext cx="213372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1648-F4CF-4CB7-91DF-3B286A5830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168120" y="228600"/>
            <a:ext cx="8823240" cy="6095880"/>
            <a:chOff x="168120" y="228600"/>
            <a:chExt cx="8823240" cy="6095880"/>
          </a:xfrm>
        </p:grpSpPr>
        <p:sp>
          <p:nvSpPr>
            <p:cNvPr id="90" name="AutoShape 8"/>
            <p:cNvSpPr/>
            <p:nvPr/>
          </p:nvSpPr>
          <p:spPr>
            <a:xfrm>
              <a:off x="168120" y="228600"/>
              <a:ext cx="882324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"/>
            <p:cNvSpPr/>
            <p:nvPr/>
          </p:nvSpPr>
          <p:spPr>
            <a:xfrm>
              <a:off x="761760" y="1709640"/>
              <a:ext cx="769644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17"/>
          <p:cNvSpPr/>
          <p:nvPr/>
        </p:nvSpPr>
        <p:spPr>
          <a:xfrm flipV="1" rot="10800000">
            <a:off x="5562360" y="5412240"/>
            <a:ext cx="2895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cc00"/>
                </a:solidFill>
                <a:uFillTx/>
                <a:latin typeface="Garamond"/>
                <a:ea typeface="宋体"/>
                <a:hlinkClick r:id="rId2"/>
              </a:rPr>
              <a:t>无忧</a:t>
            </a:r>
            <a:r>
              <a:rPr b="0" lang="en-US" sz="1800" spc="-1" strike="noStrike" u="sng">
                <a:solidFill>
                  <a:srgbClr val="99cc00"/>
                </a:solidFill>
                <a:uFillTx/>
                <a:latin typeface="Garamond"/>
                <a:ea typeface="宋体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99cc00"/>
                </a:solidFill>
                <a:uFillTx/>
                <a:latin typeface="Garamond"/>
                <a:ea typeface="宋体"/>
                <a:hlinkClick r:id="rId4"/>
              </a:rPr>
              <a:t>整理发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F376-CE5E-4430-9317-782485DFA7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Unit 3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Job Interview</a:t>
            </a:r>
            <a:endParaRPr b="1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Text 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Get the Job You Wan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809360" y="457200"/>
            <a:ext cx="52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文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Comic Sans MS"/>
              </a:rPr>
              <a:t>Introducing oneself:</a:t>
            </a:r>
            <a:endParaRPr b="1" lang="en-US" sz="3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240" y="99036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For the past three years, I have been in the office of the Brothers Trading Co., where I have been and still am an accounta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I have been in the business for the last ten years, and worked as the superintendent in the personnel depart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I am 25 years of age, and have had two years’ experience in my present post, which I am leaving to  better mysel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Comic Sans MS"/>
              </a:rPr>
              <a:t>About personal ability:</a:t>
            </a:r>
            <a:endParaRPr b="1" lang="en-US" sz="3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Being well acquainted with office works, I could make myself generally useful, should there be any opportunity of your requiring my servi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I have been at the City Commercial College, where I have acquired knowledge of English, mathematics and elementary business pract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Comic Sans MS"/>
              </a:rPr>
              <a:t>Reasons for leaving:</a:t>
            </a:r>
            <a:endParaRPr b="1" lang="en-US" sz="3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1430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My reason for leaving my present employment is that I am desirous of getting broader experience in trad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I am desirous of leaving the employment in order to improve my position and have more responsibilit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Unfortunately I have had to leave my position, as my employers have been forced to liquidate (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清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heir business due to the worldwide economic adversit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3300"/>
                </a:solidFill>
                <a:latin typeface="Comic Sans MS"/>
              </a:rPr>
              <a:t>About salary:</a:t>
            </a:r>
            <a:endParaRPr b="1" lang="en-US" sz="3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76212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I should require a commencing salary of 9,600 dollars a month, plus 1% commission on all sal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As regards salary, I leave it to you to decide after experience of my capacit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About enclosur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You will find enclosed an outline of my education and business training and copies of two letters of recommend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Enclosed please find a résumé and a pho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99840" y="10666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End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) I should be glad to have a personal interview and can  furnish references if desir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Should you think favorably of my application, please kindly grant me an intervie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518148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Writing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e a letter applying for a job that someone has told you about in the following form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our address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Date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ddresse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is or her addres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240" y="30492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ar Si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: APPLICATION FOR (THE POS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...........................................................................................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Beginning of the let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........................................................................................... (Introducing yoursel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bout your personal abilit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bout the enclosure and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............................................................................................     (End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s faithfull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(Signatu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_______________(Na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Résumé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Main structure of a résumé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lights or summary of you main achieve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sonal information. (Name, Sex, Date of birth, Health, Ethnicity, Qualification, Major, Hobbies, Address, Phone number, Email, et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line of your edu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240" y="914040"/>
            <a:ext cx="7543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wards and Honors (University, Middle school, Primary schoo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ences and Social Pract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 course taken (Undergraduate courses, Postgraduate courses, PHD cours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sertations and Pap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enc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Comic Sans MS"/>
              </a:rPr>
              <a:t>使用规范说明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Comic Sans MS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Comic Sans MS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Comic Sans MS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E136-9395-4FAD-9493-B19F2E5962A9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Letters of Application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12193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urpose 1: to get the employer to read your résumé and invite you for an interview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urpose 2: to respond to job advertisements and vacancy announcements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pproach 1: to show that your qualifications fit the employer’s requirements for the position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pproach 2: analyze the position description carefully and pick out key phrases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Writing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ose a résumé of your own according to the main points listed abov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may add and delete some of the headings according to your own situ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p date your résumé once a while, keep every record of your own, it will become very helpful to you when you are actually hunting for a jo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240" y="30492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roach 3: try to match your letter point by point to the requirements by emphasizing key parts of your résumé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e principal parts ar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te l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ide add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lutation (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信函中的称呼语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imentary (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表示敬意的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clo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ature l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240" y="380520"/>
            <a:ext cx="75438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 addition to the basic components, there are several other elements that may be added to the letter depending upon its content: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 subject line, announcing the purpose of the letter, precedes (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在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之前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) the salutation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Any material enclosed with the letter is indicated by typing “Enclosure(s),” followed by the number of such enclosures in parentheses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re may also be a special notation such as “CONFIDENTIAL” (always capitalized) on the envelope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Guidelines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pplication letter should always be addressed to a specific individu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opening paragraph of the letter, you should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arify which specific job you wa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how you learned about the job vacanc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tter should go on to state, in summary fashion,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why you want the job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why you qualify for i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240" y="380520"/>
            <a:ext cx="75438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End by requesting an intervie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Provide a phone number so the employer can contact you quickly.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If you can be reached only at certain times, specify th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Be conci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Generally speaking, and application letter shouldn’t be longer than one p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Avoid bragging or boas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Call attention to your most impressive achievements relating to the job you are seeking, and let these achievements speak for themselv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An Example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ar Ms Rick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reply to your advertisement in today’s newspaper regarding a vacancy in your office, I wish to apply for the position of senior clerk, which you have specifi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feel confident that I can meet your special requirements indicating that the candidate must have a high command of English, for I graduated from the English Language Department of _____ University three years ag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114300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240" y="30492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he main reason for changing my employment is to gain more experience with a superior trading company like yours. I believe that my education and experience will prove useful for work in your office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I am enclosing my personal history, certificate of graduation and letter of recommendation from the president of the University. I shall be obliged if you will give me a personal interview at your convenience.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Very truly yours,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Teresa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Some Useful Expressions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33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Beginning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In reply to your advertisement in today’s (newspaper),  I respectfully offer my services for the situ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With reference to your advertisement in (newspaper) of May 2 for a clerk, I offer myself for the p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Learning from Mr. S.P. Chen that you are looking for a sales manager, I should like to apply for the posi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6:54:04Z</dcterms:created>
  <dc:creator>幻灯片之家：www.eeppt.com</dc:creator>
  <dc:description>幻灯片之家：www.eeppt.com</dc:description>
  <cp:keywords>幻灯片之家：www.eeppt.com</cp:keywords>
  <dc:language>en-US</dc:language>
  <cp:lastModifiedBy>DUB</cp:lastModifiedBy>
  <dcterms:modified xsi:type="dcterms:W3CDTF">2015-08-12T14:36:19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