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BB01-B75C-4473-A56F-6B817E96F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8610-9C12-40F6-A66E-3A42C44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A6BE-A7F6-4BF0-A55E-50E5232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05344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57336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05344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357336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E7A6-B7CF-40ED-AE94-E828D0B33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5F0A-8EBC-401D-8A64-EBBDB734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05344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7336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352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05344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357336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084A-22E5-408E-ABB5-FA0CED6B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C66D-B513-4FF7-A2E9-8FE5620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0225-BA67-4C3F-9387-A14B3BBD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437C-243F-4298-8841-CC311F85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29BF-9F84-432E-BEC6-7A0C9CC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A3A1-72DA-4E58-A271-45BAA2E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FE54-09F7-4588-9D16-BAFA4D4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5DF2-E426-4137-A090-B4F8999B58AA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ftr" idx="3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65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965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28be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965d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965d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38280" y="3352680"/>
            <a:ext cx="76320" cy="228600"/>
          </a:xfrm>
          <a:prstGeom prst="rect">
            <a:avLst/>
          </a:prstGeom>
          <a:solidFill>
            <a:srgbClr val="d7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文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7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8087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a6a6a6"/>
              </a:gs>
              <a:gs pos="100000">
                <a:srgbClr val="b2b2b2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460600" y="2003400"/>
            <a:ext cx="153648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596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75000" y="3355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2597040" y="190224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ec2ee"/>
              </a:gs>
              <a:gs pos="100000">
                <a:srgbClr val="a28be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2534760" y="2002680"/>
            <a:ext cx="1379160" cy="385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f9db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2526840" y="199116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577f16"/>
              </a:gs>
              <a:gs pos="100000">
                <a:srgbClr val="8ac9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38560" y="4010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38600" y="3703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57640" y="414324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440208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400120" y="3894120"/>
            <a:ext cx="1014120" cy="830160"/>
          </a:xfrm>
          <a:prstGeom prst="line">
            <a:avLst/>
          </a:prstGeom>
          <a:ln w="1260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491200" y="162072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e6672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bc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2500920" y="145656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bce8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cxnSp>
        <p:nvCxnSpPr>
          <p:cNvPr id="409" name=""/>
          <p:cNvCxnSpPr>
            <a:endCxn id="408" idx="3"/>
          </p:cNvCxnSpPr>
          <p:nvPr/>
        </p:nvCxnSpPr>
        <p:spPr>
          <a:xfrm flipV="1" rot="10800000">
            <a:off x="3831480" y="26913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endCxn id="401" idx="3"/>
          </p:cNvCxnSpPr>
          <p:nvPr/>
        </p:nvCxnSpPr>
        <p:spPr>
          <a:xfrm rot="10800000">
            <a:off x="5174640" y="3855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3206880" y="4124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429240" y="2438280"/>
            <a:ext cx="2028960" cy="482400"/>
            <a:chOff x="6429240" y="2438280"/>
            <a:chExt cx="2028960" cy="482400"/>
          </a:xfrm>
        </p:grpSpPr>
        <p:sp>
          <p:nvSpPr>
            <p:cNvPr id="414" name=""/>
            <p:cNvSpPr/>
            <p:nvPr/>
          </p:nvSpPr>
          <p:spPr>
            <a:xfrm>
              <a:off x="6548760" y="27162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2924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bc9df"/>
                </a:gs>
                <a:gs pos="100000">
                  <a:srgbClr val="4497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477120" y="3962520"/>
            <a:ext cx="2028600" cy="482040"/>
            <a:chOff x="6477120" y="3962520"/>
            <a:chExt cx="2028600" cy="482040"/>
          </a:xfrm>
        </p:grpSpPr>
        <p:sp>
          <p:nvSpPr>
            <p:cNvPr id="417" name=""/>
            <p:cNvSpPr/>
            <p:nvPr/>
          </p:nvSpPr>
          <p:spPr>
            <a:xfrm>
              <a:off x="6596640" y="424008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39625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28be1"/>
                </a:gs>
                <a:gs pos="100000">
                  <a:srgbClr val="8471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019920" y="5257800"/>
            <a:ext cx="2028600" cy="482400"/>
            <a:chOff x="6019920" y="5257800"/>
            <a:chExt cx="2028600" cy="482400"/>
          </a:xfrm>
        </p:grpSpPr>
        <p:sp>
          <p:nvSpPr>
            <p:cNvPr id="420" name=""/>
            <p:cNvSpPr/>
            <p:nvPr/>
          </p:nvSpPr>
          <p:spPr>
            <a:xfrm>
              <a:off x="6139440" y="55357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52578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f7bc29"/>
                </a:gs>
                <a:gs pos="100000">
                  <a:srgbClr val="c999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66680" y="5410080"/>
            <a:ext cx="2028960" cy="482400"/>
            <a:chOff x="1066680" y="5410080"/>
            <a:chExt cx="2028960" cy="482400"/>
          </a:xfrm>
        </p:grpSpPr>
        <p:sp>
          <p:nvSpPr>
            <p:cNvPr id="423" name=""/>
            <p:cNvSpPr/>
            <p:nvPr/>
          </p:nvSpPr>
          <p:spPr>
            <a:xfrm>
              <a:off x="1186200" y="5688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6668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8ac923"/>
                </a:gs>
                <a:gs pos="100000">
                  <a:srgbClr val="4f73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cxnSp>
        <p:nvCxnSpPr>
          <p:cNvPr id="425" name=""/>
          <p:cNvCxnSpPr/>
          <p:nvPr/>
        </p:nvCxnSpPr>
        <p:spPr>
          <a:xfrm rot="10800000">
            <a:off x="4723560" y="4266360"/>
            <a:ext cx="129636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/>
          <p:nvPr/>
        </p:nvCxnSpPr>
        <p:spPr>
          <a:xfrm flipV="1">
            <a:off x="3095640" y="44193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H="1" rot="2712600">
            <a:off x="4617360" y="165564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aaae8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6654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8887400">
            <a:off x="2349360" y="164412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bc9df"/>
              </a:gs>
              <a:gs pos="100000">
                <a:srgbClr val="95dbe9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8680" y="2660760"/>
            <a:ext cx="2028960" cy="2028600"/>
          </a:xfrm>
          <a:prstGeom prst="diamond">
            <a:avLst/>
          </a:prstGeom>
          <a:solidFill>
            <a:srgbClr val="f7bc29">
              <a:alpha val="50000"/>
            </a:srgbClr>
          </a:soli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18887400">
            <a:off x="4601880" y="391716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85d6e6"/>
              </a:gs>
              <a:gs pos="100000">
                <a:srgbClr val="5bc9df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905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997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905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83040" y="335268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 rot="2712600">
            <a:off x="2348280" y="390996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9a8e7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997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19000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73960" y="45626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4560" y="46432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3960" y="1895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1882800" y="2362320"/>
            <a:ext cx="5257080" cy="2895120"/>
            <a:chOff x="1882800" y="2362320"/>
            <a:chExt cx="5257080" cy="2895120"/>
          </a:xfrm>
        </p:grpSpPr>
        <p:sp>
          <p:nvSpPr>
            <p:cNvPr id="445" name=""/>
            <p:cNvSpPr/>
            <p:nvPr/>
          </p:nvSpPr>
          <p:spPr>
            <a:xfrm>
              <a:off x="26751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10720" y="23623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2800" y="27586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806480" y="2286000"/>
            <a:ext cx="5333760" cy="2819520"/>
            <a:chOff x="1806480" y="2286000"/>
            <a:chExt cx="5333760" cy="2819520"/>
          </a:xfrm>
        </p:grpSpPr>
        <p:sp>
          <p:nvSpPr>
            <p:cNvPr id="450" name=""/>
            <p:cNvSpPr/>
            <p:nvPr/>
          </p:nvSpPr>
          <p:spPr>
            <a:xfrm>
              <a:off x="26103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bc9df"/>
                </a:gs>
                <a:gs pos="100000">
                  <a:srgbClr val="29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7800" y="22860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bc29"/>
                </a:gs>
                <a:gs pos="100000">
                  <a:srgbClr val="7156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06480" y="26719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28be1"/>
                </a:gs>
                <a:gs pos="100000">
                  <a:srgbClr val="baaa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480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690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26000" y="5257800"/>
            <a:ext cx="3048120" cy="853920"/>
          </a:xfrm>
          <a:noFill/>
          <a:ln w="9360">
            <a:solidFill>
              <a:srgbClr val="5bc9d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330280"/>
            <a:ext cx="2192040" cy="965520"/>
          </a:xfrm>
          <a:noFill/>
          <a:ln w="9360">
            <a:solidFill>
              <a:srgbClr val="5965d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3205080" y="1143000"/>
            <a:ext cx="2641680" cy="2644920"/>
          </a:xfrm>
          <a:prstGeom prst="ellipse">
            <a:avLst/>
          </a:pr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45040" y="2535120"/>
            <a:ext cx="2643120" cy="2643480"/>
          </a:xfrm>
          <a:prstGeom prst="ellipse">
            <a:avLst/>
          </a:prstGeom>
          <a:solidFill>
            <a:srgbClr val="f7b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62160" y="2500200"/>
            <a:ext cx="2644920" cy="2643480"/>
          </a:xfrm>
          <a:prstGeom prst="ellipse">
            <a:avLst/>
          </a:pr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4600" y="204624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6360" y="219852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457880" y="4170240"/>
            <a:ext cx="2520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33560" y="31161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6653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ac923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19699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5bc9df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3320" y="51562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28be1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19440" y="14796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67000" y="35892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6291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709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70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62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58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34524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449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59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290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1578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109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3412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346560" y="1676520"/>
            <a:ext cx="2382840" cy="538200"/>
            <a:chOff x="3346560" y="1676520"/>
            <a:chExt cx="2382840" cy="538200"/>
          </a:xfrm>
        </p:grpSpPr>
        <p:sp>
          <p:nvSpPr>
            <p:cNvPr id="484" name=""/>
            <p:cNvSpPr/>
            <p:nvPr/>
          </p:nvSpPr>
          <p:spPr>
            <a:xfrm>
              <a:off x="33465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75000" y="170676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c9df">
                    <a:alpha val="90196"/>
                  </a:srgbClr>
                </a:gs>
                <a:gs pos="50000">
                  <a:srgbClr val="c6ebf3"/>
                </a:gs>
                <a:gs pos="100000">
                  <a:srgbClr val="5bc9d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8170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073920" y="1676520"/>
            <a:ext cx="2384280" cy="538200"/>
            <a:chOff x="6073920" y="1676520"/>
            <a:chExt cx="2384280" cy="538200"/>
          </a:xfrm>
        </p:grpSpPr>
        <p:sp>
          <p:nvSpPr>
            <p:cNvPr id="488" name=""/>
            <p:cNvSpPr/>
            <p:nvPr/>
          </p:nvSpPr>
          <p:spPr>
            <a:xfrm>
              <a:off x="6073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041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8be1">
                    <a:alpha val="90196"/>
                  </a:srgbClr>
                </a:gs>
                <a:gs pos="50000">
                  <a:srgbClr val="ded7f3"/>
                </a:gs>
                <a:gs pos="100000">
                  <a:srgbClr val="a28be1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546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54120" y="1676520"/>
            <a:ext cx="2384280" cy="538200"/>
            <a:chOff x="654120" y="1676520"/>
            <a:chExt cx="2384280" cy="538200"/>
          </a:xfrm>
        </p:grpSpPr>
        <p:sp>
          <p:nvSpPr>
            <p:cNvPr id="492" name=""/>
            <p:cNvSpPr/>
            <p:nvPr/>
          </p:nvSpPr>
          <p:spPr>
            <a:xfrm>
              <a:off x="6541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480c"/>
                </a:gs>
                <a:gs pos="50000">
                  <a:srgbClr val="8ac923"/>
                </a:gs>
                <a:gs pos="100000">
                  <a:srgbClr val="31480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43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923">
                    <a:alpha val="90196"/>
                  </a:srgbClr>
                </a:gs>
                <a:gs pos="50000">
                  <a:srgbClr val="d6ebb4"/>
                </a:gs>
                <a:gs pos="100000">
                  <a:srgbClr val="8ac923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1268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398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506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2499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28be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06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622440" y="52135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15120" y="516888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10440" y="4122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0880" y="4141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06760" y="4397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 rot="5400000">
            <a:off x="3259800" y="4426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5bc9d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840" y="549900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9670200">
            <a:off x="2918160" y="517860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a28be1"/>
          </a:solidFill>
          <a:ln w="9360">
            <a:solidFill>
              <a:srgbClr val="b2b2b2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92600" y="546876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89720" y="43876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5933520" y="539784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70520" y="4427640"/>
            <a:ext cx="691920" cy="69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8ac923"/>
          </a:solidFill>
          <a:ln w="9360">
            <a:solidFill>
              <a:srgbClr val="8ac923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36920" y="4433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02240" y="5508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17840" y="5545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91080" y="44323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13120" y="123192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913120" y="1227240"/>
            <a:ext cx="3313080" cy="3306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913480" y="122724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8ac923">
              <a:alpha val="50000"/>
            </a:srgbClr>
          </a:solidFill>
          <a:ln w="936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2921040" y="1228320"/>
            <a:ext cx="330192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flipV="1" rot="5400000">
            <a:off x="2928960" y="1232280"/>
            <a:ext cx="328428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873880" y="2910240"/>
            <a:ext cx="1886400" cy="1779480"/>
            <a:chOff x="2873880" y="2910240"/>
            <a:chExt cx="1886400" cy="1779480"/>
          </a:xfrm>
        </p:grpSpPr>
        <p:sp>
          <p:nvSpPr>
            <p:cNvPr id="522" name=""/>
            <p:cNvSpPr/>
            <p:nvPr/>
          </p:nvSpPr>
          <p:spPr>
            <a:xfrm flipV="1" rot="19510800">
              <a:off x="3315240" y="2866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18694800">
              <a:off x="3482640" y="308772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18399600">
              <a:off x="3603960" y="319032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17867400">
              <a:off x="3753360" y="3306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9670200">
            <a:off x="2919240" y="122364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02120" y="232740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51280" y="26272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332320" y="282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99000" y="167472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99000" y="380700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9280" y="41878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c9d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62600" y="520524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2560" y="5286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8be1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75560" y="41450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923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332240" y="1234440"/>
            <a:ext cx="1823760" cy="1508040"/>
            <a:chOff x="4332240" y="1234440"/>
            <a:chExt cx="1823760" cy="1508040"/>
          </a:xfrm>
        </p:grpSpPr>
        <p:grpSp>
          <p:nvGrpSpPr>
            <p:cNvPr id="537" name=""/>
            <p:cNvGrpSpPr/>
            <p:nvPr/>
          </p:nvGrpSpPr>
          <p:grpSpPr>
            <a:xfrm>
              <a:off x="4730760" y="1234440"/>
              <a:ext cx="1425240" cy="1508040"/>
              <a:chOff x="4730760" y="1234440"/>
              <a:chExt cx="1425240" cy="1508040"/>
            </a:xfrm>
          </p:grpSpPr>
          <p:sp>
            <p:nvSpPr>
              <p:cNvPr id="538" name=""/>
              <p:cNvSpPr/>
              <p:nvPr/>
            </p:nvSpPr>
            <p:spPr>
              <a:xfrm flipV="1" rot="8983800">
                <a:off x="5544720" y="1428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 rot="8167800">
                <a:off x="5425920" y="124164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 rot="7872600">
                <a:off x="5335200" y="1153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 rot="7340400">
                <a:off x="5223240" y="104976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332240" y="1241640"/>
              <a:ext cx="1743120" cy="1049400"/>
              <a:chOff x="4332240" y="1241640"/>
              <a:chExt cx="1743120" cy="1049400"/>
            </a:xfrm>
          </p:grpSpPr>
          <p:sp>
            <p:nvSpPr>
              <p:cNvPr id="543" name=""/>
              <p:cNvSpPr/>
              <p:nvPr/>
            </p:nvSpPr>
            <p:spPr>
              <a:xfrm flipV="1" rot="7630800">
                <a:off x="5306400" y="11052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 rot="6814800">
                <a:off x="5124960" y="977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 rot="6519600">
                <a:off x="5006880" y="93096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5987400">
                <a:off x="4863960" y="8791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952880" y="274320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5bc9d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14256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a28be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016520" y="1905120"/>
            <a:ext cx="790560" cy="1976400"/>
            <a:chOff x="4016520" y="1905120"/>
            <a:chExt cx="790560" cy="1976400"/>
          </a:xfrm>
        </p:grpSpPr>
        <p:sp>
          <p:nvSpPr>
            <p:cNvPr id="551" name=""/>
            <p:cNvSpPr/>
            <p:nvPr/>
          </p:nvSpPr>
          <p:spPr>
            <a:xfrm>
              <a:off x="420876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652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65420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692680" y="29718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930920" y="1905120"/>
            <a:ext cx="790560" cy="1976400"/>
            <a:chOff x="4930920" y="1905120"/>
            <a:chExt cx="790560" cy="1976400"/>
          </a:xfrm>
        </p:grpSpPr>
        <p:sp>
          <p:nvSpPr>
            <p:cNvPr id="556" name=""/>
            <p:cNvSpPr/>
            <p:nvPr/>
          </p:nvSpPr>
          <p:spPr>
            <a:xfrm>
              <a:off x="512316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3092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5969160" y="267480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5124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451240" y="266688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715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229716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09c"/>
              </a:gs>
              <a:gs pos="100000">
                <a:srgbClr val="a28be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98720" y="2884320"/>
            <a:ext cx="165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08440" y="2322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73680" y="312408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82920" y="489276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18120" y="489276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03320" y="175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7040" y="313380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200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6246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19360" y="3151080"/>
            <a:ext cx="198144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9536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3451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27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471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032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30360" y="4267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7624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241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716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0280" y="4294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3400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2494080"/>
            <a:ext cx="4586040" cy="4173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44440" y="3132000"/>
            <a:ext cx="3389400" cy="3084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28920" y="3613320"/>
            <a:ext cx="2503440" cy="227772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1120" y="3998880"/>
            <a:ext cx="1806480" cy="16416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ae3aa"/>
              </a:gs>
              <a:gs pos="100000">
                <a:srgbClr val="f7bc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9d0f2"/>
              </a:gs>
              <a:gs pos="100000">
                <a:srgbClr val="a28b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0e8a8"/>
              </a:gs>
              <a:gs pos="100000">
                <a:srgbClr val="8ac9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bde8f1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7dd78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5b7eb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9d57c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5b7eb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7dd78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7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5BFC-09B2-4DDB-BB44-FA8755DCCE4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769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2209680"/>
            <a:ext cx="1838160" cy="3309840"/>
            <a:chOff x="685800" y="2209680"/>
            <a:chExt cx="1838160" cy="3309840"/>
          </a:xfrm>
        </p:grpSpPr>
        <p:sp>
          <p:nvSpPr>
            <p:cNvPr id="120" name=""/>
            <p:cNvSpPr/>
            <p:nvPr/>
          </p:nvSpPr>
          <p:spPr>
            <a:xfrm>
              <a:off x="6858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78320" y="2209680"/>
            <a:ext cx="1838160" cy="3309840"/>
            <a:chOff x="3478320" y="2209680"/>
            <a:chExt cx="1838160" cy="3309840"/>
          </a:xfrm>
        </p:grpSpPr>
        <p:sp>
          <p:nvSpPr>
            <p:cNvPr id="123" name=""/>
            <p:cNvSpPr/>
            <p:nvPr/>
          </p:nvSpPr>
          <p:spPr>
            <a:xfrm>
              <a:off x="34783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923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1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15120" y="2209680"/>
            <a:ext cx="1838160" cy="3309840"/>
            <a:chOff x="6315120" y="2209680"/>
            <a:chExt cx="1838160" cy="3309840"/>
          </a:xfrm>
        </p:grpSpPr>
        <p:sp>
          <p:nvSpPr>
            <p:cNvPr id="126" name=""/>
            <p:cNvSpPr/>
            <p:nvPr/>
          </p:nvSpPr>
          <p:spPr>
            <a:xfrm>
              <a:off x="63151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9144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62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3733920"/>
            <a:ext cx="504000" cy="495720"/>
            <a:chOff x="2819520" y="3733920"/>
            <a:chExt cx="504000" cy="495720"/>
          </a:xfrm>
        </p:grpSpPr>
        <p:grpSp>
          <p:nvGrpSpPr>
            <p:cNvPr id="132" name=""/>
            <p:cNvGrpSpPr/>
            <p:nvPr/>
          </p:nvGrpSpPr>
          <p:grpSpPr>
            <a:xfrm>
              <a:off x="3021120" y="3733920"/>
              <a:ext cx="302400" cy="495720"/>
              <a:chOff x="3021120" y="3733920"/>
              <a:chExt cx="302400" cy="495720"/>
            </a:xfrm>
          </p:grpSpPr>
          <p:sp>
            <p:nvSpPr>
              <p:cNvPr id="133" name=""/>
              <p:cNvSpPr/>
              <p:nvPr/>
            </p:nvSpPr>
            <p:spPr>
              <a:xfrm>
                <a:off x="30211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219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227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219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11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819520" y="3733920"/>
              <a:ext cx="302400" cy="495720"/>
              <a:chOff x="2819520" y="3733920"/>
              <a:chExt cx="302400" cy="4957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195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203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211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203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95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5562720" y="3733920"/>
            <a:ext cx="504000" cy="495720"/>
            <a:chOff x="5562720" y="3733920"/>
            <a:chExt cx="504000" cy="495720"/>
          </a:xfrm>
        </p:grpSpPr>
        <p:grpSp>
          <p:nvGrpSpPr>
            <p:cNvPr id="145" name=""/>
            <p:cNvGrpSpPr/>
            <p:nvPr/>
          </p:nvGrpSpPr>
          <p:grpSpPr>
            <a:xfrm>
              <a:off x="5764320" y="3733920"/>
              <a:ext cx="302400" cy="495720"/>
              <a:chOff x="5764320" y="3733920"/>
              <a:chExt cx="302400" cy="495720"/>
            </a:xfrm>
          </p:grpSpPr>
          <p:sp>
            <p:nvSpPr>
              <p:cNvPr id="146" name=""/>
              <p:cNvSpPr/>
              <p:nvPr/>
            </p:nvSpPr>
            <p:spPr>
              <a:xfrm>
                <a:off x="57643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51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659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51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643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562720" y="3733920"/>
              <a:ext cx="302400" cy="495720"/>
              <a:chOff x="5562720" y="3733920"/>
              <a:chExt cx="302400" cy="495720"/>
            </a:xfrm>
          </p:grpSpPr>
          <p:sp>
            <p:nvSpPr>
              <p:cNvPr id="152" name=""/>
              <p:cNvSpPr/>
              <p:nvPr/>
            </p:nvSpPr>
            <p:spPr>
              <a:xfrm>
                <a:off x="55627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635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643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635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7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8580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219320" y="4495680"/>
            <a:ext cx="6319800" cy="1219320"/>
            <a:chOff x="1219320" y="4495680"/>
            <a:chExt cx="6319800" cy="1219320"/>
          </a:xfrm>
        </p:grpSpPr>
        <p:sp>
          <p:nvSpPr>
            <p:cNvPr id="160" name=""/>
            <p:cNvSpPr/>
            <p:nvPr/>
          </p:nvSpPr>
          <p:spPr>
            <a:xfrm>
              <a:off x="1219320" y="46479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923"/>
                </a:gs>
                <a:gs pos="100000">
                  <a:srgbClr val="c2e2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44956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8ac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219320" y="50288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19320" y="2994120"/>
            <a:ext cx="6319800" cy="1218600"/>
            <a:chOff x="1219320" y="2994120"/>
            <a:chExt cx="6319800" cy="1218600"/>
          </a:xfrm>
        </p:grpSpPr>
        <p:sp>
          <p:nvSpPr>
            <p:cNvPr id="164" name=""/>
            <p:cNvSpPr/>
            <p:nvPr/>
          </p:nvSpPr>
          <p:spPr>
            <a:xfrm>
              <a:off x="1219320" y="31460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c9df"/>
                </a:gs>
                <a:gs pos="100000">
                  <a:srgbClr val="aae2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29941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219320" y="35262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5bc9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19320" y="1523880"/>
            <a:ext cx="6319800" cy="1219320"/>
            <a:chOff x="1219320" y="1523880"/>
            <a:chExt cx="6319800" cy="1219320"/>
          </a:xfrm>
        </p:grpSpPr>
        <p:sp>
          <p:nvSpPr>
            <p:cNvPr id="168" name=""/>
            <p:cNvSpPr/>
            <p:nvPr/>
          </p:nvSpPr>
          <p:spPr>
            <a:xfrm>
              <a:off x="1219320" y="16761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8be1"/>
                </a:gs>
                <a:gs pos="100000">
                  <a:srgbClr val="cec2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19320" y="15238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219320" y="20570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712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1240" y="30700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240" y="45720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096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28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36576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5bc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16096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183" name="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bf2f7"/>
                </a:gs>
                <a:gs pos="100000">
                  <a:srgbClr val="5bc9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186" name="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ae5f7"/>
                </a:gs>
                <a:gs pos="100000">
                  <a:srgbClr val="a28b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189" name="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2cf"/>
                </a:gs>
                <a:gs pos="100000">
                  <a:srgbClr val="8ac9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26708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3413160" y="4992480"/>
            <a:ext cx="2116080" cy="66492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385800" y="1849320"/>
            <a:ext cx="3095640" cy="9208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3120" y="3106800"/>
            <a:ext cx="2605320" cy="2641680"/>
          </a:xfrm>
          <a:prstGeom prst="ellipse">
            <a:avLst/>
          </a:prstGeom>
          <a:gradFill rotWithShape="0">
            <a:gsLst>
              <a:gs pos="0">
                <a:srgbClr val="5bc9df"/>
              </a:gs>
              <a:gs pos="100000">
                <a:srgbClr val="32707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6625200">
            <a:off x="4489200" y="2655720"/>
            <a:ext cx="297684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6e5f99"/>
              </a:gs>
              <a:gs pos="100000">
                <a:srgbClr val="a28be1"/>
              </a:gs>
            </a:gsLst>
            <a:lin ang="6876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34160" y="4010040"/>
            <a:ext cx="344520" cy="34452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1400" y="3570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75320" y="3940200"/>
            <a:ext cx="555840" cy="688680"/>
            <a:chOff x="6475320" y="3940200"/>
            <a:chExt cx="555840" cy="688680"/>
          </a:xfrm>
        </p:grpSpPr>
        <p:sp>
          <p:nvSpPr>
            <p:cNvPr id="201" name=""/>
            <p:cNvSpPr/>
            <p:nvPr/>
          </p:nvSpPr>
          <p:spPr>
            <a:xfrm>
              <a:off x="6680520" y="394020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5320" y="3960720"/>
              <a:ext cx="555840" cy="668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35360" y="414648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839960"/>
            <a:ext cx="2365560" cy="317160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1160" y="229068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62080" y="1523880"/>
            <a:ext cx="2151000" cy="59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9280" y="164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92400" y="2390760"/>
            <a:ext cx="641160" cy="942840"/>
            <a:chOff x="4892400" y="2390760"/>
            <a:chExt cx="641160" cy="942840"/>
          </a:xfrm>
        </p:grpSpPr>
        <p:sp>
          <p:nvSpPr>
            <p:cNvPr id="209" name=""/>
            <p:cNvSpPr/>
            <p:nvPr/>
          </p:nvSpPr>
          <p:spPr>
            <a:xfrm flipH="1">
              <a:off x="5123520" y="2390760"/>
              <a:ext cx="172440" cy="19692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892040" y="2583000"/>
              <a:ext cx="641160" cy="7506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543640" y="2427120"/>
            <a:ext cx="612720" cy="901800"/>
            <a:chOff x="5543640" y="2427120"/>
            <a:chExt cx="612720" cy="901800"/>
          </a:xfrm>
        </p:grpSpPr>
        <p:sp>
          <p:nvSpPr>
            <p:cNvPr id="212" name=""/>
            <p:cNvSpPr/>
            <p:nvPr/>
          </p:nvSpPr>
          <p:spPr>
            <a:xfrm>
              <a:off x="5543640" y="260820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70800" y="2427120"/>
              <a:ext cx="161640" cy="18576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031080" y="466884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15840" y="3205080"/>
            <a:ext cx="9159480" cy="109800"/>
            <a:chOff x="-15840" y="3205080"/>
            <a:chExt cx="9159480" cy="109800"/>
          </a:xfrm>
        </p:grpSpPr>
        <p:sp>
          <p:nvSpPr>
            <p:cNvPr id="218" name=""/>
            <p:cNvSpPr/>
            <p:nvPr/>
          </p:nvSpPr>
          <p:spPr>
            <a:xfrm>
              <a:off x="-15840" y="3205080"/>
              <a:ext cx="9159480" cy="42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15840" y="3247200"/>
              <a:ext cx="9159480" cy="6768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074600" y="2685960"/>
            <a:ext cx="1931760" cy="3265200"/>
            <a:chOff x="1074600" y="2685960"/>
            <a:chExt cx="1931760" cy="3265200"/>
          </a:xfrm>
        </p:grpSpPr>
        <p:grpSp>
          <p:nvGrpSpPr>
            <p:cNvPr id="221" name=""/>
            <p:cNvGrpSpPr/>
            <p:nvPr/>
          </p:nvGrpSpPr>
          <p:grpSpPr>
            <a:xfrm>
              <a:off x="1480320" y="3526560"/>
              <a:ext cx="1526040" cy="2424600"/>
              <a:chOff x="1480320" y="3526560"/>
              <a:chExt cx="1526040" cy="24246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480320" y="3684240"/>
                <a:ext cx="1420200" cy="2266920"/>
                <a:chOff x="1480320" y="3684240"/>
                <a:chExt cx="1420200" cy="2266920"/>
              </a:xfrm>
            </p:grpSpPr>
            <p:sp>
              <p:nvSpPr>
                <p:cNvPr id="223" name=""/>
                <p:cNvSpPr/>
                <p:nvPr/>
              </p:nvSpPr>
              <p:spPr>
                <a:xfrm rot="3876600">
                  <a:off x="10526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876600">
                  <a:off x="241992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916640" y="3526560"/>
                <a:ext cx="1089720" cy="1739520"/>
                <a:chOff x="1916640" y="3526560"/>
                <a:chExt cx="1089720" cy="1739520"/>
              </a:xfrm>
            </p:grpSpPr>
            <p:sp>
              <p:nvSpPr>
                <p:cNvPr id="226" name=""/>
                <p:cNvSpPr/>
                <p:nvPr/>
              </p:nvSpPr>
              <p:spPr>
                <a:xfrm flipV="1" rot="3876600">
                  <a:off x="158796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3876600">
                  <a:off x="262188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074600" y="2685960"/>
              <a:ext cx="1270440" cy="1309320"/>
              <a:chOff x="1074600" y="2685960"/>
              <a:chExt cx="1270440" cy="1309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0746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746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5848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5848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1320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1228320" y="2844360"/>
                <a:ext cx="962280" cy="992880"/>
                <a:chOff x="1228320" y="2844360"/>
                <a:chExt cx="962280" cy="992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2832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4056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5028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0284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 rot="3925800">
              <a:off x="14414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3925800">
              <a:off x="19029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22400" y="2685960"/>
            <a:ext cx="1931040" cy="3265200"/>
            <a:chOff x="2822400" y="2685960"/>
            <a:chExt cx="1931040" cy="3265200"/>
          </a:xfrm>
        </p:grpSpPr>
        <p:grpSp>
          <p:nvGrpSpPr>
            <p:cNvPr id="242" name=""/>
            <p:cNvGrpSpPr/>
            <p:nvPr/>
          </p:nvGrpSpPr>
          <p:grpSpPr>
            <a:xfrm>
              <a:off x="3227040" y="3526560"/>
              <a:ext cx="1526400" cy="2424600"/>
              <a:chOff x="3227040" y="3526560"/>
              <a:chExt cx="1526400" cy="24246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3227040" y="3684240"/>
                <a:ext cx="1420200" cy="2266920"/>
                <a:chOff x="3227040" y="3684240"/>
                <a:chExt cx="1420200" cy="2266920"/>
              </a:xfrm>
            </p:grpSpPr>
            <p:sp>
              <p:nvSpPr>
                <p:cNvPr id="244" name=""/>
                <p:cNvSpPr/>
                <p:nvPr/>
              </p:nvSpPr>
              <p:spPr>
                <a:xfrm rot="3876600">
                  <a:off x="27993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3876600">
                  <a:off x="4166640" y="545004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63360" y="3526560"/>
                <a:ext cx="1090080" cy="1739520"/>
                <a:chOff x="3663360" y="3526560"/>
                <a:chExt cx="1090080" cy="1739520"/>
              </a:xfrm>
            </p:grpSpPr>
            <p:sp>
              <p:nvSpPr>
                <p:cNvPr id="247" name=""/>
                <p:cNvSpPr/>
                <p:nvPr/>
              </p:nvSpPr>
              <p:spPr>
                <a:xfrm flipV="1" rot="3876600">
                  <a:off x="333504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 rot="3876600">
                  <a:off x="4368960" y="488844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2822400" y="2685960"/>
              <a:ext cx="1270440" cy="1309320"/>
              <a:chOff x="2822400" y="2685960"/>
              <a:chExt cx="1270440" cy="1309320"/>
            </a:xfrm>
          </p:grpSpPr>
          <p:sp>
            <p:nvSpPr>
              <p:cNvPr id="250" name=""/>
              <p:cNvSpPr/>
              <p:nvPr/>
            </p:nvSpPr>
            <p:spPr>
              <a:xfrm>
                <a:off x="28224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24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0628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0628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100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976120" y="2844360"/>
                <a:ext cx="962280" cy="992880"/>
                <a:chOff x="2976120" y="2844360"/>
                <a:chExt cx="962280" cy="992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97612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98836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9808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05064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 rot="3925800">
              <a:off x="31827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925800">
              <a:off x="364500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26000" y="2685960"/>
            <a:ext cx="1931760" cy="3265200"/>
            <a:chOff x="4626000" y="2685960"/>
            <a:chExt cx="1931760" cy="3265200"/>
          </a:xfrm>
        </p:grpSpPr>
        <p:grpSp>
          <p:nvGrpSpPr>
            <p:cNvPr id="263" name=""/>
            <p:cNvGrpSpPr/>
            <p:nvPr/>
          </p:nvGrpSpPr>
          <p:grpSpPr>
            <a:xfrm>
              <a:off x="5031720" y="3526560"/>
              <a:ext cx="1526040" cy="2424600"/>
              <a:chOff x="5031720" y="3526560"/>
              <a:chExt cx="1526040" cy="242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5031720" y="3684240"/>
                <a:ext cx="1420200" cy="2266920"/>
                <a:chOff x="5031720" y="3684240"/>
                <a:chExt cx="1420200" cy="2266920"/>
              </a:xfrm>
            </p:grpSpPr>
            <p:sp>
              <p:nvSpPr>
                <p:cNvPr id="265" name=""/>
                <p:cNvSpPr/>
                <p:nvPr/>
              </p:nvSpPr>
              <p:spPr>
                <a:xfrm rot="3876600">
                  <a:off x="46040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3876600">
                  <a:off x="597132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468040" y="3526560"/>
                <a:ext cx="1089720" cy="1739520"/>
                <a:chOff x="5468040" y="3526560"/>
                <a:chExt cx="1089720" cy="1739520"/>
              </a:xfrm>
            </p:grpSpPr>
            <p:sp>
              <p:nvSpPr>
                <p:cNvPr id="268" name=""/>
                <p:cNvSpPr/>
                <p:nvPr/>
              </p:nvSpPr>
              <p:spPr>
                <a:xfrm flipV="1" rot="3876600">
                  <a:off x="513936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 rot="3876600">
                  <a:off x="617328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4626000" y="2685960"/>
              <a:ext cx="1272240" cy="1309320"/>
              <a:chOff x="4626000" y="2685960"/>
              <a:chExt cx="1272240" cy="1309320"/>
            </a:xfrm>
          </p:grpSpPr>
          <p:sp>
            <p:nvSpPr>
              <p:cNvPr id="271" name=""/>
              <p:cNvSpPr/>
              <p:nvPr/>
            </p:nvSpPr>
            <p:spPr>
              <a:xfrm>
                <a:off x="462600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2600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10240" y="27709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10240" y="277380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64960" y="282888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780080" y="2844360"/>
                <a:ext cx="963720" cy="992880"/>
                <a:chOff x="4780080" y="2844360"/>
                <a:chExt cx="963720" cy="992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780080" y="284436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2320" y="284976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802400" y="285912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854600" y="288468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 rot="3925800">
              <a:off x="499608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3925800">
              <a:off x="54579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402240" y="2541600"/>
            <a:ext cx="2122560" cy="3476160"/>
            <a:chOff x="6402240" y="2541600"/>
            <a:chExt cx="2122560" cy="3476160"/>
          </a:xfrm>
        </p:grpSpPr>
        <p:grpSp>
          <p:nvGrpSpPr>
            <p:cNvPr id="284" name=""/>
            <p:cNvGrpSpPr/>
            <p:nvPr/>
          </p:nvGrpSpPr>
          <p:grpSpPr>
            <a:xfrm>
              <a:off x="6998760" y="3593160"/>
              <a:ext cx="1526040" cy="2424600"/>
              <a:chOff x="6998760" y="3593160"/>
              <a:chExt cx="1526040" cy="24246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8760" y="3750840"/>
                <a:ext cx="1420200" cy="2266920"/>
                <a:chOff x="6998760" y="3750840"/>
                <a:chExt cx="1420200" cy="2266920"/>
              </a:xfrm>
            </p:grpSpPr>
            <p:sp>
              <p:nvSpPr>
                <p:cNvPr id="286" name=""/>
                <p:cNvSpPr/>
                <p:nvPr/>
              </p:nvSpPr>
              <p:spPr>
                <a:xfrm rot="3876600">
                  <a:off x="6571080" y="46378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876600">
                  <a:off x="793836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435080" y="3593160"/>
                <a:ext cx="1089720" cy="1739520"/>
                <a:chOff x="7435080" y="3593160"/>
                <a:chExt cx="1089720" cy="1739520"/>
              </a:xfrm>
            </p:grpSpPr>
            <p:sp>
              <p:nvSpPr>
                <p:cNvPr id="289" name=""/>
                <p:cNvSpPr/>
                <p:nvPr/>
              </p:nvSpPr>
              <p:spPr>
                <a:xfrm flipV="1" rot="3876600">
                  <a:off x="7106400" y="42739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 rot="3876600">
                  <a:off x="8140320" y="49561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6402240" y="2541600"/>
              <a:ext cx="152676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2240" y="2541600"/>
              <a:ext cx="152676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0376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05560" y="264780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68920" y="2712960"/>
              <a:ext cx="119448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588000" y="2732040"/>
              <a:ext cx="1157760" cy="1190160"/>
              <a:chOff x="6588000" y="2732040"/>
              <a:chExt cx="1157760" cy="1190160"/>
            </a:xfrm>
          </p:grpSpPr>
          <p:sp>
            <p:nvSpPr>
              <p:cNvPr id="297" name=""/>
              <p:cNvSpPr/>
              <p:nvPr/>
            </p:nvSpPr>
            <p:spPr>
              <a:xfrm>
                <a:off x="6588000" y="2732040"/>
                <a:ext cx="115776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0276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614640" y="2750040"/>
                <a:ext cx="107460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77640" y="2780280"/>
                <a:ext cx="95508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rot="3925800">
              <a:off x="694872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925800">
              <a:off x="740916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414440" y="1828800"/>
            <a:ext cx="6056640" cy="407880"/>
            <a:chOff x="1414440" y="1828800"/>
            <a:chExt cx="6056640" cy="407880"/>
          </a:xfrm>
        </p:grpSpPr>
        <p:sp>
          <p:nvSpPr>
            <p:cNvPr id="304" name=""/>
            <p:cNvSpPr/>
            <p:nvPr/>
          </p:nvSpPr>
          <p:spPr>
            <a:xfrm>
              <a:off x="14144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8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14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5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0500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6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4" idx="3"/>
              <a:endCxn id="305" idx="1"/>
            </p:cNvCxnSpPr>
            <p:nvPr/>
          </p:nvCxnSpPr>
          <p:spPr>
            <a:xfrm>
              <a:off x="2150640" y="2052360"/>
              <a:ext cx="98676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5" idx="3"/>
              <a:endCxn id="306" idx="1"/>
            </p:cNvCxnSpPr>
            <p:nvPr/>
          </p:nvCxnSpPr>
          <p:spPr>
            <a:xfrm>
              <a:off x="3905280" y="205236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/>
            <p:nvPr/>
          </p:nvCxnSpPr>
          <p:spPr>
            <a:xfrm>
              <a:off x="5651640" y="205704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772160" y="3657600"/>
            <a:ext cx="1834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65320" y="4146480"/>
            <a:ext cx="1806840" cy="43200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36520" y="4640400"/>
            <a:ext cx="1825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3280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f7bc29">
                  <a:alpha val="50196"/>
                </a:srgbClr>
              </a:gs>
              <a:gs pos="100000">
                <a:srgbClr val="f9d989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46480" y="351792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a6e1ec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5260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295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59080" y="300204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f9da8b"/>
              </a:gs>
              <a:gs pos="100000">
                <a:srgbClr val="f7bc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5620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7156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152360" y="418140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065240" y="3220920"/>
            <a:ext cx="1152360" cy="1140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065240" y="32209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f7bc29">
                  <a:alpha val="45098"/>
                </a:srgbClr>
              </a:gs>
              <a:gs pos="50000">
                <a:srgbClr val="f9d989">
                  <a:alpha val="90196"/>
                </a:srgbClr>
              </a:gs>
              <a:gs pos="100000">
                <a:srgbClr val="f7bc29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440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99556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2908440" y="2717640"/>
            <a:ext cx="1152360" cy="1140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90844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7343a">
                  <a:alpha val="90196"/>
                </a:srgbClr>
              </a:gs>
              <a:gs pos="50000">
                <a:srgbClr val="5bc9df">
                  <a:alpha val="45098"/>
                </a:srgbClr>
              </a:gs>
              <a:gs pos="100000">
                <a:srgbClr val="1734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2724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4916520" y="319104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4829040" y="223056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829040" y="22305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40310a">
                  <a:alpha val="90196"/>
                </a:srgbClr>
              </a:gs>
              <a:gs pos="50000">
                <a:srgbClr val="f7bc29">
                  <a:alpha val="45098"/>
                </a:srgbClr>
              </a:gs>
              <a:gs pos="100000">
                <a:srgbClr val="4031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225432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428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5280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7844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08160" y="4842000"/>
            <a:ext cx="16905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65db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30480" y="4365720"/>
            <a:ext cx="17416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3552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125360" y="3952800"/>
            <a:ext cx="1076040" cy="428400"/>
            <a:chOff x="1125360" y="3952800"/>
            <a:chExt cx="1076040" cy="428400"/>
          </a:xfrm>
        </p:grpSpPr>
        <p:grpSp>
          <p:nvGrpSpPr>
            <p:cNvPr id="339" name=""/>
            <p:cNvGrpSpPr/>
            <p:nvPr/>
          </p:nvGrpSpPr>
          <p:grpSpPr>
            <a:xfrm>
              <a:off x="1314000" y="3952800"/>
              <a:ext cx="887400" cy="403560"/>
              <a:chOff x="1314000" y="3952800"/>
              <a:chExt cx="887400" cy="403560"/>
            </a:xfrm>
          </p:grpSpPr>
          <p:sp>
            <p:nvSpPr>
              <p:cNvPr id="340" name=""/>
              <p:cNvSpPr/>
              <p:nvPr/>
            </p:nvSpPr>
            <p:spPr>
              <a:xfrm flipH="1" flipV="1" rot="3964800">
                <a:off x="1797480" y="383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4780200">
                <a:off x="1697040" y="3871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5076000">
                <a:off x="1636560" y="3879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 rot="5608200">
                <a:off x="1562760" y="38872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125360" y="3958200"/>
              <a:ext cx="886680" cy="423000"/>
              <a:chOff x="1125360" y="3958200"/>
              <a:chExt cx="886680" cy="423000"/>
            </a:xfrm>
          </p:grpSpPr>
          <p:sp>
            <p:nvSpPr>
              <p:cNvPr id="345" name=""/>
              <p:cNvSpPr/>
              <p:nvPr/>
            </p:nvSpPr>
            <p:spPr>
              <a:xfrm flipH="1" flipV="1" rot="5317800">
                <a:off x="1609560" y="3886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 rot="6133800">
                <a:off x="1501920" y="388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 rot="6429000">
                <a:off x="1441800" y="3868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6961200">
                <a:off x="1371600" y="3846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3016440" y="3478680"/>
            <a:ext cx="1075680" cy="428400"/>
            <a:chOff x="3016440" y="3478680"/>
            <a:chExt cx="1075680" cy="428400"/>
          </a:xfrm>
        </p:grpSpPr>
        <p:grpSp>
          <p:nvGrpSpPr>
            <p:cNvPr id="350" name=""/>
            <p:cNvGrpSpPr/>
            <p:nvPr/>
          </p:nvGrpSpPr>
          <p:grpSpPr>
            <a:xfrm>
              <a:off x="3204720" y="3478680"/>
              <a:ext cx="887400" cy="403560"/>
              <a:chOff x="3204720" y="3478680"/>
              <a:chExt cx="887400" cy="403560"/>
            </a:xfrm>
          </p:grpSpPr>
          <p:sp>
            <p:nvSpPr>
              <p:cNvPr id="351" name=""/>
              <p:cNvSpPr/>
              <p:nvPr/>
            </p:nvSpPr>
            <p:spPr>
              <a:xfrm flipH="1" flipV="1" rot="3964800">
                <a:off x="3687840" y="3357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4780200">
                <a:off x="3588120" y="33976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5076000">
                <a:off x="3526920" y="3405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5608200">
                <a:off x="3453480" y="34128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16440" y="3484080"/>
              <a:ext cx="886680" cy="423000"/>
              <a:chOff x="3016440" y="3484080"/>
              <a:chExt cx="886680" cy="423000"/>
            </a:xfrm>
          </p:grpSpPr>
          <p:sp>
            <p:nvSpPr>
              <p:cNvPr id="356" name=""/>
              <p:cNvSpPr/>
              <p:nvPr/>
            </p:nvSpPr>
            <p:spPr>
              <a:xfrm flipH="1" flipV="1" rot="5317800">
                <a:off x="3500640" y="3412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6133800">
                <a:off x="3392640" y="34113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6429000">
                <a:off x="3332880" y="33948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 rot="6961200">
                <a:off x="3262680" y="3372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865760" y="2975760"/>
            <a:ext cx="1075320" cy="428040"/>
            <a:chOff x="4865760" y="2975760"/>
            <a:chExt cx="1075320" cy="428040"/>
          </a:xfrm>
        </p:grpSpPr>
        <p:grpSp>
          <p:nvGrpSpPr>
            <p:cNvPr id="361" name=""/>
            <p:cNvGrpSpPr/>
            <p:nvPr/>
          </p:nvGrpSpPr>
          <p:grpSpPr>
            <a:xfrm>
              <a:off x="5053320" y="2975760"/>
              <a:ext cx="887760" cy="403560"/>
              <a:chOff x="5053320" y="2975760"/>
              <a:chExt cx="887760" cy="403560"/>
            </a:xfrm>
          </p:grpSpPr>
          <p:sp>
            <p:nvSpPr>
              <p:cNvPr id="362" name=""/>
              <p:cNvSpPr/>
              <p:nvPr/>
            </p:nvSpPr>
            <p:spPr>
              <a:xfrm flipH="1" flipV="1" rot="3964800">
                <a:off x="553644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4780200">
                <a:off x="543672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 rot="5076000">
                <a:off x="537516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 rot="5608200">
                <a:off x="5301720" y="2909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865760" y="2980800"/>
              <a:ext cx="886680" cy="423000"/>
              <a:chOff x="4865760" y="2980800"/>
              <a:chExt cx="886680" cy="423000"/>
            </a:xfrm>
          </p:grpSpPr>
          <p:sp>
            <p:nvSpPr>
              <p:cNvPr id="367" name=""/>
              <p:cNvSpPr/>
              <p:nvPr/>
            </p:nvSpPr>
            <p:spPr>
              <a:xfrm flipH="1" flipV="1" rot="5317800">
                <a:off x="5349960" y="2909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 rot="6133800">
                <a:off x="5241960" y="2908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 rot="6429000">
                <a:off x="5182200" y="2891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 rot="6961200">
                <a:off x="5112000" y="2869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822240" y="1508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7080" y="3164040"/>
            <a:ext cx="1835280" cy="43164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99364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6e1ec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9112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295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675180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6664320" y="173664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664320" y="1736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7343a">
                  <a:alpha val="90196"/>
                </a:srgbClr>
              </a:gs>
              <a:gs pos="50000">
                <a:srgbClr val="5bc9df">
                  <a:alpha val="45098"/>
                </a:srgbClr>
              </a:gs>
              <a:gs pos="100000">
                <a:srgbClr val="1734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348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13720" y="21589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70800" y="3497400"/>
            <a:ext cx="17618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700680" y="2481120"/>
            <a:ext cx="1076040" cy="428400"/>
            <a:chOff x="6700680" y="2481120"/>
            <a:chExt cx="1076040" cy="428400"/>
          </a:xfrm>
        </p:grpSpPr>
        <p:grpSp>
          <p:nvGrpSpPr>
            <p:cNvPr id="382" name=""/>
            <p:cNvGrpSpPr/>
            <p:nvPr/>
          </p:nvGrpSpPr>
          <p:grpSpPr>
            <a:xfrm>
              <a:off x="6889320" y="2481120"/>
              <a:ext cx="887400" cy="403560"/>
              <a:chOff x="6889320" y="2481120"/>
              <a:chExt cx="887400" cy="403560"/>
            </a:xfrm>
          </p:grpSpPr>
          <p:sp>
            <p:nvSpPr>
              <p:cNvPr id="383" name=""/>
              <p:cNvSpPr/>
              <p:nvPr/>
            </p:nvSpPr>
            <p:spPr>
              <a:xfrm flipH="1" flipV="1" rot="3964800">
                <a:off x="7372800" y="2359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 rot="4780200">
                <a:off x="7272360" y="24001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 rot="5076000">
                <a:off x="7211880" y="2408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 rot="5608200">
                <a:off x="7138080" y="24156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700680" y="2486520"/>
              <a:ext cx="886680" cy="423000"/>
              <a:chOff x="6700680" y="2486520"/>
              <a:chExt cx="886680" cy="423000"/>
            </a:xfrm>
          </p:grpSpPr>
          <p:sp>
            <p:nvSpPr>
              <p:cNvPr id="388" name=""/>
              <p:cNvSpPr/>
              <p:nvPr/>
            </p:nvSpPr>
            <p:spPr>
              <a:xfrm flipH="1" flipV="1" rot="5317800">
                <a:off x="7184880" y="2415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 rot="6133800">
                <a:off x="7077240" y="2413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 rot="6429000">
                <a:off x="7017120" y="23972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 rot="6961200">
                <a:off x="6946920" y="2374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53352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add96"/>
              </a:gs>
              <a:gs pos="100000">
                <a:srgbClr val="f7bc29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6:1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