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041-2B62-445C-ABDE-D6DFC95A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F27-A393-43F2-9277-5A344CC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8B9-E66A-4E09-B18F-93B661E4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891-A526-4840-ACBE-E557057C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39B-22CE-4F14-95B2-1FBAD91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02D-8931-4A63-8C5A-348E7E1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58C-A8D0-4344-9BEB-1C1FD081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39D-C69E-4AD4-AD99-9FDFC48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C3B-7248-499A-B667-50BDC8B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01B-4EE1-4AFF-BFDB-ED65C54C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90D-C2C0-4352-A292-5CD8A046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103-D56C-4E31-AC35-8A8DCD3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A81-0F0E-4A7B-A50A-7BC848FFEE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5" descr=""/>
          <p:cNvPicPr/>
          <p:nvPr/>
        </p:nvPicPr>
        <p:blipFill>
          <a:blip r:embed="rId2"/>
          <a:stretch/>
        </p:blipFill>
        <p:spPr>
          <a:xfrm>
            <a:off x="871560" y="3333600"/>
            <a:ext cx="3067200" cy="75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2720" y="1133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雅致花朵毕业论文幻灯片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BB9-0E93-4385-A3C4-091260210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0:05:32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6:2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