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F6B-68CF-4A7B-8320-2812607B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0E4-8FA4-4DE8-8D16-F39B3378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435-FE5F-463B-967E-9658F766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459-3A1A-4B27-9808-0AB68F27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48E2-075E-459B-A31D-A5115C9F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7E7C-C80A-4FC0-A8BC-9266099B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B08A-EF9D-4AF5-A6D7-2842C89F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9F15-F2DD-4A01-AB8B-A57B7B7E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2044-83D5-4FFF-BE5E-183C111D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43F4-3D0C-4687-BCF8-955F773D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32CA-A178-4132-98DB-0C043BCD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BE2-DD43-4BA2-8AE2-4D83407D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021E-7B7A-4193-8B5F-4307529B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DE5B-CF2F-4C03-940D-7CDAEFB6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E106-4AA6-4126-BBB5-9F9427C4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B553-C3F1-438B-93E5-0B813ADC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8C49-3008-4DB8-AB92-82E8C3DE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D57A-A6E6-48B0-A849-B2932130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06E-254E-4707-8D72-F0F9E607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2301-CDCF-44C7-A3E0-4D29E0D4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63E-2563-422E-B20D-66CC4A58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26E-619E-4DDB-B6FD-AB4846B5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0830-7029-4B74-BBB8-62BDA8E7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5B5-F92F-4D05-AC46-D8D9C0E0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DCF8-8C70-4D11-AF2F-86A30CF1E57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2764-CD50-4715-8D0F-F043C2A9DA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360" y="1269720"/>
            <a:ext cx="9671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C6D0-85BE-4429-A6CA-17C5FAE5B5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直接连接符 4"/>
          <p:cNvSpPr/>
          <p:nvPr/>
        </p:nvSpPr>
        <p:spPr>
          <a:xfrm>
            <a:off x="1128600" y="912960"/>
            <a:ext cx="792792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TextBox 7" descr=""/>
          <p:cNvPicPr/>
          <p:nvPr/>
        </p:nvPicPr>
        <p:blipFill>
          <a:blip r:embed="rId2"/>
          <a:stretch/>
        </p:blipFill>
        <p:spPr>
          <a:xfrm>
            <a:off x="1146240" y="476280"/>
            <a:ext cx="1090440" cy="401760"/>
          </a:xfrm>
          <a:prstGeom prst="rect">
            <a:avLst/>
          </a:prstGeom>
          <a:ln w="0">
            <a:noFill/>
          </a:ln>
        </p:spPr>
      </p:pic>
      <p:grpSp>
        <p:nvGrpSpPr>
          <p:cNvPr id="87" name="椭圆 9"/>
          <p:cNvGrpSpPr/>
          <p:nvPr/>
        </p:nvGrpSpPr>
        <p:grpSpPr>
          <a:xfrm>
            <a:off x="2378160" y="182520"/>
            <a:ext cx="530280" cy="591840"/>
            <a:chOff x="2378160" y="182520"/>
            <a:chExt cx="530280" cy="591840"/>
          </a:xfrm>
        </p:grpSpPr>
        <p:pic>
          <p:nvPicPr>
            <p:cNvPr id="88" name="椭圆 9" descr=""/>
            <p:cNvPicPr/>
            <p:nvPr/>
          </p:nvPicPr>
          <p:blipFill>
            <a:blip r:embed="rId3"/>
            <a:stretch/>
          </p:blipFill>
          <p:spPr>
            <a:xfrm>
              <a:off x="2379240" y="185400"/>
              <a:ext cx="52740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378160" y="182520"/>
              <a:ext cx="53028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" name="TextBox 11" descr=""/>
          <p:cNvPicPr/>
          <p:nvPr/>
        </p:nvPicPr>
        <p:blipFill>
          <a:blip r:embed="rId4"/>
          <a:stretch/>
        </p:blipFill>
        <p:spPr>
          <a:xfrm>
            <a:off x="2457360" y="328680"/>
            <a:ext cx="389160" cy="244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2"/>
          <p:cNvSpPr/>
          <p:nvPr/>
        </p:nvSpPr>
        <p:spPr>
          <a:xfrm>
            <a:off x="6105600" y="50796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Age</a:t>
            </a:r>
            <a:r>
              <a:rPr b="0" lang="en-US" sz="2000" spc="-1" strike="noStrike" baseline="30000">
                <a:solidFill>
                  <a:srgbClr val="ffc000"/>
                </a:solidFill>
                <a:latin typeface="方正美黑简体"/>
                <a:ea typeface="方正美黑简体"/>
              </a:rPr>
              <a:t>2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方正美黑简体"/>
                <a:ea typeface="方正美黑简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| Work Experience</a:t>
            </a:r>
            <a:r>
              <a:rPr b="0" lang="en-US" sz="2000" spc="-1" strike="noStrike" baseline="30000">
                <a:solidFill>
                  <a:srgbClr val="ffc000"/>
                </a:solidFill>
                <a:latin typeface="方正美黑简体"/>
                <a:ea typeface="方正美黑简体"/>
              </a:rPr>
              <a:t>3</a:t>
            </a:r>
            <a:r>
              <a:rPr b="0" lang="zh-CN" sz="2000" spc="-1" strike="noStrike" baseline="30000">
                <a:solidFill>
                  <a:srgbClr val="ffc000"/>
                </a:solidFill>
                <a:latin typeface="方正美黑简体"/>
                <a:ea typeface="方正美黑简体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组合 13"/>
          <p:cNvGrpSpPr/>
          <p:nvPr/>
        </p:nvGrpSpPr>
        <p:grpSpPr>
          <a:xfrm>
            <a:off x="517320" y="1403640"/>
            <a:ext cx="4739040" cy="4375080"/>
            <a:chOff x="517320" y="1403640"/>
            <a:chExt cx="4739040" cy="4375080"/>
          </a:xfrm>
        </p:grpSpPr>
        <p:sp>
          <p:nvSpPr>
            <p:cNvPr id="93" name="椭圆 14"/>
            <p:cNvSpPr/>
            <p:nvPr/>
          </p:nvSpPr>
          <p:spPr>
            <a:xfrm>
              <a:off x="2191320" y="3078000"/>
              <a:ext cx="1026720" cy="102744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空心弧 15"/>
            <p:cNvSpPr/>
            <p:nvPr/>
          </p:nvSpPr>
          <p:spPr>
            <a:xfrm>
              <a:off x="1889280" y="2775600"/>
              <a:ext cx="1630800" cy="1631880"/>
            </a:xfrm>
            <a:custGeom>
              <a:avLst/>
              <a:gdLst/>
              <a:ahLst/>
              <a:rect l="l" t="t" r="r" b="b"/>
              <a:pathLst>
                <a:path w="2721901" h="2721902">
                  <a:moveTo>
                    <a:pt x="1279955" y="2412"/>
                  </a:moveTo>
                  <a:cubicBezTo>
                    <a:pt x="1847768" y="-31441"/>
                    <a:pt x="2376741" y="291411"/>
                    <a:pt x="2606227" y="811885"/>
                  </a:cubicBezTo>
                  <a:cubicBezTo>
                    <a:pt x="2835714" y="1332359"/>
                    <a:pt x="2717301" y="1940655"/>
                    <a:pt x="2309336" y="2337041"/>
                  </a:cubicBezTo>
                  <a:lnTo>
                    <a:pt x="2027666" y="2047142"/>
                  </a:lnTo>
                  <a:cubicBezTo>
                    <a:pt x="2314465" y="1768483"/>
                    <a:pt x="2397709" y="1340851"/>
                    <a:pt x="2236380" y="974958"/>
                  </a:cubicBezTo>
                  <a:cubicBezTo>
                    <a:pt x="2075051" y="609064"/>
                    <a:pt x="1703183" y="382099"/>
                    <a:pt x="1304011" y="405898"/>
                  </a:cubicBezTo>
                  <a:lnTo>
                    <a:pt x="1279955" y="241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空心弧 16"/>
            <p:cNvSpPr/>
            <p:nvPr/>
          </p:nvSpPr>
          <p:spPr>
            <a:xfrm rot="18658200">
              <a:off x="1586520" y="2473920"/>
              <a:ext cx="2236320" cy="2234880"/>
            </a:xfrm>
            <a:custGeom>
              <a:avLst/>
              <a:gdLst/>
              <a:ahLst/>
              <a:rect l="l" t="t" r="r" b="b"/>
              <a:pathLst>
                <a:path w="3730013" h="3730015">
                  <a:moveTo>
                    <a:pt x="3200787" y="563492"/>
                  </a:moveTo>
                  <a:cubicBezTo>
                    <a:pt x="3675760" y="1050970"/>
                    <a:pt x="3847464" y="1758480"/>
                    <a:pt x="3648777" y="2409447"/>
                  </a:cubicBezTo>
                  <a:cubicBezTo>
                    <a:pt x="3450090" y="3060414"/>
                    <a:pt x="2912567" y="3551455"/>
                    <a:pt x="2246332" y="3690616"/>
                  </a:cubicBezTo>
                  <a:cubicBezTo>
                    <a:pt x="1580097" y="3829777"/>
                    <a:pt x="890958" y="3594956"/>
                    <a:pt x="448310" y="3077948"/>
                  </a:cubicBezTo>
                  <a:lnTo>
                    <a:pt x="754458" y="2815831"/>
                  </a:lnTo>
                  <a:cubicBezTo>
                    <a:pt x="1101450" y="3221114"/>
                    <a:pt x="1641666" y="3405190"/>
                    <a:pt x="2163928" y="3296102"/>
                  </a:cubicBezTo>
                  <a:cubicBezTo>
                    <a:pt x="2686189" y="3187014"/>
                    <a:pt x="3107554" y="2802087"/>
                    <a:pt x="3263305" y="2291793"/>
                  </a:cubicBezTo>
                  <a:cubicBezTo>
                    <a:pt x="3419056" y="1781500"/>
                    <a:pt x="3284457" y="1226883"/>
                    <a:pt x="2912126" y="844749"/>
                  </a:cubicBezTo>
                  <a:lnTo>
                    <a:pt x="3200787" y="563492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空心弧 17"/>
            <p:cNvSpPr/>
            <p:nvPr/>
          </p:nvSpPr>
          <p:spPr>
            <a:xfrm rot="4125600">
              <a:off x="1265040" y="2153520"/>
              <a:ext cx="2878200" cy="2876040"/>
            </a:xfrm>
            <a:custGeom>
              <a:avLst/>
              <a:gdLst/>
              <a:ahLst/>
              <a:rect l="l" t="t" r="r" b="b"/>
              <a:pathLst>
                <a:path w="4800600" h="4800600">
                  <a:moveTo>
                    <a:pt x="115605" y="1664359"/>
                  </a:moveTo>
                  <a:cubicBezTo>
                    <a:pt x="423029" y="709975"/>
                    <a:pt x="1291297" y="47236"/>
                    <a:pt x="2292969" y="2401"/>
                  </a:cubicBezTo>
                  <a:cubicBezTo>
                    <a:pt x="3294642" y="-42434"/>
                    <a:pt x="4218647" y="540082"/>
                    <a:pt x="4610108" y="1463184"/>
                  </a:cubicBezTo>
                  <a:cubicBezTo>
                    <a:pt x="5001569" y="2386286"/>
                    <a:pt x="4777996" y="3455457"/>
                    <a:pt x="4049452" y="4144357"/>
                  </a:cubicBezTo>
                  <a:cubicBezTo>
                    <a:pt x="3320908" y="4833256"/>
                    <a:pt x="2240912" y="4996719"/>
                    <a:pt x="1341134" y="4554275"/>
                  </a:cubicBezTo>
                  <a:lnTo>
                    <a:pt x="1529899" y="4170394"/>
                  </a:lnTo>
                  <a:cubicBezTo>
                    <a:pt x="2269319" y="4533986"/>
                    <a:pt x="3156839" y="4399656"/>
                    <a:pt x="3755541" y="3833532"/>
                  </a:cubicBezTo>
                  <a:cubicBezTo>
                    <a:pt x="4354244" y="3267408"/>
                    <a:pt x="4537972" y="2388784"/>
                    <a:pt x="4216277" y="1630198"/>
                  </a:cubicBezTo>
                  <a:cubicBezTo>
                    <a:pt x="3894582" y="871611"/>
                    <a:pt x="3135253" y="392910"/>
                    <a:pt x="2312098" y="429755"/>
                  </a:cubicBezTo>
                  <a:cubicBezTo>
                    <a:pt x="1488943" y="466600"/>
                    <a:pt x="775418" y="1011226"/>
                    <a:pt x="522783" y="1795520"/>
                  </a:cubicBezTo>
                  <a:lnTo>
                    <a:pt x="115605" y="1664359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椭圆形标注 18"/>
            <p:cNvSpPr/>
            <p:nvPr/>
          </p:nvSpPr>
          <p:spPr>
            <a:xfrm rot="12828600">
              <a:off x="1128240" y="2013480"/>
              <a:ext cx="3152520" cy="3154680"/>
            </a:xfrm>
            <a:prstGeom prst="wedgeEllipseCallout">
              <a:avLst>
                <a:gd name="adj1" fmla="val -16625"/>
                <a:gd name="adj2" fmla="val 56759"/>
              </a:avLst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19"/>
            <p:cNvSpPr/>
            <p:nvPr/>
          </p:nvSpPr>
          <p:spPr>
            <a:xfrm>
              <a:off x="2141280" y="3285720"/>
              <a:ext cx="112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ritannic Bold"/>
                  <a:ea typeface="方正美黑简体"/>
                </a:rPr>
                <a:t>WHA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ritannic Bold"/>
                  <a:ea typeface="方正美黑简体"/>
                </a:rPr>
                <a:t>CAN  I D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Box 20"/>
            <p:cNvSpPr/>
            <p:nvPr/>
          </p:nvSpPr>
          <p:spPr>
            <a:xfrm>
              <a:off x="1924200" y="212472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ritannic Bold"/>
                  <a:ea typeface="方正美黑简体"/>
                </a:rPr>
                <a:t>Offic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21"/>
            <p:cNvSpPr/>
            <p:nvPr/>
          </p:nvSpPr>
          <p:spPr>
            <a:xfrm>
              <a:off x="1628280" y="2412720"/>
              <a:ext cx="114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ritannic Bold"/>
                  <a:ea typeface="方正美黑简体"/>
                </a:rPr>
                <a:t>Comput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22"/>
            <p:cNvSpPr/>
            <p:nvPr/>
          </p:nvSpPr>
          <p:spPr>
            <a:xfrm>
              <a:off x="1774440" y="270072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ritannic Bold"/>
                  <a:ea typeface="方正美黑简体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TextBox 23" descr=""/>
            <p:cNvPicPr/>
            <p:nvPr/>
          </p:nvPicPr>
          <p:blipFill>
            <a:blip r:embed="rId5"/>
            <a:stretch/>
          </p:blipFill>
          <p:spPr>
            <a:xfrm>
              <a:off x="4221360" y="2013120"/>
              <a:ext cx="1035000" cy="51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矩形 25"/>
          <p:cNvSpPr/>
          <p:nvPr/>
        </p:nvSpPr>
        <p:spPr>
          <a:xfrm>
            <a:off x="422280" y="777960"/>
            <a:ext cx="657360" cy="1350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8"/>
          <p:cNvSpPr/>
          <p:nvPr/>
        </p:nvSpPr>
        <p:spPr>
          <a:xfrm>
            <a:off x="422280" y="647640"/>
            <a:ext cx="657360" cy="77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等腰三角形 30"/>
          <p:cNvSpPr/>
          <p:nvPr/>
        </p:nvSpPr>
        <p:spPr>
          <a:xfrm rot="5400000">
            <a:off x="9113760" y="593640"/>
            <a:ext cx="387360" cy="326880"/>
          </a:xfrm>
          <a:prstGeom prst="triangle">
            <a:avLst>
              <a:gd name="adj" fmla="val 50000"/>
            </a:avLst>
          </a:prstGeom>
          <a:solidFill>
            <a:srgbClr val="40404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等腰三角形 31"/>
          <p:cNvSpPr/>
          <p:nvPr/>
        </p:nvSpPr>
        <p:spPr>
          <a:xfrm rot="5400000">
            <a:off x="9276480" y="594360"/>
            <a:ext cx="387360" cy="325440"/>
          </a:xfrm>
          <a:prstGeom prst="triangle">
            <a:avLst>
              <a:gd name="adj" fmla="val 50000"/>
            </a:avLst>
          </a:prstGeom>
          <a:solidFill>
            <a:srgbClr val="40404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组合 34"/>
          <p:cNvGrpSpPr/>
          <p:nvPr/>
        </p:nvGrpSpPr>
        <p:grpSpPr>
          <a:xfrm>
            <a:off x="6048360" y="1467000"/>
            <a:ext cx="2936880" cy="1519560"/>
            <a:chOff x="6048360" y="1467000"/>
            <a:chExt cx="2936880" cy="1519560"/>
          </a:xfrm>
        </p:grpSpPr>
        <p:sp>
          <p:nvSpPr>
            <p:cNvPr id="108" name="TextBox 32"/>
            <p:cNvSpPr/>
            <p:nvPr/>
          </p:nvSpPr>
          <p:spPr>
            <a:xfrm>
              <a:off x="6048360" y="1467000"/>
              <a:ext cx="293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Areas of </a:t>
              </a:r>
              <a:r>
                <a:rPr b="0" lang="en-US" sz="2000" spc="-1" strike="noStrike">
                  <a:solidFill>
                    <a:srgbClr val="ffc000"/>
                  </a:solidFill>
                  <a:latin typeface="方正美黑简体"/>
                  <a:ea typeface="方正美黑简体"/>
                </a:rPr>
                <a:t>E</a:t>
              </a:r>
              <a:r>
                <a:rPr b="0" lang="en-US" sz="20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xpertis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Box 33"/>
            <p:cNvSpPr/>
            <p:nvPr/>
          </p:nvSpPr>
          <p:spPr>
            <a:xfrm>
              <a:off x="6120360" y="1827000"/>
              <a:ext cx="23950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制作与美化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文案策划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营销推广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产品优化提议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革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组合 35"/>
          <p:cNvGrpSpPr/>
          <p:nvPr/>
        </p:nvGrpSpPr>
        <p:grpSpPr>
          <a:xfrm>
            <a:off x="6048360" y="3094200"/>
            <a:ext cx="2936880" cy="1809000"/>
            <a:chOff x="6048360" y="3094200"/>
            <a:chExt cx="2936880" cy="1809000"/>
          </a:xfrm>
        </p:grpSpPr>
        <p:sp>
          <p:nvSpPr>
            <p:cNvPr id="111" name="TextBox 36"/>
            <p:cNvSpPr/>
            <p:nvPr/>
          </p:nvSpPr>
          <p:spPr>
            <a:xfrm>
              <a:off x="6048360" y="3094200"/>
              <a:ext cx="293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Work </a:t>
              </a:r>
              <a:r>
                <a:rPr b="0" lang="en-US" sz="2000" spc="-1" strike="noStrike">
                  <a:solidFill>
                    <a:srgbClr val="ffc000"/>
                  </a:solidFill>
                  <a:latin typeface="方正美黑简体"/>
                  <a:ea typeface="方正美黑简体"/>
                </a:rPr>
                <a:t>E</a:t>
              </a:r>
              <a:r>
                <a:rPr b="0" lang="en-US" sz="20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xperien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37"/>
            <p:cNvSpPr/>
            <p:nvPr/>
          </p:nvSpPr>
          <p:spPr>
            <a:xfrm>
              <a:off x="6120360" y="3454200"/>
              <a:ext cx="2702160" cy="14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2009.10-2011.1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广州维森置业有限公司 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营销助理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2012.03-</a:t>
              </a: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至今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中山市世宇实业有限公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文案策划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38"/>
          <p:cNvGrpSpPr/>
          <p:nvPr/>
        </p:nvGrpSpPr>
        <p:grpSpPr>
          <a:xfrm>
            <a:off x="6048360" y="5013360"/>
            <a:ext cx="2936880" cy="1093320"/>
            <a:chOff x="6048360" y="5013360"/>
            <a:chExt cx="2936880" cy="1093320"/>
          </a:xfrm>
        </p:grpSpPr>
        <p:sp>
          <p:nvSpPr>
            <p:cNvPr id="114" name="TextBox 39"/>
            <p:cNvSpPr/>
            <p:nvPr/>
          </p:nvSpPr>
          <p:spPr>
            <a:xfrm>
              <a:off x="6048360" y="5013360"/>
              <a:ext cx="293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Job </a:t>
              </a:r>
              <a:r>
                <a:rPr b="0" lang="en-US" sz="2000" spc="-1" strike="noStrike">
                  <a:solidFill>
                    <a:srgbClr val="ffc000"/>
                  </a:solidFill>
                  <a:latin typeface="方正美黑简体"/>
                  <a:ea typeface="方正美黑简体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andidat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40"/>
            <p:cNvSpPr/>
            <p:nvPr/>
          </p:nvSpPr>
          <p:spPr>
            <a:xfrm>
              <a:off x="6120360" y="5373360"/>
              <a:ext cx="2395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设计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文案策划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美黑简体"/>
                  <a:ea typeface="方正美黑简体"/>
                </a:rPr>
                <a:t>营销推广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48"/>
          <p:cNvSpPr/>
          <p:nvPr/>
        </p:nvSpPr>
        <p:spPr>
          <a:xfrm>
            <a:off x="5327640" y="6448320"/>
            <a:ext cx="44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新浪</a:t>
            </a:r>
            <a:r>
              <a:rPr b="0" lang="zh-CN" sz="1400" spc="-1" strike="noStrike">
                <a:solidFill>
                  <a:srgbClr val="ffc000"/>
                </a:solidFill>
                <a:latin typeface="方正美黑简体"/>
                <a:ea typeface="方正美黑简体"/>
              </a:rPr>
              <a:t>微博</a:t>
            </a:r>
            <a:r>
              <a:rPr b="0" lang="zh-CN" sz="14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：</a:t>
            </a:r>
            <a:r>
              <a:rPr b="0" lang="en-US" sz="14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@</a:t>
            </a:r>
            <a:r>
              <a:rPr b="0" lang="zh-CN" sz="14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怪唲乖  </a:t>
            </a:r>
            <a:r>
              <a:rPr b="0" lang="en-US" sz="1400" spc="-1" strike="noStrike">
                <a:solidFill>
                  <a:srgbClr val="ffc000"/>
                </a:solidFill>
                <a:latin typeface="方正美黑简体"/>
                <a:ea typeface="方正美黑简体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：</a:t>
            </a:r>
            <a:r>
              <a:rPr b="0" lang="en-US" sz="14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15335777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9"/>
          <p:cNvSpPr/>
          <p:nvPr/>
        </p:nvSpPr>
        <p:spPr>
          <a:xfrm>
            <a:off x="631800" y="5661000"/>
            <a:ext cx="41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只有想不到，没有做不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直接连接符 51"/>
          <p:cNvSpPr/>
          <p:nvPr/>
        </p:nvSpPr>
        <p:spPr>
          <a:xfrm>
            <a:off x="493560" y="6669000"/>
            <a:ext cx="6115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28520" y="63086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884600" y="1052640"/>
            <a:ext cx="353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一纸简历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0:40:1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29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