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F73-55EB-4525-B7E3-A6145FC3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4CD-4278-4DAA-A24F-07C08488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DA8-8193-4DD0-9A16-93CBD95A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D4B-1A80-49E2-AE43-BF357DF4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E6C-B160-43BA-9E3D-2B22A165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27C-6135-4F6D-8390-E67FE0D8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D25-DD27-47D5-ACCA-B562165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143-FA82-4C6A-A965-070B1176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4FF-F2F0-4A70-9863-1F788144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7F3-C48B-400D-949E-2E5321B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B42-C15D-40EA-B640-D96F78F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B1F-037A-472F-B835-F524CAAE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7652-0A84-49E4-9715-764EFA50DE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8B2-4326-4BB5-94E0-5AAFB9044F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rcRect l="14443" t="0" r="14204" b="0"/>
          <a:stretch/>
        </p:blipFill>
        <p:spPr>
          <a:xfrm>
            <a:off x="0" y="0"/>
            <a:ext cx="1223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735"/>
          <p:cNvSpPr/>
          <p:nvPr/>
        </p:nvSpPr>
        <p:spPr>
          <a:xfrm>
            <a:off x="3373560" y="16984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色商务大型会议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737"/>
          <p:cNvSpPr/>
          <p:nvPr/>
        </p:nvSpPr>
        <p:spPr>
          <a:xfrm>
            <a:off x="4925880" y="461160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-2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  中国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杭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2747"/>
          <p:cNvGrpSpPr/>
          <p:nvPr/>
        </p:nvGrpSpPr>
        <p:grpSpPr>
          <a:xfrm>
            <a:off x="387360" y="216000"/>
            <a:ext cx="1900080" cy="544320"/>
            <a:chOff x="387360" y="216000"/>
            <a:chExt cx="1900080" cy="544320"/>
          </a:xfrm>
        </p:grpSpPr>
        <p:sp>
          <p:nvSpPr>
            <p:cNvPr id="45" name="文本框 2733"/>
            <p:cNvSpPr/>
            <p:nvPr/>
          </p:nvSpPr>
          <p:spPr>
            <a:xfrm>
              <a:off x="756000" y="237240"/>
              <a:ext cx="118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2745"/>
            <p:cNvSpPr/>
            <p:nvPr/>
          </p:nvSpPr>
          <p:spPr>
            <a:xfrm>
              <a:off x="387360" y="216000"/>
              <a:ext cx="1900080" cy="5443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文本框 6"/>
          <p:cNvSpPr/>
          <p:nvPr/>
        </p:nvSpPr>
        <p:spPr>
          <a:xfrm>
            <a:off x="9651960" y="2570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 超越 成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67C-4617-4F00-9180-F11C4AAC81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7" descr=""/>
          <p:cNvPicPr/>
          <p:nvPr/>
        </p:nvPicPr>
        <p:blipFill>
          <a:blip r:embed="rId1"/>
          <a:srcRect l="14443" t="0" r="14204" b="0"/>
          <a:stretch/>
        </p:blipFill>
        <p:spPr>
          <a:xfrm>
            <a:off x="0" y="0"/>
            <a:ext cx="12233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735"/>
          <p:cNvSpPr/>
          <p:nvPr/>
        </p:nvSpPr>
        <p:spPr>
          <a:xfrm>
            <a:off x="3993840" y="244620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文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737"/>
          <p:cNvSpPr/>
          <p:nvPr/>
        </p:nvSpPr>
        <p:spPr>
          <a:xfrm>
            <a:off x="4416120" y="3975120"/>
            <a:ext cx="33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***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签约仪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747"/>
          <p:cNvGrpSpPr/>
          <p:nvPr/>
        </p:nvGrpSpPr>
        <p:grpSpPr>
          <a:xfrm>
            <a:off x="4641840" y="811080"/>
            <a:ext cx="2860560" cy="820800"/>
            <a:chOff x="4641840" y="811080"/>
            <a:chExt cx="2860560" cy="820800"/>
          </a:xfrm>
        </p:grpSpPr>
        <p:sp>
          <p:nvSpPr>
            <p:cNvPr id="55" name="文本框 2733"/>
            <p:cNvSpPr/>
            <p:nvPr/>
          </p:nvSpPr>
          <p:spPr>
            <a:xfrm>
              <a:off x="5365440" y="883440"/>
              <a:ext cx="160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G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745"/>
            <p:cNvSpPr/>
            <p:nvPr/>
          </p:nvSpPr>
          <p:spPr>
            <a:xfrm>
              <a:off x="4641840" y="811080"/>
              <a:ext cx="2860560" cy="8208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3:3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32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