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B88-6A06-45E0-AED0-E412BA63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606-41BE-479F-B6EB-54B99C62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7B4-FDFC-4831-8528-3B0B3386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FCD-42BB-47B2-915E-4B7A8E0D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AB3E-7C33-479A-87F9-18EB8D5E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57E9-A092-477A-B56B-4743A55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7260-A4C6-44BB-A38D-8F177234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20A0-8CF9-4C46-80DB-7ED3554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E045-5998-4727-80EC-FBCAE22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6D2-CB2A-4BD9-9C5B-C1A6EEF4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A81F-A64B-4AA3-9E9B-DA21808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4BC-E3B6-43F4-8E44-25F3FD2B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F12-988E-4F0B-B3AF-B4CDE17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CF61-4CE9-418A-BCDB-7D76F15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F39-D6DA-44F5-8C06-91D1176A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6F7E-A15E-4BAB-B1B1-55BE6CAF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119-4820-4371-805A-C0F4B465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C6E-1ED1-48B5-8E4F-027063BB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24E-4255-46B5-BC6F-F248ED0C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50D-3C7A-4F2E-8EB7-C074A0F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592-FD8C-4AEB-9137-0B8EE55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AD5-49F6-42FC-99F0-4CBE8D4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B4E-DE56-4586-BD5B-6F3F7231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7F9-8DE7-48C1-B5DE-07580BC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C5C8-B21C-4A6F-A8D3-1673CACA7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绿叶" descr="">
            <a:hlinkClick r:id="" action="ppaction://hlinkshowjump?jump=firs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943600"/>
            <a:ext cx="479520" cy="514440"/>
          </a:xfrm>
          <a:prstGeom prst="rect">
            <a:avLst/>
          </a:prstGeom>
          <a:ln w="0">
            <a:noFill/>
          </a:ln>
        </p:spPr>
      </p:pic>
      <p:pic>
        <p:nvPicPr>
          <p:cNvPr id="7" name="射手座" descr="">
            <a:hlinkClick r:id="" action="ppaction://hlinkshowjump?jump=endshow"/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279B-4AA0-4AED-B360-071D1E47DC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258,3,&#24037;&#20316;&#32463;&#21382;" TargetMode="External"/><Relationship Id="rId4" Type="http://schemas.openxmlformats.org/officeDocument/2006/relationships/image" Target="../media/image4.png"/><Relationship Id="rId5" Type="http://schemas.openxmlformats.org/officeDocument/2006/relationships/hyperlink" Target="259,4,&#25152;&#21463;&#25945;&#32946;" TargetMode="External"/><Relationship Id="rId6" Type="http://schemas.openxmlformats.org/officeDocument/2006/relationships/image" Target="../media/image4.png"/><Relationship Id="rId7" Type="http://schemas.openxmlformats.org/officeDocument/2006/relationships/hyperlink" Target="260,5,&#24037;&#20316;&#25216;&#33021;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www.goeway.com/images/gallery/wmf_01/arts/ARTS0053.WMF" TargetMode="External"/><Relationship Id="rId10" Type="http://schemas.openxmlformats.org/officeDocument/2006/relationships/hyperlink" Target="http://www.goeway.com/images/gallery/wmf_01/arts/ARTS0053.WMF" TargetMode="External"/><Relationship Id="rId11" Type="http://schemas.openxmlformats.org/officeDocument/2006/relationships/hyperlink" Target="file:///tmp/home/.config/libreoffice/4/user/gallery/&#36825;&#20010;&#31179;&#22825;&#65288;&#35199;&#22478;&#31168;&#26641;&#65289;.wav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ookatkingcat@tom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2,7,Address" TargetMode="External"/><Relationship Id="rId2" Type="http://schemas.openxmlformats.org/officeDocument/2006/relationships/hyperlink" Target="263,8,Experience" TargetMode="External"/><Relationship Id="rId3" Type="http://schemas.openxmlformats.org/officeDocument/2006/relationships/hyperlink" Target="264,9,Education" TargetMode="External"/><Relationship Id="rId4" Type="http://schemas.openxmlformats.org/officeDocument/2006/relationships/hyperlink" Target="265,10,Skills" TargetMode="External"/><Relationship Id="rId5" Type="http://schemas.openxmlformats.org/officeDocument/2006/relationships/image" Target="../media/image8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lookatkingcat@tom.com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华文行楷"/>
              </a:rPr>
              <a:t>个人简历</a:t>
            </a:r>
            <a:br>
              <a:rPr sz="4400"/>
            </a:b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华文行楷"/>
              </a:rPr>
              <a:t>连黄莺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</a:rPr>
              <a:t>联系地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3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5"/>
              </a:rPr>
              <a:t>所受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Arial"/>
                <a:ea typeface="华文行楷"/>
                <a:hlinkClick r:id="rId7"/>
              </a:rPr>
              <a:t>工作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法老头" descr=""/>
          <p:cNvPicPr/>
          <p:nvPr/>
        </p:nvPicPr>
        <p:blipFill>
          <a:blip r:embed="rId8"/>
          <a:stretch/>
        </p:blipFill>
        <p:spPr>
          <a:xfrm>
            <a:off x="685800" y="5562720"/>
            <a:ext cx="528480" cy="8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6400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139920"/>
            <a:ext cx="9144000" cy="579600"/>
            <a:chOff x="0" y="3139920"/>
            <a:chExt cx="9144000" cy="579600"/>
          </a:xfrm>
        </p:grpSpPr>
        <p:sp>
          <p:nvSpPr>
            <p:cNvPr id="91" name=""/>
            <p:cNvSpPr/>
            <p:nvPr/>
          </p:nvSpPr>
          <p:spPr>
            <a:xfrm>
              <a:off x="0" y="3139920"/>
              <a:ext cx="9144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13992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 u="sng">
                  <a:solidFill>
                    <a:srgbClr val="ff3300"/>
                  </a:solidFill>
                  <a:uFillTx/>
                  <a:latin typeface="Verdana"/>
                  <a:hlinkClick r:id="rId9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zh-CN" sz="6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0" y="3139920"/>
            <a:ext cx="9144000" cy="579600"/>
            <a:chOff x="0" y="3139920"/>
            <a:chExt cx="9144000" cy="579600"/>
          </a:xfrm>
        </p:grpSpPr>
        <p:sp>
          <p:nvSpPr>
            <p:cNvPr id="94" name=""/>
            <p:cNvSpPr/>
            <p:nvPr/>
          </p:nvSpPr>
          <p:spPr>
            <a:xfrm>
              <a:off x="0" y="3139920"/>
              <a:ext cx="91440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139920"/>
              <a:ext cx="9144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 u="sng">
                  <a:solidFill>
                    <a:srgbClr val="ff3300"/>
                  </a:solidFill>
                  <a:uFillTx/>
                  <a:latin typeface="Verdana"/>
                  <a:hlinkClick r:id="rId10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zh-CN" sz="600" spc="-1" strike="noStrike">
                  <a:solidFill>
                    <a:srgbClr val="000000"/>
                  </a:solidFill>
                  <a:latin typeface="Verdana"/>
                </a:rPr>
                <a:t>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TN_ARTS0053" descr="ARTS0053.WM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586480" y="5715000"/>
            <a:ext cx="631800" cy="838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31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3400" y="324000"/>
            <a:ext cx="556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竹叶背景清爽简历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320"/>
                            </p:stCondLst>
                            <p:childTnLst>
                              <p:par>
                                <p:cTn id="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640"/>
                            </p:stCondLst>
                            <p:childTnLst>
                              <p:par>
                                <p:cTn id="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8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96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8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232-1740-4A47-BC47-42C8C4DAD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ki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skills: MS Word, Power Point, Outlook,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kills: Fluent in Chinese and  Reading with help of dictionary in Japane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方正黄草简体"/>
              </a:rPr>
              <a:t>联系地址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中华人民共和国山西省忻州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MingLiU"/>
                <a:ea typeface="PMingLiU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PMingLiU"/>
              </a:rPr>
              <a:t>034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和平西街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号  忻州师范学院英语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el: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  <a:ea typeface="Arial Unicode MS"/>
              </a:rPr>
              <a:t>(86) 0350-30270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-mail: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Monotype Corsiva"/>
                <a:ea typeface="Arial Unicode MS"/>
                <a:hlinkClick r:id="rId1"/>
              </a:rPr>
              <a:t>lookatkingcat@tom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隶书"/>
              </a:rPr>
              <a:t>工作经历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/82-7/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教师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山西省忻州市第一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8/84-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至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教师，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西省忻州师范学院英语系    精读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泛读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读写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汉鼎繁特楷"/>
              </a:rPr>
              <a:t>所受教育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9/78-7/8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西师范大学，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华人民共和国山西省临汾市  英语语言文学学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9/88-7/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南师范大学，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华人民共和国重庆市       进修课程：英语语言文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7/94-8/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取得英语强化培训课程合格证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  <a:ea typeface="楷体_GB2312"/>
              </a:rPr>
              <a:t>工作技能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电脑操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MS Word, Power Point, Outlook, Interne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语言</a:t>
            </a: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借助字典阅读日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urier New"/>
              </a:rPr>
              <a:t>Lian Huangying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2895120"/>
            <a:ext cx="60958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1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2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3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Impact"/>
                <a:hlinkClick r:id="rId4"/>
              </a:rPr>
              <a:t>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斯巴达" descr=""/>
          <p:cNvPicPr/>
          <p:nvPr/>
        </p:nvPicPr>
        <p:blipFill>
          <a:blip r:embed="rId5"/>
          <a:stretch/>
        </p:blipFill>
        <p:spPr>
          <a:xfrm>
            <a:off x="533520" y="5791320"/>
            <a:ext cx="685800" cy="76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64771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方正黄草简体"/>
              </a:rPr>
              <a:t>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射手座" descr="">
            <a:hlinkClick r:id="" action="ppaction://hlinkshowjump?jump=endshow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Addres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No 10 West Heping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Xinzhou Teachers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Xinzhou 034000, Shanxi Province, PR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(86) 0350-30270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  <a:ea typeface="Arial Unicode MS"/>
                <a:hlinkClick r:id="rId1"/>
              </a:rPr>
              <a:t>lookatkingcat@tom.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射手座" descr="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erie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82-7/84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first middle school, Xinzhou, Shanxi Province, PR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/84-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nglish Department Xinzhou Teachers University, Xinzhou, Shanxi Province, PR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Reading, Extensive Reading, Reading &amp; Writing in English, , Listening and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射手座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du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78-7/8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nxi Teachers University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fen, Shanxi Province, PR China  Bachelor of Arts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88-7/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thwest Teachers Univer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ngqing, Sichuan Province, PR China  Postgraduate course:  English Language and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/94-8/94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rtificate of Achievement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completed the summer intensive English training course sponsored by THE STATE BUREAU OF FOREIGN EXP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射手座" descr="">
            <a:hlinkClick r:id="" action="ppaction://hlinkshowjump?jump=endshow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5861160"/>
            <a:ext cx="60984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5:20:0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