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2F8-7D22-4D67-A31C-A2944C3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D80-6C31-4CA2-A880-2CC89967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2C4-F276-4824-B581-38F77540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233-AF9B-48E0-9B86-EEDF35EB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AFD-3923-4149-97CC-3688369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E42-B3FC-491D-AA10-ECB031BD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0B7-DC91-4458-9FC9-B937E349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408-31F5-40F2-8C9D-E676C11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DD7-CE39-4CE5-BA8D-2E106DE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27B-9EA7-48CD-B647-8E78FC1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F34-6EC6-45E3-99E7-53A701A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82A-033E-46A3-A51D-38E74E2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975-66F1-42FB-A693-363C54D2635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0212-9316-4973-9637-8303520276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上箭头 19"/>
          <p:cNvSpPr/>
          <p:nvPr/>
        </p:nvSpPr>
        <p:spPr>
          <a:xfrm>
            <a:off x="861840" y="3092400"/>
            <a:ext cx="2160720" cy="1441440"/>
          </a:xfrm>
          <a:prstGeom prst="upArrow">
            <a:avLst>
              <a:gd name="adj1" fmla="val 73546"/>
              <a:gd name="adj2" fmla="val 49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indent="103674960" algn="ctr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上箭头 20"/>
          <p:cNvSpPr/>
          <p:nvPr/>
        </p:nvSpPr>
        <p:spPr>
          <a:xfrm>
            <a:off x="3473280" y="2492280"/>
            <a:ext cx="2160720" cy="2158920"/>
          </a:xfrm>
          <a:prstGeom prst="upArrow">
            <a:avLst>
              <a:gd name="adj1" fmla="val 71352"/>
              <a:gd name="adj2" fmla="val 49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上箭头 21"/>
          <p:cNvSpPr/>
          <p:nvPr/>
        </p:nvSpPr>
        <p:spPr>
          <a:xfrm>
            <a:off x="6084720" y="1854360"/>
            <a:ext cx="2160720" cy="2879640"/>
          </a:xfrm>
          <a:prstGeom prst="upArrow">
            <a:avLst>
              <a:gd name="adj1" fmla="val 70250"/>
              <a:gd name="adj2" fmla="val 496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indent="103674960" algn="ctr">
              <a:lnSpc>
                <a:spcPct val="14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2"/>
          <p:cNvSpPr/>
          <p:nvPr/>
        </p:nvSpPr>
        <p:spPr>
          <a:xfrm>
            <a:off x="1546200" y="5005440"/>
            <a:ext cx="605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6594480" y="379728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3978360" y="3797280"/>
            <a:ext cx="12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270080" y="3797280"/>
            <a:ext cx="13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6"/>
          <p:cNvSpPr/>
          <p:nvPr/>
        </p:nvSpPr>
        <p:spPr>
          <a:xfrm>
            <a:off x="1131840" y="2471760"/>
            <a:ext cx="1620720" cy="900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7"/>
          <p:cNvSpPr/>
          <p:nvPr/>
        </p:nvSpPr>
        <p:spPr>
          <a:xfrm>
            <a:off x="3743280" y="2019240"/>
            <a:ext cx="1619280" cy="900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8"/>
          <p:cNvSpPr/>
          <p:nvPr/>
        </p:nvSpPr>
        <p:spPr>
          <a:xfrm>
            <a:off x="6354720" y="1557360"/>
            <a:ext cx="1619280" cy="900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9"/>
          <p:cNvSpPr/>
          <p:nvPr/>
        </p:nvSpPr>
        <p:spPr>
          <a:xfrm>
            <a:off x="1149480" y="26589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0"/>
          <p:cNvSpPr/>
          <p:nvPr/>
        </p:nvSpPr>
        <p:spPr>
          <a:xfrm>
            <a:off x="3816360" y="2208240"/>
            <a:ext cx="14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1"/>
          <p:cNvSpPr/>
          <p:nvPr/>
        </p:nvSpPr>
        <p:spPr>
          <a:xfrm>
            <a:off x="6394320" y="1744560"/>
            <a:ext cx="15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72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1640" y="907920"/>
            <a:ext cx="246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d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3F8-380E-40AB-A540-BDC16713F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1:48:40Z</dcterms:modified>
  <cp:revision>67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