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57A-962C-4D83-BC48-04BD3068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5FC-75DE-4FE2-9A3B-C36EC4D1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B79-18DB-49E1-87C8-A7F8D75E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6B2-AB35-42E7-B903-1B44D12B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5E4-16A7-4FCE-B0BB-D63FDE85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355-C895-4767-8258-0690DE4C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984-0B6E-4FC6-92E9-7939427D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689-B122-4E30-A0BC-22E3FC8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E98-0B4D-4B73-A335-EC7F96D5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3CB-DEFA-494E-908E-79C3256F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8BF-DD0E-48C7-B4D4-D9B0BFF7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7D2-6B2D-4F8E-9C42-75E77182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ED8E-61FF-4E9C-89CA-05A6038ACB5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6556-05BD-45F5-8575-CA31487BEEE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6360" y="692280"/>
            <a:ext cx="918684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Oval 3"/>
          <p:cNvSpPr/>
          <p:nvPr/>
        </p:nvSpPr>
        <p:spPr>
          <a:xfrm>
            <a:off x="6599160" y="1546200"/>
            <a:ext cx="693720" cy="693720"/>
          </a:xfrm>
          <a:prstGeom prst="ellipse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057560" y="189540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4471920" y="1123920"/>
            <a:ext cx="693720" cy="693720"/>
          </a:xfrm>
          <a:prstGeom prst="ellipse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327560" y="190188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057560" y="2289240"/>
            <a:ext cx="148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057560" y="2270160"/>
            <a:ext cx="1508040" cy="360"/>
            <a:chOff x="4057560" y="2270160"/>
            <a:chExt cx="1508040" cy="360"/>
          </a:xfrm>
        </p:grpSpPr>
        <p:sp>
          <p:nvSpPr>
            <p:cNvPr id="48" name="Line 8"/>
            <p:cNvSpPr/>
            <p:nvPr/>
          </p:nvSpPr>
          <p:spPr>
            <a:xfrm>
              <a:off x="4057560" y="2270160"/>
              <a:ext cx="15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4057560" y="227016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AutoShape 9"/>
          <p:cNvSpPr/>
          <p:nvPr/>
        </p:nvSpPr>
        <p:spPr>
          <a:xfrm>
            <a:off x="6175440" y="231444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431040" y="232092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6175440" y="271152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175440" y="2689200"/>
            <a:ext cx="1508040" cy="1440"/>
            <a:chOff x="6175440" y="2689200"/>
            <a:chExt cx="1508040" cy="1440"/>
          </a:xfrm>
        </p:grpSpPr>
        <p:sp>
          <p:nvSpPr>
            <p:cNvPr id="54" name="Line 12"/>
            <p:cNvSpPr/>
            <p:nvPr/>
          </p:nvSpPr>
          <p:spPr>
            <a:xfrm>
              <a:off x="6175440" y="2689200"/>
              <a:ext cx="1508040" cy="144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6175440" y="2689200"/>
              <a:ext cx="1508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Oval 13"/>
          <p:cNvSpPr/>
          <p:nvPr/>
        </p:nvSpPr>
        <p:spPr>
          <a:xfrm>
            <a:off x="6956280" y="3921120"/>
            <a:ext cx="695520" cy="693720"/>
          </a:xfrm>
          <a:prstGeom prst="ellipse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1758960" y="202248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2195640" y="1251000"/>
            <a:ext cx="693720" cy="692280"/>
          </a:xfrm>
          <a:prstGeom prst="ellipse">
            <a:avLst/>
          </a:prstGeom>
          <a:solidFill>
            <a:srgbClr val="ffffff">
              <a:alpha val="89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16"/>
          <p:cNvSpPr/>
          <p:nvPr/>
        </p:nvSpPr>
        <p:spPr>
          <a:xfrm flipH="1" flipV="1" rot="3328800">
            <a:off x="2286000" y="1372320"/>
            <a:ext cx="439560" cy="417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rc 17"/>
          <p:cNvSpPr/>
          <p:nvPr/>
        </p:nvSpPr>
        <p:spPr>
          <a:xfrm rot="6106200">
            <a:off x="7079760" y="4033800"/>
            <a:ext cx="425520" cy="415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8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18"/>
          <p:cNvSpPr/>
          <p:nvPr/>
        </p:nvSpPr>
        <p:spPr>
          <a:xfrm rot="5400000">
            <a:off x="6738840" y="1739520"/>
            <a:ext cx="376200" cy="26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19"/>
          <p:cNvSpPr/>
          <p:nvPr/>
        </p:nvSpPr>
        <p:spPr>
          <a:xfrm>
            <a:off x="4729320" y="1292400"/>
            <a:ext cx="279360" cy="357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195640" y="202896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1758960" y="241632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22" descr=""/>
          <p:cNvPicPr/>
          <p:nvPr/>
        </p:nvPicPr>
        <p:blipFill>
          <a:blip r:embed="rId2"/>
          <a:stretch/>
        </p:blipFill>
        <p:spPr>
          <a:xfrm>
            <a:off x="1508040" y="2104920"/>
            <a:ext cx="4940280" cy="42926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758960" y="2397240"/>
            <a:ext cx="1508040" cy="360"/>
            <a:chOff x="1758960" y="2397240"/>
            <a:chExt cx="1508040" cy="360"/>
          </a:xfrm>
        </p:grpSpPr>
        <p:sp>
          <p:nvSpPr>
            <p:cNvPr id="67" name="Line 23"/>
            <p:cNvSpPr/>
            <p:nvPr/>
          </p:nvSpPr>
          <p:spPr>
            <a:xfrm>
              <a:off x="1758960" y="2397240"/>
              <a:ext cx="15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758960" y="239724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24"/>
          <p:cNvSpPr/>
          <p:nvPr/>
        </p:nvSpPr>
        <p:spPr>
          <a:xfrm>
            <a:off x="6519960" y="47214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6956280" y="47275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6519960" y="511488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519960" y="5095800"/>
            <a:ext cx="1508040" cy="360"/>
            <a:chOff x="6519960" y="5095800"/>
            <a:chExt cx="1508040" cy="360"/>
          </a:xfrm>
        </p:grpSpPr>
        <p:sp>
          <p:nvSpPr>
            <p:cNvPr id="73" name="Line 27"/>
            <p:cNvSpPr/>
            <p:nvPr/>
          </p:nvSpPr>
          <p:spPr>
            <a:xfrm>
              <a:off x="6519960" y="5095800"/>
              <a:ext cx="15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6519960" y="5095800"/>
              <a:ext cx="150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25320" y="3117960"/>
            <a:ext cx="88920" cy="1014480"/>
            <a:chOff x="2425320" y="3117960"/>
            <a:chExt cx="88920" cy="1014480"/>
          </a:xfrm>
        </p:grpSpPr>
        <p:sp>
          <p:nvSpPr>
            <p:cNvPr id="76" name="Line 28"/>
            <p:cNvSpPr/>
            <p:nvPr/>
          </p:nvSpPr>
          <p:spPr>
            <a:xfrm flipH="1" flipV="1">
              <a:off x="2425320" y="3117960"/>
              <a:ext cx="88920" cy="10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 rot="10800000">
              <a:off x="2425320" y="3117960"/>
              <a:ext cx="88920" cy="101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997160" y="2660760"/>
            <a:ext cx="222120" cy="909360"/>
            <a:chOff x="4997160" y="2660760"/>
            <a:chExt cx="222120" cy="909360"/>
          </a:xfrm>
        </p:grpSpPr>
        <p:sp>
          <p:nvSpPr>
            <p:cNvPr id="79" name="Line 29"/>
            <p:cNvSpPr/>
            <p:nvPr/>
          </p:nvSpPr>
          <p:spPr>
            <a:xfrm flipH="1" flipV="1">
              <a:off x="4997160" y="2660760"/>
              <a:ext cx="22212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4997160" y="2660760"/>
              <a:ext cx="222120" cy="90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708520" y="3362040"/>
            <a:ext cx="565200" cy="795240"/>
            <a:chOff x="5708520" y="3362040"/>
            <a:chExt cx="565200" cy="795240"/>
          </a:xfrm>
        </p:grpSpPr>
        <p:sp>
          <p:nvSpPr>
            <p:cNvPr id="82" name="Line 30"/>
            <p:cNvSpPr/>
            <p:nvPr/>
          </p:nvSpPr>
          <p:spPr>
            <a:xfrm flipV="1">
              <a:off x="5708520" y="3362040"/>
              <a:ext cx="565200" cy="7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 rot="10800000">
              <a:off x="5708520" y="3362040"/>
              <a:ext cx="565200" cy="79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7760" y="4584600"/>
            <a:ext cx="1736640" cy="354240"/>
            <a:chOff x="4757760" y="4584600"/>
            <a:chExt cx="1736640" cy="354240"/>
          </a:xfrm>
        </p:grpSpPr>
        <p:sp>
          <p:nvSpPr>
            <p:cNvPr id="85" name="Line 31"/>
            <p:cNvSpPr/>
            <p:nvPr/>
          </p:nvSpPr>
          <p:spPr>
            <a:xfrm>
              <a:off x="4757760" y="4584600"/>
              <a:ext cx="173664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4757760" y="4584600"/>
              <a:ext cx="1736640" cy="35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24000" y="6093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6120" y="549360"/>
            <a:ext cx="315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D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7B6-ADE8-486A-A84B-4641A53540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1:50:38Z</dcterms:modified>
  <cp:revision>64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