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321-A984-458A-9834-9AA4C0FA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107-3A89-4C39-A3D0-36FE28F0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971-95E2-4B6F-AB66-737FA30F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7A7-595D-4DAF-857D-5EC520A7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25D-0C71-4D29-9428-7040A658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DA9-C401-479C-8286-004D5F89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F75-574C-4504-9F0A-B97B0902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F36-2C37-4F17-AF26-096FB378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EA1-20A6-4813-A747-9B8A5AFE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9AB-A36F-4BE4-9C07-D6D4DDF5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C00-C514-47F8-9274-0E601B49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CCA-ED28-420B-B3EE-E8E33C4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1CA8-07B1-466F-BE84-B6EF1D8DFCC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9C8F-62EE-4948-9B69-D8BABF804AA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5516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354"/>
          <p:cNvSpPr/>
          <p:nvPr/>
        </p:nvSpPr>
        <p:spPr>
          <a:xfrm>
            <a:off x="612720" y="4940280"/>
            <a:ext cx="7775640" cy="1152720"/>
          </a:xfrm>
          <a:prstGeom prst="roundRect">
            <a:avLst>
              <a:gd name="adj" fmla="val 10880"/>
            </a:avLst>
          </a:prstGeom>
          <a:solidFill>
            <a:srgbClr val="ffffff"/>
          </a:solidFill>
          <a:ln cap="rnd" w="158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346"/>
          <p:cNvSpPr/>
          <p:nvPr/>
        </p:nvSpPr>
        <p:spPr>
          <a:xfrm>
            <a:off x="619200" y="4513320"/>
            <a:ext cx="1498680" cy="360360"/>
          </a:xfrm>
          <a:prstGeom prst="rightArrow">
            <a:avLst>
              <a:gd name="adj1" fmla="val 65648"/>
              <a:gd name="adj2" fmla="val 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343"/>
          <p:cNvSpPr/>
          <p:nvPr/>
        </p:nvSpPr>
        <p:spPr>
          <a:xfrm>
            <a:off x="2428920" y="4513320"/>
            <a:ext cx="5959440" cy="360360"/>
          </a:xfrm>
          <a:prstGeom prst="rightArrow">
            <a:avLst>
              <a:gd name="adj1" fmla="val 66528"/>
              <a:gd name="adj2" fmla="val 8590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871640" y="5394240"/>
            <a:ext cx="1440" cy="3240"/>
            <a:chOff x="1871640" y="5394240"/>
            <a:chExt cx="1440" cy="3240"/>
          </a:xfrm>
        </p:grpSpPr>
        <p:sp>
          <p:nvSpPr>
            <p:cNvPr id="46" name="Line 1557"/>
            <p:cNvSpPr/>
            <p:nvPr/>
          </p:nvSpPr>
          <p:spPr>
            <a:xfrm>
              <a:off x="1871640" y="5394240"/>
              <a:ext cx="14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871640" y="5394240"/>
              <a:ext cx="14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871640" y="5394240"/>
            <a:ext cx="1440" cy="3240"/>
            <a:chOff x="1871640" y="5394240"/>
            <a:chExt cx="1440" cy="3240"/>
          </a:xfrm>
        </p:grpSpPr>
        <p:sp>
          <p:nvSpPr>
            <p:cNvPr id="49" name="Line 1558"/>
            <p:cNvSpPr/>
            <p:nvPr/>
          </p:nvSpPr>
          <p:spPr>
            <a:xfrm>
              <a:off x="1871640" y="5394240"/>
              <a:ext cx="14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1871640" y="5394240"/>
              <a:ext cx="14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658880" y="5556240"/>
            <a:ext cx="1800" cy="3240"/>
            <a:chOff x="1658880" y="5556240"/>
            <a:chExt cx="1800" cy="3240"/>
          </a:xfrm>
        </p:grpSpPr>
        <p:sp>
          <p:nvSpPr>
            <p:cNvPr id="52" name="Line 1561"/>
            <p:cNvSpPr/>
            <p:nvPr/>
          </p:nvSpPr>
          <p:spPr>
            <a:xfrm>
              <a:off x="1658880" y="5556240"/>
              <a:ext cx="180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1658880" y="5556240"/>
              <a:ext cx="18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58880" y="5556240"/>
            <a:ext cx="1800" cy="3240"/>
            <a:chOff x="1658880" y="5556240"/>
            <a:chExt cx="1800" cy="3240"/>
          </a:xfrm>
        </p:grpSpPr>
        <p:sp>
          <p:nvSpPr>
            <p:cNvPr id="55" name="Line 1562"/>
            <p:cNvSpPr/>
            <p:nvPr/>
          </p:nvSpPr>
          <p:spPr>
            <a:xfrm>
              <a:off x="1658880" y="5556240"/>
              <a:ext cx="180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1658880" y="5556240"/>
              <a:ext cx="18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646280" y="5410080"/>
            <a:ext cx="1440" cy="3240"/>
            <a:chOff x="1646280" y="5410080"/>
            <a:chExt cx="1440" cy="3240"/>
          </a:xfrm>
        </p:grpSpPr>
        <p:sp>
          <p:nvSpPr>
            <p:cNvPr id="58" name="Line 1574"/>
            <p:cNvSpPr/>
            <p:nvPr/>
          </p:nvSpPr>
          <p:spPr>
            <a:xfrm>
              <a:off x="1646280" y="5410080"/>
              <a:ext cx="14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1646280" y="5410080"/>
              <a:ext cx="14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646280" y="5410080"/>
            <a:ext cx="1440" cy="3240"/>
            <a:chOff x="1646280" y="5410080"/>
            <a:chExt cx="1440" cy="3240"/>
          </a:xfrm>
        </p:grpSpPr>
        <p:sp>
          <p:nvSpPr>
            <p:cNvPr id="61" name="Line 1575"/>
            <p:cNvSpPr/>
            <p:nvPr/>
          </p:nvSpPr>
          <p:spPr>
            <a:xfrm>
              <a:off x="1646280" y="5410080"/>
              <a:ext cx="14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1646280" y="5410080"/>
              <a:ext cx="14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27600" y="5629320"/>
            <a:ext cx="1440" cy="3240"/>
            <a:chOff x="4827600" y="5629320"/>
            <a:chExt cx="1440" cy="3240"/>
          </a:xfrm>
        </p:grpSpPr>
        <p:sp>
          <p:nvSpPr>
            <p:cNvPr id="64" name="Line 1598"/>
            <p:cNvSpPr/>
            <p:nvPr/>
          </p:nvSpPr>
          <p:spPr>
            <a:xfrm>
              <a:off x="4827600" y="5629320"/>
              <a:ext cx="14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827600" y="5629320"/>
              <a:ext cx="14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827600" y="5629320"/>
            <a:ext cx="1440" cy="3240"/>
            <a:chOff x="4827600" y="5629320"/>
            <a:chExt cx="1440" cy="3240"/>
          </a:xfrm>
        </p:grpSpPr>
        <p:sp>
          <p:nvSpPr>
            <p:cNvPr id="67" name="Line 1599"/>
            <p:cNvSpPr/>
            <p:nvPr/>
          </p:nvSpPr>
          <p:spPr>
            <a:xfrm>
              <a:off x="4827600" y="5629320"/>
              <a:ext cx="14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4827600" y="5629320"/>
              <a:ext cx="14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02040" y="5477040"/>
            <a:ext cx="1800" cy="2880"/>
            <a:chOff x="4802040" y="5477040"/>
            <a:chExt cx="1800" cy="2880"/>
          </a:xfrm>
        </p:grpSpPr>
        <p:sp>
          <p:nvSpPr>
            <p:cNvPr id="70" name="Line 1602"/>
            <p:cNvSpPr/>
            <p:nvPr/>
          </p:nvSpPr>
          <p:spPr>
            <a:xfrm>
              <a:off x="4802040" y="5477040"/>
              <a:ext cx="180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4802040" y="5477040"/>
              <a:ext cx="180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802040" y="5477040"/>
            <a:ext cx="1800" cy="2880"/>
            <a:chOff x="4802040" y="5477040"/>
            <a:chExt cx="1800" cy="2880"/>
          </a:xfrm>
        </p:grpSpPr>
        <p:sp>
          <p:nvSpPr>
            <p:cNvPr id="73" name="Line 1603"/>
            <p:cNvSpPr/>
            <p:nvPr/>
          </p:nvSpPr>
          <p:spPr>
            <a:xfrm>
              <a:off x="4802040" y="5477040"/>
              <a:ext cx="180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802040" y="5477040"/>
              <a:ext cx="180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116"/>
          <p:cNvGrpSpPr/>
          <p:nvPr/>
        </p:nvGrpSpPr>
        <p:grpSpPr>
          <a:xfrm>
            <a:off x="3436920" y="5538960"/>
            <a:ext cx="236520" cy="163440"/>
            <a:chOff x="3436920" y="5538960"/>
            <a:chExt cx="236520" cy="163440"/>
          </a:xfrm>
        </p:grpSpPr>
        <p:grpSp>
          <p:nvGrpSpPr>
            <p:cNvPr id="76" name=""/>
            <p:cNvGrpSpPr/>
            <p:nvPr/>
          </p:nvGrpSpPr>
          <p:grpSpPr>
            <a:xfrm>
              <a:off x="3672000" y="5538960"/>
              <a:ext cx="1440" cy="1440"/>
              <a:chOff x="3672000" y="5538960"/>
              <a:chExt cx="1440" cy="1440"/>
            </a:xfrm>
          </p:grpSpPr>
          <p:sp>
            <p:nvSpPr>
              <p:cNvPr id="77" name="Line 1612"/>
              <p:cNvSpPr/>
              <p:nvPr/>
            </p:nvSpPr>
            <p:spPr>
              <a:xfrm>
                <a:off x="3672000" y="55389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3672000" y="5538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3672000" y="5538960"/>
              <a:ext cx="1440" cy="1440"/>
              <a:chOff x="3672000" y="5538960"/>
              <a:chExt cx="1440" cy="1440"/>
            </a:xfrm>
          </p:grpSpPr>
          <p:sp>
            <p:nvSpPr>
              <p:cNvPr id="80" name="Line 1613"/>
              <p:cNvSpPr/>
              <p:nvPr/>
            </p:nvSpPr>
            <p:spPr>
              <a:xfrm>
                <a:off x="3672000" y="55389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3672000" y="5538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459240" y="5700960"/>
              <a:ext cx="1440" cy="1440"/>
              <a:chOff x="3459240" y="5700960"/>
              <a:chExt cx="1440" cy="1440"/>
            </a:xfrm>
          </p:grpSpPr>
          <p:sp>
            <p:nvSpPr>
              <p:cNvPr id="83" name="Line 1616"/>
              <p:cNvSpPr/>
              <p:nvPr/>
            </p:nvSpPr>
            <p:spPr>
              <a:xfrm>
                <a:off x="3459240" y="57009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3459240" y="5700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459240" y="5700960"/>
              <a:ext cx="1440" cy="1440"/>
              <a:chOff x="3459240" y="5700960"/>
              <a:chExt cx="1440" cy="1440"/>
            </a:xfrm>
          </p:grpSpPr>
          <p:sp>
            <p:nvSpPr>
              <p:cNvPr id="86" name="Line 1617"/>
              <p:cNvSpPr/>
              <p:nvPr/>
            </p:nvSpPr>
            <p:spPr>
              <a:xfrm>
                <a:off x="3459240" y="57009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3459240" y="5700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446280" y="5615280"/>
              <a:ext cx="1800" cy="1440"/>
              <a:chOff x="3446280" y="5615280"/>
              <a:chExt cx="1800" cy="1440"/>
            </a:xfrm>
          </p:grpSpPr>
          <p:sp>
            <p:nvSpPr>
              <p:cNvPr id="89" name="Line 1620"/>
              <p:cNvSpPr/>
              <p:nvPr/>
            </p:nvSpPr>
            <p:spPr>
              <a:xfrm>
                <a:off x="3446280" y="56152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3446280" y="561528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446280" y="5615280"/>
              <a:ext cx="1800" cy="1440"/>
              <a:chOff x="3446280" y="5615280"/>
              <a:chExt cx="1800" cy="1440"/>
            </a:xfrm>
          </p:grpSpPr>
          <p:sp>
            <p:nvSpPr>
              <p:cNvPr id="92" name="Line 1621"/>
              <p:cNvSpPr/>
              <p:nvPr/>
            </p:nvSpPr>
            <p:spPr>
              <a:xfrm>
                <a:off x="3446280" y="56152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3446280" y="561528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436920" y="5548320"/>
              <a:ext cx="1440" cy="1800"/>
              <a:chOff x="3436920" y="5548320"/>
              <a:chExt cx="1440" cy="1800"/>
            </a:xfrm>
          </p:grpSpPr>
          <p:sp>
            <p:nvSpPr>
              <p:cNvPr id="95" name="Line 1623"/>
              <p:cNvSpPr/>
              <p:nvPr/>
            </p:nvSpPr>
            <p:spPr>
              <a:xfrm>
                <a:off x="3436920" y="55483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3436920" y="55483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436920" y="5548320"/>
              <a:ext cx="1440" cy="1800"/>
              <a:chOff x="3436920" y="5548320"/>
              <a:chExt cx="1440" cy="1800"/>
            </a:xfrm>
          </p:grpSpPr>
          <p:sp>
            <p:nvSpPr>
              <p:cNvPr id="98" name="Line 1624"/>
              <p:cNvSpPr/>
              <p:nvPr/>
            </p:nvSpPr>
            <p:spPr>
              <a:xfrm>
                <a:off x="3436920" y="55483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3436920" y="55483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456000" y="5548320"/>
              <a:ext cx="1440" cy="1800"/>
              <a:chOff x="3456000" y="5548320"/>
              <a:chExt cx="1440" cy="1800"/>
            </a:xfrm>
          </p:grpSpPr>
          <p:sp>
            <p:nvSpPr>
              <p:cNvPr id="101" name="Line 1626"/>
              <p:cNvSpPr/>
              <p:nvPr/>
            </p:nvSpPr>
            <p:spPr>
              <a:xfrm>
                <a:off x="3456000" y="55483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3456000" y="55483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456000" y="5548320"/>
              <a:ext cx="1440" cy="1800"/>
              <a:chOff x="3456000" y="5548320"/>
              <a:chExt cx="1440" cy="1800"/>
            </a:xfrm>
          </p:grpSpPr>
          <p:sp>
            <p:nvSpPr>
              <p:cNvPr id="104" name="Line 1627"/>
              <p:cNvSpPr/>
              <p:nvPr/>
            </p:nvSpPr>
            <p:spPr>
              <a:xfrm>
                <a:off x="3456000" y="55483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3456000" y="554832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446280" y="5554800"/>
              <a:ext cx="1800" cy="1800"/>
              <a:chOff x="3446280" y="5554800"/>
              <a:chExt cx="1800" cy="1800"/>
            </a:xfrm>
          </p:grpSpPr>
          <p:sp>
            <p:nvSpPr>
              <p:cNvPr id="107" name="Line 1629"/>
              <p:cNvSpPr/>
              <p:nvPr/>
            </p:nvSpPr>
            <p:spPr>
              <a:xfrm>
                <a:off x="3446280" y="5554800"/>
                <a:ext cx="180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3446280" y="5554800"/>
                <a:ext cx="1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446280" y="5554800"/>
              <a:ext cx="1800" cy="1800"/>
              <a:chOff x="3446280" y="5554800"/>
              <a:chExt cx="1800" cy="1800"/>
            </a:xfrm>
          </p:grpSpPr>
          <p:sp>
            <p:nvSpPr>
              <p:cNvPr id="110" name="Line 1630"/>
              <p:cNvSpPr/>
              <p:nvPr/>
            </p:nvSpPr>
            <p:spPr>
              <a:xfrm>
                <a:off x="3446280" y="5554800"/>
                <a:ext cx="180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3446280" y="5554800"/>
                <a:ext cx="1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108000" y="3645000"/>
            <a:ext cx="1942920" cy="1440"/>
            <a:chOff x="108000" y="3645000"/>
            <a:chExt cx="1942920" cy="1440"/>
          </a:xfrm>
        </p:grpSpPr>
        <p:sp>
          <p:nvSpPr>
            <p:cNvPr id="113" name="Line 2076"/>
            <p:cNvSpPr/>
            <p:nvPr/>
          </p:nvSpPr>
          <p:spPr>
            <a:xfrm>
              <a:off x="108000" y="3645000"/>
              <a:ext cx="1942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08000" y="3645000"/>
              <a:ext cx="194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Object 2335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5905800" cy="3968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337"/>
          <p:cNvSpPr/>
          <p:nvPr/>
        </p:nvSpPr>
        <p:spPr>
          <a:xfrm>
            <a:off x="2413080" y="5570640"/>
            <a:ext cx="5902200" cy="287280"/>
          </a:xfrm>
          <a:prstGeom prst="rect">
            <a:avLst/>
          </a:prstGeom>
          <a:solidFill>
            <a:srgbClr val="c0c0c0">
              <a:alpha val="2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340"/>
          <p:cNvSpPr/>
          <p:nvPr/>
        </p:nvSpPr>
        <p:spPr>
          <a:xfrm>
            <a:off x="704520" y="4581720"/>
            <a:ext cx="123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BUSINESS PART _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42"/>
          <p:cNvSpPr/>
          <p:nvPr/>
        </p:nvSpPr>
        <p:spPr>
          <a:xfrm>
            <a:off x="2477880" y="4609440"/>
            <a:ext cx="8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 o r k  P l a 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48"/>
          <p:cNvSpPr/>
          <p:nvPr/>
        </p:nvSpPr>
        <p:spPr>
          <a:xfrm>
            <a:off x="600480" y="4951800"/>
            <a:ext cx="132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Dotum"/>
                <a:ea typeface="Dotum"/>
              </a:rPr>
              <a:t>Products &amp; Servic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49"/>
          <p:cNvSpPr/>
          <p:nvPr/>
        </p:nvSpPr>
        <p:spPr>
          <a:xfrm>
            <a:off x="631080" y="507420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Come and have fun with Pets and Domesticated Animals preschool activities and crafts suitable for toddlers, preschoolers and kindergarten.  Visit a pe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heme section for lesson plans, printable crafts, activities, pet coloring pages and related early childhood resourc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52"/>
          <p:cNvSpPr/>
          <p:nvPr/>
        </p:nvSpPr>
        <p:spPr>
          <a:xfrm>
            <a:off x="627480" y="5580360"/>
            <a:ext cx="134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News &amp; Publica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53"/>
          <p:cNvSpPr/>
          <p:nvPr/>
        </p:nvSpPr>
        <p:spPr>
          <a:xfrm>
            <a:off x="2394720" y="5599440"/>
            <a:ext cx="441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Welcome to architecture online, the leading architecture reference site on the web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4360" y="5464080"/>
            <a:ext cx="7632720" cy="1800"/>
            <a:chOff x="684360" y="5464080"/>
            <a:chExt cx="7632720" cy="1800"/>
          </a:xfrm>
        </p:grpSpPr>
        <p:sp>
          <p:nvSpPr>
            <p:cNvPr id="124" name="Line 2355"/>
            <p:cNvSpPr/>
            <p:nvPr/>
          </p:nvSpPr>
          <p:spPr>
            <a:xfrm>
              <a:off x="684360" y="5464080"/>
              <a:ext cx="7632720" cy="180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684360" y="5464080"/>
              <a:ext cx="7632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Freeform 2356"/>
          <p:cNvSpPr/>
          <p:nvPr/>
        </p:nvSpPr>
        <p:spPr>
          <a:xfrm>
            <a:off x="6567480" y="3262320"/>
            <a:ext cx="380880" cy="377640"/>
          </a:xfrm>
          <a:prstGeom prst="pie">
            <a:avLst/>
          </a:prstGeom>
          <a:solidFill>
            <a:srgbClr val="ffcc00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357"/>
          <p:cNvSpPr/>
          <p:nvPr/>
        </p:nvSpPr>
        <p:spPr>
          <a:xfrm>
            <a:off x="4645080" y="2495520"/>
            <a:ext cx="387360" cy="390600"/>
          </a:xfrm>
          <a:prstGeom prst="pie">
            <a:avLst/>
          </a:prstGeom>
          <a:solidFill>
            <a:srgbClr val="99cc00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358"/>
          <p:cNvSpPr/>
          <p:nvPr/>
        </p:nvSpPr>
        <p:spPr>
          <a:xfrm>
            <a:off x="3559320" y="1771560"/>
            <a:ext cx="365040" cy="368280"/>
          </a:xfrm>
          <a:prstGeom prst="pie">
            <a:avLst/>
          </a:prstGeom>
          <a:solidFill>
            <a:srgbClr val="00cc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359"/>
          <p:cNvSpPr/>
          <p:nvPr/>
        </p:nvSpPr>
        <p:spPr>
          <a:xfrm>
            <a:off x="5292720" y="1030320"/>
            <a:ext cx="358920" cy="358920"/>
          </a:xfrm>
          <a:prstGeom prst="pie">
            <a:avLst/>
          </a:prstGeom>
          <a:solidFill>
            <a:srgbClr val="ff99cc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89080" y="1392120"/>
            <a:ext cx="6118200" cy="1800"/>
            <a:chOff x="2089080" y="1392120"/>
            <a:chExt cx="6118200" cy="1800"/>
          </a:xfrm>
        </p:grpSpPr>
        <p:sp>
          <p:nvSpPr>
            <p:cNvPr id="131" name="Line 2364"/>
            <p:cNvSpPr/>
            <p:nvPr/>
          </p:nvSpPr>
          <p:spPr>
            <a:xfrm>
              <a:off x="2089080" y="1392120"/>
              <a:ext cx="6118200" cy="180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2089080" y="1392120"/>
              <a:ext cx="6118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089080" y="2146320"/>
            <a:ext cx="6118200" cy="1440"/>
            <a:chOff x="2089080" y="2146320"/>
            <a:chExt cx="6118200" cy="1440"/>
          </a:xfrm>
        </p:grpSpPr>
        <p:sp>
          <p:nvSpPr>
            <p:cNvPr id="134" name="Line 2366"/>
            <p:cNvSpPr/>
            <p:nvPr/>
          </p:nvSpPr>
          <p:spPr>
            <a:xfrm>
              <a:off x="2089080" y="2146320"/>
              <a:ext cx="6118200" cy="144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2089080" y="2146320"/>
              <a:ext cx="6118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089080" y="2901960"/>
            <a:ext cx="6118200" cy="1440"/>
            <a:chOff x="2089080" y="2901960"/>
            <a:chExt cx="6118200" cy="1440"/>
          </a:xfrm>
        </p:grpSpPr>
        <p:sp>
          <p:nvSpPr>
            <p:cNvPr id="137" name="Line 2367"/>
            <p:cNvSpPr/>
            <p:nvPr/>
          </p:nvSpPr>
          <p:spPr>
            <a:xfrm>
              <a:off x="2089080" y="2901960"/>
              <a:ext cx="6118200" cy="144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089080" y="2901960"/>
              <a:ext cx="6118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89080" y="3645000"/>
            <a:ext cx="6118200" cy="1440"/>
            <a:chOff x="2089080" y="3645000"/>
            <a:chExt cx="6118200" cy="1440"/>
          </a:xfrm>
        </p:grpSpPr>
        <p:sp>
          <p:nvSpPr>
            <p:cNvPr id="140" name="Line 2368"/>
            <p:cNvSpPr/>
            <p:nvPr/>
          </p:nvSpPr>
          <p:spPr>
            <a:xfrm>
              <a:off x="2089080" y="3645000"/>
              <a:ext cx="6118200" cy="144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2089080" y="3645000"/>
              <a:ext cx="6118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370"/>
          <p:cNvSpPr/>
          <p:nvPr/>
        </p:nvSpPr>
        <p:spPr>
          <a:xfrm>
            <a:off x="4359600" y="105264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a007d"/>
                </a:solidFill>
                <a:latin typeface="Dotum"/>
                <a:ea typeface="Dotum"/>
              </a:rPr>
              <a:t>6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71"/>
          <p:cNvSpPr/>
          <p:nvPr/>
        </p:nvSpPr>
        <p:spPr>
          <a:xfrm>
            <a:off x="2680200" y="179532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52f83"/>
                </a:solidFill>
                <a:latin typeface="Dotum"/>
                <a:ea typeface="Dotum"/>
              </a:rPr>
              <a:t>24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72"/>
          <p:cNvSpPr/>
          <p:nvPr/>
        </p:nvSpPr>
        <p:spPr>
          <a:xfrm>
            <a:off x="3799440" y="256392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55d0f"/>
                </a:solidFill>
                <a:latin typeface="Dotum"/>
                <a:ea typeface="Dotum"/>
              </a:rPr>
              <a:t>48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73"/>
          <p:cNvSpPr/>
          <p:nvPr/>
        </p:nvSpPr>
        <p:spPr>
          <a:xfrm>
            <a:off x="5734440" y="330840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7300b"/>
                </a:solidFill>
                <a:latin typeface="Dotum"/>
                <a:ea typeface="Dotum"/>
              </a:rPr>
              <a:t>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375"/>
          <p:cNvGrpSpPr/>
          <p:nvPr/>
        </p:nvGrpSpPr>
        <p:grpSpPr>
          <a:xfrm>
            <a:off x="5600880" y="1004760"/>
            <a:ext cx="2749320" cy="457920"/>
            <a:chOff x="5600880" y="1004760"/>
            <a:chExt cx="2749320" cy="457920"/>
          </a:xfrm>
        </p:grpSpPr>
        <p:sp>
          <p:nvSpPr>
            <p:cNvPr id="147" name="Rectangle 2369"/>
            <p:cNvSpPr/>
            <p:nvPr/>
          </p:nvSpPr>
          <p:spPr>
            <a:xfrm>
              <a:off x="5609160" y="1094400"/>
              <a:ext cx="27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invite you to take your time exploring the image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n these pages and perhaps you'll find on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374"/>
            <p:cNvSpPr/>
            <p:nvPr/>
          </p:nvSpPr>
          <p:spPr>
            <a:xfrm>
              <a:off x="5600880" y="1004760"/>
              <a:ext cx="60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Dotum"/>
                  <a:ea typeface="Dotum"/>
                </a:rPr>
                <a:t>BUSINES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2376"/>
          <p:cNvGrpSpPr/>
          <p:nvPr/>
        </p:nvGrpSpPr>
        <p:grpSpPr>
          <a:xfrm>
            <a:off x="3869640" y="1771560"/>
            <a:ext cx="3900240" cy="458640"/>
            <a:chOff x="3869640" y="1771560"/>
            <a:chExt cx="3900240" cy="458640"/>
          </a:xfrm>
        </p:grpSpPr>
        <p:sp>
          <p:nvSpPr>
            <p:cNvPr id="150" name="Rectangle 2377"/>
            <p:cNvSpPr/>
            <p:nvPr/>
          </p:nvSpPr>
          <p:spPr>
            <a:xfrm>
              <a:off x="3890520" y="1861920"/>
              <a:ext cx="38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n ad-industry veteran and entrepreneur shares his insigh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bout the best ways for small outfits to get and leverage media attent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378"/>
            <p:cNvSpPr/>
            <p:nvPr/>
          </p:nvSpPr>
          <p:spPr>
            <a:xfrm>
              <a:off x="3869640" y="1771560"/>
              <a:ext cx="618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Dotum"/>
                  <a:ea typeface="Dotum"/>
                </a:rPr>
                <a:t>INTERNE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379"/>
          <p:cNvGrpSpPr/>
          <p:nvPr/>
        </p:nvGrpSpPr>
        <p:grpSpPr>
          <a:xfrm>
            <a:off x="5004720" y="2523960"/>
            <a:ext cx="3376800" cy="458640"/>
            <a:chOff x="5004720" y="2523960"/>
            <a:chExt cx="3376800" cy="458640"/>
          </a:xfrm>
        </p:grpSpPr>
        <p:sp>
          <p:nvSpPr>
            <p:cNvPr id="153" name="Rectangle 2380"/>
            <p:cNvSpPr/>
            <p:nvPr/>
          </p:nvSpPr>
          <p:spPr>
            <a:xfrm>
              <a:off x="5026320" y="2614320"/>
              <a:ext cx="33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e will be adding new sections dealing with food, wine, dining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ut and a myriad of topic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381"/>
            <p:cNvSpPr/>
            <p:nvPr/>
          </p:nvSpPr>
          <p:spPr>
            <a:xfrm>
              <a:off x="5004720" y="2523960"/>
              <a:ext cx="474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Dotum"/>
                  <a:ea typeface="Dotum"/>
                </a:rPr>
                <a:t>MED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382"/>
          <p:cNvGrpSpPr/>
          <p:nvPr/>
        </p:nvGrpSpPr>
        <p:grpSpPr>
          <a:xfrm>
            <a:off x="6906240" y="3252960"/>
            <a:ext cx="1402920" cy="457920"/>
            <a:chOff x="6906240" y="3252960"/>
            <a:chExt cx="1402920" cy="457920"/>
          </a:xfrm>
        </p:grpSpPr>
        <p:sp>
          <p:nvSpPr>
            <p:cNvPr id="156" name="Rectangle 2383"/>
            <p:cNvSpPr/>
            <p:nvPr/>
          </p:nvSpPr>
          <p:spPr>
            <a:xfrm>
              <a:off x="6921360" y="33426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aige Speaks at NCLB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PAN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384"/>
            <p:cNvSpPr/>
            <p:nvPr/>
          </p:nvSpPr>
          <p:spPr>
            <a:xfrm>
              <a:off x="6906240" y="3252960"/>
              <a:ext cx="80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Dotum"/>
                  <a:ea typeface="Dotum"/>
                </a:rPr>
                <a:t>HOME_WORK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9672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95360" y="189000"/>
            <a:ext cx="42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柱状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004-9627-4E83-AC16-AAC550E6B3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02:31Z</dcterms:modified>
  <cp:revision>109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