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74BD-100C-4FD3-B75E-5CC2A6039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87D7-CA43-4981-9F07-F0EDFD6C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21E3-7EAF-44BE-8C05-1A3AB8A93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63A4-7C15-43D1-A15A-E1DC92015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0A5C-5927-4EC5-97CC-AEA14325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B764-2CAB-461B-A9D6-C391F93A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4F89-367D-444A-9D07-90CB6117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3F72-C141-436E-8745-502D1AF0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D688-1FC8-4E3C-83A0-ABDAD9CC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B0B6-8E88-4FBA-8FE2-660661B3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1FA9-7716-4BC3-AA26-381CBAA3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F0CA-4F35-4D2D-8A22-E775C266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D3E1-3925-4E36-9957-791C504F4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45920" y="129528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笔记本电脑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2A04-46E2-4346-8053-DDC5F93BC2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2T04:22:0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6:06:29Z</dcterms:modified>
  <cp:revision>3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Version">
    <vt:r8>1</vt:r8>
  </property>
</Properties>
</file>